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8F852-C806-4D10-BEAA-12724D6AE4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952A9-AAEE-4946-A9DA-F043815B5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57A2A-792B-49E1-A29C-2AAA2D729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6277A-ACA3-41A3-B7E2-603038C7E48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67B5E-7F31-4D5E-9EE9-5ADEEFE29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5D9C7-6B58-4557-89F7-6C1B63D8E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2928B-434F-4D5F-8BE6-4EA328ACF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E83B1-B180-41ED-AAA6-2839AF522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3C2E3-DFAF-43B3-BAF1-4D899CBE2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9EF58-9353-4BE0-A7A5-B737CF8BA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478F4-EFAA-4D66-8F2F-367B16F30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1CB07-6AA7-4B6E-B635-C4E7F3BCB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83D32-247A-4D23-8707-54A9E72F7FC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绪论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5840" y="267840"/>
            <a:ext cx="80769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药理学内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药理学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Pharmacology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：是研究药物与机体相互作用规律和机制的科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药效动力学：阐明药物对机体的作用和作用机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药物代谢动力学：阐明药物在机体内吸收、分布、代谢和排泄等过程 和血药浓度随时间消长的规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二）护理药理学：以人为对象，阐述临床如何合理用药和护士在合理用药中的地位及作用，做好药疗监护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士在临床用药中的作用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协助医生合理用药，注意观察药效和不良反应。防治和减少药源性疾病和事故发生，使药物治疗达到最佳效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4888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药物治疗中的护理须知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严格按医嘱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二）用药前“三查七对”，并充分了解有关新用药物的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三）指导患者按时服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四）注意观察药效和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582a3"/>
                </a:solidFill>
                <a:latin typeface="Verdana"/>
                <a:ea typeface="宋体"/>
              </a:rPr>
              <a:t>谢谢大家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6-03-11T03:04:05Z</dcterms:modified>
  <cp:revision>2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