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B08E-ADCD-43A5-9B50-6BA809B18B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4EC0-2C1D-4486-BE4C-EE542292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47ED-FD89-4310-8289-B7D09E29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672E-8140-45F9-B258-93807AF4BB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CA64-B8CE-4D2E-8425-C7BE5232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3115-6536-4ACE-BDDB-C9519AF6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6DE8-665B-4BAD-BA19-FC34926F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CC51-2551-4F87-8AB3-734BD732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F2CD-C538-4098-9D90-8B5EAD2F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6F9C-8BD5-43D9-96CF-CCFD717E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73FC-4EF5-46BF-91C4-E0B30E6D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0B5E-CAB4-40F4-BBF3-3B3E3AA9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8CD1-F493-44B8-9588-640B909CBD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效应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Times New Roman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的基本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基本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兴奋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选择性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在治疗剂量时，药物通常只选择性地对某一个或几个器官组织产生明显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的适应证取决于药物作用的选择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作用方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局部作用和吸收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直接作用和间接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临床效果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不良反应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副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毒性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变态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后遗效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继发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致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个体差异：个体之间对同一药物的反应可有明显差异称为药物作用的个体差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高敏性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耐受性（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toler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抗药性（耐药性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resist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量效关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剂量的概念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量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量反应和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量反应：药物效应凡能用具体数量来表示的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质反应：药物效应不能用数量表示，需用阴性或阳性、有或无来表示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指数：是用来估计一个药物安全性的指标，常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的比值表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机制和受体学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从构效关系归纳作用机制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细胞周围环境的理化条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参与或干扰细胞物质代谢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通过抑制或促进体内某些酶而起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细胞膜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体内生理递质激素的释放或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药物和受体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完全激动剂：药物与受体有较强的亲和力，并有较强的内在活性，能兴奋受体产生明显效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拮抗剂：药物与受体有较强的亲和力，没有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部分激动剂：药物与受体有亲和力，但只有弱的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相加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增强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对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06:2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