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B06ED-34AA-4631-9EA4-CF439EBD5B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7943C-F072-41D0-8794-98BFFC10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9567C-117C-40EB-AEE3-355C9491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DE152-AB59-420A-88C3-BE95527E76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A53DF-DAE1-471F-A4B9-F884652A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BAFDE-B8C2-4A59-9928-964AEBF0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2FACD-B283-476C-AEC7-3FE5A6F6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F794A-4379-43F9-9965-701B0CF4C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10A36-4881-4F66-8381-F17CAB3B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3DBAD-ED33-44A5-9C17-286F7985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37C53-83A0-440B-A2DE-E7AD83A1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49D2E-875D-4DF0-B861-5F04D509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BA9E-7FEF-4513-9BC0-C7AE676E41B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绪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5840" y="267840"/>
            <a:ext cx="80769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药理学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药理学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armacology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：是研究药物与机体相互作用规律和机制的科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效动力学：阐明药物对机体的作用和作用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物代谢动力学：阐明药物在机体内吸收、分布、代谢和排泄等过程 和血药浓度随时间消长的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护理药理学：以人为对象，阐述临床如何合理用药和护士在合理用药中的地位及作用，做好药疗监护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士在临床用药中的作用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协助医生合理用药，注意观察药效和不良反应。防治和减少药源性疾病和事故发生，使药物治疗达到最佳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药物治疗中的护理须知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严格按医嘱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用药前“三查七对”，并充分了解有关新用药物的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三）指导患者按时服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四）注意观察药效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6-03-11T03:04:05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