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F7EB3-5138-4574-9607-281D06A582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1648B-98E2-4F05-9555-6D9513D34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DB5BC-C59D-4EF3-975A-5C946AAAA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B7304-B8D9-4AE3-A97E-066FCA9084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B8638-B4BE-43C1-AD52-1B894ABD7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B5CD8-6C6D-4988-A3D2-8E5A72EE1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1C026-7401-46B8-AEC9-24558D8F4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98AED-69B8-4A91-8BD2-12A0E2D17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548D6-6AEA-45FB-BF83-98655BB83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0D196-B23D-4F92-8A48-C06B2AD78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88D7B-1F2D-4029-AF54-56DE6A020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22FEA-C9E0-4946-87E2-42FAE136D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2D4DD-6699-4F31-8D7B-984A423DAE8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七章  拟胆碱药和抗胆碱药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560160"/>
            <a:ext cx="8077320" cy="56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、拟胆碱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胆碱受体激动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完全拟胆碱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M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激动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毛果芸香碱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pilocapine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作用：缩瞳 降低眼压 调节痉挛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应用：点眼治疗青光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二、抗胆碱酯酶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易逆行抗胆碱酯酶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1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新斯的明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neostigmine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应用：重症肌无力、 术后腹胀气和尿潴留、 阵发性室上性心动过速、肌松药过量中毒解救、对抗阿拖品中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不良反应和药物监护须知。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2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吡斯的明、安具氯胺、加兰他敏、毒扁豆碱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二）难逆性抗胆碱酯酶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有机磷酸酯类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1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急性中毒表现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轻度：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M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样作用为主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中度：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M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样和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N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样作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。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重度：除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M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、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N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样作用，还有中枢神经系统症状。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2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中毒解救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阿托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胆碱酯酶复活药：碘解磷定、氯解磷定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胆碱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M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胆碱受体阻断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阿托品类生物碱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阿托品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atropine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作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应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不良反应和药物监护须知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东莨菪碱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作用和应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不反应和药物监护须知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二、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N</a:t>
            </a:r>
            <a:r>
              <a:rPr b="1" lang="en-US" sz="2800" spc="-1" strike="noStrike" baseline="-25000">
                <a:solidFill>
                  <a:srgbClr val="3582a3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胆碱受体阻断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(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骨骼肌松弛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去极化型肌松药：琥珀胆碱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(scoline)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非去极化肌松药：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筒箭毒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582a3"/>
                </a:solidFill>
                <a:latin typeface="Verdana"/>
                <a:ea typeface="宋体"/>
              </a:rPr>
              <a:t>谢谢大家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7T05:28:18Z</dcterms:modified>
  <cp:revision>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