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71C34-9D74-4615-8D62-22266C49F42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D3ACC-F154-4D08-A4A5-31CE2BB1D5C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8EF4F-EC60-4C21-ADA3-4576DF0B14E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40AF27-8AEE-42C6-AE46-D3AE9BE15C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BE1CA71D-CA98-4A90-8331-7655A5E747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A4AF0212-7FB9-4691-95B2-723153500F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DCDE0640-548E-407D-97FB-73BA8376BC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E11366AE-F13C-439F-91AE-1D7E3A620A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F576947-153A-4C2D-9548-D5234F0E57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8921BF17-5065-4B43-B780-339FFF0C57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D0025DC8-E292-4EA4-9F86-7E3C185930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AA608879-A719-4073-9398-0535136052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77F70F6-5A6F-44F6-96D2-F2E820F882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67A2A47-5191-4A92-BF4E-89E420F826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DB3906F-2B54-4E38-B93C-C976B7D995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96847-F4A4-45EE-A024-4F465EA27EA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九章 </a:t>
            </a:r>
            <a:br>
              <a:rPr sz="4400"/>
            </a:br>
            <a:r>
              <a:rPr b="1" lang="zh-CN" sz="4400" spc="-1" strike="noStrike">
                <a:solidFill>
                  <a:srgbClr val="ffffff"/>
                </a:solidFill>
                <a:latin typeface="黑体"/>
              </a:rPr>
              <a:t>临终关怀与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临终患者的身心护理</a:t>
            </a:r>
            <a:endParaRPr b="1" lang="en-US" sz="4400" spc="-1" strike="noStrike">
              <a:solidFill>
                <a:srgbClr val="ffffff"/>
              </a:solidFill>
              <a:latin typeface="黑体"/>
            </a:endParaRPr>
          </a:p>
        </p:txBody>
      </p:sp>
      <p:sp>
        <p:nvSpPr>
          <p:cNvPr id="129" name=""/>
          <p:cNvSpPr txBox="1"/>
          <p:nvPr/>
        </p:nvSpPr>
        <p:spPr>
          <a:xfrm>
            <a:off x="375840" y="1700280"/>
            <a:ext cx="8474040" cy="394488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护理的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家属的安抚及护理</a:t>
            </a:r>
            <a:endParaRPr b="1" lang="en-US" sz="32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护理的概念</a:t>
            </a:r>
            <a:endParaRPr b="1" lang="en-US" sz="4400" spc="-1" strike="noStrike">
              <a:solidFill>
                <a:srgbClr val="ffffff"/>
              </a:solidFill>
              <a:latin typeface="黑体"/>
            </a:endParaRPr>
          </a:p>
        </p:txBody>
      </p:sp>
      <p:sp>
        <p:nvSpPr>
          <p:cNvPr id="131" name=""/>
          <p:cNvSpPr txBox="1"/>
          <p:nvPr/>
        </p:nvSpPr>
        <p:spPr>
          <a:xfrm>
            <a:off x="117360" y="2060280"/>
            <a:ext cx="8786880" cy="3079800"/>
          </a:xfrm>
          <a:prstGeom prst="rect">
            <a:avLst/>
          </a:prstGeom>
          <a:noFill/>
          <a:ln w="0">
            <a:noFill/>
          </a:ln>
        </p:spPr>
        <p:txBody>
          <a:bodyPr anchor="t">
            <a:normAutofit/>
          </a:bodyPr>
          <a:p>
            <a:pPr marL="572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护理（</a:t>
            </a:r>
            <a:r>
              <a:rPr b="1" lang="en-US" sz="3200" spc="-1" strike="noStrike">
                <a:solidFill>
                  <a:srgbClr val="000000"/>
                </a:solidFill>
                <a:latin typeface="宋体"/>
              </a:rPr>
              <a:t>hospice nurse</a:t>
            </a:r>
            <a:r>
              <a:rPr b="1" lang="zh-CN" sz="3200" spc="-1" strike="noStrike">
                <a:solidFill>
                  <a:srgbClr val="000000"/>
                </a:solidFill>
                <a:latin typeface="宋体"/>
              </a:rPr>
              <a:t>）是对那些已经失去治愈希望的患者在生命即将结束时所实施的一种积极的综合护理，是临终关怀的重要组成部分。</a:t>
            </a:r>
            <a:endParaRPr b="1" lang="en-US" sz="3200" spc="-1" strike="noStrike">
              <a:solidFill>
                <a:srgbClr val="000000"/>
              </a:solidFill>
              <a:latin typeface="宋体"/>
            </a:endParaRPr>
          </a:p>
          <a:p>
            <a:pPr marL="57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循环功能减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功能减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功能紊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肉张力丧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意识改变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觉、知觉改变 </a:t>
            </a:r>
            <a:endParaRPr b="1" lang="en-US" sz="28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控制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维持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循环与呼吸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感知觉改变的影响</a:t>
            </a:r>
            <a:endParaRPr b="1" lang="en-US" sz="28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12480" y="1989000"/>
            <a:ext cx="8474040" cy="3151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满足家属照顾患者的需要</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家属精神和心理的关心和支持愤怒期</a:t>
            </a:r>
            <a:endParaRPr b="1" lang="en-US" sz="32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患者家属的安抚及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和死亡的概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的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过程的分期</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家属的安抚及护理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3" name="Rectangle 2"/>
          <p:cNvSpPr/>
          <p:nvPr/>
        </p:nvSpPr>
        <p:spPr>
          <a:xfrm>
            <a:off x="324000" y="333360"/>
            <a:ext cx="8580240" cy="71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死亡相关概念和患者死后的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3640" y="1017360"/>
            <a:ext cx="8474040" cy="5500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 </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濒死，是指由于疾病末期或意外事故而造成人体主要器官生理功能衰竭，患者虽已接受治疗性和姑息性的治疗，但病情加速恶化，各种迹象显示生命活动将要走向终点的状态。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死亡是机体完整性的解体，是个体生命活动和新陈代谢的永久停止。 </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濒死和死亡的概念</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死亡的标准</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统死亡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脑死亡标准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逆的深度昏迷</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发呼吸停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干反射消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电波消失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23640" y="1483920"/>
            <a:ext cx="8474040" cy="430524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临终关怀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协助临终患者的身心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死亡相关概念和患者死亡后的护理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死亡过程的分期</a:t>
            </a:r>
            <a:endParaRPr b="1" lang="en-US" sz="4400" spc="-1" strike="noStrike">
              <a:solidFill>
                <a:srgbClr val="ffffff"/>
              </a:solidFill>
              <a:latin typeface="黑体"/>
            </a:endParaRPr>
          </a:p>
        </p:txBody>
      </p:sp>
      <p:sp>
        <p:nvSpPr>
          <p:cNvPr id="149" name=""/>
          <p:cNvSpPr txBox="1"/>
          <p:nvPr/>
        </p:nvSpPr>
        <p:spPr>
          <a:xfrm>
            <a:off x="356760" y="1356840"/>
            <a:ext cx="8474040" cy="521676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死亡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学死亡期</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冷</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斑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僵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体腐败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死亡患者的护理</a:t>
            </a:r>
            <a:endParaRPr b="1" lang="en-US" sz="4400" spc="-1" strike="noStrike">
              <a:solidFill>
                <a:srgbClr val="ffffff"/>
              </a:solidFill>
              <a:latin typeface="黑体"/>
            </a:endParaRPr>
          </a:p>
        </p:txBody>
      </p:sp>
      <p:sp>
        <p:nvSpPr>
          <p:cNvPr id="151" name=""/>
          <p:cNvSpPr txBox="1"/>
          <p:nvPr/>
        </p:nvSpPr>
        <p:spPr>
          <a:xfrm>
            <a:off x="142560" y="2060280"/>
            <a:ext cx="8474040" cy="2576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物品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死亡患者家属的安抚及护理</a:t>
            </a:r>
            <a:endParaRPr b="1" lang="en-US" sz="4400" spc="-1" strike="noStrike">
              <a:solidFill>
                <a:srgbClr val="ffffff"/>
              </a:solidFill>
              <a:latin typeface="黑体"/>
            </a:endParaRPr>
          </a:p>
        </p:txBody>
      </p:sp>
      <p:sp>
        <p:nvSpPr>
          <p:cNvPr id="153" name=""/>
          <p:cNvSpPr txBox="1"/>
          <p:nvPr/>
        </p:nvSpPr>
        <p:spPr>
          <a:xfrm>
            <a:off x="142560" y="1699920"/>
            <a:ext cx="8474040" cy="4105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做好死亡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鼓励家属宣泄感情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精神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生活指导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随访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单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现代医学已开始主张死亡的依据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脑死亡</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心电图平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尸斑出现的部位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头顶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面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腹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胸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最低部位</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最后消失的感觉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视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听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触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嗅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味觉</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4. </a:t>
            </a:r>
            <a:r>
              <a:rPr b="1" lang="zh-CN" sz="3200" spc="-1" strike="noStrike">
                <a:solidFill>
                  <a:srgbClr val="000000"/>
                </a:solidFill>
                <a:latin typeface="宋体"/>
              </a:rPr>
              <a:t>临终患者最早出现的心理反应期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忧郁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愤怒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否认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接受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协议期</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5. </a:t>
            </a:r>
            <a:r>
              <a:rPr b="1" lang="zh-CN" sz="3200" spc="-1" strike="noStrike">
                <a:solidFill>
                  <a:srgbClr val="000000"/>
                </a:solidFill>
                <a:latin typeface="宋体"/>
              </a:rPr>
              <a:t>对否认期患者的护理中，不妥的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根据患者对病情的认识程度进行沟通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与其他医务人员及家属保持一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应引导患者正视现实</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维持患者适当的希望</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经常陪伴患者</a:t>
            </a:r>
            <a:endParaRPr b="1" lang="en-US" sz="3200" spc="-1" strike="noStrike">
              <a:solidFill>
                <a:srgbClr val="000000"/>
              </a:solidFill>
              <a:latin typeface="宋体"/>
            </a:endParaRPr>
          </a:p>
          <a:p>
            <a:pPr lvl="1" marL="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5" name=""/>
          <p:cNvSpPr txBox="1"/>
          <p:nvPr/>
        </p:nvSpPr>
        <p:spPr>
          <a:xfrm>
            <a:off x="357120" y="1285920"/>
            <a:ext cx="878688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6. </a:t>
            </a:r>
            <a:r>
              <a:rPr b="1" lang="zh-CN" sz="3200" spc="-1" strike="noStrike">
                <a:solidFill>
                  <a:srgbClr val="000000"/>
                </a:solidFill>
                <a:latin typeface="宋体"/>
              </a:rPr>
              <a:t>护理处于愤怒期的临终患者，不妥的一项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可适当回避患者</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尽量让患者表达其愤怒，发泄内心的不快</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理解患者的痛苦</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给予安抚和疏导</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多陪伴患者</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7. </a:t>
            </a:r>
            <a:r>
              <a:rPr b="1" lang="zh-CN" sz="3200" spc="-1" strike="noStrike">
                <a:solidFill>
                  <a:srgbClr val="000000"/>
                </a:solidFill>
                <a:latin typeface="宋体"/>
              </a:rPr>
              <a:t>临终关怀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以治疗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以护理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以治愈为主的治疗</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以对症为主的照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关心患者生活</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509760" y="1844280"/>
            <a:ext cx="8208720" cy="309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临终、临终关怀的概念。</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描述临终患者各阶段的生理评估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脑死亡的诊断标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多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临床死亡期指征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各种反射消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出现尸冷</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属于临终患者的临床表现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肌肉震颤</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意识改变</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呼吸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循环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各种深浅反射逐渐消失</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循环衰竭的表现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率出现紊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脉搏细速而不规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血压上升</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皮肤苍白</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口唇指甲青紫</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案例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贾先生，</a:t>
            </a:r>
            <a:r>
              <a:rPr b="1" lang="en-US" sz="3200" spc="-1" strike="noStrike">
                <a:solidFill>
                  <a:srgbClr val="000000"/>
                </a:solidFill>
                <a:latin typeface="宋体"/>
              </a:rPr>
              <a:t>65</a:t>
            </a:r>
            <a:r>
              <a:rPr b="1" lang="zh-CN" sz="3200" spc="-1" strike="noStrike">
                <a:solidFill>
                  <a:srgbClr val="000000"/>
                </a:solidFill>
                <a:latin typeface="宋体"/>
              </a:rPr>
              <a:t>岁，肺癌广泛转移，病情日趋恶化，但患者对自己的病情抱有希望，积极配合医护人员治疗和护理。</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问题：</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1</a:t>
            </a:r>
            <a:r>
              <a:rPr b="1" lang="zh-CN" sz="3200" spc="-1" strike="noStrike">
                <a:solidFill>
                  <a:srgbClr val="000000"/>
                </a:solidFill>
                <a:latin typeface="宋体"/>
              </a:rPr>
              <a:t>）患者处于临终患者心理反应的哪个阶段？</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针对患者的特殊心理反应，护士应如何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552240" y="119664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陈述临终关怀的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明临终关怀的原则。</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临终患者各阶段的生理、心理变化及护理措施。</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比较死亡过程各期的表现和特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死亡患者和家属的护理内容。 </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在临床实践中，能根据临终患者和家属的情况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临终关怀</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基本原则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内容 </a:t>
            </a: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的概念</a:t>
            </a:r>
            <a:endParaRPr b="1" lang="en-US" sz="4400" spc="-1" strike="noStrike">
              <a:solidFill>
                <a:srgbClr val="ffffff"/>
              </a:solidFill>
              <a:latin typeface="黑体"/>
            </a:endParaRPr>
          </a:p>
        </p:txBody>
      </p:sp>
      <p:sp>
        <p:nvSpPr>
          <p:cNvPr id="121" name=""/>
          <p:cNvSpPr txBox="1"/>
          <p:nvPr/>
        </p:nvSpPr>
        <p:spPr>
          <a:xfrm>
            <a:off x="323640" y="2133720"/>
            <a:ext cx="8474040" cy="22874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指临近死亡的阶段。是指患者在已接受治疗性或姑息性治疗后，虽然意识清醒，但病情加速恶化，各种迹象显示生命即将终结。</a:t>
            </a:r>
            <a:endParaRPr b="1" lang="en-US" sz="32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关怀的概念</a:t>
            </a:r>
            <a:endParaRPr b="1" lang="en-US" sz="4400" spc="-1" strike="noStrike">
              <a:solidFill>
                <a:srgbClr val="ffffff"/>
              </a:solidFill>
              <a:latin typeface="黑体"/>
            </a:endParaRPr>
          </a:p>
        </p:txBody>
      </p:sp>
      <p:sp>
        <p:nvSpPr>
          <p:cNvPr id="123" name=""/>
          <p:cNvSpPr txBox="1"/>
          <p:nvPr/>
        </p:nvSpPr>
        <p:spPr>
          <a:xfrm>
            <a:off x="323640" y="2133360"/>
            <a:ext cx="8474040" cy="38876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关怀（</a:t>
            </a:r>
            <a:r>
              <a:rPr b="1" lang="en-US" sz="3200" spc="-1" strike="noStrike">
                <a:solidFill>
                  <a:srgbClr val="000000"/>
                </a:solidFill>
                <a:latin typeface="宋体"/>
              </a:rPr>
              <a:t>hospicecare</a:t>
            </a:r>
            <a:r>
              <a:rPr b="1" lang="zh-CN" sz="3200" spc="-1" strike="noStrike">
                <a:solidFill>
                  <a:srgbClr val="000000"/>
                </a:solidFill>
                <a:latin typeface="宋体"/>
              </a:rPr>
              <a:t>）是指由社会各层次人员（护士、医生、志愿者、宗教人士、社会工作者以及慈善团体和政府等）组成的团队为临终患者及其家属提供的包括生理、心理和社会等方面的一种全面的支持和照料。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3640" y="169992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照顾为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重心理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高生命质量</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生命尊严 </a:t>
            </a:r>
            <a:endParaRPr b="1" lang="en-US" sz="32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关怀的基本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23640" y="206028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全方位照顾，满足患者的需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患者的权利，支持患者的选择</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家属提供心理安慰与支持</a:t>
            </a:r>
            <a:endParaRPr b="1" lang="en-US" sz="3200" spc="-1" strike="noStrike">
              <a:solidFill>
                <a:srgbClr val="000000"/>
              </a:solidFill>
              <a:latin typeface="宋体"/>
            </a:endParaRPr>
          </a:p>
        </p:txBody>
      </p:sp>
      <p:sp>
        <p:nvSpPr>
          <p:cNvPr id="12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关怀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3:18:37Z</dcterms:created>
  <dc:creator>Microsoft Office 用户</dc:creator>
  <dc:description/>
  <dc:language>en-US</dc:language>
  <cp:lastModifiedBy>赵欣</cp:lastModifiedBy>
  <dcterms:modified xsi:type="dcterms:W3CDTF">2016-01-22T08:42:04Z</dcterms:modified>
  <cp:revision>31</cp:revision>
  <dc:subject/>
  <dc:title>第十九章  临终关怀与护理 </dc:title>
</cp:coreProperties>
</file>