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93E8-B766-4263-839F-3A84B054727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970E-66E5-483D-A7DC-4D791F2AFF9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0E53-C715-49DB-BDE7-4BD3F27B02F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A9468-A6AE-48F2-A6FE-B28052E95B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FABF2-5E53-4D66-A680-66D226A7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11A94-E452-4211-AD92-57E6BF0A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9FA0F-7620-491E-B4B9-5DB8B30927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35753-ECC7-4C5A-81F4-752DC04A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EEC79-62AC-42F5-B27F-7485C326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338B1-BF03-4275-A9BB-7941F296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AA710-F90A-4EA0-AC64-DDB3EBA9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E727A-B23D-40DE-99BC-4858940EC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0CC8A-5F23-4538-87D9-15A5192C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9D53F-48FA-4E4B-9503-5FBAE541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56323-89DD-4B44-8FA0-A1EB6A8E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2D05-2A8F-424C-8565-0983F58359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一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休息与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睡眠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发生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特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时相：慢波睡眠和快波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周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69720" y="942480"/>
            <a:ext cx="84744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失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作性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过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呼吸暂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剥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游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惊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遗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节律改变：表现为昼夜性节律去同步化，又称节律移位，是指患者正常的昼夜性节律遭到破坏，睡眠与昼夜性节律不协调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质量改变：各睡眠时相持续的时间、睡眠深度及睡眠效果三方面协调一致的综合体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9144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满足患者身体舒适的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或解除心理压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创造良好的睡眠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使用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建立良好的睡眠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晚间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03120" y="115920"/>
            <a:ext cx="85820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标题 1"/>
          <p:cNvSpPr/>
          <p:nvPr/>
        </p:nvSpPr>
        <p:spPr>
          <a:xfrm>
            <a:off x="357120" y="31284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疼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系统结构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状态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护理措施的实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197000"/>
            <a:ext cx="84740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皮肤的影响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骨骼肌肉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萎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质疏松、关节僵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挛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心血管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立性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栓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呼吸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消化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、厌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泌尿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、尿潴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结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感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心理－社会方面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223920" y="142920"/>
            <a:ext cx="85802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活动的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休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活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活动的评估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重点：患者对日常生活活动、生活自理能力、活动耐力、影响患者活动的主要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方法：问诊、体格检查和辅助检查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的内容：患者的一般资料、心肺功能状态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骼肌肉状态、关节功能状态、机体活动能力、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前的患病情况、社会心理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变换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节活动范围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关节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关节僵硬、粘连和挛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血液循环，有利于关节营养的供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关节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肌张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方法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面评估患者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过程注意观察不良反应及耐受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急性关节炎、骨折、肌腱断裂、关节脱位的患者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练习时，应在临床医生和康复医生的指导下完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后及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长练习：可增加肌肉张力而不改变肌肉长度的练习称为等长练习，因不伴有明显的关节运动，又称静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：指对抗一定的负荷作关节的活动锻炼，同时也锻炼肌肉收缩。因伴有大幅度关节运动，又称动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患者的病情及运动需要为依据，制订适合患者的运动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锻炼前后应作充分地准备及放松运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掌握运动的量与频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肌肉等长收缩引起的升压反应及增加心血管负荷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中如果出现不适应该停止锻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384120" y="33336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护理措施哪项有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创造良好的睡眠环境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改变患者的睡眠习惯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安排护理措施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使用药物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心理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324000" y="2476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24000" y="237960"/>
            <a:ext cx="85802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大量分泌生长激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体力恢复，发生在睡眠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NRE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 REM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睡眠时相的描述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进入睡眠后，首先是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越接近睡眠的后期，慢波睡眠的持续时间越长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种睡眠时相均可直接转为觉醒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觉醒状态下可以进入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慢波睡眠又称异相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53880" y="23652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476280" y="236520"/>
            <a:ext cx="8580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发作性睡眠的描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的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属于慢波睡眠障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静的环境不易发作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患者由清醒状态直接进入慢波睡眠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与正常睡眠不同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猝倒症是最危险的并发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976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休息、睡眠、关节活动练习、等长练习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睡眠障碍的类型和主要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活动受限的原因和其对机体的影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理解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比较睡眠两个时相的不同特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举例说明影响睡眠的因素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促进休息和睡眠的护理措施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患者活动评估的内容和协助活动的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陈述关节活动范围和肌肉练习的注意事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能正确为患者提供促进休息和睡眠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按规程协助患者进行关节活动范围和肌肉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身体的舒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心理的放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环境的和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足够的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暴海燕</cp:lastModifiedBy>
  <dcterms:modified xsi:type="dcterms:W3CDTF">2016-01-25T06:55:20Z</dcterms:modified>
  <cp:revision>141</cp:revision>
  <dc:subject/>
  <dc:title>内科护理学</dc:title>
</cp:coreProperties>
</file>