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9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6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07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109.xml.rels" ContentType="application/vnd.openxmlformats-package.relationships+xml"/>
  <Override PartName="/ppt/notesSlides/_rels/notesSlide1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100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107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9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10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110.xml.rels" ContentType="application/vnd.openxmlformats-package.relationships+xml"/>
  <Override PartName="/ppt/slides/_rels/slide8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92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11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27611-B936-4BEE-A01A-E6FD807F591E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107.xml.rels><?xml version="1.0" encoding="UTF-8"?>
<Relationships xmlns="http://schemas.openxmlformats.org/package/2006/relationships"><Relationship Id="rId1" Type="http://schemas.openxmlformats.org/officeDocument/2006/relationships/slide" Target="../slides/slide107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10.xml.rels><?xml version="1.0" encoding="UTF-8"?>
<Relationships xmlns="http://schemas.openxmlformats.org/package/2006/relationships"><Relationship Id="rId1" Type="http://schemas.openxmlformats.org/officeDocument/2006/relationships/slide" Target="../slides/slide1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6F89A-AA44-4D03-A656-F1B98B4FA7C9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DC868-6978-46C5-8D15-07AFF083D361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4E4ED-5FD9-4029-9866-99240749993B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5ABC7-3D11-4B00-A191-6410AC2ADDED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15F32-4368-441F-A0AA-1B310F0DA9DF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3144C-BE61-45F7-AA3D-FC0DEECA544D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25153-FDD5-4453-BA1E-C1D9EFD844F7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B8AE2-DC62-4E17-ADEB-B3E157434976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08559-B1D9-49D8-A13F-DB386E0F1D37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496A7-F73F-48B7-8B36-CD9DFAD3337A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70F0F-57EB-41B1-B842-4E9D414243D6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064AF-24AF-48A7-807A-5D5E22CD84B3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26D31-FFAF-4BE8-94F0-8906127F99B3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D794F-835C-4D99-A9EA-8C1EC9944FD3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3EFE7-078B-412C-8C31-AA2482B720B6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51B27-61BB-4A0F-9FAE-7C921D1BF73A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CFE48-4EE5-4DEE-AE8A-ACDBE4324F3E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EA87A-7CFF-45B1-BE36-31D6CEAF73F5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DC7AC-7287-4EE4-8E47-B3F3E5A90817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E071D-DBDA-4CE4-95BC-C0859D2760F0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1E7AB-B9B5-405A-9E2F-6FE8EE29920D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DDED4-E55C-41AF-AB7B-9B0EEB12D3A5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048F5-A355-4A36-B968-BB56655156EC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EA5FA-63A0-4B3A-BF08-34E304587A7B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1C49D-C009-499F-9017-49FBDC1BE223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473AB-45EA-47FF-8A84-01F8514A27DA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C0CA9-16F9-43D6-9D6A-C004F26F46B0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0B631-7686-44E0-9527-C2E0D756BCFE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E0853-949B-485D-8358-8378925772E9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AEECF-A03D-4FBB-8B77-A676907C9EB0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48326-F701-480D-8D33-80BABC8902C6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8D376-6926-4F4A-8D7B-9378E9AA48AD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142E2-98DD-47A2-9938-EC733CFDEE6B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0115F-C72C-4C7B-9BC2-097ABA555086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95A43-D873-4DA6-BD7E-97E88DAEB697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B5412-158E-402A-BBA5-58C47FF3B31B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7749A-67C5-434E-B3C4-7D91D3E9E962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09AB6-B971-42C0-A1EC-81AFC39097B2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F41F9-DC02-4396-95F7-9416C128B22C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15032-80D6-4EFB-8C4F-B1F5BBF02FCA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64996-2585-4BA8-AEAD-46DCBDF94891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8184B-E875-42EE-B1DE-ECD6282568F4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C91DC-1106-4A48-B385-8182F868FBE7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3141B-AB60-41EE-AD84-59843A1E9B57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8B27E-29EA-44C7-B889-A688EA1A122C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48B60-7DAE-4107-AC41-D61106248970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B7AE9-F4C7-4D3A-9F86-CAAB11A15768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C92E2-5A38-43FB-AB93-1AFE02404EC4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42DA2-21C5-4129-8E95-C2CC4AD6DFE3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21761-0B57-4A12-9C4A-4D645C18CF31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42995-4A30-4AC1-9EA6-000D8A1F9117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98F37-3148-42CA-9022-CF03E94A4FEE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41C2E-6316-464A-8D2C-075A8198DBBD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9D5A6-B999-4FEF-8E33-FD55A7E3DF56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D63C9-A78A-4E6B-9282-D8F58DDCC8AA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186A7-E4D3-4008-B667-49922335241B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500A7-60D7-43B7-B09E-36AE0DDD155A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58F21-6135-44DD-B38F-F03252D9C1FE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F42F7-5B76-49F9-90CD-3A5EADF62324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39D8A-9282-41B1-82F8-BB19B38BE218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602AE-9818-4A49-B847-4246E943DF32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E1A02-E914-4517-BFC9-D4CA5246E509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2F268-650C-435A-8860-21EFF9702A14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3601E-5056-4943-83C9-5C034D95E076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73684-F225-47E0-AEA7-BFB9FD50C84F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D3C81-84D0-4373-9B98-3D26111E1ACE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7CA8E-1015-452B-9A8A-120489D87078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AA172-6496-4DCB-B214-AFE6E8F02200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F9841-B8F6-4178-B7C8-C5235FDDB905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A3F0A-5D7D-497B-8F44-89BC71D61DEA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D102B-9231-4154-B05F-9170D2AB47F4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E012C-C40C-4CD4-B232-AF4950313EFD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08B44-E31E-4715-8630-C22B57E1BC50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BD7FA-7BB3-4DDD-895F-99D335A91A08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2F8CC-5E76-4258-9EDD-2DA73BF69B36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91717-84D5-4321-8DD4-DFCA081B047B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662B4-3CA0-4859-AE50-7BCDE86717D2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7F094-9555-49BA-A70D-C6662B3535BB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BB48D-1225-4758-A564-6C3C9EC451CC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3B178-AFFF-4B0B-BA3B-D97F28A5C45C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65581-00DE-44AC-B19A-FF82E38EBEBF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044FD-D577-40C0-81A5-C1E4EEF18384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92047-A95D-4BF2-8548-3005EA9E4AFA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F68E4-07C4-4DA1-9418-1BA35C9048AF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633C7-473E-46DA-9A07-A5C37B5B2D25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C6BCD-95E1-4C28-AF57-60332F4B3BB1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D486E-132A-4A28-B67F-3A5F09B5460F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327A7-B7A0-43B9-8A76-5F5B6DA851D6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BEAE0-C087-4078-A8F8-244BEB695483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026A9-4552-426B-87DF-49A631F3B20C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97077-7E9F-486D-A1B8-868DC2388820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45427-D317-4CB9-8781-5330ED831B36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275A0-ED01-4528-A898-E503875330D9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EE59A-B840-46F3-82A6-C0801F49BEAB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CBCC6-BF12-4313-B9B6-5B23492335D7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25CCF-3580-4EFC-96DC-A53C1D200119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4DF25-FC13-4E70-85C4-12EB6C4B5202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22756-56FB-4044-978E-3C1F10218AB2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AF7FA-4E4C-4C2D-9FBB-D731FFFFE995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FA4A0-A058-48F2-91A1-558092CB2AC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9EC1B-00D4-4667-B6B8-130FD98CA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AD3D7-3366-45D4-8DD8-A20CB7DD1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4C9C4-5CE6-479B-9A5F-A7104751A40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0F28C-E644-458E-81B3-9164F5C74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C1392-F628-488C-9AD3-D7029B6F0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6096F-C5E6-4CE4-8C27-6CF015D00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C149B-2E7B-488F-94E8-77699ABD7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A52A0-D10B-41D0-9A67-7A8C4E13B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2AB42-F65E-4F2B-927F-E6A215335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C7C98-481B-4106-B00C-45DC4BBE9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574A4-4BA7-42B9-AB66-B63CECD62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CEEC2-F888-4570-84E4-13586957426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64360" y="6597720"/>
            <a:ext cx="162072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0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第十二章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生命体征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23640" y="1267920"/>
            <a:ext cx="8474040" cy="58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的生理性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743040" indent="-3430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昼夜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743040" indent="-3430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年龄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743040" indent="-3430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性别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743040" indent="-3430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运动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743040" indent="-3430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药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体温及生理性变化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李某，肺炎球菌性肺炎，口温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脉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，口唇干燥，下列护理措施不妥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卧床休息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测体温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鼓励饮水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冰袋放于头顶、足底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每日口腔护理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适宜测量口腔温度的患者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幼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躁狂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困难者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极度消瘦者　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鼻手术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频发的间歇脉常见于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房室传导阻滞　 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窦性心律不齐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洋地黄中毒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动过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动过缓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代谢性酸中毒患者的呼吸表现为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深长而规则的呼吸　 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浮浅性呼吸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蝉鸣样呼吸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和呼吸暂停交替出现　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吸气和呼气均感费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关于中度缺氧症状，下列描述不妥的是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明显发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凹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烦躁不安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分压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m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0mmHg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Sa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0%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正常人精神紧张时可引起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收缩压、舒张压升高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收缩压、舒张压均无变化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收缩压升高，舒张压无明显变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收缩压降低，舒张压升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收缩压无明显变化，舒张压升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94920" y="117000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二、多项选择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命体征的生理变化，叙述正确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夏天，体温和血压略增高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情绪激动时体温和血压略增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年以前女性的体温和血压高于男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老年人体温低于青年人，血压高于青年人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幼儿的脉搏比成人快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394920" y="117000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二、多项选择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式呼吸减弱可见于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大量腹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腔巨大肿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膜炎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壁静脉曲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急性肾盂肾炎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394920" y="117000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二、多项选择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低张性缺氧常见于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山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先天性心脏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力衰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氧化碳中毒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慢性阻塞性肺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394920" y="117000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三、案例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李某，女性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岁，因反复咽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个月，畏寒、高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天住院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格检查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T 39.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 11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R 2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。发育正常，营养良好，应答切题，面色潮红，皮下无出血点，全身淋巴结未触及，咽部充血，两肺未闻及干、湿啰音，心脏听诊闻及病理性杂音。患者虚弱无力，不安、烦躁，影响睡眠，迫切希望症状消除，了解发热的相关知识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过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过低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2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4920" y="117000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三、案例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问题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患者的生命体征存在哪些问题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护士应为患者提供哪些护理措施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25092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过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发热原因：分为感染性发热、非感染性发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5880" indent="-3358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热程度的判断（以口腔温度为标准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低热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7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8.0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度热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8.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9.0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热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9.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1.0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超高热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1.0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上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热过程及症状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上升期：其特点为产热大于散热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热持续期：其特点是产热和散热在较高水平上趋于平衡，体温维持在较高状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退热期：其特点是散热增加而产热趋于正常，体温恢复至正常的调节水平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临床常见热型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稽留热：体温持续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达数日或数周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时波动范围不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常见于肺炎球菌性肺炎、伤寒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弛张热：体温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上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时波动范围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上，但最低体温仍高于正常水平。常见于败血症、风湿热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间歇热：体温骤然升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上，持续数小时或更长时间，又突然下降至正常水平或正常水平以下，经过一个间歇，再次发作，即高热期和无热期交替出现，常见于疟疾、成人肺结核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不规则热：发热无一定规律，且持续时间不定。常见于流行性感冒、肿瘤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过高患者的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降温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病情观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暖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病情观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充营养和水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腔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皮肤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安全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证充足的休息与睡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理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物理降温技术（详见教材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冰袋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ice bag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冰帽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ice cap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冷湿敷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ld moist compres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温水或乙醇拭浴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tepid water sponge bath/alcohol sponge bat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其他冷疗方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lvl="1" marL="305280" indent="-3052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体温过低：体温低于正常范围称为体温过低。当体温低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5 ℃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时称为“体温不升”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05280" indent="-3052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过低的原因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05280" indent="-3052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过低的分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05280" indent="-3052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过低的症状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05280" indent="-3052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过低患者的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05280" indent="-3052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热水袋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hot water bag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的使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05280" indent="-3052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05280" indent="-3052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05280" indent="-3052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课程内容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一节 体温的评估及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二节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搏的评估及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三节 呼吸的评估及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四节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的评估及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体温过低的原因　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中枢发育未成熟，常见于早产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;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散热过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;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产热减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;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调节中枢受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体温过低的分度（以口腔温度为标准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轻度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5 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度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2 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重度     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 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瞳孔散大，对光反射消失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致死温度 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5 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过低的症状　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寒战，面色苍白，口唇、耳垂呈紫色，四肢厥冷，心搏、呼吸减慢，血压下降，尿量减少，甚至出现意识障碍，导致昏迷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过低患者的护理　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观察病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暖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积极进行病因治疗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理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63040" y="404640"/>
            <a:ext cx="8580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热水袋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hot water bags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的使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体温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23640" y="1125000"/>
            <a:ext cx="84740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体温计的种类及构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计的消毒与检测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的测量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体温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体温计的种类及构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玻璃汞柱式体温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可弃式化学体温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电子体温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感温胶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红外线体温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体温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-360" y="1125000"/>
            <a:ext cx="84740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体温计的消毒与检测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体温计的消毒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体温计的检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将水银柱甩至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5 ℃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以下，同时放入已测好的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0 ℃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以下（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6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0 ℃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的水中，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分钟后取出检测，若体温计相差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0.2 ℃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或以上、水银柱自行下降、玻璃管有裂隙等则不能再使用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体温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75528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体温的测量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体温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5528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判断体温有无异常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动态监测体温的变化，分析热型及其伴随症状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为诊断、预防、治疗和护理等提供依据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记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出体温、脉搏、血压、呼吸的正常范围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发热的过程及症状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出氧气疗法的种类和要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理解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解释体温、脉搏、血压、呼吸的形成与调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举正常体温、脉搏、血压、呼吸的生理变化及影响因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异常体温、脉搏、血压、呼吸评估要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体温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9280" y="1125000"/>
            <a:ext cx="84740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的一般情况，如年龄、病情、临床诊断、治疗等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的意识状态、心理状况及合作程度以确定测量的方法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有无影响体温测量准确性的因素存在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检查测体温处皮肤黏膜有无异常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体温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75528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操作要点：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体温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36120" y="105264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合理选择测量部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避免影响测温的因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为婴幼儿、意识不清或者不合作的患者测体温时，护理人员应当守候在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发现体温与病情不相符合时，作对照复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体温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056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如患者不慎咬破水银温度计，应当立即清除口腔内玻璃碎片，再口服蛋清或牛奶延缓汞的吸收。若病情允许，食用富含纤维的食物以促进汞的排泄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甩体温计时要用腕部的力量，不可触及其他物品，以防撞碎；用离心机甩体温计时，应将体温计消毒后再放入离心机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 脉搏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脉搏及生理性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脉搏的评估及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搏测量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脉搏及生理性变化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脉搏及生理性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搏的形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脉搏及生理性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脉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脉律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脉搏的强弱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动脉壁的情况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脉搏及生理性变化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率：正常成人在安静状态下，脉率为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6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0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，与呼吸之比为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∶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∶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脉率易受各种生理因素影响而发生变化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年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性别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活动、情绪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、饮食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型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脉搏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脉搏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率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节律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强弱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动脉壁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脉搏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脉搏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率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速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缓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节律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间歇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绌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脉搏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25056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脉搏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强弱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洪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丝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交替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奇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水冲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重搏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动脉壁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3516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陈述体温异常患者的护理措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各项促进呼吸功能技术的操作要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比较不同缺氧类型的特点与原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用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按规程为患者测量生命体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根据患者的情况，选择适宜的物理降温方法并按规程完成操作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按规程为患者进行氧气吸入疗法和吸痰操作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脉搏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9492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脉搏异常患者的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休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密切观察病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丝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备好急救物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理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脉搏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搏测量部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脉搏测量的部位多选择浅表、靠近骨骼的大动脉（如桡动脉、颞动脉、颈动脉、肱动脉、腘动脉、足背动脉、胫后动脉和股动脉等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搏测量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脉搏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搏测量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判断脉搏有无异常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动态监测脉搏变化，间接了解心脏、动脉管壁、血容量等状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为诊断、预防、治疗和护理提供依据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脉搏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搏测量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一般情况，如年龄、病情、临床诊断、治疗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测量部位的皮肤完整性及肢体活动度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无影响脉搏测量准确性的因素存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心理状态及合作程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脉搏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搏测量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要点：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脉搏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搏测量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偏瘫患者应选择健侧肢体测量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测量脉搏前如有剧烈运动、紧张、恐惧、哭闹等，应休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后再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勿用拇指诊脉，因拇指小动脉的搏动较强，易与患者的脉搏相混淆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异常脉搏应测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；脉搏细弱难以触诊时，应测心尖搏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 呼吸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正常呼吸及生理性变化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异常呼吸的评估及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测量技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促进呼吸的技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呼吸及生理性变化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呼吸的调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呼吸中枢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呼吸的反射性调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牵张反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本体感受性反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防御性呼吸反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化学性调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呼吸及生理性变化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呼吸及生理性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呼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频率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。节律规则，呼吸运动均匀、无声且不费力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理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性别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情绪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其他：环境温度过高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呼吸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呼吸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频率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节律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深度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声音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呼吸困难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一节 体温的评估及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体温及生理性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体温的评估及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测量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呼吸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呼吸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深度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深度呼吸：又称库斯莫尔呼吸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浅快呼吸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呼吸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呼吸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声音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蝉鸣样呼吸：常见于喉头水肿、痉挛、喉头异物等浅快呼吸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鼾声呼吸：由于气管或支气管内有较多的分泌物积蓄所致，表现为呼吸时发出一种粗大的鼾声，多见于昏迷和神经系统疾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呼吸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呼吸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呼吸困难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吸气性呼吸困难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气性呼吸困难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混合性呼吸困难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呼吸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呼吸异常患者的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提供舒适环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加强观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提供营养和水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吸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理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呼吸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要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呼吸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判断呼吸有无异常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动态监测呼吸变化，了解患者呼吸功能的情况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协助诊断，为预防、治疗、康复和护理提供依据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呼吸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判断呼吸有无异常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动态监测呼吸变化，了解患者呼吸功能的情况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协助诊断，为预防、治疗、康复和护理提供依据。患者的一般情况如年龄、病情、临床诊断、治疗及呼吸状况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呼吸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操作要点：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呼吸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的频率会受到意识的影响，测量时不必告诉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患者有紧张、剧烈运动、哭闹等，需稳定后测量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危重患者呼吸微弱，可用少许棉花置于患者鼻孔前，观察棉花被吹动的次数，计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促进呼吸功能的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有效咳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叩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位引流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湿化和雾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吸痰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气吸入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体温及生理性变化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的形成及调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的形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产热与散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的调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吸痰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250560" y="1125000"/>
            <a:ext cx="84740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要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吸痰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107640" y="1125000"/>
            <a:ext cx="87850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清除患者呼吸道分泌物，保持呼吸道畅通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促进呼吸功能，改善肺通气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预防并发症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吸痰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250560" y="1125000"/>
            <a:ext cx="84740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病情、意识状态、治疗和护理情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鼻腔黏膜是否正常，有无鼻中隔弯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呼吸状况，有无呼吸困难、痰鸣音等，以及患者自行排痰的能力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心理反应及合作程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吸痰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250560" y="1125000"/>
            <a:ext cx="84740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操作要点：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吸痰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250560" y="1125000"/>
            <a:ext cx="84740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无菌操作，治疗盘内吸痰用物每日更换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，吸痰导管每次更换，贮液瓶及连接导管每日进行清洁消毒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贮液瓶内应先放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0 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消毒液，瓶内吸入液不宜过满，应及时倾倒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吸痰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50560" y="1125000"/>
            <a:ext cx="84740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气管插管或气管切开患者由插管或套管内插入，气管切开患者吸痰时应严格按无菌操作进行，先吸气管切开处，再吸口腔或鼻腔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每次吸痰时间不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秒，以免造成缺氧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痰液黏稠，可叩拍胸背或交替使用超声雾化吸入，气管插管或气管切开者还可缓慢滴入氯化钠溶液或化痰药物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氧气吸入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250560" y="1125000"/>
            <a:ext cx="84740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缺氧的分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缺氧程度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气吸入法的适应证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气吸入法的种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供氧装置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疗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疗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疗监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氧气吸入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334800" y="1125000"/>
            <a:ext cx="84744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缺氧的分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低张性缺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液性缺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循环性缺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组织性缺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氧气吸入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34800" y="1197000"/>
            <a:ext cx="84744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缺氧程度：见表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2-3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8" name="矩形 1"/>
          <p:cNvSpPr/>
          <p:nvPr/>
        </p:nvSpPr>
        <p:spPr>
          <a:xfrm>
            <a:off x="4147920" y="3244680"/>
            <a:ext cx="8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.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氧疗方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358920" y="2133720"/>
          <a:ext cx="8785080" cy="4433760"/>
        </p:xfrm>
        <a:graphic>
          <a:graphicData uri="http://schemas.openxmlformats.org/drawingml/2006/table">
            <a:tbl>
              <a:tblPr/>
              <a:tblGrid>
                <a:gridCol w="626760"/>
                <a:gridCol w="1722600"/>
                <a:gridCol w="1724040"/>
                <a:gridCol w="1384200"/>
                <a:gridCol w="1057320"/>
                <a:gridCol w="1135080"/>
                <a:gridCol w="1135080"/>
              </a:tblGrid>
              <a:tr h="69516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程度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临床表现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血气分析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98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发绀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呼吸困难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神志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SaO</a:t>
                      </a:r>
                      <a:r>
                        <a:rPr b="1" lang="en-US" sz="1800" spc="-1" strike="noStrike" baseline="-25000">
                          <a:solidFill>
                            <a:srgbClr val="046ca6"/>
                          </a:solidFill>
                          <a:latin typeface="Verdana"/>
                        </a:rPr>
                        <a:t>2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%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PaO</a:t>
                      </a:r>
                      <a:r>
                        <a:rPr b="1" lang="en-US" sz="1800" spc="-1" strike="noStrike" baseline="-25000">
                          <a:solidFill>
                            <a:srgbClr val="046ca6"/>
                          </a:solidFill>
                          <a:latin typeface="Verdana"/>
                        </a:rPr>
                        <a:t>2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kPa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PaCO</a:t>
                      </a:r>
                      <a:r>
                        <a:rPr b="1" lang="en-US" sz="1800" spc="-1" strike="noStrike" baseline="-25000">
                          <a:solidFill>
                            <a:srgbClr val="046ca6"/>
                          </a:solidFill>
                          <a:latin typeface="Verdana"/>
                        </a:rPr>
                        <a:t>2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kPa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8222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轻度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轻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不明显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清楚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&gt;8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6.6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.3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＞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6.6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695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中度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明显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明显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正常或烦躁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60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8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4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6.6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＞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.3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8222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重度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显著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严重、三凹征明显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昏迷或半昏迷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＜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6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＜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4.6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＞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12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氧气吸入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34800" y="1125000"/>
            <a:ext cx="84744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气吸入法的适应证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活量减少因呼吸系统疾病而影响肺活量者。如哮喘、支气管肺炎、气胸等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肺功能不全使肺部充血而致呼吸困难者。如心力衰竭时出现的呼吸困难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323640" y="1196640"/>
            <a:ext cx="847404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热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主要的产热器官为肝和骨骼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散热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散热的重要方式有辐射、传导、对流和蒸发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体温及生理性变化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氧气吸入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34800" y="1125000"/>
            <a:ext cx="84744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气吸入法的适应证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不能由毛细血管渗入组织而产生缺氧。如一氧化碳中毒、巴比妥类药物中毒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昏迷患者如脑血管意外、颅脑损伤等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其他如某些外科手术前后患者、大出血休克患者、分娩时产程过长或胎心音不良的产妇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氧气吸入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气吸入法的种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按给氧压力分为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常压氧疗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压氧疗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按给氧浓度分为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低浓度氧疗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浓度氧疗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浓度氧疗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氧气吸入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323640" y="1341360"/>
            <a:ext cx="847404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供氧装置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气筒与氧气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气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心供氧装置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压舱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氧气吸入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疗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鼻导管给氧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鼻塞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面罩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头罩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氧气吸入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疗技术（以鼻塞法为例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程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鼻塞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纠正各种原因造成的缺氧状态，提高动脉血氧分压和动脉血氧饱和度，增加动脉血氧含量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促进组织新陈代谢，维持机体的生命活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鼻塞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病情、意识状态、治疗和护理情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缺氧状况、血气分析结果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呼吸道是否畅通、鼻腔黏膜情况及有无鼻中隔弯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心理状况及合作程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鼻塞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程序：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鼻塞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遵守操作规程，注意用氧安全，切实做好“四防”：即防震、防火、防热、防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氧过程中，正确评估患者脉搏、血压、精神状态等有无改善，衡量氧疗效果，选择适当的用氧浓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鼻塞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鼻导管持续用氧者，每日更换导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，双侧鼻孔交替插管。及时清除鼻腔分泌物，防止导管阻塞而失去用氧作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气筒内氧气不可用尽，压力表指针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5 MP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 kg/c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时即不可再用，以防再次充氧时引起爆炸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323640" y="1268280"/>
            <a:ext cx="847404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的调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理性调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行为性调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体温及生理性变化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 呼吸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疗监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缺氧症状：患者由烦躁不安变为安静、心率变慢、血压上升、呼吸平稳、皮肤红润温暖、发绀消失，说明缺氧症状改善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实验室检查：主要观察氧疗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a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a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Sa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宋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 呼吸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6800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疗监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气装置：有无漏气，是否通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疗的副作用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中毒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不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抑制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晶状体后纤维组织增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道分泌物干燥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四节  血压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6800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血压及生理性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血压的评估及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测量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血压及生理性变化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6800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的形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影响血压的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血压及生理性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血压及生理性变化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6800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影响血压的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每搏输出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外周阻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循环血容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液的黏滞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动脉管壁的弹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血压及生理性变化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6800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血压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测量血压一般以肱动脉血压为标准。正常成人安静状态下的血压范围为收缩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20 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舒张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0 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脉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 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血压及生理性变化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6800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理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性别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昼夜和睡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部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血压的评估及护理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6800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血压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异常患者的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血压的评估及护理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血压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血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低血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脉压异常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血压的评估及护理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血压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血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指在未使用降压药物的情况下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岁以上成年人收缩压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SB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40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和（或）舒张压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B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90 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分为原发性高血压与继发性高血压两大类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血压分类标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323640" y="1267920"/>
            <a:ext cx="8474040" cy="46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体温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体温及生理性变化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755640" y="2637000"/>
          <a:ext cx="8077320" cy="1728720"/>
        </p:xfrm>
        <a:graphic>
          <a:graphicData uri="http://schemas.openxmlformats.org/drawingml/2006/table">
            <a:tbl>
              <a:tblPr/>
              <a:tblGrid>
                <a:gridCol w="1978200"/>
                <a:gridCol w="3582720"/>
                <a:gridCol w="2516400"/>
              </a:tblGrid>
              <a:tr h="365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部位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正常范围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平均值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1363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口腔（舌下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腋下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直肠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6.6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7.2℃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7.3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9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℉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6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7℃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6.8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8.6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℉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6.5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7.7℃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7.7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9.9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℉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7℃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8.6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℉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6.5℃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7.7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℉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7.5℃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9.5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℉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血压的评估及护理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血压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低血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压低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90/60 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称为低血压。常见于大量出血、休克、急性心力衰竭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脉压异常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脉压增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脉压减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血压的评估及护理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异常患者的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良好环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合理饮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活规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控制情绪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坚持运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加强监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压测量技术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计的种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计的构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的测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压测量技术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计的种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主要有水银血压计、无液血压计和电子血压计三种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计的构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加压气球及压力活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袖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压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压测量技术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的测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压测量技术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的测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判断血压有无异常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动态监测血压变化，间接了解循环系统的功能状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协助诊断，为预防、治疗、康复和护理提供依据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压测量技术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的测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一般情况，如年龄、病情、临床诊断、治疗情况及既往基础血压值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被测肢体功能情况及测量部位皮肤状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无影响血压测量准确性的因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心理状态与合作程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压测量技术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的测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：详见教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压测量技术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定期检测、校对血压计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发现血压听不清或异常，应重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测压装置（血压计、听诊器）、测量者、受检者、测量环境等因素引起血压测量的误差，以保证测量血压的准确性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压测量技术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按照中国高血压防治指南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版）对血压测量的要求进行测量：应相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重复测量，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读数的平均值记录。如果收缩压或舒张压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读数相差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 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上，应再次测量，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读数的平均值记录。首诊时要测量两上臂血压，以后通常测量较高读数一侧的上臂血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6-01-22T07:57:43Z</dcterms:modified>
  <cp:revision>161</cp:revision>
  <dc:subject/>
  <dc:title>内科护理学</dc:title>
</cp:coreProperties>
</file>