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5980-144D-4A56-92D4-2D8A6757BFB3}" type="datetime">
              <a:rPr b="0" lang="zh-CN" sz="1200" spc="-1" strike="noStrike">
                <a:solidFill>
                  <a:srgbClr val="000000"/>
                </a:solidFill>
                <a:latin typeface="Times New Roman"/>
                <a:ea typeface="Arial"/>
              </a:rPr>
              <a:t>26/7/30</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42BC-0786-4D91-A200-F9F52E0706D2}"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03C6-12F2-4812-9D0E-3E1B86A2916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2D304-67A3-4A09-BD49-A0EBF1604E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52DFDE-8797-40F0-83DD-59CA8FC04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FCC1BB-50B7-4CB3-84C3-FF19FC4AE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4834B0-9521-4BC5-AEBA-2A14A5FB56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A40A60-8882-4615-A36B-792B5A2CF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428ECF-E75B-4ED2-95C6-740A37635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C7FE02-E16A-4898-A1BD-CCE6A583C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CF5A23-B6E4-43E9-8392-B1F8D7ECE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A50D5-7FF8-4294-AE71-0C70D6DBA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24B9D-5356-4C60-B43F-9749128F9F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178E7E-5CC8-4507-A2E2-A1E67D164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A50FE-3B55-493F-9F45-64B04B18B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D7AF3E-C4AA-41D1-BCEB-8CBDF2D5E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EFB84-303C-4716-8D99-47DA8EC18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3E813-BB4D-434A-A180-FF41E43DE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D51601-FEF0-4178-A470-9AFA7D279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53F876-BC6D-43F9-9F53-5D4DD49721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5B6871-460F-4C03-B6ED-DB5772A1C5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BB83D4-AE39-41F9-88F2-8F9705406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26A7A8-2DAB-4C91-8CE4-F9D818E38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47B15F-8539-48BD-871F-65D6849CB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B833B6-8236-47FA-A4B0-D0C5F505A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B2782C-D962-4A17-8954-6FD98191D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3DB8C3-9B75-42BD-B338-FC33BDFC56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1513-C777-4D5B-BFDB-C444685AF8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54F5-9EE2-49DE-BFFC-11B287466A7B}"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