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EA1B8-3D00-41E5-9A13-167C37E275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820C-39C2-4ACF-9C89-FD3A6DD8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96AD5-8855-4A4B-A4B0-B853830C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C6468-75FA-4D10-A408-6BEC0D1E55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C27AE-A67D-42B8-B075-67EECCF8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EA20-D91C-4CD4-A1CE-336AA4F9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8B4C6-28CB-4357-8596-E9E15084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81175-8224-45E6-A585-DB86A496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731A3-D5C9-4834-BB72-AA1E1AFD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4EE56-DCB6-4424-A433-FA5BFC39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D7E9C-4C9B-49EF-B9F3-A1281019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7ABAB-094F-4189-855E-F6AA4CB8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DBD4-170F-4253-A26F-A20EB802008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心境障碍患者的护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作人  罗晓清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思维奔逸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隶书"/>
              </a:rPr>
              <a:t>又称观念飘忽，联想加快，概念一个接一个涌现。表现语流变快，语量增多，滔滔不绝，有时可出现言语中断或不连贯，常伴随境转移，并出现音联，意联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意志行为增强，多为协调性精神运动型兴奋，即内心体验、行为方式与外界环境相协调。患者自觉精力旺盛、爱管闲事，行为轻率，可伴有夸大妄想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伴随症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需要减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食欲增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体重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性欲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：可出现自主神经功能紊乱的各种表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6386"/>
          <p:cNvGrpSpPr/>
          <p:nvPr/>
        </p:nvGrpSpPr>
        <p:grpSpPr>
          <a:xfrm>
            <a:off x="304920" y="1371600"/>
            <a:ext cx="8610120" cy="4875480"/>
            <a:chOff x="304920" y="1371600"/>
            <a:chExt cx="8610120" cy="4875480"/>
          </a:xfrm>
        </p:grpSpPr>
        <p:sp>
          <p:nvSpPr>
            <p:cNvPr id="152" name="矩形 16387"/>
            <p:cNvSpPr/>
            <p:nvPr/>
          </p:nvSpPr>
          <p:spPr>
            <a:xfrm>
              <a:off x="304920" y="137160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圆角矩形 16388"/>
            <p:cNvSpPr/>
            <p:nvPr/>
          </p:nvSpPr>
          <p:spPr>
            <a:xfrm>
              <a:off x="3318120" y="137160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低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圆角矩形 16389"/>
            <p:cNvSpPr/>
            <p:nvPr/>
          </p:nvSpPr>
          <p:spPr>
            <a:xfrm>
              <a:off x="3049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情绪低落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5" name="肘形连接符 16390"/>
            <p:cNvCxnSpPr>
              <a:stCxn id="154" idx="0"/>
              <a:endCxn id="153" idx="2"/>
            </p:cNvCxnSpPr>
            <p:nvPr/>
          </p:nvCxnSpPr>
          <p:spPr>
            <a:xfrm flipV="1">
              <a:off x="15962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6" name="圆角矩形 16391"/>
            <p:cNvSpPr/>
            <p:nvPr/>
          </p:nvSpPr>
          <p:spPr>
            <a:xfrm>
              <a:off x="33181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兴趣缺乏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7" name="肘形连接符 16392"/>
            <p:cNvCxnSpPr>
              <a:stCxn id="156" idx="0"/>
              <a:endCxn id="153" idx="2"/>
            </p:cNvCxnSpPr>
            <p:nvPr/>
          </p:nvCxnSpPr>
          <p:spPr>
            <a:xfrm flipV="1">
              <a:off x="4597200" y="332748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8" name="圆角矩形 16393"/>
            <p:cNvSpPr/>
            <p:nvPr/>
          </p:nvSpPr>
          <p:spPr>
            <a:xfrm>
              <a:off x="633168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乐趣丧失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9" name="肘形连接符 16394"/>
            <p:cNvCxnSpPr>
              <a:stCxn id="158" idx="0"/>
              <a:endCxn id="153" idx="2"/>
            </p:cNvCxnSpPr>
            <p:nvPr/>
          </p:nvCxnSpPr>
          <p:spPr>
            <a:xfrm flipH="1" flipV="1">
              <a:off x="46094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抑郁发作包含许多心理学症状，如焦虑，注意力及记忆力下降，认知扭曲，自罪自责，幻觉和妄想，自杀观念和行为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躯体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表现为食欲下降、睡眠障碍、体重减轻、性欲减退、周身不适、便秘、心慌气短、尿频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）双相情感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双相障碍的临床特点是反复出现心境和活动水平明显紊乱的发作，有时表现为心境高涨、精力充沛和活动增加（躁狂），有时表现为心境低落、精力减退和活动减少（抑郁）。发作间期通常以完全缓解为特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亚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混合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四）持续心境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中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重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躁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一节  心境障碍的临床特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 躁狂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碳酸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惊厥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精神病性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 抑郁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SSRIs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四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新型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预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节  心境障碍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生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躯体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既往健康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实验室检查及其他辅助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心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认知活动：感知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思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情感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意志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三）社会文化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、沟通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近期负性生活事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四）精神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精神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量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一）抑郁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自杀（自伤）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便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状态的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隔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自理能力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健康维持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活动无耐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绝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无能为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躁狂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暴力行为（针对自己或他人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改变：低于机体需要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受伤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自理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相关的基本概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绪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emotion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：人对客观事物的态度或因之产生的内心体验。心理学上有广义、狭义之说。广义情绪包括情感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感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affect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高级的、社会性的、与行为的社会评价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狭义情绪：低级的、生物性，与满足欲望直接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常见情绪状态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mood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一段时间内持久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激情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enthusiasm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）：短暂、强烈的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护理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护理措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治疗性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药物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排泄及个人卫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参加体育锻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重视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帮助患者提高自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建立正性认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做出决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患者参加集体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共同参与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自杀的防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安全的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证药物治疗顺利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合理安排患者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过度不当行为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于“慷慨”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满足合理要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避免患者出现不恰当的性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止患者挑拨滋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预防及处理暴力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的参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护理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症状消失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一般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家属对疾病相关知识的掌握情况以及提供有效照护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健康教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对疾病的认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复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康复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注意事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与情感性精神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正常的情感活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每时每刻都在波动但幅度不大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症状（症状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波动的幅度很大且持续一段时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性精神障碍（疾病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症状影响到本人或周围人的生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4" name="下箭头 7171"/>
          <p:cNvSpPr/>
          <p:nvPr/>
        </p:nvSpPr>
        <p:spPr>
          <a:xfrm>
            <a:off x="4572000" y="3357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下箭头 7172"/>
          <p:cNvSpPr/>
          <p:nvPr/>
        </p:nvSpPr>
        <p:spPr>
          <a:xfrm>
            <a:off x="4645080" y="4724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4" name="矩形 44035"/>
          <p:cNvSpPr txBox="1"/>
          <p:nvPr/>
        </p:nvSpPr>
        <p:spPr>
          <a:xfrm rot="5400000">
            <a:off x="1482840" y="2772000"/>
            <a:ext cx="151272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矩形 44036"/>
          <p:cNvSpPr txBox="1"/>
          <p:nvPr/>
        </p:nvSpPr>
        <p:spPr>
          <a:xfrm rot="5400000">
            <a:off x="2094840" y="4103640"/>
            <a:ext cx="288108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大家！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障碍又称情感性精神障碍，是指各种原因引起的，以显著而持久的心境或情感改变为主要特征的一组疾病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主要表现为情感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少数伴有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反复发作，残留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病因及发病机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神经生化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理社会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2" name="文本框 10243"/>
          <p:cNvSpPr/>
          <p:nvPr/>
        </p:nvSpPr>
        <p:spPr>
          <a:xfrm>
            <a:off x="971640" y="2133720"/>
            <a:ext cx="259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文本框 10244"/>
          <p:cNvSpPr/>
          <p:nvPr/>
        </p:nvSpPr>
        <p:spPr>
          <a:xfrm>
            <a:off x="1332000" y="1773360"/>
            <a:ext cx="212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弧边矩形 203"/>
          <p:cNvSpPr/>
          <p:nvPr/>
        </p:nvSpPr>
        <p:spPr>
          <a:xfrm>
            <a:off x="1044720" y="170172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弧边矩形 203"/>
          <p:cNvSpPr/>
          <p:nvPr/>
        </p:nvSpPr>
        <p:spPr>
          <a:xfrm>
            <a:off x="1044720" y="2852640"/>
            <a:ext cx="3743280" cy="6494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弧边矩形 203"/>
          <p:cNvSpPr/>
          <p:nvPr/>
        </p:nvSpPr>
        <p:spPr>
          <a:xfrm>
            <a:off x="1044720" y="4005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弧边矩形 203"/>
          <p:cNvSpPr/>
          <p:nvPr/>
        </p:nvSpPr>
        <p:spPr>
          <a:xfrm>
            <a:off x="1044720" y="5229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1363680" y="185724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躁狂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1260360" y="2922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抑郁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1332000" y="4076640"/>
            <a:ext cx="28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双相情感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文本框 10252"/>
          <p:cNvSpPr/>
          <p:nvPr/>
        </p:nvSpPr>
        <p:spPr>
          <a:xfrm>
            <a:off x="1332000" y="530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持续性心境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躁狂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11266"/>
          <p:cNvGrpSpPr/>
          <p:nvPr/>
        </p:nvGrpSpPr>
        <p:grpSpPr>
          <a:xfrm>
            <a:off x="250920" y="1484280"/>
            <a:ext cx="8610120" cy="4875480"/>
            <a:chOff x="250920" y="1484280"/>
            <a:chExt cx="8610120" cy="4875480"/>
          </a:xfrm>
        </p:grpSpPr>
        <p:sp>
          <p:nvSpPr>
            <p:cNvPr id="134" name="矩形 11267"/>
            <p:cNvSpPr/>
            <p:nvPr/>
          </p:nvSpPr>
          <p:spPr>
            <a:xfrm>
              <a:off x="250920" y="148428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圆角矩形 11268"/>
            <p:cNvSpPr/>
            <p:nvPr/>
          </p:nvSpPr>
          <p:spPr>
            <a:xfrm>
              <a:off x="3264120" y="148428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高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圆角矩形 11269"/>
            <p:cNvSpPr/>
            <p:nvPr/>
          </p:nvSpPr>
          <p:spPr>
            <a:xfrm>
              <a:off x="2509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1" action="ppaction://hlinksldjump"/>
                </a:rPr>
                <a:t>情感高涨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7" name="肘形连接符 11270"/>
            <p:cNvCxnSpPr>
              <a:stCxn id="136" idx="0"/>
              <a:endCxn id="135" idx="2"/>
            </p:cNvCxnSpPr>
            <p:nvPr/>
          </p:nvCxnSpPr>
          <p:spPr>
            <a:xfrm flipV="1">
              <a:off x="15422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8" name="圆角矩形 11271"/>
            <p:cNvSpPr/>
            <p:nvPr/>
          </p:nvSpPr>
          <p:spPr>
            <a:xfrm>
              <a:off x="32641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2" action="ppaction://hlinksldjump"/>
                </a:rPr>
                <a:t>思维奔逸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9" name="肘形连接符 11272"/>
            <p:cNvCxnSpPr>
              <a:stCxn id="138" idx="0"/>
              <a:endCxn id="135" idx="2"/>
            </p:cNvCxnSpPr>
            <p:nvPr/>
          </p:nvCxnSpPr>
          <p:spPr>
            <a:xfrm flipV="1">
              <a:off x="4540680" y="343404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40" name="圆角矩形 11273"/>
            <p:cNvSpPr/>
            <p:nvPr/>
          </p:nvSpPr>
          <p:spPr>
            <a:xfrm>
              <a:off x="627768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3" action="ppaction://hlinksldjump"/>
                </a:rPr>
                <a:t>意志活动增强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1" name="肘形连接符 11274"/>
            <p:cNvCxnSpPr>
              <a:stCxn id="140" idx="0"/>
              <a:endCxn id="135" idx="2"/>
            </p:cNvCxnSpPr>
            <p:nvPr/>
          </p:nvCxnSpPr>
          <p:spPr>
            <a:xfrm flipH="1" flipV="1">
              <a:off x="45554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情感高涨：情感活动明显增强，表现为不同程度的病态喜悦，自我感觉良好，有与环境不相符的过分的愉快 、欢乐，语音高昂，眉飞色舞，喜笑颜开，表情丰富，但不稳定，可因琐事而发怒，但转瞬即逝。表现可理解的 、带有感染性的情绪高涨，易引起周围人的共鸣见于躁狂</a:t>
            </a: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9:24:3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