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96E2-B42D-4A3F-BFA5-3B09DB2E85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3309F-3969-4C7B-8311-9FBD5980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5F5F7-6964-4885-B55F-F97A78BE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31D6-6E74-4083-88D0-6D70A280DA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6CF1A-F0BB-4269-891C-673DB864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DB1EB-3FBB-48D3-BB6B-5FD3218E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1DB94-26EB-4F7B-8FB5-13935BAA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1F90E-B048-4D32-AE2C-ED41EA49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F1EFF-C8B4-480C-9137-7481B24E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6D5BB-3737-4887-B461-100EAA96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717F-4A0D-4AEC-8D04-F9EC61AA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F2A88-8747-4DBC-B318-6457ED14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CF663-CF58-4F84-AB5A-C55CD559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AFCA4-7DCA-4FF6-AB57-1FBD95E3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792D5-7F77-4454-9439-27334429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6FBF2-5EB5-4D8D-9CC5-3ACDD3D0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28521-E8D9-4CBC-BD25-3F45FB13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5AF76-6DB7-41F3-8410-787F89F4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49F7-2140-4D6F-BFC9-F3FF68C7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022C6-6334-432F-8C19-705ABD9B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A6BAB-193C-4972-A165-3905963F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D5B42-F9F0-440D-8876-2B2F71AC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9708-30DE-4315-9247-EFD56E9B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3632-9081-4796-861E-EF35387B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2206-6130-4E23-A459-ADF86557790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7A00-223E-4424-8679-4EEAA25C6CD3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3141360"/>
            <a:ext cx="561636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脊髓损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588000" y="57229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姚立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4043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三、康复护理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损伤平面的评定 脊髓损伤平面是指保留身体双侧正常感觉、运动功能的最低脊髓节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损伤节段  根据各节段脊髓所支配肌肉的肌力检查及皮肤感觉检查来判定；主要以运动损伤平面来确定，但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节段，以感觉损伤平面确定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7561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检查：检查身体两侧各自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肌节中关键肌的肌力，采用徒手肌力评定，根据肌力至少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的那块关键肌来确定运动平面，要求该平面以上的节段支配的关键肌肌力必须是正常的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于应用徒手肌力检查无法检查的肌节，运动平面可参考感觉平面来确定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26920" y="1599840"/>
            <a:ext cx="7848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检查：是检查身体两侧各自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皮节关键点的感觉。每个关键点要检查两种感觉，即针刺觉和轻触觉，并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等级分别评定打分。同时做肛门周围感觉检查。通过感觉项目的检查可以判断神经平面（感觉平面）和部分保留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000" y="1197000"/>
            <a:ext cx="7283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程度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        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美国脊髓损伤学会（</a:t>
            </a:r>
            <a:r>
              <a:rPr b="1" lang="en-US" sz="2000" spc="-1" strike="noStrike">
                <a:solidFill>
                  <a:srgbClr val="fe230c"/>
                </a:solidFill>
                <a:latin typeface="宋体"/>
                <a:ea typeface="宋体"/>
              </a:rPr>
              <a:t>ASIA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）分类法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2492280"/>
          <a:ext cx="8207280" cy="379584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脊髓损伤类型                       运动感觉功能状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5120">
                <a:tc>
                  <a:txBody>
                    <a:bodyPr anchor="t">
                      <a:noAutofit/>
                    </a:bodyPr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A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完全性损害       在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无任何感觉及运动功能保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B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包括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存在感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功能，但不存在运动功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C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的肌力小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D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肌力大于或等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E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正常                     感觉和运动均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6920" y="1052280"/>
            <a:ext cx="746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震惊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否定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抑郁或焦虑反应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对抗独立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适应阶段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2637000"/>
            <a:ext cx="7777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评定：截瘫患者可采用改良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arth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指数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6046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早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79311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位：骨折稳定后，提倡患者仰卧、侧卧及俯卧位变换，并逐步增加俯卧位的耐力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54764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护理和压疮防治：卧床患者每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h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翻身一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预防：关键在于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分度：根据其严重程度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有红斑，但皮肤完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有破损，累及表皮或真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破坏深达皮肤全层，但未穿过皮下组织，筋膜之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Ⅳ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组织破溃深达肌肉或骨组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116000" y="1916280"/>
            <a:ext cx="7201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）压疮临床分期：根据压疮的表现一般分为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期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淤血红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炎性浸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浅度溃烂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坏死溃疡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全身治疗：压疮患者应给予高蛋白质、高热量、高纤维素饮食，还可给予静脉滴注血浆、白蛋白、丙种球蛋白等以增强全身抵抗力。同时使用有效抗生素控制感染，防止感染扩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局部治疗：局部治疗的原则主要是解除压迫，保护创面，促进愈合。根据压疮的不同时期，选择合适的治疗方法，如物理治疗、药物治疗、内膜覆盖、空气隔绝后持续吹氧法以及外科手术等方法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26920" y="952560"/>
            <a:ext cx="64090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11280" y="170028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脊髓损伤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pinal cord injur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CI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指由于外伤或疾病等因素引起的脊髓结构和功能的损害，导致损伤水平以下运动、感觉和自主神经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脊髓损伤的分类：外伤性脊髓损伤及非外伤性脊髓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064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呼吸道护理：主要是呼吸及排痰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动或被动活动：适当的关节活动是预防压疮、关节挛缩等问题的重要措施。当患者被动地躺在床上和翻身架上时，各生理轴向全范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天，每次每个关节应至少活动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4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：分为上运动神经源性膀胱和下运动神经源性膀胱。上运动神经源性膀胱的处理方法包括留置导尿管、间歇导尿和用避孕套外接尿液（对男性而言）。下运动神经源性膀胱的处理方法为间歇导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806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的间歇导尿康复护理方法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导尿：急性期患者需留置导尿管持续导尿，随着病情的恢复逐渐改为间歇开放导尿和间歇导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诱发逼尿肌反射排尿法：寻找患者身体的触发点，刺激排尿。如下腹、大腿内侧及耻骨处，用敲击或冰敷可刺激排尿，也可嘱患者自行牵拉阴毛触发排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826920" y="184464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Crede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方法：将手掌放在膀胱区上面触摸到膀胱底部后，再缓缓向下压挤中间，不要停顿或放松。对痉挛性膀胱或膀胱输尿管反流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膀胱功能训练：要求按时饮水及间歇开放导尿管。饮水量控制在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1600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0ml/d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ml/2h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并开放导尿管一次，入睡后可持续引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087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便控制障碍：脊髓损伤患者常表现为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合理的营养调配可以改善便秘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导患者定时排便：教会家属用手指按摩直肠诱发排便反射，严重便秘者需手工清除大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治疗：包括果导、番泻叶、乳果糖、开塞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7858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直立活动：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摇床，逐步抬高床头角度，患者有不适时即放下，维持时间逐步延长。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斜板或电动倾斜床，逐步让患者处于直立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4" descr="Y83{N2)[)_I%DZC1B~M%XKR"/>
          <p:cNvPicPr/>
          <p:nvPr/>
        </p:nvPicPr>
        <p:blipFill>
          <a:blip r:embed="rId1"/>
          <a:stretch/>
        </p:blipFill>
        <p:spPr>
          <a:xfrm>
            <a:off x="5076720" y="4292640"/>
            <a:ext cx="2911680" cy="208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M)KKDF1N$XKTY_]U_QW4BS1"/>
          <p:cNvPicPr/>
          <p:nvPr/>
        </p:nvPicPr>
        <p:blipFill>
          <a:blip r:embed="rId2"/>
          <a:stretch/>
        </p:blipFill>
        <p:spPr>
          <a:xfrm>
            <a:off x="1476360" y="4292640"/>
            <a:ext cx="2695680" cy="2047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55280" y="1483920"/>
            <a:ext cx="7467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性肌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8" name="Picture 4" descr="$13RHVFRJBH$H8MBS91}Y9Q"/>
          <p:cNvPicPr/>
          <p:nvPr/>
        </p:nvPicPr>
        <p:blipFill>
          <a:blip r:embed="rId1"/>
          <a:stretch/>
        </p:blipFill>
        <p:spPr>
          <a:xfrm>
            <a:off x="1763640" y="2349360"/>
            <a:ext cx="2219400" cy="1914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63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中后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假肢和矫形器的使用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619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并发症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638676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泌尿系统并发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下肢深静脉血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位骨化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 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痉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骨质疏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446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五、康复护理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调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调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院后的继续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防止意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回归社会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61928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410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213336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力：主要表现为脊髓损伤平面以下肌力减退或消失，造成自主运动功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张力：主要表现为脊髓损伤平面以下肌张力的增加或降低，影响运动功能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684360" y="177336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反射功能：主要表现为脊髓损伤平面以下反射消失、减弱或亢进，出现病理反射。通常把涉及双下肢、部分或全部躯干的损伤称为截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para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，四肢、躯干部分或全部均受累者称为四肢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quadri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6985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障碍：脊髓损伤平面以下感觉（痛温觉、触压觉和本体觉）的减退、消失或感觉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4000" y="105228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痉挛性或反射性膀胱：是指膀胱充盈时，自动反射会触发其排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无力性或非反射性膀胱：是指膀胱对刺激无反射或反射减弱。当膀胱充盈时，患者无法感知，往往出现膀胱壁的过度扩张或延伸，造成尿液反流至输尿管和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71280" y="1341360"/>
            <a:ext cx="74674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结肠、直肠的蠕动运动麻痹而粪便变硬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肛门括约肌瘫痪，直肠内的粪便溢出而出现便失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705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主神经功能障碍：高热、心动过缓、体位性低血压、皮肤脱屑及水肿、角化过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4678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并发症：压疮、尿路感染、呼吸系统并发症、排便功能障碍、痉挛、神经痛、关节挛缩、深静脉血栓与肺栓塞、异位骨化、骨质疏松和高钙血症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28:13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