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93D7-B007-4AEE-A8E8-A22E3A9428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82C5-E7F1-45C1-A826-8BC01289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2258-B15E-4704-A6CC-E8ADBE6F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3DD6-B807-47E4-8FD8-9FA19439CB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AC72-6F7B-43AF-9C9A-89AAB647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F8A3-E96D-4375-A844-77955964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69A9-97F9-48E0-978C-A5E1CF00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DFCD-0309-4528-9496-34102F51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ED97-EAA2-4FA7-B561-CC6B68D3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9998-9A55-41ED-AD5F-5C048AFA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891B-0B1D-4381-8C5F-E81BC520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5663-3AAE-4B6E-9585-3069D108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5565-EAE4-420C-8C0B-C4D5F09CF7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492280"/>
            <a:ext cx="770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第四章   康复护理治疗技术         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第一节   康复护理专业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五、六、七、八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227640" y="5157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Arial"/>
                <a:ea typeface="宋体"/>
              </a:rPr>
              <a:t>吴丽娜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900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六、肠道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肠是参与人体排便活动的主要器官，分盲肠、结肠、直肠和肛管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肠道疾病或其他系统的疾病均可影响正常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便活动受大脑皮质控制，意识可促进或抑制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是因控制直肠的神经系统疾病或外伤、药物、认知障碍、减少活动所引起的排便功能减弱或丧失，最终表现为排便失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280880"/>
            <a:ext cx="547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食物与液体摄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活动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和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398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肠道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护理技术是帮助患者建立在规定时间内定期排便的规律，消除或减少由于大便失禁造成的日常生活不便，预防因便秘、腹泻及大便失禁导致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08360" y="1196640"/>
            <a:ext cx="555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反射性大肠的护理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9880" y="1720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力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腹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与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7754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弛缓性大肠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2152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排便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手指协助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600" y="1351080"/>
            <a:ext cx="30477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注意事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心理护理：注意心理疏导 ，减轻患者的精神紧张和心理压力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尊重患者人格，鼓励树立信心，使患者认识到排便训练要持之以恒，坚持几周甚至数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训练时间符合患者的生活规律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根据具体情况适当调整，以建立良好的排便规律，尽量少用或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保持室内空气新鲜，去除不良气味，开窗通风，及时更换床单、衣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34574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七、膀胱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为锥体形、具有伸展性的囊状肌性器官，位于骨盆内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功能是储尿和排尿。正常的排尿活动由脊髓反射中枢及交感、副交感、体神经共同参与，任何与排尿有关的神经受到损害后均可引起排尿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护理技术是针对因神经损伤导致的膀胱、尿道功能失调而实施的特殊护理，其主要目的是恢复和改善膀胱控制能力，减少残余尿，控制和消除泌尿系统并发症，保护肾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52070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7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气候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疾病，如神经系统的损伤和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880" y="1280880"/>
            <a:ext cx="5135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膀胱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35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内潴留大量尿液又不能自主排出，称为尿潴留。患者主要表现为下腹胀痛、排尿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检可见耻骨上膨隆，扪及囊样包块，叩诊实音。护理目的为促使膀胱排空，减轻患者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49320" y="1125360"/>
            <a:ext cx="4486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调整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激发诱导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Valsalva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屏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rede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间歇性清洁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36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知道皮肤护理技术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说出影响排便活动的因素有哪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解释神经源性膀胱的含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归纳膀胱护理技术的几个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放松训练技术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84720" y="1279440"/>
            <a:ext cx="50403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尿失去控制，尿液不自主地流出，称为尿失禁。尿失禁的护理目的主要是帮助患者解除痛苦，促使膀胱储尿，恢复膀胱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46306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尿意习惯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盆底肌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接尿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护理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731600"/>
            <a:ext cx="8610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导尿时严格遵守无菌操作原则，观察尿液情况，以防感染。注意保护患者隐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倾听患者主诉。对膀胱高度膨胀且极度虚弱的患者，第一次放尿不得超过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注意观察因膀胱压力过高而引起的自主神经反射亢进的临床表现，如出现突发性血压升高、皮肤潮红、出汗、头痛等反应，应及时导尿，排空膀胱，缓解压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间歇导尿时，操作手法力求轻柔、熟练，需润滑导尿管，以免损伤尿道黏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留置导尿后，在尿管未阻塞情况下，不提倡常规膀胱冲洗，防止逆行感染。鼓励患者多饮水以利排尿，达到自行冲洗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训练前要接受尿流动力学检查，以确认膀胱类型和安全的训练方法，避免因训练方法不当而引起尿液反流造成肾积水等并发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4176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八、放松训练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又称肌肉松弛训练或自我调整疗法，是通过各种固定的训练程序，使患者学会生理上和躯体上放松的一组行为治疗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可以使患者肌肉放松，具有消除紧张和疲劳、缓解疼痛、镇静、催眠等作用，让患者处于休息、放松状态，利于患者全面康复。放松训练可以在任何体位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04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放松的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渐进性放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背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701600" y="2639880"/>
            <a:ext cx="186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⑥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跖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⑦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⑧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⑨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⑩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064880"/>
            <a:ext cx="42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钟摆样摆动法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将上肢或下肢置于下垂位，前后放松摆动，直到肢端出现明显的麻木感为止，也可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0.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0kg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量的物体于肢端，然后再做摆动，以提高肌肉放松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坐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立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步行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深呼吸放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其他放松措施，如听音乐或放松指导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放松训练的注意事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360" y="2060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适合放松训练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向患者介绍放松训练的意义、目的、方法、持续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患者最易放松的体位，训练时要使受训的肌肉完全放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时要选择准确的练习姿势和准备姿势，认真观察动作完成的情况，避免出现错误动作和动作颠倒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颠倒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125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5080" y="1557360"/>
            <a:ext cx="8062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完整的皮肤具有天然屏障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具有保护机体、调节体温、吸收、分泌、排泄及感觉功能。皮肤的新陈代谢迅速，其代谢产物如皮脂、汗液及表皮碎屑等与外界细菌、尘埃结合形成污垢，黏附于皮肤表面，如不及时清除，可刺激皮肤，降低皮肤抵抗力，以致破坏皮肤的屏障作用，成为细菌入侵的门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全身一般情况良好的患者可行淋浴或盆浴。  对能在轮椅上坐位坚持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上、健侧肢体肌力良好、全身症状稳定的患者，可进行淋浴或盆浴训练，以提高生活自理能力，增强患者自信心。以偏瘫患者的淋浴或盆浴训练为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762440" y="33336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05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一）洗脸、洗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坐在水池前，用健手打开水龙头放水，调节水温，洗脸、洗患手及前臂。洗健手时，患手贴在水池边伸开放置或将毛巾固定在水池边缘，涂香皂，健手及前臂在患手或毛巾上搓洗。拧毛巾时，可将毛巾套在水龙头上或患侧前臂上，用健手将两端合拢，向一个方向拧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353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二）洗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盆浴患者坐在紧靠浴盆的椅子上，脱去衣物，用双手托住患腿放入盆内，再用健手握住盆沿，健腿撑起身体前倾，抬起臀部移至盆内椅子上，把健腿放入盆内。洗涤时，用健手持毛巾擦洗或将毛巾一端缝上布套，套于患臂上协助擦洗，也可借用长柄的海绵浴刷擦洗背部和身体的远端。拧干毛巾时，将其压在腿下或夹在患侧腋下，健手拧干，洗毕出浴盆顺序与前面步骤相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淋浴患者可坐在淋浴凳或椅子上，先开冷水管，后开热水管调节水温，淋浴较容易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480" y="1135080"/>
            <a:ext cx="4681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洗澡训练时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8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前做好各项准备，如向患者解释训练的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根据季节调节浴室温度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℃±2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5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时操作者在旁保护，患者出入浴室穿防滑拖鞋，洗澡时间不宜过长，以免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患者沐浴过程中反应，如遇患者发生晕厥或滑跌等意外，立即将患者抬出，配合医生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妊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月以上的孕妇，衰弱、创伤和患心脏病需要卧床休息的患者均不宜盆浴或淋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224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三）床上擦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病情较重、长期卧床、生活不能自理患者采用床上擦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要求准备好用物后，携至病床旁边，向患者解释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顺序用温水为患者擦洗脸部及颈部、上肢和手、胸部、腹部和背部，最后擦洗下肢、足部和会阴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整理床单位，清理用物，放回原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484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床上擦浴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室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注意保暖，擦洗时随时为患者盖好，避免不必要的暴露以防着凉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动作轻稳、敏捷，皮肤皱褶处要擦洗干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病情，如出现寒战、面色苍白、脉速等征象，立即停止擦洗，给予适当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穿脱衣服顺序：先穿远侧，后穿近侧；如为偏瘫患者或有伤口者，先穿患侧，后穿健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9:33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