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D4458-C561-4C9F-B364-D6BAFEBA29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47F31-2F4C-48D3-970A-DD9DA5E1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75762-9454-48AE-86A9-856B8183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E0A34-6A10-47E1-B6FF-E3E7E5EA9D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02A8E-5B00-411E-B55E-E6CC1EBF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E67C7-7473-444F-B2A0-9A04721B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D1535-C771-4D49-9200-E660F22F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5BF40-78A8-45E6-8BD6-603C2593E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F9A01-9869-47CB-AE79-216A684FA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4745C-A0E8-44A2-AFAB-7C4DE467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30EB1-D1EA-41A4-A6F6-2627D8A1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88ED2-EB61-4E56-A095-7C642C4C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68CC-4395-40B4-B9E5-92778257FDB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3A09-D8E5-4F05-9B4B-1F7780BCE588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349360"/>
            <a:ext cx="648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八节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抽搐与惊厥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BE76-B57E-4BA3-9555-74BA2F3A9E1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表现特点  抽搐与惊厥起病的年龄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无发作诱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发作的频率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持续时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部位是全身性还是局限性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是持续强直性还是间歇阵挛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营养状况  询问每日进食量与食物类型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营养平衡，患儿需询问喂养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入量  详细记录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小时出入液体量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出入液体总量是否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84" name="Group 6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85" name="AutoShape 7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AutoShape 8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Text Box 9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89" name="Picture 12" descr="MCj03474310000[1]"/>
          <p:cNvPicPr/>
          <p:nvPr/>
        </p:nvPicPr>
        <p:blipFill>
          <a:blip r:embed="rId1"/>
          <a:stretch/>
        </p:blipFill>
        <p:spPr>
          <a:xfrm>
            <a:off x="6145200" y="4890960"/>
            <a:ext cx="266400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5E4D-07F4-444E-82B7-CD3AB3FE41E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既往健康史  既往有无引起抽搐与惊厥相关的疾病史、有无毒物接触史及某些药物服用史；有无外伤及狗咬伤等病史；有无癫痫家族史及类似发作史；对患儿应询问出生及生长发育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身体反应  评估生命体征、意识状态、瞳孔变化、神经反射等以及对患者生活质量的影响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如发作时可引起舌咬伤、跌伤等意外；发作后感疲乏、头痛、肌肉酸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3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4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98" name="Picture 10" descr="CLIPBRD"/>
          <p:cNvPicPr/>
          <p:nvPr/>
        </p:nvPicPr>
        <p:blipFill>
          <a:blip r:embed="rId1"/>
          <a:stretch/>
        </p:blipFill>
        <p:spPr>
          <a:xfrm>
            <a:off x="7367760" y="5229360"/>
            <a:ext cx="12445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48EE-13F6-4958-8B16-4E0CD541348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01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有受伤害危险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4" name="Group 11"/>
          <p:cNvGrpSpPr/>
          <p:nvPr/>
        </p:nvGrpSpPr>
        <p:grpSpPr>
          <a:xfrm>
            <a:off x="971640" y="3789360"/>
            <a:ext cx="7230600" cy="863280"/>
            <a:chOff x="971640" y="3789360"/>
            <a:chExt cx="7230600" cy="863280"/>
          </a:xfrm>
        </p:grpSpPr>
        <p:sp>
          <p:nvSpPr>
            <p:cNvPr id="205" name="AutoShape 12"/>
            <p:cNvSpPr/>
            <p:nvPr/>
          </p:nvSpPr>
          <p:spPr>
            <a:xfrm>
              <a:off x="3184920" y="3789360"/>
              <a:ext cx="5017320" cy="78840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669b"/>
                  </a:solidFill>
                  <a:latin typeface="Arial"/>
                  <a:ea typeface="宋体"/>
                </a:rPr>
                <a:t>与抽搐与惊厥发作所致短暂意识丧失有关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AutoShape 13"/>
            <p:cNvSpPr/>
            <p:nvPr/>
          </p:nvSpPr>
          <p:spPr>
            <a:xfrm>
              <a:off x="971640" y="3986280"/>
              <a:ext cx="2327400" cy="66636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尿障碍</a:t>
              </a:r>
              <a:r>
                <a:rPr b="1" lang="en-US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/</a:t>
              </a: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便失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7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08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09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潜在并发症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1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2" name="AutoShape 19"/>
          <p:cNvSpPr/>
          <p:nvPr/>
        </p:nvSpPr>
        <p:spPr>
          <a:xfrm>
            <a:off x="3203640" y="5373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230c"/>
                </a:solidFill>
                <a:latin typeface="Arial"/>
                <a:ea typeface="宋体"/>
              </a:rPr>
              <a:t>与不可预知的惊厥发作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20"/>
          <p:cNvSpPr/>
          <p:nvPr/>
        </p:nvSpPr>
        <p:spPr>
          <a:xfrm>
            <a:off x="826920" y="5373720"/>
            <a:ext cx="2329200" cy="665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恐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15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9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与惊厥发作所致的不受控制的强直性肌肉收缩和意识丧失有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矩形 22"/>
          <p:cNvSpPr/>
          <p:nvPr/>
        </p:nvSpPr>
        <p:spPr>
          <a:xfrm>
            <a:off x="3571920" y="29289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窒息 ；高热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3700-A24F-4806-BF83-F0125B5AC38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内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因与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评估要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相关护理诊断与合作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8BEE-A135-4D9E-8A3F-93B2172FFDA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4804-F433-4221-B940-E90881F3766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抽搐与惊厥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阐述抽搐与惊厥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抽搐与惊厥的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释抽搐与惊厥的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用所学知识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对患者做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护理评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正确做出护理诊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列出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115B-7EE5-4FAE-B639-30DD1E73A13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39BF-CE35-43D0-B13E-8C486A899CD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87C9-C1AF-4008-B028-75751421A52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抽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tic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惊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onvuls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均属于不随意运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抽搐是指全身或局部骨骼肌发生非自主抽动或强烈收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可引起关节运动和强直。当肌群收缩表现为强直性和阵挛性时，称为惊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45C3-383F-4B55-8CAB-A70291063D4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抽搐与惊厥可分为两大类，即特发性与症状性，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特发性常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于先天性脑部不稳定状态所致，与遗传因素有较密切的关系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状性则由于脑部疾病和全身性疾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所引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部疾病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9B54-FA93-4B29-9273-0B45E0400F2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3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AutoShape 17"/>
          <p:cNvSpPr/>
          <p:nvPr/>
        </p:nvSpPr>
        <p:spPr>
          <a:xfrm>
            <a:off x="1496880" y="3906720"/>
            <a:ext cx="6191280" cy="2570400"/>
          </a:xfrm>
          <a:prstGeom prst="borderCallout1">
            <a:avLst>
              <a:gd name="adj1" fmla="val 18750"/>
              <a:gd name="adj2" fmla="val -8333"/>
              <a:gd name="adj3" fmla="val -2962"/>
              <a:gd name="adj4" fmla="val -1235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：脑炎、脑膜炎、脑脓肿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伤：如产伤、颅脑外伤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肿瘤：如原发性脑肿瘤、脑转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管疾病：如脑栓塞、脑出血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寄生虫病：如脑血吸虫病、脑型疟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：如先天性脑发育障碍、核黄疸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C3CD-4219-403E-A6CA-A3216285A31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61084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全身性疾病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B8B0-832E-495F-BE77-48DF652C0D7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4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3" name="AutoShape 25"/>
          <p:cNvSpPr/>
          <p:nvPr/>
        </p:nvSpPr>
        <p:spPr>
          <a:xfrm>
            <a:off x="2071800" y="2214720"/>
            <a:ext cx="6858000" cy="2663640"/>
          </a:xfrm>
          <a:prstGeom prst="borderCallout1">
            <a:avLst>
              <a:gd name="adj1" fmla="val 18750"/>
              <a:gd name="adj2" fmla="val -8333"/>
              <a:gd name="adj3" fmla="val -2861"/>
              <a:gd name="adj4" fmla="val -28888"/>
            </a:avLst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感染：如急性胃肠炎、败血症、中毒型菌痢等，小儿高热惊厥主要由急性感染所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血管疾病：如高血压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Adams-Stokes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综合征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中毒：如有机磷、阿托品中毒、尿毒症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风湿性疾病：如风湿热、系统性红斑狼疮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代谢障碍：如低血糖、低钙血症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其他：中暑、溺水、触电、突然停用安眠药，抗癫痫药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26"/>
          <p:cNvSpPr/>
          <p:nvPr/>
        </p:nvSpPr>
        <p:spPr>
          <a:xfrm>
            <a:off x="2411280" y="5516640"/>
            <a:ext cx="6193080" cy="914400"/>
          </a:xfrm>
          <a:prstGeom prst="borderCallout1">
            <a:avLst>
              <a:gd name="adj1" fmla="val 18750"/>
              <a:gd name="adj2" fmla="val -8333"/>
              <a:gd name="adj3" fmla="val -8333"/>
              <a:gd name="adj4" fmla="val -1053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癔症性抽搐和惊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C97D-8AE4-4124-B389-DE4235061D2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C2CD-631B-456D-8A1B-4745F06B76B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8930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生机制尚未完全阐明，可能是大脑运动神经元的异常放电所致。这种异常放电主要是因为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元膜电位的不稳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引起的，可能与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遗传、免疫、内分泌微量元素、精神因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有关，可由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代谢、营养、脑皮质肿物或瘢痕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激发。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9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0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64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6588000" y="5300640"/>
            <a:ext cx="1000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96F8-3A62-485D-8D38-F2CB4E122FE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性抽搐  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身骨骼肌痉挛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主要表现，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意识丧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癫痫大发作：发作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身抽搐和意识障碍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特征，患者突发意识模糊或丧失，全身骨骼肌持续收缩，伴二便失禁，发作约半分钟自行停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癔症性发作：发作前常有一定的诱因，如生气或各种不良刺激。发作样式不固定，一般无舌咬伤和二便失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9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6294-A0A7-462E-855C-5D3B2F54D27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局限性抽搐  以身体某一局部肌肉收缩为主要表现多见于手足、口角、眼睑等部位，低钙血症所致手足抽搐发作时呈“助产士手”；踝关节伸直，足趾跖屈，足呈弓状，似“芭蕾舞足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77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8:16:53Z</dcterms:modified>
  <cp:revision>1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