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4D427A-5E52-4C54-9096-661B2DEBF6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F3FFFB-D2B4-4442-9D0F-03B98EF67E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9EB1C5F-7BFC-4A5A-A7FF-AC78C59E77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CB36FDD-54B0-44C2-A831-37AED645AC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E143B8-E005-401E-A2A6-097E48157B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401F0E-8FBC-4EA3-9C25-A13B2D1945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6226A6-F8C5-416A-9588-11215BEE57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4A7AAEE-56E9-4B71-ACA0-D6885C757E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0E54120-82FA-4F4B-B148-487867C1E5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9882B1-812F-461C-965E-0F08A19D51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1EFC51-27DE-46D1-91B8-2B31F41D89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A0C0DC-F4FE-4531-BBC8-431EE551AD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E811-3BCE-447B-AC4B-6CA6B3498E2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一章   绪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592240" y="404640"/>
            <a:ext cx="3551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5 </a:t>
            </a:r>
            <a:r>
              <a:rPr b="0" lang="zh-CN" sz="2800" spc="-1" strike="noStrike">
                <a:solidFill>
                  <a:srgbClr val="ffffff"/>
                </a:solidFill>
                <a:latin typeface="Verdana"/>
                <a:ea typeface="宋体"/>
              </a:rPr>
              <a:t>实验室检查</a:t>
            </a:r>
            <a:endParaRPr b="0" lang="en-US" sz="2800" spc="-1" strike="noStrike">
              <a:solidFill>
                <a:srgbClr val="ffffff"/>
              </a:solidFill>
              <a:latin typeface="Verdana"/>
            </a:endParaRPr>
          </a:p>
        </p:txBody>
      </p:sp>
      <p:sp>
        <p:nvSpPr>
          <p:cNvPr id="123" name="PlaceHolder 2"/>
          <p:cNvSpPr>
            <a:spLocks noGrp="1"/>
          </p:cNvSpPr>
          <p:nvPr>
            <p:ph/>
          </p:nvPr>
        </p:nvSpPr>
        <p:spPr>
          <a:xfrm>
            <a:off x="108000" y="1371240"/>
            <a:ext cx="885672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是通过物理、化学、生物学等实验方法对护理对象的血液、体液、排泄物、分泌物、组织等标本进行检查，以获得相关的病原体、病理改变或器官功能状态资料的方法。</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的结果是重要的客观资料，对指导护士观察、判断病情，作出护理诊断等均有重要意义。</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确掌握收集实验室检查标本的方法，指导、协助护理对象完成各项特殊检查的准备，是临床护理工作中必不可少的。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56240" y="404640"/>
            <a:ext cx="448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6 </a:t>
            </a:r>
            <a:r>
              <a:rPr b="0" lang="zh-CN" sz="2800" spc="-1" strike="noStrike">
                <a:solidFill>
                  <a:srgbClr val="ffffff"/>
                </a:solidFill>
                <a:latin typeface="Verdana"/>
                <a:ea typeface="宋体"/>
              </a:rPr>
              <a:t>心电图检查</a:t>
            </a: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a:t>
            </a:r>
            <a:r>
              <a:rPr b="1" lang="en-US" sz="2400" spc="-1" strike="noStrike">
                <a:solidFill>
                  <a:srgbClr val="8ac8de"/>
                </a:solidFill>
                <a:latin typeface="Verdana"/>
                <a:ea typeface="宋体"/>
              </a:rPr>
              <a:t>(electrocardiograph, ECG)</a:t>
            </a:r>
            <a:r>
              <a:rPr b="1" lang="zh-CN" sz="2400" spc="-1" strike="noStrike">
                <a:solidFill>
                  <a:srgbClr val="8ac8de"/>
                </a:solidFill>
                <a:latin typeface="Verdana"/>
                <a:ea typeface="宋体"/>
              </a:rPr>
              <a:t>是指将护理对象的心电活动用心电图机描记下来的曲线图。</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是健康评估的基本内容之一，也是临床上监测危重患者、观察和判断病情的常用手段。</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结果是健康评估重要的客观资料之一，但对心电图的结果需结合临床其他资料综合分析。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16240" y="333000"/>
            <a:ext cx="412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7 </a:t>
            </a:r>
            <a:r>
              <a:rPr b="0" lang="zh-CN" sz="2800" spc="-1" strike="noStrike">
                <a:solidFill>
                  <a:srgbClr val="ffffff"/>
                </a:solidFill>
                <a:latin typeface="Verdana"/>
                <a:ea typeface="宋体"/>
              </a:rPr>
              <a:t>影像学检查</a:t>
            </a:r>
            <a:endParaRPr b="0" lang="en-US" sz="2800" spc="-1" strike="noStrike">
              <a:solidFill>
                <a:srgbClr val="ffffff"/>
              </a:solidFill>
              <a:latin typeface="Verdana"/>
            </a:endParaRPr>
          </a:p>
        </p:txBody>
      </p:sp>
      <p:sp>
        <p:nvSpPr>
          <p:cNvPr id="12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是一种特殊的检查方法。它是借助于不同的成像手段，使人体内部器官和结构显出影像，从而了解人体解剖与生理功能状况以及病理变化，以达到诊断的目的，是疾病诊断中不可缺少的重要手段，也是健康评估的基本内容。</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包括放射检查、超声检查、计算机体层摄影、磁共振成像、核医学检查等内容。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87520" y="404640"/>
            <a:ext cx="585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8 </a:t>
            </a:r>
            <a:r>
              <a:rPr b="0" lang="zh-CN" sz="2800" spc="-1" strike="noStrike">
                <a:solidFill>
                  <a:srgbClr val="ffffff"/>
                </a:solidFill>
                <a:latin typeface="Verdana"/>
                <a:ea typeface="宋体"/>
              </a:rPr>
              <a:t>护理诊断与护理文件的书写</a:t>
            </a:r>
            <a:endParaRPr b="0" lang="en-US" sz="28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分析评估资料并据此作出合理的护理诊断是健康评估的关键环节，主要包括对资料的收集、整理、分析并作出合理的护理诊断、动态观察和验证诊断等环节。使学生理解健康评估形成护理诊断的几个环节</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步骤</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会从护理专业的角度进行临床思维和诊断。</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文件书写是护士对所收集到的资料，进行分析、归纳和整理，做出客观、全面的护理诊断，按照规范化格式书写的记录，是从事护理工作的基本技能。在我国目前尚未形成普遍认可的统一的护理病历书写规范和格式，但护理病历的内容基本一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76240" y="404640"/>
            <a:ext cx="736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健康评估的学习目的、方法和要求</a:t>
            </a:r>
            <a:endParaRPr b="0" lang="en-US" sz="2800" spc="-1" strike="noStrike">
              <a:solidFill>
                <a:srgbClr val="ffffff"/>
              </a:solidFill>
              <a:latin typeface="Verdana"/>
            </a:endParaRPr>
          </a:p>
        </p:txBody>
      </p:sp>
      <p:sp>
        <p:nvSpPr>
          <p:cNvPr id="131" name="PlaceHolder 2"/>
          <p:cNvSpPr>
            <a:spLocks noGrp="1"/>
          </p:cNvSpPr>
          <p:nvPr>
            <p:ph/>
          </p:nvPr>
        </p:nvSpPr>
        <p:spPr>
          <a:xfrm>
            <a:off x="3347640" y="2491920"/>
            <a:ext cx="4987800" cy="22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学习目的</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学习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具体要求 </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27640" y="404640"/>
            <a:ext cx="45590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学习目的</a:t>
            </a:r>
            <a:endParaRPr b="0" lang="en-US" sz="28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学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健康评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的目的是使护生掌握健康评估的相关知识和基本技能，学会收集、整理、分析资料，从社会、心理、生物角度对护理对象的健康状况作出科学的评估。为进一步学习临床护理专业课程奠定基础。</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培养护生形成从护理角度出发，评估护理对象的健康状态，树立临床护理和护理教育需要不断改革创新的护理理念，学会从护理的角度去思考临床护理问题，最终将课程中所学的知识运用到护理程序、健康教育、疾病护理和促进健康的过程中去。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79520" y="404640"/>
            <a:ext cx="5064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学习方法</a:t>
            </a:r>
            <a:endParaRPr b="0" lang="en-US" sz="2800" spc="-1" strike="noStrike">
              <a:solidFill>
                <a:srgbClr val="ffffff"/>
              </a:solidFill>
              <a:latin typeface="Verdana"/>
            </a:endParaRPr>
          </a:p>
        </p:txBody>
      </p:sp>
      <p:sp>
        <p:nvSpPr>
          <p:cNvPr id="135" name="PlaceHolder 2"/>
          <p:cNvSpPr>
            <a:spLocks noGrp="1"/>
          </p:cNvSpPr>
          <p:nvPr>
            <p:ph/>
          </p:nvPr>
        </p:nvSpPr>
        <p:spPr>
          <a:xfrm>
            <a:off x="250920" y="126792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课堂理论教学：包括讲授、讨论、多媒体教学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实验实践教学：包括观看录像、身体评估示教与练习、实验操作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临床见习：尽早接触临床、社区实际工作，大量的实践活动要在医院和社区完成，使学生逐渐养成良好的人际沟通能力、环境适应能力及医德修养。课间见习时，验证课堂所学知识，观摩各种影像学检查，观摩各类实验室检查项目。在医院病房和社区采集健康评估资料，进行常见症状的识别，练习健康评估记录，病例讨论，理论联系实际。毕业实习时，将课堂所学的知识转化为真实的护理实践，使所学基础理论、基本知识、基本技能得到进一步强化。</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4</a:t>
            </a:r>
            <a:r>
              <a:rPr b="1" lang="zh-CN" sz="1800" spc="-1" strike="noStrike">
                <a:solidFill>
                  <a:srgbClr val="8ac8de"/>
                </a:solidFill>
                <a:latin typeface="Verdana"/>
                <a:ea typeface="宋体"/>
              </a:rPr>
              <a:t>）课外辅导：答疑解难，作业练习，自学辅导，技能练习指导，专题讲座，网络教学，实践考核与校正等。</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74800" y="404640"/>
            <a:ext cx="37688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具体要求</a:t>
            </a:r>
            <a:endParaRPr b="0" lang="en-US" sz="2800" spc="-1" strike="noStrike">
              <a:solidFill>
                <a:srgbClr val="ffffff"/>
              </a:solidFill>
              <a:latin typeface="Verdana"/>
            </a:endParaRPr>
          </a:p>
        </p:txBody>
      </p:sp>
      <p:sp>
        <p:nvSpPr>
          <p:cNvPr id="137" name="PlaceHolder 2"/>
          <p:cNvSpPr>
            <a:spLocks noGrp="1"/>
          </p:cNvSpPr>
          <p:nvPr>
            <p:ph/>
          </p:nvPr>
        </p:nvSpPr>
        <p:spPr>
          <a:xfrm>
            <a:off x="323640" y="1413000"/>
            <a:ext cx="85690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a:t>
            </a:r>
            <a:r>
              <a:rPr b="1" lang="zh-CN" sz="1400" spc="-1" strike="noStrike">
                <a:solidFill>
                  <a:srgbClr val="8ac8de"/>
                </a:solidFill>
                <a:latin typeface="Verdana"/>
                <a:ea typeface="宋体"/>
              </a:rPr>
              <a:t>） 应用交流沟通的技巧采集健康评估资料，了解主观资料、客观资料的内在联系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2</a:t>
            </a:r>
            <a:r>
              <a:rPr b="1" lang="zh-CN" sz="1400" spc="-1" strike="noStrike">
                <a:solidFill>
                  <a:srgbClr val="8ac8de"/>
                </a:solidFill>
                <a:latin typeface="Verdana"/>
                <a:ea typeface="宋体"/>
              </a:rPr>
              <a:t>） 能独立、熟练、准确地对护理对象进行系统、重点的身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3</a:t>
            </a:r>
            <a:r>
              <a:rPr b="1" lang="zh-CN" sz="1400" spc="-1" strike="noStrike">
                <a:solidFill>
                  <a:srgbClr val="8ac8de"/>
                </a:solidFill>
                <a:latin typeface="Verdana"/>
                <a:ea typeface="宋体"/>
              </a:rPr>
              <a:t>） 能识别身体正常情况和异常体征，能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4</a:t>
            </a:r>
            <a:r>
              <a:rPr b="1" lang="zh-CN" sz="1400" spc="-1" strike="noStrike">
                <a:solidFill>
                  <a:srgbClr val="8ac8de"/>
                </a:solidFill>
                <a:latin typeface="Verdana"/>
                <a:ea typeface="宋体"/>
              </a:rPr>
              <a:t>） 能正确收集临床常用实验室检查的标本，解释检查结果的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5</a:t>
            </a:r>
            <a:r>
              <a:rPr b="1" lang="zh-CN" sz="1400" spc="-1" strike="noStrike">
                <a:solidFill>
                  <a:srgbClr val="8ac8de"/>
                </a:solidFill>
                <a:latin typeface="Verdana"/>
                <a:ea typeface="宋体"/>
              </a:rPr>
              <a:t>） 能正确进行常用影像学检查的术前准备、术后护理，分辨临床异常影像征象，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6</a:t>
            </a:r>
            <a:r>
              <a:rPr b="1" lang="zh-CN" sz="1400" spc="-1" strike="noStrike">
                <a:solidFill>
                  <a:srgbClr val="8ac8de"/>
                </a:solidFill>
                <a:latin typeface="Verdana"/>
                <a:ea typeface="宋体"/>
              </a:rPr>
              <a:t>） 掌握心电图的操作技能，能初步识别正常与常见异常、危重心电图，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7</a:t>
            </a:r>
            <a:r>
              <a:rPr b="1" lang="zh-CN" sz="1400" spc="-1" strike="noStrike">
                <a:solidFill>
                  <a:srgbClr val="8ac8de"/>
                </a:solidFill>
                <a:latin typeface="Verdana"/>
                <a:ea typeface="宋体"/>
              </a:rPr>
              <a:t>） 对评估对象的心理、社会、家庭状况能作出整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8</a:t>
            </a:r>
            <a:r>
              <a:rPr b="1" lang="zh-CN" sz="1400" spc="-1" strike="noStrike">
                <a:solidFill>
                  <a:srgbClr val="8ac8de"/>
                </a:solidFill>
                <a:latin typeface="Verdana"/>
                <a:ea typeface="宋体"/>
              </a:rPr>
              <a:t>） 对收集的健康评估资料进行分析、判断，提出护理诊断，能书写完整的护理病历。</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9</a:t>
            </a:r>
            <a:r>
              <a:rPr b="1" lang="zh-CN" sz="1400" spc="-1" strike="noStrike">
                <a:solidFill>
                  <a:srgbClr val="8ac8de"/>
                </a:solidFill>
                <a:latin typeface="Verdana"/>
                <a:ea typeface="宋体"/>
              </a:rPr>
              <a:t>） 有自学、查找资料、解决健康评估中所遇问题的能力。</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0</a:t>
            </a:r>
            <a:r>
              <a:rPr b="1" lang="zh-CN" sz="1400" spc="-1" strike="noStrike">
                <a:solidFill>
                  <a:srgbClr val="8ac8de"/>
                </a:solidFill>
                <a:latin typeface="Verdana"/>
                <a:ea typeface="宋体"/>
              </a:rPr>
              <a:t>） 养成善于保存资料的习惯，有一定的科研意识。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6" name=""/>
          <p:cNvSpPr txBox="1"/>
          <p:nvPr/>
        </p:nvSpPr>
        <p:spPr>
          <a:xfrm>
            <a:off x="0" y="11966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a:t>
            </a:r>
            <a:r>
              <a:rPr b="1" lang="en-US" sz="2000" spc="-1" strike="noStrike">
                <a:solidFill>
                  <a:srgbClr val="8ac8de"/>
                </a:solidFill>
                <a:latin typeface="Verdana"/>
                <a:ea typeface="宋体"/>
              </a:rPr>
              <a:t>(health assessment)</a:t>
            </a:r>
            <a:r>
              <a:rPr b="1" lang="zh-CN" sz="2000" spc="-1" strike="noStrike">
                <a:solidFill>
                  <a:srgbClr val="8ac8de"/>
                </a:solidFill>
                <a:latin typeface="Verdana"/>
                <a:ea typeface="宋体"/>
              </a:rPr>
              <a:t>是研究诊断个体、家庭或社区对现存或潜在健康问题反应的基本理论知识、基本操作技能和临床思维方法的学科，是现代护理学的一门重要学科。</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是护理基础课程与临床护理学科的桥梁课。</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作为护理程序的首要环节，是临床护理学的基础，有着较强的实践性和操作性。</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的任务是通过教学使学生在已有的医学基础课程及有关护理程序基本概念的基础上，掌握以患者为中心的，包括身体、心理和社会文化在内的健康评估的原理和方法，学会收集、综合、分析资料，概括护理诊断依据，最终提出护理诊断，为进一步确立护理目标、制订护理措施奠定基础。 </a:t>
            </a:r>
            <a:endParaRPr b="1" lang="en-US" sz="20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9" name="PlaceHolder 2"/>
          <p:cNvSpPr>
            <a:spLocks noGrp="1"/>
          </p:cNvSpPr>
          <p:nvPr>
            <p:ph/>
          </p:nvPr>
        </p:nvSpPr>
        <p:spPr>
          <a:xfrm>
            <a:off x="250920" y="1628640"/>
            <a:ext cx="8610480" cy="335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 健康评估的重要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 健康评估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 健康评估的学习目的、方法和要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867040" y="333000"/>
            <a:ext cx="62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健康评估的重要性</a:t>
            </a:r>
            <a:endParaRPr b="0" lang="en-US" sz="28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以护理程序为基础的整体护理已成为当今的护理理念。护理程序是由评估、诊断、计划、实施、评价五个步骤所组成的循序渐进的、不断循环的动态过程。</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护理程序的第一步骤健康评估是最重要的关键一步，它既是执行护理程序的首要环节，也是护理过程的起点，同时又贯穿于整个护理过程中。它是一个连续的、动态的过程，为护理诊断的确定、护理措施的制订与实施以及对护理行为的评价打下基础。</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完整、全面、正确的健康评估是保证高质量护理的先决条件。</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980</a:t>
            </a:r>
            <a:r>
              <a:rPr b="1" lang="zh-CN" sz="1600" spc="-1" strike="noStrike">
                <a:solidFill>
                  <a:srgbClr val="8ac8de"/>
                </a:solidFill>
                <a:latin typeface="Verdana"/>
                <a:ea typeface="宋体"/>
              </a:rPr>
              <a:t>年，美国护士协会</a:t>
            </a:r>
            <a:r>
              <a:rPr b="1" lang="en-US" sz="1600" spc="-1" strike="noStrike">
                <a:solidFill>
                  <a:srgbClr val="8ac8de"/>
                </a:solidFill>
                <a:latin typeface="Verdana"/>
                <a:ea typeface="宋体"/>
              </a:rPr>
              <a:t>(ANA)</a:t>
            </a:r>
            <a:r>
              <a:rPr b="1" lang="zh-CN" sz="1600" spc="-1" strike="noStrike">
                <a:solidFill>
                  <a:srgbClr val="8ac8de"/>
                </a:solidFill>
                <a:latin typeface="Verdana"/>
                <a:ea typeface="宋体"/>
              </a:rPr>
              <a:t>在确定的护理实践标准中强调了评估的重要性：“评估阶段为实施高质量的个体化护理提供坚实的基础，需要有标准、完整的评估来推进人类反应的诊断与治疗”。</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从现代护理理念上来看，健康评估是护士独立性功能范围内的一项重要工作。护士必须学会健康评估的方法，以得到护理对象的第一手资料，从而及时对护理对象进行全面的身心综合护理。</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因此，从一名护生到一名在临床上能作出护理诊断、决策的护士，担当起“健康守护神”的职责，学好健康评估是非常重要和必要的。</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432240" y="404640"/>
            <a:ext cx="5711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健康评估的主要内容 </a:t>
            </a:r>
            <a:endParaRPr b="0" lang="en-US" sz="28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常见症状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身体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心理与社会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实验室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心电图检查</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影像学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护理诊断与护理文件的书写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587640" y="333000"/>
            <a:ext cx="2398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问诊</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诊（</a:t>
            </a:r>
            <a:r>
              <a:rPr b="1" lang="en-US" sz="2000" spc="-1" strike="noStrike">
                <a:solidFill>
                  <a:srgbClr val="8ac8de"/>
                </a:solidFill>
                <a:latin typeface="Verdana"/>
                <a:ea typeface="宋体"/>
              </a:rPr>
              <a:t>inquiry</a:t>
            </a:r>
            <a:r>
              <a:rPr b="1" lang="zh-CN" sz="2000" spc="-1" strike="noStrike">
                <a:solidFill>
                  <a:srgbClr val="8ac8de"/>
                </a:solidFill>
                <a:latin typeface="Verdana"/>
                <a:ea typeface="宋体"/>
              </a:rPr>
              <a:t>）是发生在护士与患者或相关人员之间目标明确而有序的交谈过程，是病史采集（</a:t>
            </a:r>
            <a:r>
              <a:rPr b="1" lang="en-US" sz="2000" spc="-1" strike="noStrike">
                <a:solidFill>
                  <a:srgbClr val="8ac8de"/>
                </a:solidFill>
                <a:latin typeface="Verdana"/>
                <a:ea typeface="宋体"/>
              </a:rPr>
              <a:t>history taking</a:t>
            </a:r>
            <a:r>
              <a:rPr b="1" lang="zh-CN" sz="2000" spc="-1" strike="noStrike">
                <a:solidFill>
                  <a:srgbClr val="8ac8de"/>
                </a:solidFill>
                <a:latin typeface="Verdana"/>
                <a:ea typeface="宋体"/>
              </a:rPr>
              <a:t>）的主要手段。</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的目的：是通过询问获取患者主观感觉的异常或不适，了解疾病的发生、发展、诊治和护理经过，既往健康状况、曾患疾病的情况，发现患者由此产生的对健康问题在生理、心理、社会和精神等方面的反应，同时也为随后的体格检查、临床判断和诊断性推理提供线索。</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问诊的重要性：在于它是护士和患者沟通、建立积极治疗关系的重要时机。同时，还可以教育患者，向患者提供信息，有时候甚至交流本身也具有治疗作用。这些都为帮助患者建立信心及在病痛或焦虑中寻求理解，提供情感和精神支持。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35520" y="404640"/>
            <a:ext cx="34084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常见症状评估</a:t>
            </a:r>
            <a:endParaRPr b="0" lang="en-US" sz="28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对象患病后对机体生理功能异常的自身体验和主观感受，称为症状</a:t>
            </a:r>
            <a:r>
              <a:rPr b="1" lang="en-US" sz="2400" spc="-1" strike="noStrike">
                <a:solidFill>
                  <a:srgbClr val="8ac8de"/>
                </a:solidFill>
                <a:latin typeface="Verdana"/>
                <a:ea typeface="宋体"/>
              </a:rPr>
              <a:t>(symptom)</a:t>
            </a:r>
            <a:r>
              <a:rPr b="1" lang="zh-CN" sz="2400" spc="-1" strike="noStrike">
                <a:solidFill>
                  <a:srgbClr val="8ac8de"/>
                </a:solidFill>
                <a:latin typeface="Verdana"/>
                <a:ea typeface="宋体"/>
              </a:rPr>
              <a:t>，如发热、腹痛、乏力、恶心呕吐等。</a:t>
            </a:r>
            <a:endParaRPr b="1" lang="en-US" sz="24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症状是护理对象健康状况的主观资料。分析症状的发生、发展和演变，对作出护理诊断、实施护理程序、指导临床护理起着主要的作用。在此基础上，从护理的角度提出护理评估要点，分析护理诊断线索，以培养学生科学的思维方法和通过症状评估作出护理诊断的能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72000" y="404640"/>
            <a:ext cx="261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身体评估</a:t>
            </a:r>
            <a:endParaRPr b="0" lang="en-US" sz="2800" spc="-1" strike="noStrike">
              <a:solidFill>
                <a:srgbClr val="ffffff"/>
              </a:solidFill>
              <a:latin typeface="Verdana"/>
            </a:endParaRPr>
          </a:p>
        </p:txBody>
      </p:sp>
      <p:sp>
        <p:nvSpPr>
          <p:cNvPr id="119" name="PlaceHolder 2"/>
          <p:cNvSpPr>
            <a:spLocks noGrp="1"/>
          </p:cNvSpPr>
          <p:nvPr>
            <p:ph/>
          </p:nvPr>
        </p:nvSpPr>
        <p:spPr>
          <a:xfrm>
            <a:off x="-360" y="1413000"/>
            <a:ext cx="8839080" cy="4876560"/>
          </a:xfrm>
          <a:prstGeom prst="rect">
            <a:avLst/>
          </a:prstGeom>
          <a:noFill/>
          <a:ln w="0">
            <a:noFill/>
          </a:ln>
        </p:spPr>
        <p:txBody>
          <a:bodyPr anchor="t">
            <a:normAutofit/>
          </a:bodyPr>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是评估者通过自己的感觉器官或借助简单的辅助工具，对护理对象进行细致的观察和系统的检查，以了解其身体状况的一组最基本的检查方法。</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过身体评估，为护理诊断提供依据，及时发现可能存在的健康问题。</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发现的机体异常表现为体征</a:t>
            </a:r>
            <a:r>
              <a:rPr b="1" lang="en-US" sz="2000" spc="-1" strike="noStrike">
                <a:solidFill>
                  <a:srgbClr val="8ac8de"/>
                </a:solidFill>
                <a:latin typeface="Verdana"/>
                <a:ea typeface="宋体"/>
              </a:rPr>
              <a:t>(sign)</a:t>
            </a:r>
            <a:r>
              <a:rPr b="1" lang="zh-CN" sz="2000" spc="-1" strike="noStrike">
                <a:solidFill>
                  <a:srgbClr val="8ac8de"/>
                </a:solidFill>
                <a:latin typeface="Verdana"/>
                <a:ea typeface="宋体"/>
              </a:rPr>
              <a:t>，如出血点、肺部啰音等，是护理对象健康状况的客观资料，是确立护理诊断的重要依据。</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不需要像医生那样过分精细，强调简明扼要、重点突出。通过学习身体评估，掌握身体评估的技巧应用于临床工作中，而不再习惯于从医生病历中抄取二手资料。例如，听诊发现长期卧床的评估对象两肺有湿啰音，虽无咳嗽，应及时采取胸部物理疗法，以防止并发症的发生。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440240" y="404640"/>
            <a:ext cx="4703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4 </a:t>
            </a:r>
            <a:r>
              <a:rPr b="0" lang="zh-CN" sz="2800" spc="-1" strike="noStrike">
                <a:solidFill>
                  <a:srgbClr val="ffffff"/>
                </a:solidFill>
                <a:latin typeface="Verdana"/>
                <a:ea typeface="宋体"/>
              </a:rPr>
              <a:t>心理与社会评估</a:t>
            </a:r>
            <a:endParaRPr b="0" lang="en-US" sz="28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包括对护理对象的心理状况和社会经历的信息资料的收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是健康评估的一个重要组成部分，客观而准确的心理、社会评估是整体护理的前提条件之一。</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可以帮助护士更好地理解评估对象对周围环境及事物的反应，以及护理对象的反应对其行为能力的影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6:25:51Z</dcterms:modified>
  <cp:revision>81</cp:revision>
  <dc:subject/>
  <dc:title>内科护理学</dc:title>
</cp:coreProperties>
</file>