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25.png" ContentType="image/png"/>
  <Override PartName="/ppt/media/image5.wmf" ContentType="image/x-wmf"/>
  <Override PartName="/ppt/media/image3.jpeg" ContentType="image/jpeg"/>
  <Override PartName="/ppt/media/image26.wmf" ContentType="image/x-wmf"/>
  <Override PartName="/ppt/media/image14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3C4B2-E1DC-49C6-930A-9A49210D6FB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020ED-A553-41BF-BA2F-424418AC0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0348E-9921-4DD6-BFB3-02C72422E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E7954-796C-456C-9972-C92516D93B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08463-D3D2-439A-8ED1-3B758441A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49E4E-E64E-4C32-AC14-7808A9133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0CB92-760A-4869-B4F7-09748415B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F653A-4CA1-40B6-B64B-31E3B8923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A446E-E69D-4861-930D-FA0814252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58EEE-8560-4B56-810A-5EF19539F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54E7C-4030-4037-B656-88283BCC1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1EBE5-1DBF-4CAF-8A87-95A9158CA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CBB53-4DA8-488A-93DB-12E60B9D6D8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四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教学方法与技巧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课堂计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Line 133"/>
          <p:cNvSpPr/>
          <p:nvPr/>
        </p:nvSpPr>
        <p:spPr>
          <a:xfrm>
            <a:off x="5719680" y="4611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50920" y="1203480"/>
          <a:ext cx="8497800" cy="5222880"/>
        </p:xfrm>
        <a:graphic>
          <a:graphicData uri="http://schemas.openxmlformats.org/drawingml/2006/table">
            <a:tbl>
              <a:tblPr/>
              <a:tblGrid>
                <a:gridCol w="2197080"/>
                <a:gridCol w="1836720"/>
                <a:gridCol w="1430280"/>
                <a:gridCol w="1162080"/>
                <a:gridCol w="1871640"/>
              </a:tblGrid>
              <a:tr h="8240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题    目：                                         日期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                                              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时间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教学方法：                                         地点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07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学 生 具 体 情 况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.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听课人数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.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课程类型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.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教育水平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.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过去的经验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教室安排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学习方法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              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评  估  形  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上课期间：                              上课结束后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课堂目标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活 动 计 划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时  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顺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活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教师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学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课堂的自我评估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三）解释计划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效果好的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关键点及不同认识水平的重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实例的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视觉教材的使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必要的修辞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课堂计划之外的，必要的花费时间的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8920" y="1155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增进讲授效果的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48320" y="1676520"/>
            <a:ext cx="4495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者的语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学习环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教师的行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的开始与结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保持注意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课堂纪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5" name="Object 1024" descr=""/>
          <p:cNvPicPr/>
          <p:nvPr/>
        </p:nvPicPr>
        <p:blipFill>
          <a:blip r:embed="rId1"/>
          <a:stretch/>
        </p:blipFill>
        <p:spPr>
          <a:xfrm>
            <a:off x="0" y="1523880"/>
            <a:ext cx="4572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000" y="177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宋体"/>
              </a:rPr>
              <a:t>第二节  小组教学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7" name="Object 1024" descr=""/>
          <p:cNvPicPr/>
          <p:nvPr/>
        </p:nvPicPr>
        <p:blipFill>
          <a:blip r:embed="rId1"/>
          <a:stretch/>
        </p:blipFill>
        <p:spPr>
          <a:xfrm>
            <a:off x="1905120" y="2743200"/>
            <a:ext cx="541008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小组的规模与性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29200" y="1828800"/>
            <a:ext cx="2927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组的规模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8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Arial"/>
                <a:ea typeface="宋体"/>
              </a:rPr>
              <a:t>  ≤</a:t>
            </a:r>
            <a:r>
              <a:rPr b="1" lang="en-US" sz="3400" spc="-1" strike="noStrike">
                <a:solidFill>
                  <a:srgbClr val="046ca6"/>
                </a:solidFill>
                <a:latin typeface="Arial"/>
                <a:ea typeface="宋体"/>
              </a:rPr>
              <a:t>25</a:t>
            </a:r>
            <a:r>
              <a:rPr b="1" lang="zh-CN" sz="3400" spc="-1" strike="noStrike">
                <a:solidFill>
                  <a:srgbClr val="046ca6"/>
                </a:solidFill>
                <a:latin typeface="Arial"/>
                <a:ea typeface="宋体"/>
              </a:rPr>
              <a:t>人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组的性质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0" name="Object 1024" descr=""/>
          <p:cNvPicPr/>
          <p:nvPr/>
        </p:nvPicPr>
        <p:blipFill>
          <a:blip r:embed="rId1"/>
          <a:stretch/>
        </p:blipFill>
        <p:spPr>
          <a:xfrm>
            <a:off x="0" y="1752480"/>
            <a:ext cx="52578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1822320"/>
            <a:ext cx="8610480" cy="11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小组教学座次安排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6553080" y="21337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5638680" y="2743200"/>
            <a:ext cx="457200" cy="3049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7543800" y="2743200"/>
            <a:ext cx="457200" cy="3049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5638680" y="39625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7543800" y="3886200"/>
            <a:ext cx="457200" cy="3049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5638680" y="3352680"/>
            <a:ext cx="457200" cy="3049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10"/>
          <p:cNvSpPr/>
          <p:nvPr/>
        </p:nvSpPr>
        <p:spPr>
          <a:xfrm>
            <a:off x="7543800" y="32767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5638680" y="46483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6629400" y="46483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13"/>
          <p:cNvSpPr/>
          <p:nvPr/>
        </p:nvSpPr>
        <p:spPr>
          <a:xfrm>
            <a:off x="7543800" y="46483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914400" y="312408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U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型：教师引导课堂讨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468360" y="119700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物理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9280" y="1905120"/>
            <a:ext cx="2127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环形：地位同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Oval 4"/>
          <p:cNvSpPr/>
          <p:nvPr/>
        </p:nvSpPr>
        <p:spPr>
          <a:xfrm>
            <a:off x="4267080" y="22096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Oval 5"/>
          <p:cNvSpPr/>
          <p:nvPr/>
        </p:nvSpPr>
        <p:spPr>
          <a:xfrm>
            <a:off x="5181480" y="228600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Oval 6"/>
          <p:cNvSpPr/>
          <p:nvPr/>
        </p:nvSpPr>
        <p:spPr>
          <a:xfrm>
            <a:off x="3048120" y="480060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Oval 7"/>
          <p:cNvSpPr/>
          <p:nvPr/>
        </p:nvSpPr>
        <p:spPr>
          <a:xfrm>
            <a:off x="6477120" y="31240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Oval 8"/>
          <p:cNvSpPr/>
          <p:nvPr/>
        </p:nvSpPr>
        <p:spPr>
          <a:xfrm>
            <a:off x="2971800" y="297180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Oval 9"/>
          <p:cNvSpPr/>
          <p:nvPr/>
        </p:nvSpPr>
        <p:spPr>
          <a:xfrm>
            <a:off x="3505320" y="251460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Oval 10"/>
          <p:cNvSpPr/>
          <p:nvPr/>
        </p:nvSpPr>
        <p:spPr>
          <a:xfrm>
            <a:off x="4876920" y="51814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Oval 11"/>
          <p:cNvSpPr/>
          <p:nvPr/>
        </p:nvSpPr>
        <p:spPr>
          <a:xfrm>
            <a:off x="3886200" y="51814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Oval 12"/>
          <p:cNvSpPr/>
          <p:nvPr/>
        </p:nvSpPr>
        <p:spPr>
          <a:xfrm>
            <a:off x="2514600" y="419112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Oval 13"/>
          <p:cNvSpPr/>
          <p:nvPr/>
        </p:nvSpPr>
        <p:spPr>
          <a:xfrm>
            <a:off x="2514600" y="350532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Oval 14"/>
          <p:cNvSpPr/>
          <p:nvPr/>
        </p:nvSpPr>
        <p:spPr>
          <a:xfrm>
            <a:off x="5867280" y="26668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Oval 15"/>
          <p:cNvSpPr/>
          <p:nvPr/>
        </p:nvSpPr>
        <p:spPr>
          <a:xfrm>
            <a:off x="5791320" y="49528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Oval 16"/>
          <p:cNvSpPr/>
          <p:nvPr/>
        </p:nvSpPr>
        <p:spPr>
          <a:xfrm>
            <a:off x="6629400" y="38098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Oval 17"/>
          <p:cNvSpPr/>
          <p:nvPr/>
        </p:nvSpPr>
        <p:spPr>
          <a:xfrm>
            <a:off x="6248520" y="441972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315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马靴型：大组分化成小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Rectangle 4"/>
          <p:cNvSpPr/>
          <p:nvPr/>
        </p:nvSpPr>
        <p:spPr>
          <a:xfrm flipH="1">
            <a:off x="3504600" y="2057400"/>
            <a:ext cx="685800" cy="6094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 flipV="1">
            <a:off x="1828800" y="2971800"/>
            <a:ext cx="914400" cy="838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Oval 6"/>
          <p:cNvSpPr/>
          <p:nvPr/>
        </p:nvSpPr>
        <p:spPr>
          <a:xfrm>
            <a:off x="1143000" y="32004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Oval 7"/>
          <p:cNvSpPr/>
          <p:nvPr/>
        </p:nvSpPr>
        <p:spPr>
          <a:xfrm>
            <a:off x="2057400" y="22860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Oval 8"/>
          <p:cNvSpPr/>
          <p:nvPr/>
        </p:nvSpPr>
        <p:spPr>
          <a:xfrm>
            <a:off x="2057400" y="38862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9"/>
          <p:cNvSpPr/>
          <p:nvPr/>
        </p:nvSpPr>
        <p:spPr>
          <a:xfrm flipV="1">
            <a:off x="4800600" y="2971800"/>
            <a:ext cx="914400" cy="838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Oval 10"/>
          <p:cNvSpPr/>
          <p:nvPr/>
        </p:nvSpPr>
        <p:spPr>
          <a:xfrm>
            <a:off x="6019920" y="30481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Oval 11"/>
          <p:cNvSpPr/>
          <p:nvPr/>
        </p:nvSpPr>
        <p:spPr>
          <a:xfrm>
            <a:off x="5029200" y="23623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Oval 12"/>
          <p:cNvSpPr/>
          <p:nvPr/>
        </p:nvSpPr>
        <p:spPr>
          <a:xfrm>
            <a:off x="5029200" y="39625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13"/>
          <p:cNvSpPr/>
          <p:nvPr/>
        </p:nvSpPr>
        <p:spPr>
          <a:xfrm flipV="1">
            <a:off x="1905120" y="4876920"/>
            <a:ext cx="914400" cy="838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Rectangle 14"/>
          <p:cNvSpPr/>
          <p:nvPr/>
        </p:nvSpPr>
        <p:spPr>
          <a:xfrm flipV="1">
            <a:off x="4800600" y="4800600"/>
            <a:ext cx="914400" cy="838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Oval 15"/>
          <p:cNvSpPr/>
          <p:nvPr/>
        </p:nvSpPr>
        <p:spPr>
          <a:xfrm>
            <a:off x="2057400" y="44197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Oval 16"/>
          <p:cNvSpPr/>
          <p:nvPr/>
        </p:nvSpPr>
        <p:spPr>
          <a:xfrm>
            <a:off x="1143000" y="50292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Oval 17"/>
          <p:cNvSpPr/>
          <p:nvPr/>
        </p:nvSpPr>
        <p:spPr>
          <a:xfrm>
            <a:off x="2133720" y="586728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Oval 18"/>
          <p:cNvSpPr/>
          <p:nvPr/>
        </p:nvSpPr>
        <p:spPr>
          <a:xfrm>
            <a:off x="6019920" y="50292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Oval 19"/>
          <p:cNvSpPr/>
          <p:nvPr/>
        </p:nvSpPr>
        <p:spPr>
          <a:xfrm>
            <a:off x="4038480" y="51055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Oval 20"/>
          <p:cNvSpPr/>
          <p:nvPr/>
        </p:nvSpPr>
        <p:spPr>
          <a:xfrm>
            <a:off x="4952880" y="57913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-303120"/>
            <a:ext cx="7772400" cy="17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71320" y="12571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委员会型：正式讨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6095880" y="2590920"/>
            <a:ext cx="1524240" cy="3124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6629400" y="1828800"/>
            <a:ext cx="533520" cy="45720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Oval 6"/>
          <p:cNvSpPr/>
          <p:nvPr/>
        </p:nvSpPr>
        <p:spPr>
          <a:xfrm>
            <a:off x="5410080" y="2666880"/>
            <a:ext cx="53352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Oval 7"/>
          <p:cNvSpPr/>
          <p:nvPr/>
        </p:nvSpPr>
        <p:spPr>
          <a:xfrm>
            <a:off x="5334120" y="358128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Oval 8"/>
          <p:cNvSpPr/>
          <p:nvPr/>
        </p:nvSpPr>
        <p:spPr>
          <a:xfrm>
            <a:off x="5334120" y="434340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Oval 9"/>
          <p:cNvSpPr/>
          <p:nvPr/>
        </p:nvSpPr>
        <p:spPr>
          <a:xfrm>
            <a:off x="7924680" y="3505320"/>
            <a:ext cx="53352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Oval 10"/>
          <p:cNvSpPr/>
          <p:nvPr/>
        </p:nvSpPr>
        <p:spPr>
          <a:xfrm>
            <a:off x="7848720" y="266688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5334120" y="510552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Oval 12"/>
          <p:cNvSpPr/>
          <p:nvPr/>
        </p:nvSpPr>
        <p:spPr>
          <a:xfrm>
            <a:off x="7848720" y="419112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Oval 13"/>
          <p:cNvSpPr/>
          <p:nvPr/>
        </p:nvSpPr>
        <p:spPr>
          <a:xfrm>
            <a:off x="7848720" y="495288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Oval 14"/>
          <p:cNvSpPr/>
          <p:nvPr/>
        </p:nvSpPr>
        <p:spPr>
          <a:xfrm>
            <a:off x="6629400" y="586728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Oval 15"/>
          <p:cNvSpPr/>
          <p:nvPr/>
        </p:nvSpPr>
        <p:spPr>
          <a:xfrm>
            <a:off x="1600200" y="2514600"/>
            <a:ext cx="1981080" cy="34290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Oval 16"/>
          <p:cNvSpPr/>
          <p:nvPr/>
        </p:nvSpPr>
        <p:spPr>
          <a:xfrm>
            <a:off x="1143000" y="2743200"/>
            <a:ext cx="60948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Oval 17"/>
          <p:cNvSpPr/>
          <p:nvPr/>
        </p:nvSpPr>
        <p:spPr>
          <a:xfrm>
            <a:off x="914400" y="3733920"/>
            <a:ext cx="609480" cy="53316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Oval 18"/>
          <p:cNvSpPr/>
          <p:nvPr/>
        </p:nvSpPr>
        <p:spPr>
          <a:xfrm>
            <a:off x="990720" y="4648320"/>
            <a:ext cx="609480" cy="53316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Oval 19"/>
          <p:cNvSpPr/>
          <p:nvPr/>
        </p:nvSpPr>
        <p:spPr>
          <a:xfrm>
            <a:off x="1295280" y="5410080"/>
            <a:ext cx="60984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Oval 20"/>
          <p:cNvSpPr/>
          <p:nvPr/>
        </p:nvSpPr>
        <p:spPr>
          <a:xfrm>
            <a:off x="3429000" y="5257800"/>
            <a:ext cx="60948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Oval 21"/>
          <p:cNvSpPr/>
          <p:nvPr/>
        </p:nvSpPr>
        <p:spPr>
          <a:xfrm>
            <a:off x="2438280" y="5943600"/>
            <a:ext cx="68580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Oval 22"/>
          <p:cNvSpPr/>
          <p:nvPr/>
        </p:nvSpPr>
        <p:spPr>
          <a:xfrm>
            <a:off x="3657600" y="4267080"/>
            <a:ext cx="60948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Oval 23"/>
          <p:cNvSpPr/>
          <p:nvPr/>
        </p:nvSpPr>
        <p:spPr>
          <a:xfrm>
            <a:off x="3657600" y="3429000"/>
            <a:ext cx="60948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Oval 24"/>
          <p:cNvSpPr/>
          <p:nvPr/>
        </p:nvSpPr>
        <p:spPr>
          <a:xfrm>
            <a:off x="3352680" y="2514600"/>
            <a:ext cx="60984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Oval 25"/>
          <p:cNvSpPr/>
          <p:nvPr/>
        </p:nvSpPr>
        <p:spPr>
          <a:xfrm>
            <a:off x="2286000" y="1905120"/>
            <a:ext cx="609480" cy="53316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心理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小组教学成功的最重要因素是组内成员间的相互信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小组成员之间彼此认识交流的常用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配对练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滚雪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模仿表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6" name="Object 1024" descr=""/>
          <p:cNvPicPr/>
          <p:nvPr/>
        </p:nvPicPr>
        <p:blipFill>
          <a:blip r:embed="rId1"/>
          <a:stretch/>
        </p:blipFill>
        <p:spPr>
          <a:xfrm>
            <a:off x="5003640" y="2781360"/>
            <a:ext cx="391176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完成本章的学习后，学生应能够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解释下列名词：教学方法 讲授 演示 以问题为基础的教学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说出常用的教学方法与教学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比较常见教学方法与技巧的优缺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阐述以问题为基础的教学法对护理教育的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动在教学活动或健康教育实践中应用有效的教学方法与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小组的基本过程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组的顺应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危险转移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责任散射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观众效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协力效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9" name="Object 1024" descr=""/>
          <p:cNvPicPr/>
          <p:nvPr/>
        </p:nvPicPr>
        <p:blipFill>
          <a:blip r:embed="rId1"/>
          <a:stretch/>
        </p:blipFill>
        <p:spPr>
          <a:xfrm>
            <a:off x="3886200" y="2362320"/>
            <a:ext cx="467208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组内交流和相互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验性方法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控制条件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非实验性方法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然条件下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成型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体委托给组，成为成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冲突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组内矛盾冲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规范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相互作用，建立和睦关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执行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现组的目标而经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联系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与其他组进行交流的体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教学小组的目的与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智力范畴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识的回忆和认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情感范畴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体的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范畴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地位、群体关系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表达范畴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表达能力、公众交谈技巧、简洁表达论点、着手进行讨论等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4" name="Object 1024" descr=""/>
          <p:cNvPicPr/>
          <p:nvPr/>
        </p:nvPicPr>
        <p:blipFill>
          <a:blip r:embed="rId1"/>
          <a:stretch/>
        </p:blipFill>
        <p:spPr>
          <a:xfrm>
            <a:off x="6369120" y="3573360"/>
            <a:ext cx="2774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六、指导教师的角色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5562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角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领导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指导和干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促进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督促小组进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资源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知识来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训练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方法、技巧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指导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命令式：教师是权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苏格拉底式：教师提问，学生回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启发式：知识互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协商式：反思问题，沟通理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7" name="Object 1024" descr=""/>
          <p:cNvPicPr/>
          <p:nvPr/>
        </p:nvPicPr>
        <p:blipFill>
          <a:blip r:embed="rId1"/>
          <a:stretch/>
        </p:blipFill>
        <p:spPr>
          <a:xfrm>
            <a:off x="5792760" y="3141720"/>
            <a:ext cx="3351240" cy="34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7454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七、小组教学存在的共同问题及对策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428640" y="190512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全组成员同时发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出现个别好说的活跃学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出现争执的场面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个别组员突然愤然离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学生不愿参与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0" name="Object 4" descr=""/>
          <p:cNvPicPr/>
          <p:nvPr/>
        </p:nvPicPr>
        <p:blipFill>
          <a:blip r:embed="rId1"/>
          <a:stretch/>
        </p:blipFill>
        <p:spPr>
          <a:xfrm>
            <a:off x="179280" y="1752480"/>
            <a:ext cx="32403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八、教学小组的主要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辅导小组：一对一或一对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术讨论组：提出论文，小组讨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指导讨论组：教师提出论点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由讨论组：组内成员自我控制，教师旁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议题讨论组：某一论点或题目为中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答问题组：教师提出需要解决的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课题组：研究单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604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增进小组教学效果的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800600" y="198072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周密计划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时间限制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小组规模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明确教师角色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合理分组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及时小结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5" name="Object 1024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46483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 以问题为基础的教学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产生及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问题为基础的教学方法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roblem-based learnin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简称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B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美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Howard S.Barrows 1969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在加拿大的麦克玛斯特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cMaster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大学首先创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较好促进学生的评判性思维的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强调以学生为主体，并以促进学生的自学动机、提高学生自己解决问题能力为教学目标的教学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以问题为基础的教学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二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PB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的操作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一）教育目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讲述知识在临床的应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发展临床推理技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发展有效的自主学习技能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提高学习者的学习动机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二）教学模式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三）教学步骤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明确学习的问题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学生的自学过程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小组讨论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1" name="Object 1024" descr=""/>
          <p:cNvPicPr/>
          <p:nvPr/>
        </p:nvPicPr>
        <p:blipFill>
          <a:blip r:embed="rId1"/>
          <a:stretch/>
        </p:blipFill>
        <p:spPr>
          <a:xfrm>
            <a:off x="5364000" y="3500280"/>
            <a:ext cx="341964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以问题为基础的教学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B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护理教育的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利于培养护理专业学生的自学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利于促进学生的评判性思维的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利于护理专业学生获得基础学科知识与临床实践的统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四、推广中存在的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缺乏有经验的师资队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教学资金短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学生的思维方式限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6120" y="304560"/>
            <a:ext cx="5938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学方法的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038480" y="2057040"/>
            <a:ext cx="5105520" cy="439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是教师为完成教学任务所采用的手段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0" name="Object 4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39243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23640" y="1341360"/>
            <a:ext cx="4392360" cy="49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开放学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别辅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咨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团队为基础的教学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案例为基础的教学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514240" y="333360"/>
            <a:ext cx="6629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其他教学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6" name="Object 4" descr=""/>
          <p:cNvPicPr/>
          <p:nvPr/>
        </p:nvPicPr>
        <p:blipFill>
          <a:blip r:embed="rId1"/>
          <a:stretch/>
        </p:blipFill>
        <p:spPr>
          <a:xfrm>
            <a:off x="5003640" y="1916280"/>
            <a:ext cx="39625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五节 教学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一、课堂提问技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二、演示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三、小组教学常用技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四、电化教学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课堂提问技巧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331640" y="1630440"/>
            <a:ext cx="712620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课堂提问法的特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问题的程度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1" name="Object 4" descr=""/>
          <p:cNvPicPr/>
          <p:nvPr/>
        </p:nvPicPr>
        <p:blipFill>
          <a:blip r:embed="rId1"/>
          <a:stretch/>
        </p:blipFill>
        <p:spPr>
          <a:xfrm>
            <a:off x="5029200" y="1828800"/>
            <a:ext cx="3733920" cy="440676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5"/>
          <p:cNvSpPr/>
          <p:nvPr/>
        </p:nvSpPr>
        <p:spPr>
          <a:xfrm>
            <a:off x="1392120" y="6021360"/>
            <a:ext cx="2819520" cy="45720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记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1763640" y="5487840"/>
            <a:ext cx="2438640" cy="5335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理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1908000" y="4869000"/>
            <a:ext cx="2286000" cy="6094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8"/>
          <p:cNvSpPr/>
          <p:nvPr/>
        </p:nvSpPr>
        <p:spPr>
          <a:xfrm>
            <a:off x="2209680" y="4267080"/>
            <a:ext cx="1981440" cy="60984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分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Rectangle 9"/>
          <p:cNvSpPr/>
          <p:nvPr/>
        </p:nvSpPr>
        <p:spPr>
          <a:xfrm>
            <a:off x="2590920" y="3733920"/>
            <a:ext cx="1600200" cy="5331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综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Rectangle 10"/>
          <p:cNvSpPr/>
          <p:nvPr/>
        </p:nvSpPr>
        <p:spPr>
          <a:xfrm>
            <a:off x="2971800" y="3124080"/>
            <a:ext cx="1219320" cy="60984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评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一、课堂提问技巧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增进效果的措施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问题简洁、明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提不同程度的问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及时反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准备开放性问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围绕目标设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提供思考时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合理安排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0" name="Object 1024" descr=""/>
          <p:cNvPicPr/>
          <p:nvPr/>
        </p:nvPicPr>
        <p:blipFill>
          <a:blip r:embed="rId1"/>
          <a:stretch/>
        </p:blipFill>
        <p:spPr>
          <a:xfrm>
            <a:off x="4495680" y="2336760"/>
            <a:ext cx="464832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演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390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演示是对事实、概念或过程的直观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使学生获得丰富的感性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必须配合教师的说明、讲解，引导学生边看边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3" name="Object 1024" descr=""/>
          <p:cNvPicPr/>
          <p:nvPr/>
        </p:nvPicPr>
        <p:blipFill>
          <a:blip r:embed="rId1"/>
          <a:stretch/>
        </p:blipFill>
        <p:spPr>
          <a:xfrm>
            <a:off x="3492360" y="2060640"/>
            <a:ext cx="565164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演示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增进效果的措施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708000" y="1906560"/>
            <a:ext cx="5435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明确观察目的、内容和要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确保演示项目的效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演示要适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演示过程要正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6" name="Object 1024" descr=""/>
          <p:cNvPicPr/>
          <p:nvPr/>
        </p:nvPicPr>
        <p:blipFill>
          <a:blip r:embed="rId1"/>
          <a:stretch/>
        </p:blipFill>
        <p:spPr>
          <a:xfrm>
            <a:off x="0" y="2349360"/>
            <a:ext cx="37306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小组教学常用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滚雪球”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根”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传呼”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献计献策”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旋转木马”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模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扮演角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9" name="Object 2048" descr=""/>
          <p:cNvPicPr/>
          <p:nvPr/>
        </p:nvPicPr>
        <p:blipFill>
          <a:blip r:embed="rId1"/>
          <a:stretch/>
        </p:blipFill>
        <p:spPr>
          <a:xfrm>
            <a:off x="4716360" y="2421000"/>
            <a:ext cx="396252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四）电化教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电影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投影仪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幻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录像机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计算机教学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其他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2" name="Object 4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40384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nodeType="clickEffect" fill="hold">
                      <p:stCondLst>
                        <p:cond delay="indefinite"/>
                      </p:stCondLst>
                      <p:childTnLst>
                        <p:par>
                          <p:cTn id="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47680" y="304560"/>
            <a:ext cx="4434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小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038480" y="198108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护理教师应根据教学方法和技巧的特点，在不同的教学环境中选择适当的教学方法和技巧，以促进教学效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5" name="Object 4" descr=""/>
          <p:cNvPicPr/>
          <p:nvPr/>
        </p:nvPicPr>
        <p:blipFill>
          <a:blip r:embed="rId1"/>
          <a:stretch/>
        </p:blipFill>
        <p:spPr>
          <a:xfrm>
            <a:off x="0" y="914400"/>
            <a:ext cx="42670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7" dur="indefinite" restart="never" nodeType="tmRoot">
          <p:childTnLst>
            <p:seq>
              <p:cTn id="1018" dur="indefinite" nodeType="mainSeq">
                <p:childTnLst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nodeType="clickEffect" fill="hold">
                      <p:stCondLst>
                        <p:cond delay="indefinite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06440" y="189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的教学方法和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42560" y="1498320"/>
            <a:ext cx="31323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46ca6"/>
                </a:solidFill>
                <a:uFillTx/>
                <a:latin typeface="Times New Roman"/>
                <a:ea typeface="宋体"/>
              </a:rPr>
              <a:t>教学方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5105520" y="137160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46ca6"/>
                </a:solidFill>
                <a:uFillTx/>
                <a:latin typeface="Times New Roman"/>
                <a:ea typeface="宋体"/>
              </a:rPr>
              <a:t>教学技巧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1332000" y="23623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课堂讲授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1332000" y="312408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小组教学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1403280" y="378936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经验学习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1403280" y="457200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以问题为基础的教学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5334120" y="220968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宋体"/>
              </a:rPr>
              <a:t>提问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5410080" y="29718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演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5410080" y="35812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模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5410080" y="4191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角色扮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1676520" y="581184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宋体"/>
              </a:rPr>
              <a:t>…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15"/>
          <p:cNvSpPr/>
          <p:nvPr/>
        </p:nvSpPr>
        <p:spPr>
          <a:xfrm>
            <a:off x="5562720" y="568008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Times New Roman"/>
                <a:ea typeface="宋体"/>
              </a:rPr>
              <a:t>…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第一节  课堂讲授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468360" y="2522520"/>
            <a:ext cx="827244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法：是指教师运用语言向学生系统而连贯地传授科学文化知识的方法，其最大的优点在于能在较短的时间内传递较丰富的知识，容量大，效率高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8259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讲授法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211640" y="1557000"/>
            <a:ext cx="4643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实现认知领域的目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学生参加有强迫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时间安排影响讲课效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回忆信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过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8" name="Object 1024" descr=""/>
          <p:cNvPicPr/>
          <p:nvPr/>
        </p:nvPicPr>
        <p:blipFill>
          <a:blip r:embed="rId1"/>
          <a:stretch/>
        </p:blipFill>
        <p:spPr>
          <a:xfrm>
            <a:off x="-46080" y="2492280"/>
            <a:ext cx="383076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课堂讲授法的优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8640" y="144792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一个教师与许多学生交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介绍新课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介绍课本里没有的新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题材系统化后讲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帮助学生建立框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能提高学生的主观能动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1" name="Object 1024" descr=""/>
          <p:cNvPicPr/>
          <p:nvPr/>
        </p:nvPicPr>
        <p:blipFill>
          <a:blip r:embed="rId1"/>
          <a:stretch/>
        </p:blipFill>
        <p:spPr>
          <a:xfrm>
            <a:off x="-3240" y="2205000"/>
            <a:ext cx="299088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444080" cy="52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讲授法的缺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85840" y="1371600"/>
            <a:ext cx="5257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能照顾个别学生的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讲授的进度不一定适合所有学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教师存在明显的偏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生是被动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生得到的是“第二手”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生的注意力逐渐减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4" name="Object 1024" descr=""/>
          <p:cNvPicPr/>
          <p:nvPr/>
        </p:nvPicPr>
        <p:blipFill>
          <a:blip r:embed="rId1"/>
          <a:stretch/>
        </p:blipFill>
        <p:spPr>
          <a:xfrm>
            <a:off x="0" y="1981080"/>
            <a:ext cx="38098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制订讲授计划的过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526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（一）影响讲授计划的因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学生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题材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环境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心理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Object 1024" descr=""/>
          <p:cNvPicPr/>
          <p:nvPr/>
        </p:nvPicPr>
        <p:blipFill>
          <a:blip r:embed="rId1"/>
          <a:stretch/>
        </p:blipFill>
        <p:spPr>
          <a:xfrm>
            <a:off x="3733920" y="1981080"/>
            <a:ext cx="48765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9:10:47Z</dcterms:modified>
  <cp:revision>88</cp:revision>
  <dc:subject/>
  <dc:title>内科护理学</dc:title>
</cp:coreProperties>
</file>