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35763" cy="9799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2961-EF52-494D-9DDD-A3E865419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834C-78EB-4AA3-A287-AD97830F5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EE15-87A7-4F34-9701-0714BE71A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8660-E97A-4925-865C-5C9D733D3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5300F-E5A7-4872-8B15-4E0A10A0D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2E140-6DF6-4CBD-AF02-8E86B6011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DB184-9E1D-4195-876D-A4EDAFF32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A7F67-8EF5-4046-8C9C-A08A3ADB0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C600A-D7F1-4F1E-A75E-EB0275AC1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9DD34-2B4C-4F6B-B8F0-24B7EC707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56E49-2EE4-491D-ABCB-19B6F1261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E5A7-F8CB-41E2-8727-A88634C25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256E6-E805-4E41-BF24-0516FC63A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C553A-4C73-41A3-9D06-379687AD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8BF8A-351C-4F6C-B071-F74AF4D43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4D013-C580-47AF-A239-936B6CA3F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0B2A2-317D-4715-A155-2EF380D11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32E9-A4B3-4CD5-828E-AB121DB71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DF90-186F-4448-A3D4-729FB8C37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07D3-1A14-4844-8ADB-34F160E4A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4986-AA0D-4E5F-B855-2BC8CD4EC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5F19-E73E-4CD2-BE94-DEBA14A0E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B716-4D20-4548-A82D-4392C1AF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3E60-8B0B-4A5E-8892-8B2872C28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0E69B-E584-4553-83B6-B46A1E3636C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15F96-C794-4BCB-9780-94732A832FA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2217240" y="1557360"/>
            <a:ext cx="476964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33"/>
                </a:solidFill>
                <a:latin typeface="Times New Roman"/>
              </a:rPr>
              <a:t>第二篇 医学原生动物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33"/>
                </a:solidFill>
                <a:latin typeface="Times New Roman"/>
              </a:rPr>
              <a:t>Medical Protozoa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鱼艳荣</a:t>
            </a:r>
            <a:r>
              <a:rPr b="1" lang="en-US" sz="3600" spc="-1" strike="noStrike">
                <a:solidFill>
                  <a:srgbClr val="006633"/>
                </a:solidFill>
                <a:latin typeface="华文行楷"/>
                <a:ea typeface="华文行楷"/>
              </a:rPr>
              <a:t> 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2"/>
          <p:cNvSpPr/>
          <p:nvPr/>
        </p:nvSpPr>
        <p:spPr>
          <a:xfrm>
            <a:off x="900000" y="2708280"/>
            <a:ext cx="748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眼虫门，动基体纲                      杜氏利什曼原虫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副基体门，毛滴纲                      阴道毛滴虫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后滴虫门，双滴纲                      蓝氏贾第鞭毛虫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611280" y="333360"/>
            <a:ext cx="201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b812f"/>
                </a:solidFill>
                <a:latin typeface="Arial"/>
              </a:rPr>
              <a:t>原虫分类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原生动物界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900000" y="1773360"/>
            <a:ext cx="748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阿米巴门，内阿米巴纲              溶组织内阿米巴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阿米巴纲                 棘阿米巴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900000" y="4149720"/>
            <a:ext cx="707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孢子虫门，球虫纲                       疟原虫，刚地弓形虫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透色动物门，异叶足纲                福氏耐格里阿米巴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873000" y="5157720"/>
            <a:ext cx="636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纤毛虫门，直口纲                              结肠小袋纤毛虫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8000" y="1268280"/>
            <a:ext cx="849636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33"/>
                </a:solidFill>
                <a:latin typeface="Arial"/>
                <a:ea typeface="黑体"/>
              </a:rPr>
              <a:t>                     </a:t>
            </a:r>
            <a:r>
              <a:rPr b="0" lang="zh-CN" sz="3600" spc="-1" strike="noStrike">
                <a:solidFill>
                  <a:srgbClr val="006633"/>
                </a:solidFill>
                <a:latin typeface="Arial"/>
                <a:ea typeface="黑体"/>
              </a:rPr>
              <a:t>第六章  医学原生动物概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33"/>
                </a:solidFill>
                <a:latin typeface="Arial"/>
                <a:ea typeface="黑体"/>
              </a:rPr>
              <a:t>原生动物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z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是具有完整生理功能的</a:t>
            </a:r>
            <a:r>
              <a:rPr b="0" lang="zh-CN" sz="2800" spc="-1" strike="noStrike">
                <a:solidFill>
                  <a:srgbClr val="006633"/>
                </a:solidFill>
                <a:latin typeface="Arial"/>
                <a:ea typeface="黑体"/>
              </a:rPr>
              <a:t>单细胞真核生物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寄生于人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管腔、体液、组织或细胞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致病性或非致病性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原虫称为</a:t>
            </a:r>
            <a:r>
              <a:rPr b="1" lang="zh-CN" sz="2800" spc="-1" strike="noStrike">
                <a:solidFill>
                  <a:srgbClr val="006633"/>
                </a:solidFill>
                <a:latin typeface="Times New Roman"/>
              </a:rPr>
              <a:t>医学原虫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dical protozoa)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395280" y="83664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</a:rPr>
              <a:t>一、形态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692360" y="170028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膜、细胞质、细胞核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755640" y="242100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膜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包被在虫体表面，又称表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900000" y="3141720"/>
            <a:ext cx="632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由基质、细胞器、内含物组成。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2" name="Text Box 14"/>
          <p:cNvSpPr/>
          <p:nvPr/>
        </p:nvSpPr>
        <p:spPr>
          <a:xfrm>
            <a:off x="900000" y="3860640"/>
            <a:ext cx="7086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中宋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中宋"/>
              </a:rPr>
              <a:t>）基质</a:t>
            </a:r>
            <a:r>
              <a:rPr b="1" i="1" lang="zh-CN" sz="2400" spc="-1" strike="noStrike">
                <a:solidFill>
                  <a:srgbClr val="000000"/>
                </a:solidFill>
                <a:latin typeface="Tahoma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外质       内质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 运动细胞器 ：    伪足   鞭毛   纤毛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内含物：伸缩泡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684360" y="620640"/>
            <a:ext cx="814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核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核膜、核质、染色质、核仁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611280" y="249228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寄生在人体的原虫多为泡状核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sicula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ucleu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11280" y="3141720"/>
          <a:ext cx="7921440" cy="2519280"/>
        </p:xfrm>
        <a:graphic>
          <a:graphicData uri="http://schemas.openxmlformats.org/drawingml/2006/table">
            <a:tbl>
              <a:tblPr/>
              <a:tblGrid>
                <a:gridCol w="1087200"/>
                <a:gridCol w="3864240"/>
                <a:gridCol w="2970000"/>
              </a:tblGrid>
              <a:tr h="1069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泡状核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sicular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　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cleus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实质核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Compact nucleus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染色质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少，呈颗粒状，分布于核质和核膜内缘  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丰富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核仁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有一个粒状核仁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常有一个以上的核仁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Text Box 67"/>
          <p:cNvSpPr/>
          <p:nvPr/>
        </p:nvSpPr>
        <p:spPr>
          <a:xfrm>
            <a:off x="395280" y="12682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核内的染色质和核仁，是生存、繁殖的遗传物质。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611280" y="47628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</a:rPr>
              <a:t>二、生理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684360" y="126828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运动　通过伪足的伸缩、鞭毛或纤毛的摆动而运动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755640" y="2133720"/>
            <a:ext cx="771516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营养　通过表膜直接渗透、胞饮或吞噬摄取营养；有些原虫通过胞口摄食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代谢　复杂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血液内   分解葡萄糖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肠道内   糖酵解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13"/>
          <p:cNvGrpSpPr/>
          <p:nvPr/>
        </p:nvGrpSpPr>
        <p:grpSpPr>
          <a:xfrm>
            <a:off x="1000080" y="1143000"/>
            <a:ext cx="7740720" cy="3699720"/>
            <a:chOff x="1000080" y="1143000"/>
            <a:chExt cx="7740720" cy="3699720"/>
          </a:xfrm>
        </p:grpSpPr>
        <p:sp>
          <p:nvSpPr>
            <p:cNvPr id="101" name="Text Box 3"/>
            <p:cNvSpPr/>
            <p:nvPr/>
          </p:nvSpPr>
          <p:spPr>
            <a:xfrm>
              <a:off x="1000080" y="1861920"/>
              <a:ext cx="151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</a:rPr>
                <a:t>无性生殖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2" name="Text Box 4"/>
            <p:cNvSpPr/>
            <p:nvPr/>
          </p:nvSpPr>
          <p:spPr>
            <a:xfrm>
              <a:off x="1000080" y="3951000"/>
              <a:ext cx="144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</a:rPr>
                <a:t>有性生殖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3" name="Text Box 5"/>
            <p:cNvSpPr/>
            <p:nvPr/>
          </p:nvSpPr>
          <p:spPr>
            <a:xfrm>
              <a:off x="2641680" y="1143000"/>
              <a:ext cx="491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二分裂：利什曼原虫无鞭毛体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4" name="Text Box 6"/>
            <p:cNvSpPr/>
            <p:nvPr/>
          </p:nvSpPr>
          <p:spPr>
            <a:xfrm>
              <a:off x="2641680" y="1822320"/>
              <a:ext cx="512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多分裂：疟原虫红内期裂体生殖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5" name="Text Box 7"/>
            <p:cNvSpPr/>
            <p:nvPr/>
          </p:nvSpPr>
          <p:spPr>
            <a:xfrm>
              <a:off x="2641680" y="2417760"/>
              <a:ext cx="609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芽殖：弓形虫滋养体内二分裂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6" name="AutoShape 8"/>
            <p:cNvSpPr/>
            <p:nvPr/>
          </p:nvSpPr>
          <p:spPr>
            <a:xfrm>
              <a:off x="2355840" y="1312920"/>
              <a:ext cx="379440" cy="1614240"/>
            </a:xfrm>
            <a:custGeom>
              <a:avLst/>
              <a:gdLst>
                <a:gd name="textAreaLeft" fmla="*/ 242640 w 379440"/>
                <a:gd name="textAreaRight" fmla="*/ 379800 w 379440"/>
                <a:gd name="textAreaTop" fmla="*/ 41760 h 1614240"/>
                <a:gd name="textAreaBottom" fmla="*/ 1572480 h 161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7" name="Text Box 9"/>
            <p:cNvSpPr/>
            <p:nvPr/>
          </p:nvSpPr>
          <p:spPr>
            <a:xfrm>
              <a:off x="2441520" y="3662280"/>
              <a:ext cx="302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配子生殖：疟原虫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8" name="Text Box 10"/>
            <p:cNvSpPr/>
            <p:nvPr/>
          </p:nvSpPr>
          <p:spPr>
            <a:xfrm>
              <a:off x="2441520" y="4383000"/>
              <a:ext cx="400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结合生殖：结肠小袋纤毛虫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9" name="AutoShape 11"/>
            <p:cNvSpPr/>
            <p:nvPr/>
          </p:nvSpPr>
          <p:spPr>
            <a:xfrm>
              <a:off x="2355840" y="3778200"/>
              <a:ext cx="93600" cy="934920"/>
            </a:xfrm>
            <a:custGeom>
              <a:avLst/>
              <a:gdLst>
                <a:gd name="textAreaLeft" fmla="*/ 59760 w 93600"/>
                <a:gd name="textAreaRight" fmla="*/ 93960 w 93600"/>
                <a:gd name="textAreaTop" fmla="*/ 24120 h 934920"/>
                <a:gd name="textAreaBottom" fmla="*/ 910800 h 93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sp>
        <p:nvSpPr>
          <p:cNvPr id="110" name="Rectangle 12"/>
          <p:cNvSpPr/>
          <p:nvPr/>
        </p:nvSpPr>
        <p:spPr>
          <a:xfrm>
            <a:off x="1142280" y="428760"/>
            <a:ext cx="162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生殖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1" name="TextBox 12"/>
          <p:cNvSpPr/>
          <p:nvPr/>
        </p:nvSpPr>
        <p:spPr>
          <a:xfrm>
            <a:off x="928800" y="5072040"/>
            <a:ext cx="7786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</a:rPr>
              <a:t>世代交替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ternation of generation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：生活史中存在有性和无性两种交替的增殖方式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如疟原虫和弓形虫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611280" y="1268280"/>
            <a:ext cx="8064360" cy="35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滋养体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ophozoit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活动、摄食、生殖阶段     致病阶段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包囊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ys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、卵囊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ocys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静止期      传播阶段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人际传播型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生活史只需要一个宿主，通过接触或传播媒介的机械携带在人与人之间传播。 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：阴道毛滴虫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溶组织内阿米巴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684360" y="404640"/>
            <a:ext cx="4572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</a:rPr>
              <a:t>三、 生活史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9280" y="475920"/>
            <a:ext cx="820908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人与动物间</a:t>
            </a:r>
            <a:r>
              <a:rPr b="1" lang="zh-CN" sz="2800" spc="-1" strike="noStrike">
                <a:solidFill>
                  <a:srgbClr val="996600"/>
                </a:solidFill>
                <a:latin typeface="Arial"/>
              </a:rPr>
              <a:t>传播型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生活史需要一种以上的脊椎动物，分别作为其终宿主和中间宿主，感染阶段可在二者之间传播，主要经口感染。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：刚地弓形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虫媒传播型</a:t>
            </a: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活史中原虫需在吸血昆虫体内发育、进行有性或无性生殖。寄生原虫通过媒介昆虫叮咬而传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蚊传播疟原虫。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026"/>
          <p:cNvSpPr/>
          <p:nvPr/>
        </p:nvSpPr>
        <p:spPr>
          <a:xfrm>
            <a:off x="611280" y="33336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b812f"/>
                </a:solidFill>
                <a:latin typeface="Times New Roman"/>
              </a:rPr>
              <a:t>四、 致病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6" name="Rectangle 1027"/>
          <p:cNvSpPr/>
          <p:nvPr/>
        </p:nvSpPr>
        <p:spPr>
          <a:xfrm>
            <a:off x="971640" y="2781360"/>
            <a:ext cx="74167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增殖致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疟原虫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播散致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溶组织内阿米巴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机会致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刚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弓形虫，隐孢子虫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7" name="Text Box 1028"/>
          <p:cNvSpPr/>
          <p:nvPr/>
        </p:nvSpPr>
        <p:spPr>
          <a:xfrm>
            <a:off x="755640" y="1341360"/>
            <a:ext cx="711036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与原虫的种株、毒力、数量、寄生部位、其他致病因素以及宿主免疫状态有关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鱼艳荣</dc:creator>
  <dc:description/>
  <dc:language>en-US</dc:language>
  <cp:lastModifiedBy>hzg</cp:lastModifiedBy>
  <dcterms:modified xsi:type="dcterms:W3CDTF">2015-10-05T09:45:15Z</dcterms:modified>
  <cp:revision>401</cp:revision>
  <dc:subject/>
  <dc:title>PowerPoint Presentation</dc:title>
</cp:coreProperties>
</file>