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6931-D626-49BD-B11E-8DACB3C7BB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AFA7-4EA9-4BC1-9E24-9C5E8541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C01C-25AE-457E-B3A0-D3CE9430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BB11-488F-4DB7-975D-51A2CC1D6E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B6264-C11D-4832-AD2B-9A0247B1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DFD2-2FE7-4837-800A-BD71555D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8C55-9D90-4A31-A518-E8521988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345DE-871B-4E4D-A89D-505C8973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C976-90AA-4AA8-AC69-5E6E51A0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D2D3-DF1A-49EC-8B68-D16F6F65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C401-0FB1-4763-961D-4D6F199B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AC23-EF39-42FF-BC32-75F7E511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CD07-2EA6-4881-B12C-615581A304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08360" y="2276640"/>
            <a:ext cx="575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精神障碍患者危机状态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的防范与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常用护理诊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（针对他人） 与幻觉、妄想、焦虑、器质性损伤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护理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没有发生暴力行为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确认引起自己激动、愤怒的因素，并能控制自己的行为或立即寻求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目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够以适当的方式发泄自己的愤怒情绪；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患者能以积极的方式处理挫折感、紧张及愤怒的感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32" name="AutoShape 2"/>
          <p:cNvCxnSpPr>
            <a:stCxn id="233" idx="7"/>
            <a:endCxn id="234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5" name="AutoShape 3"/>
          <p:cNvCxnSpPr>
            <a:stCxn id="233" idx="6"/>
            <a:endCxn id="236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37" name="AutoShape 4"/>
          <p:cNvCxnSpPr>
            <a:stCxn id="233" idx="5"/>
            <a:endCxn id="238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39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41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2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244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5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时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6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247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暴力行为发生后的处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9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250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暴力行为的风险评估 对潜在的有暴力危险的患者必须仔细评估暴力的危险，分析发生的可能原因，以制定切实的护理措施。全面准确风险评估是防范冲动攻击行为的基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攻击风险因素评估量表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8000" y="1413000"/>
          <a:ext cx="9036000" cy="4965480"/>
        </p:xfrm>
        <a:graphic>
          <a:graphicData uri="http://schemas.openxmlformats.org/drawingml/2006/table">
            <a:tbl>
              <a:tblPr/>
              <a:tblGrid>
                <a:gridCol w="1860480"/>
                <a:gridCol w="7175520"/>
              </a:tblGrid>
              <a:tr h="596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严重程度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评估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2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患者的一般人口学资料，疾病诊断，症状表现等。其中男性诊断精神分裂症患者评定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Ⅱ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被动言语性攻击，激惹性增高，无对象的抱怨，交谈有敌意，或精神分裂症有命令性幻听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Ⅲ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言语性攻击，被动的躯体攻击及既往有主动的躯体攻击等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Ⅳ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主动的躯体攻击，攻击行为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天内至少出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以上或攻击行为造成他人躯体上的伤害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080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组织管理，消除不安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造人文环境，消除不良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患者的自我控制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有效地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高护士的危机应对能力和安全防范意识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269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预防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时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048120" y="168264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迅速求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2286000" y="166068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1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Rectangle 16"/>
          <p:cNvSpPr/>
          <p:nvPr/>
        </p:nvSpPr>
        <p:spPr>
          <a:xfrm>
            <a:off x="3048120" y="25113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局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2286000" y="24890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2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3048120" y="3357720"/>
            <a:ext cx="5410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抚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AutoShape 19"/>
          <p:cNvSpPr/>
          <p:nvPr/>
        </p:nvSpPr>
        <p:spPr>
          <a:xfrm>
            <a:off x="2286000" y="331632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3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3048120" y="416556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危险物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AutoShape 21"/>
          <p:cNvSpPr/>
          <p:nvPr/>
        </p:nvSpPr>
        <p:spPr>
          <a:xfrm>
            <a:off x="2286000" y="4143240"/>
            <a:ext cx="762120" cy="60984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4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3048120" y="5014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约束与隔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286000" y="49928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46ca6"/>
                </a:solidFill>
                <a:latin typeface="Verdana"/>
                <a:ea typeface="Gulim"/>
              </a:rPr>
              <a:t>5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13"/>
          <p:cNvSpPr/>
          <p:nvPr/>
        </p:nvSpPr>
        <p:spPr>
          <a:xfrm>
            <a:off x="3030480" y="57942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处理暴力行为时的注意事项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AutoShape 15"/>
          <p:cNvSpPr/>
          <p:nvPr/>
        </p:nvSpPr>
        <p:spPr>
          <a:xfrm>
            <a:off x="2268360" y="5772240"/>
            <a:ext cx="762120" cy="609480"/>
          </a:xfrm>
          <a:custGeom>
            <a:avLst/>
            <a:gdLst>
              <a:gd name="textAreaLeft" fmla="*/ 0 w 762120"/>
              <a:gd name="textAreaRight" fmla="*/ 762480 w 76212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Verdana"/>
                <a:ea typeface="Gulim"/>
              </a:rPr>
              <a:t>6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发生后的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被控制后，多数患者在情绪上仍难以自控，必要时遵医嘱给予医学保护性约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在暴力行为中受到伤害的患者和护士立即进行妥善处理，一旦情况许可，应尽早陪同施暴者对受伤者赔礼道歉，以恢复和谐的人际关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患者平静后，用就事论事的态度，与患者探讨暴力行为的危害，指导患者学习如何恰当表达个人需要和焦虑、愤怒等恶劣情绪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重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杀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uicid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有意识地伤害自己的身体，以达到结束生命的目的，该定义强调的是自我意识和对自我行为的控制。也就是说，自杀者必须意识清楚，具有自控能力且行为的目的直指死亡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295280" y="236232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精神障碍评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抑郁症、精神分裂症、精神活性物质所致精神障碍、应对失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其他生物学与社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学因素、遗传因素、个性特征、躯体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402160" y="2286000"/>
            <a:ext cx="291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Gulim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的高危因素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线索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杀危险因素评估工具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与自杀危险有关的因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04920" y="1371600"/>
          <a:ext cx="8610480" cy="5335560"/>
        </p:xfrm>
        <a:graphic>
          <a:graphicData uri="http://schemas.openxmlformats.org/drawingml/2006/table">
            <a:tbl>
              <a:tblPr/>
              <a:tblGrid>
                <a:gridCol w="1555560"/>
                <a:gridCol w="7054920"/>
              </a:tblGrid>
              <a:tr h="488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级次序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因素                                            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年龄≥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依赖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容易激惹、愤怒、暴力倾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有自杀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男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愿接受帮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发作的时间超过一般情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以前曾因精神疾病住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近期有人际关系损失或社会隔离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抑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丧失躯体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被解雇或退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丧偶或离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95640" y="1915920"/>
            <a:ext cx="5689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暴力行为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杀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出走行为的防范与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噎食与吞食异物的防范与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护理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1771560" y="5300640"/>
            <a:ext cx="688680" cy="593640"/>
            <a:chOff x="1771560" y="5300640"/>
            <a:chExt cx="688680" cy="593640"/>
          </a:xfrm>
        </p:grpSpPr>
        <p:sp>
          <p:nvSpPr>
            <p:cNvPr id="127" name="AutoShape 5"/>
            <p:cNvSpPr/>
            <p:nvPr/>
          </p:nvSpPr>
          <p:spPr>
            <a:xfrm>
              <a:off x="1776960" y="531072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1771560" y="530064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811520" y="533556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0" name="Text Box 8"/>
          <p:cNvSpPr/>
          <p:nvPr/>
        </p:nvSpPr>
        <p:spPr>
          <a:xfrm>
            <a:off x="1944000" y="53578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08120" y="5862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于妊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因受到惊吓而出现情绪低，少语少动，夜眠差，入睡困难，多梦、易醒、早醒。周身不适，觉全身血流有上涌感。兴趣下降，平日感兴趣的事情都不愿做了，有自我评价低，感内疚自责。有自杀想法及具体计划，但尚未付诸实施。患者分娩一男婴后情绪低落而跳楼自杀，致右踝骨骨折。入院后患者情绪低，觉得活着没意思，不愿治疗，认为治疗不会有效果，患者自发病以来睡眠差，入睡困难，易醒、多梦、早醒；食欲下降，没有胃口，由于骨折后活动受限，整日躺在床上，不与别人交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自杀危险性较大的因素是什么？如何进行与患者交流？如何预防自杀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自伤自杀的危险  与严重悲观情绪、自责自罪感、无价值感、幻听等高危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不良  与精神症状、社会支持不足、不能满足角色期望、无力解决问题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290" name="AutoShape 2"/>
          <p:cNvCxnSpPr>
            <a:stCxn id="291" idx="7"/>
            <a:endCxn id="292" idx="3"/>
          </p:cNvCxnSpPr>
          <p:nvPr/>
        </p:nvCxnSpPr>
        <p:spPr>
          <a:xfrm flipV="1">
            <a:off x="3065040" y="287892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3" name="AutoShape 3"/>
          <p:cNvCxnSpPr>
            <a:stCxn id="291" idx="6"/>
            <a:endCxn id="294" idx="2"/>
          </p:cNvCxnSpPr>
          <p:nvPr/>
        </p:nvCxnSpPr>
        <p:spPr>
          <a:xfrm flipV="1">
            <a:off x="3379680" y="4007880"/>
            <a:ext cx="288000" cy="14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295" name="AutoShape 4"/>
          <p:cNvCxnSpPr>
            <a:stCxn id="291" idx="5"/>
            <a:endCxn id="296" idx="1"/>
          </p:cNvCxnSpPr>
          <p:nvPr/>
        </p:nvCxnSpPr>
        <p:spPr>
          <a:xfrm>
            <a:off x="3065040" y="4773240"/>
            <a:ext cx="693000" cy="392760"/>
          </a:xfrm>
          <a:prstGeom prst="straightConnector1">
            <a:avLst/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297" name="AutoShape 5"/>
          <p:cNvSpPr/>
          <p:nvPr/>
        </p:nvSpPr>
        <p:spPr>
          <a:xfrm flipH="1">
            <a:off x="2963160" y="1989000"/>
            <a:ext cx="1849320" cy="3700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453" y="234"/>
                  <a:pt x="1305" y="5080"/>
                  <a:pt x="1305" y="10800"/>
                </a:cubicBezTo>
                <a:cubicBezTo>
                  <a:pt x="1305" y="16520"/>
                  <a:pt x="11453" y="2136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46ca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1168560" y="2871720"/>
            <a:ext cx="2304720" cy="2301840"/>
            <a:chOff x="1168560" y="2871720"/>
            <a:chExt cx="2304720" cy="2301840"/>
          </a:xfrm>
        </p:grpSpPr>
        <p:pic>
          <p:nvPicPr>
            <p:cNvPr id="299" name="Picture 7" descr="ball"/>
            <p:cNvPicPr/>
            <p:nvPr/>
          </p:nvPicPr>
          <p:blipFill>
            <a:blip r:embed="rId1"/>
            <a:stretch/>
          </p:blipFill>
          <p:spPr>
            <a:xfrm>
              <a:off x="1168560" y="2871720"/>
              <a:ext cx="2304720" cy="23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8"/>
            <p:cNvSpPr/>
            <p:nvPr/>
          </p:nvSpPr>
          <p:spPr>
            <a:xfrm>
              <a:off x="1268280" y="2971440"/>
              <a:ext cx="2104920" cy="210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护理措施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0" name="AutoShape 10"/>
          <p:cNvSpPr/>
          <p:nvPr/>
        </p:nvSpPr>
        <p:spPr>
          <a:xfrm>
            <a:off x="3959280" y="2244600"/>
            <a:ext cx="4014720" cy="849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自杀的预防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1" name="Group 11"/>
          <p:cNvGrpSpPr/>
          <p:nvPr/>
        </p:nvGrpSpPr>
        <p:grpSpPr>
          <a:xfrm>
            <a:off x="3646440" y="2357280"/>
            <a:ext cx="625680" cy="625680"/>
            <a:chOff x="3646440" y="2357280"/>
            <a:chExt cx="625680" cy="625680"/>
          </a:xfrm>
        </p:grpSpPr>
        <p:pic>
          <p:nvPicPr>
            <p:cNvPr id="302" name="Picture 12" descr="ball"/>
            <p:cNvPicPr/>
            <p:nvPr/>
          </p:nvPicPr>
          <p:blipFill>
            <a:blip r:embed="rId2"/>
            <a:stretch/>
          </p:blipFill>
          <p:spPr>
            <a:xfrm>
              <a:off x="3646440" y="2357280"/>
              <a:ext cx="625680" cy="62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Oval 13"/>
            <p:cNvSpPr/>
            <p:nvPr/>
          </p:nvSpPr>
          <p:spPr>
            <a:xfrm>
              <a:off x="3673080" y="2383920"/>
              <a:ext cx="572040" cy="57204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3" name="AutoShape 14"/>
          <p:cNvSpPr/>
          <p:nvPr/>
        </p:nvSpPr>
        <p:spPr>
          <a:xfrm>
            <a:off x="3959280" y="358308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安全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4" name="Group 15"/>
          <p:cNvGrpSpPr/>
          <p:nvPr/>
        </p:nvGrpSpPr>
        <p:grpSpPr>
          <a:xfrm>
            <a:off x="3646440" y="3695760"/>
            <a:ext cx="625680" cy="623880"/>
            <a:chOff x="3646440" y="3695760"/>
            <a:chExt cx="625680" cy="623880"/>
          </a:xfrm>
        </p:grpSpPr>
        <p:pic>
          <p:nvPicPr>
            <p:cNvPr id="305" name="Picture 16" descr="ball"/>
            <p:cNvPicPr/>
            <p:nvPr/>
          </p:nvPicPr>
          <p:blipFill>
            <a:blip r:embed="rId3"/>
            <a:stretch/>
          </p:blipFill>
          <p:spPr>
            <a:xfrm>
              <a:off x="3646440" y="3695760"/>
              <a:ext cx="62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Oval 17"/>
            <p:cNvSpPr/>
            <p:nvPr/>
          </p:nvSpPr>
          <p:spPr>
            <a:xfrm>
              <a:off x="3673080" y="3722400"/>
              <a:ext cx="572040" cy="5698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6" name="AutoShape 18"/>
          <p:cNvSpPr/>
          <p:nvPr/>
        </p:nvSpPr>
        <p:spPr>
          <a:xfrm>
            <a:off x="3959280" y="4950000"/>
            <a:ext cx="4014720" cy="849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47a87"/>
              </a:gs>
              <a:gs pos="50000">
                <a:srgbClr val="8ac8de"/>
              </a:gs>
              <a:gs pos="100000">
                <a:srgbClr val="547a8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健康教育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07" name="Group 19"/>
          <p:cNvGrpSpPr/>
          <p:nvPr/>
        </p:nvGrpSpPr>
        <p:grpSpPr>
          <a:xfrm>
            <a:off x="3646440" y="5062680"/>
            <a:ext cx="625680" cy="625320"/>
            <a:chOff x="3646440" y="5062680"/>
            <a:chExt cx="625680" cy="625320"/>
          </a:xfrm>
        </p:grpSpPr>
        <p:pic>
          <p:nvPicPr>
            <p:cNvPr id="308" name="Picture 20" descr="ball"/>
            <p:cNvPicPr/>
            <p:nvPr/>
          </p:nvPicPr>
          <p:blipFill>
            <a:blip r:embed="rId4"/>
            <a:stretch/>
          </p:blipFill>
          <p:spPr>
            <a:xfrm>
              <a:off x="3646440" y="5062680"/>
              <a:ext cx="625680" cy="62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Oval 21"/>
            <p:cNvSpPr/>
            <p:nvPr/>
          </p:nvSpPr>
          <p:spPr>
            <a:xfrm>
              <a:off x="3673080" y="5089320"/>
              <a:ext cx="572040" cy="571680"/>
            </a:xfrm>
            <a:prstGeom prst="ellipse">
              <a:avLst/>
            </a:prstGeom>
            <a:solidFill>
              <a:srgbClr val="046ca6">
                <a:alpha val="50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走行为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22968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出走行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患者在住院期间未经医生批准私自离开医院的行为，也是精神科的重要意外事件之一。由于精神障碍患者自我保护能力较差，出走会使治疗中断，会给患者或他人造成严重的后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3"/>
          <p:cNvSpPr/>
          <p:nvPr/>
        </p:nvSpPr>
        <p:spPr>
          <a:xfrm>
            <a:off x="684360" y="152388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806400" y="1644480"/>
            <a:ext cx="1470240" cy="12448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4" name="Freeform 5"/>
          <p:cNvGrpSpPr/>
          <p:nvPr/>
        </p:nvGrpSpPr>
        <p:grpSpPr>
          <a:xfrm>
            <a:off x="871560" y="1712880"/>
            <a:ext cx="731520" cy="615960"/>
            <a:chOff x="871560" y="1712880"/>
            <a:chExt cx="731520" cy="615960"/>
          </a:xfrm>
        </p:grpSpPr>
        <p:pic>
          <p:nvPicPr>
            <p:cNvPr id="315" name="Freeform 5" descr=""/>
            <p:cNvPicPr/>
            <p:nvPr/>
          </p:nvPicPr>
          <p:blipFill>
            <a:blip r:embed="rId1"/>
            <a:stretch/>
          </p:blipFill>
          <p:spPr>
            <a:xfrm>
              <a:off x="871560" y="171288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872640" y="171288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7" name="Text Box 6"/>
          <p:cNvSpPr/>
          <p:nvPr/>
        </p:nvSpPr>
        <p:spPr>
          <a:xfrm>
            <a:off x="1180440" y="1668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44680" y="1797120"/>
            <a:ext cx="56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精神症状、住院环境对患者的影响、工作人员疏忽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684360" y="296712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806400" y="308772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9999"/>
              </a:gs>
              <a:gs pos="100000">
                <a:srgbClr val="006b6b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Freeform 11"/>
          <p:cNvGrpSpPr/>
          <p:nvPr/>
        </p:nvGrpSpPr>
        <p:grpSpPr>
          <a:xfrm>
            <a:off x="871560" y="3157560"/>
            <a:ext cx="731520" cy="615960"/>
            <a:chOff x="871560" y="3157560"/>
            <a:chExt cx="731520" cy="615960"/>
          </a:xfrm>
        </p:grpSpPr>
        <p:pic>
          <p:nvPicPr>
            <p:cNvPr id="322" name="Freeform 11" descr=""/>
            <p:cNvPicPr/>
            <p:nvPr/>
          </p:nvPicPr>
          <p:blipFill>
            <a:blip r:embed="rId2"/>
            <a:stretch/>
          </p:blipFill>
          <p:spPr>
            <a:xfrm>
              <a:off x="871560" y="31586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72640" y="3157560"/>
              <a:ext cx="73044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4" name="Text Box 12"/>
          <p:cNvSpPr/>
          <p:nvPr/>
        </p:nvSpPr>
        <p:spPr>
          <a:xfrm>
            <a:off x="1182240" y="31813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84280" y="2924280"/>
            <a:ext cx="622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清楚的患者多采用隐蔽的方法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识不清、处于衰退期、精神发育迟滞、阿尔茨海默病患者，出走时无目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分患者表现焦虑、坐卧不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AutoShape 15"/>
          <p:cNvSpPr/>
          <p:nvPr/>
        </p:nvSpPr>
        <p:spPr>
          <a:xfrm>
            <a:off x="684360" y="4427640"/>
            <a:ext cx="7632720" cy="1522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806400" y="4548240"/>
            <a:ext cx="1470240" cy="12445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c941e"/>
              </a:gs>
              <a:gs pos="100000">
                <a:srgbClr val="a56715"/>
              </a:gs>
            </a:gsLst>
            <a:lin ang="5400000"/>
          </a:gra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8" name="Freeform 17"/>
          <p:cNvGrpSpPr/>
          <p:nvPr/>
        </p:nvGrpSpPr>
        <p:grpSpPr>
          <a:xfrm>
            <a:off x="871560" y="4614840"/>
            <a:ext cx="731520" cy="615600"/>
            <a:chOff x="871560" y="4614840"/>
            <a:chExt cx="731520" cy="615600"/>
          </a:xfrm>
        </p:grpSpPr>
        <p:pic>
          <p:nvPicPr>
            <p:cNvPr id="329" name="Freeform 17" descr=""/>
            <p:cNvPicPr/>
            <p:nvPr/>
          </p:nvPicPr>
          <p:blipFill>
            <a:blip r:embed="rId3"/>
            <a:stretch/>
          </p:blipFill>
          <p:spPr>
            <a:xfrm>
              <a:off x="871560" y="4614840"/>
              <a:ext cx="727200" cy="60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872640" y="4615920"/>
              <a:ext cx="730440" cy="6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1" name="Text Box 18"/>
          <p:cNvSpPr/>
          <p:nvPr/>
        </p:nvSpPr>
        <p:spPr>
          <a:xfrm>
            <a:off x="1138320" y="45482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危险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2556000" y="4605480"/>
            <a:ext cx="56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史中有出走史，患者无自知力、有明显的幻觉、妄想。对治疗不配合、对住院反感，强烈思念家庭及亲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走失的危险：与幻觉、妄想、思念亲人、或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：与自我防御能力下降、意识障碍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Freeform 3"/>
          <p:cNvSpPr/>
          <p:nvPr/>
        </p:nvSpPr>
        <p:spPr>
          <a:xfrm>
            <a:off x="179280" y="5013360"/>
            <a:ext cx="1276560" cy="1392120"/>
          </a:xfrm>
          <a:custGeom>
            <a:avLst/>
            <a:gdLst>
              <a:gd name="textAreaLeft" fmla="*/ 0 w 1276560"/>
              <a:gd name="textAreaRight" fmla="*/ 1276920 w 127656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Freeform 4"/>
          <p:cNvSpPr/>
          <p:nvPr/>
        </p:nvSpPr>
        <p:spPr>
          <a:xfrm rot="10800000">
            <a:off x="3207960" y="1685520"/>
            <a:ext cx="1276200" cy="139212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91bf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324000" y="1828800"/>
            <a:ext cx="4019400" cy="4408560"/>
          </a:xfrm>
          <a:prstGeom prst="rect">
            <a:avLst/>
          </a:prstGeom>
          <a:gradFill rotWithShape="0">
            <a:gsLst>
              <a:gs pos="0">
                <a:srgbClr val="475e00"/>
              </a:gs>
              <a:gs pos="50000">
                <a:srgbClr val="99cc00"/>
              </a:gs>
              <a:gs pos="100000">
                <a:srgbClr val="475e00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入院指导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应加强与患者的交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安全管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善于发现患者的病情变化，加强夜间巡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督促和组织患者参加工娱治疗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家庭支持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4724280" y="501336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Freeform 7"/>
          <p:cNvSpPr/>
          <p:nvPr/>
        </p:nvSpPr>
        <p:spPr>
          <a:xfrm rot="10800000">
            <a:off x="7706880" y="1685520"/>
            <a:ext cx="1257480" cy="139212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392120"/>
              <a:gd name="textAreaBottom" fmla="*/ 1392480 h 1392120"/>
            </a:gdLst>
            <a:ahLst/>
            <a:rect l="textAreaLeft" t="textAreaTop" r="textAreaRight" b="textAreaBottom"/>
            <a:pathLst>
              <a:path w="1104" h="1256">
                <a:moveTo>
                  <a:pt x="88" y="1160"/>
                </a:moveTo>
                <a:lnTo>
                  <a:pt x="88" y="0"/>
                </a:lnTo>
                <a:lnTo>
                  <a:pt x="0" y="0"/>
                </a:lnTo>
                <a:lnTo>
                  <a:pt x="0" y="1256"/>
                </a:lnTo>
                <a:lnTo>
                  <a:pt x="1104" y="1256"/>
                </a:lnTo>
                <a:lnTo>
                  <a:pt x="1104" y="1160"/>
                </a:lnTo>
                <a:lnTo>
                  <a:pt x="88" y="1160"/>
                </a:lnTo>
                <a:close/>
              </a:path>
            </a:pathLst>
          </a:custGeom>
          <a:solidFill>
            <a:srgbClr val="717e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4857840" y="1828800"/>
            <a:ext cx="3962160" cy="4408560"/>
          </a:xfrm>
          <a:prstGeom prst="rect">
            <a:avLst/>
          </a:prstGeom>
          <a:gradFill rotWithShape="0">
            <a:gsLst>
              <a:gs pos="0">
                <a:srgbClr val="343a71"/>
              </a:gs>
              <a:gs pos="50000">
                <a:srgbClr val="717ef5"/>
              </a:gs>
              <a:gs pos="100000">
                <a:srgbClr val="343a71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走失患者，及时报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组织人力进行查找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士还要管理好病房内其他患者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返院后，要劝慰患者，加强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事后护士长组织全区护士对事件进行讨论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1979640" y="1197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预防出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5410080" y="1197000"/>
            <a:ext cx="27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出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从出国回来后发现电脑中毒了，由此认为外国人在自己的电脑内插入了病毒，因此要求实验室的老师重新清理程序及监控软件，并把所有的密码都改了。之后患者仍然觉得不放心，遂重新购买了一台笔记本。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病情加重，睡眠差，总称头疼。去开会，在会议后遇到一位老师，拦截该教师，问“你有没有被人监控？”，老师回答“没有”，就经费问题与老师纠缠不休，遂报警。入院后患者情绪激动，否认有病，并称自己脑子里被人装上了电脑芯片，认为病房中的摄像头就是监视她的，大声叫嚷自己不能住院，有闯门行为，被护士及时制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者存在什么护理风险？如何有效的预防意外的发生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与吞食异物的防范与护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296800"/>
            <a:ext cx="87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噎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oke fo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食物堵塞咽喉部或卡在食道的第一狭窄部，甚至误入气管，引起呼吸抑制、窒息，危及生命。精神科患者发生噎食窒息者较多，其主要原因为服用精神科药物会引发椎体外系反应，出现吞咽肌肉运动的不协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原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 rot="21245400">
            <a:off x="1112040" y="2232000"/>
            <a:ext cx="2911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精神病患者因服用抗精神病药物出现锥体外系副反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帕金森氏病或其他脑器质性疾病患者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电抽搐治疗（电休克治疗）后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躁狂患者在进餐时言语增多，进食量大，进食速度快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 rot="21240000">
            <a:off x="5171400" y="2016360"/>
            <a:ext cx="30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精神疾病患者的噎食一般突然发生，及时地识别及抢救是挽救生命的重要环节。患者噎食时轻者呼吸困难、面色青紫、双眼直瞪、双手乱抓或抽搐。重者意识丧失、全身瘫软、四肢发凉、大小便失禁、呼吸停止、心跳快而弱进而停止。如抢救不及时或措施不当，死亡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见危机状态如暴力行为、自杀行为、出走行为及木僵等的原因及表现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、自杀行为、出走行为及木僵等常见危机状态的评估、预防、处理及护理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有效预防及处理精神科常见的危机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72BF-11B4-46FB-975A-CAD3C0FC52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风险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324000" y="1052640"/>
          <a:ext cx="7529400" cy="5486400"/>
        </p:xfrm>
        <a:graphic>
          <a:graphicData uri="http://schemas.openxmlformats.org/drawingml/2006/table">
            <a:tbl>
              <a:tblPr/>
              <a:tblGrid>
                <a:gridCol w="852480"/>
                <a:gridCol w="1854000"/>
                <a:gridCol w="3352680"/>
                <a:gridCol w="1470240"/>
              </a:tblGrid>
              <a:tr h="36648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序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能导致噎食的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评估结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既往发生过噎食现象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锥体外系反应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唾液分泌减少、口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器质性疾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、重度痴呆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抢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脑血管意外后遗症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癫痫发作史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精神症状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极度兴奋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躁狂饥饿感增加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暴饮暴食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进食速度过快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言语过多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5440" rIns="5544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生理因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牙齿脱落影响咀嚼功能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老年人咳嗽、吞咽反射减退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9" name="矩形 5"/>
          <p:cNvSpPr/>
          <p:nvPr/>
        </p:nvSpPr>
        <p:spPr>
          <a:xfrm flipH="1">
            <a:off x="8546760" y="1413000"/>
            <a:ext cx="39348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有上述风险因素之一者均列为噎食危险者，具有上述</a:t>
            </a:r>
            <a:r>
              <a:rPr b="1" lang="en-US" sz="1400" spc="-1" strike="noStrike">
                <a:solidFill>
                  <a:srgbClr val="fe230c"/>
                </a:solidFill>
                <a:latin typeface="Arial"/>
                <a:ea typeface="宋体"/>
              </a:rPr>
              <a:t>2</a:t>
            </a:r>
            <a:r>
              <a:rPr b="1" lang="zh-CN" sz="1400" spc="-1" strike="noStrike">
                <a:solidFill>
                  <a:srgbClr val="fe230c"/>
                </a:solidFill>
                <a:latin typeface="Arial"/>
                <a:ea typeface="宋体"/>
              </a:rPr>
              <a:t>种以上风险因素者列为噎食高风险者，须制订相应护理措施防范意外发生。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有噎食的危险：与抗精神病药物不良反应、或脑器质性疾病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窒息　与进食过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照片 004"/>
          <p:cNvPicPr/>
          <p:nvPr/>
        </p:nvPicPr>
        <p:blipFill>
          <a:blip r:embed="rId1"/>
          <a:stretch/>
        </p:blipFill>
        <p:spPr>
          <a:xfrm>
            <a:off x="981000" y="3214800"/>
            <a:ext cx="5305680" cy="3448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4" descr="照片 002"/>
          <p:cNvPicPr/>
          <p:nvPr/>
        </p:nvPicPr>
        <p:blipFill>
          <a:blip r:embed="rId2"/>
          <a:stretch/>
        </p:blipFill>
        <p:spPr>
          <a:xfrm>
            <a:off x="92160" y="2286000"/>
            <a:ext cx="3622680" cy="2195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照片 003"/>
          <p:cNvPicPr/>
          <p:nvPr/>
        </p:nvPicPr>
        <p:blipFill>
          <a:blip r:embed="rId3"/>
          <a:stretch/>
        </p:blipFill>
        <p:spPr>
          <a:xfrm>
            <a:off x="6089760" y="1925640"/>
            <a:ext cx="3073320" cy="90280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50796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噎食的急救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91800" y="1371240"/>
            <a:ext cx="882324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窒息患者急救原则处理。就地抢救、分秒必争、畅通呼吸道、防止并发症、预防再次发生噎食窒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吞食异物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23640" y="2204640"/>
            <a:ext cx="837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wallow eyewink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指患者吞下了食物以外的其他物品，在精神障碍患者中精神分裂症患者可能由于幻觉、妄想支配下出现的异常行为。或有自杀想法的患者用作自伤、自杀的手段。吞食的异物种类各异，如戒指、发卡、电池、别针、铁钉、玻璃片、刀片、指甲刀、体温表、筷子、铅笔、剪刀、牙刷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患者有无吞食异物的倾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关因素   精神疾病患者在幻觉、妄想支配下出现自杀、自伤观念而吞食；异食症；痴呆及精神发育迟滞患者为了达到出院目的而吞食异物；抑郁症和人格障碍患者也可采用吞食异物作为一种自杀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表现   如果患者吞食了异物，护士应立即评估患者所吞食异物的种类及时间，从而判断危险程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：与吞食锐利的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中毒的危险：与吞食金属、电池、塑料等物品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与吞食电池、塑料等较大物品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对有吞食异物风险的患者要了解原因，不可随意斥责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对各类物品尤其危险物品的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未达到出院目的，有威胁性言语的患者，护士要格外小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吞食异物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发现患者吞服异物后，首先稳定患者的情绪，尽快上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根据具体情况采取急救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密切观察患者的病情变化，有无痛苦的表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心理护理。事情发生后护士不要责备患者，关心、同情患者，耐心倾听其内心想法，帮助患者解决实际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木僵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tup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种较严重的精神运动性抑制综合征。患者经常保持一种固定姿态，很少活动或完全不动。轻者言语和运动明显减少或缓慢、迟钝，称为亚木僵状态。重者随意运动完全抑制，全身肌肉紧张、呆坐或卧床不起、面无表情、不语不动、不吃不喝、口内含满唾液，不知主动排泄，或相当长时间保持身体僵住不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紧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 rot="21257400">
            <a:off x="825120" y="2288520"/>
            <a:ext cx="299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紧张性木僵是木僵的典型表现。轻者言语行为明显减少、呆坐呆卧、有时有违拗或模仿、刻板动作。重者僵卧在床、不吃不喝或不语不动、无表情、无动作、推之不动，呼之不应。全身肌肉张力增高，常出现“蜡样屈曲”或“空气枕头”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抑郁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Text Box 8"/>
          <p:cNvSpPr/>
          <p:nvPr/>
        </p:nvSpPr>
        <p:spPr>
          <a:xfrm rot="21190800">
            <a:off x="5064480" y="1921680"/>
            <a:ext cx="29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见于严重抑郁症患者，患者呆坐不动或卧床不起，无自主活动和要求，反应极端迟钝，不主动流露任何意愿和要求。在反复追问下，可有细微活动倾向，如点头或摇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6CF6-118C-49D2-AEA6-5FD04B337A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危机状态指精神疾病患者突然发生的、个体无法自控的、急性疾病和危及自身或他人生命或财物的一种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包括暴力行为、自杀自伤、出走、噎食窒息、木僵、昏迷、谵妄状态、缄默状态、拒食、机体衰竭状态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File"/>
          <p:cNvSpPr/>
          <p:nvPr/>
        </p:nvSpPr>
        <p:spPr>
          <a:xfrm>
            <a:off x="5145120" y="1295280"/>
            <a:ext cx="3693960" cy="4670640"/>
          </a:xfrm>
          <a:custGeom>
            <a:avLst/>
            <a:gdLst>
              <a:gd name="textAreaLeft" fmla="*/ 185400 w 3693960"/>
              <a:gd name="textAreaRight" fmla="*/ 3529080 w 3693960"/>
              <a:gd name="textAreaTop" fmla="*/ 1000800 h 4670640"/>
              <a:gd name="textAreaBottom" fmla="*/ 4387320 h 46706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" name="File"/>
          <p:cNvSpPr/>
          <p:nvPr/>
        </p:nvSpPr>
        <p:spPr>
          <a:xfrm>
            <a:off x="954000" y="1371600"/>
            <a:ext cx="3694320" cy="4670280"/>
          </a:xfrm>
          <a:custGeom>
            <a:avLst/>
            <a:gdLst>
              <a:gd name="textAreaLeft" fmla="*/ 185760 w 3694320"/>
              <a:gd name="textAreaRight" fmla="*/ 3529440 w 3694320"/>
              <a:gd name="textAreaTop" fmla="*/ 1000440 h 4670280"/>
              <a:gd name="textAreaBottom" fmla="*/ 4386960 h 46702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50000">
                <a:srgbClr val="dff0f6"/>
              </a:gs>
              <a:gs pos="100000">
                <a:srgbClr val="8ac8de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1117440" y="160020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心因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 rot="21257400">
            <a:off x="1010880" y="24354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突然的经受强烈精神刺激出现的木僵，如亲人去世、意外或灾祸，患者表现呆滞不语、面无表情、缄默或推呼不应，甚至出现木僵状态，可有尿失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5308560" y="1523880"/>
            <a:ext cx="20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器质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 rot="21264000">
            <a:off x="5116680" y="208476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现呼之不应、推之不动、缄默、抗拒、肌张力增高，可出现蜡样屈曲，两便失禁，面无表情。这类木僵患者精神检查可发现意识障碍和智能障碍；体格检查和神经系统检查可发现阳性体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 rot="16200000">
            <a:off x="4340160" y="3393720"/>
            <a:ext cx="730080" cy="343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营养失调：低于机体需要量　与无法自行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生活自理能力缺陷（进食、沐浴、如厕等）与精神运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暴力行为的危险 与突然转为兴奋状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受伤的危险 与缺乏自我保护能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废用综合征的危险　与长期卧床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有感染的可能（皮肤、口腔、肺部）与长期卧床，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抵抗力下降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储留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便秘 与精神运动性抑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1000080" y="1714680"/>
            <a:ext cx="757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保护性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视肢体功能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病因不同，对木僵患者采用相应的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反复诱导患者与现实接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矩形 5"/>
          <p:cNvSpPr/>
          <p:nvPr/>
        </p:nvSpPr>
        <p:spPr>
          <a:xfrm>
            <a:off x="826920" y="1413000"/>
            <a:ext cx="7388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是最常见的精神科意外事件，其原因有精神障碍、生物学因素及心理社会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该评估精神障碍患者暴力行为的危险因素和先兆，以防暴力行为的发生，此过程可利用评估工具进行评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教育、约束、治疗等措施可有效地帮助护士预防和处理攻击行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杀原因包括遗传因素、心理因素、社会因素、精神障碍因素、生物化学因素和躯体疾病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250560" y="1341000"/>
            <a:ext cx="88930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观察、交谈以及自杀评估工具的应用，帮助护士发现患者的自杀征兆和意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患者建立良好的治疗性关系，倾听患者的诉说，签订安全契约等措施可帮助患者预防自杀。一旦患者发生自杀行为，应立即配合医生对其进行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者的出走原因，应采取措施和处理患者的出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科其他意外行为还包括噎食、吞食异物，了解意外发生的原因，采取措施预防意外发生，一旦发生立即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木僵患者的分类及临床表现，采取做好基础护理、保护性医疗措施、健康教育等帮助患者早日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5F43-5AD8-4029-8DE7-BA90E665B1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暴力行为的防范与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暴力行为通常是指对他人的攻击（致伤、致残、严重者可以致死）或对物的攻击（破坏建筑或毁坏财产，引起轻重不等的经济损失）行为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DB51-D14A-4805-B730-A319F99268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144" name="Oval 4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Oval 8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9" name="Group 9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150" name="Oval 10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Oval 11"/>
              <p:cNvSpPr/>
              <p:nvPr/>
            </p:nvSpPr>
            <p:spPr>
              <a:xfrm>
                <a:off x="3800160" y="2055960"/>
                <a:ext cx="174348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Oval 12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Oval 13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Group 14"/>
          <p:cNvGrpSpPr/>
          <p:nvPr/>
        </p:nvGrpSpPr>
        <p:grpSpPr>
          <a:xfrm>
            <a:off x="2895480" y="2743200"/>
            <a:ext cx="3581640" cy="1904040"/>
            <a:chOff x="2895480" y="2743200"/>
            <a:chExt cx="3581640" cy="1904040"/>
          </a:xfrm>
        </p:grpSpPr>
        <p:sp>
          <p:nvSpPr>
            <p:cNvPr id="155" name="AutoShape 15"/>
            <p:cNvSpPr/>
            <p:nvPr/>
          </p:nvSpPr>
          <p:spPr>
            <a:xfrm rot="10800000">
              <a:off x="58672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16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2895480" y="2743200"/>
              <a:ext cx="609840" cy="457200"/>
            </a:xfrm>
            <a:prstGeom prst="leftArrow">
              <a:avLst>
                <a:gd name="adj1" fmla="val 31250"/>
                <a:gd name="adj2" fmla="val 71559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AutoShape 18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19"/>
          <p:cNvSpPr/>
          <p:nvPr/>
        </p:nvSpPr>
        <p:spPr>
          <a:xfrm>
            <a:off x="3170160" y="2133720"/>
            <a:ext cx="3009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暴力行为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的原因及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宋体"/>
              </a:rPr>
              <a:t>危险因素</a:t>
            </a:r>
            <a:r>
              <a:rPr b="0" lang="zh-CN" sz="31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0" name="Group 20"/>
          <p:cNvGrpSpPr/>
          <p:nvPr/>
        </p:nvGrpSpPr>
        <p:grpSpPr>
          <a:xfrm>
            <a:off x="6637320" y="2286000"/>
            <a:ext cx="1439640" cy="1439640"/>
            <a:chOff x="6637320" y="2286000"/>
            <a:chExt cx="1439640" cy="1439640"/>
          </a:xfrm>
        </p:grpSpPr>
        <p:sp>
          <p:nvSpPr>
            <p:cNvPr id="161" name="Oval 21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6637320" y="22860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6732360" y="23796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6732360" y="23828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Oval 25"/>
            <p:cNvSpPr/>
            <p:nvPr/>
          </p:nvSpPr>
          <p:spPr>
            <a:xfrm>
              <a:off x="6794280" y="24429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6" name="Group 26"/>
            <p:cNvGrpSpPr/>
            <p:nvPr/>
          </p:nvGrpSpPr>
          <p:grpSpPr>
            <a:xfrm>
              <a:off x="6811920" y="2460600"/>
              <a:ext cx="1090440" cy="1092240"/>
              <a:chOff x="6811920" y="2460600"/>
              <a:chExt cx="1090440" cy="1092240"/>
            </a:xfrm>
          </p:grpSpPr>
          <p:sp>
            <p:nvSpPr>
              <p:cNvPr id="167" name="Oval 27"/>
              <p:cNvSpPr/>
              <p:nvPr/>
            </p:nvSpPr>
            <p:spPr>
              <a:xfrm>
                <a:off x="6811920" y="24606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8" name="Oval 28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9" name="Oval 29"/>
              <p:cNvSpPr/>
              <p:nvPr/>
            </p:nvSpPr>
            <p:spPr>
              <a:xfrm>
                <a:off x="6837120" y="24771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0" name="Oval 30"/>
              <p:cNvSpPr/>
              <p:nvPr/>
            </p:nvSpPr>
            <p:spPr>
              <a:xfrm>
                <a:off x="6896160" y="25048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31"/>
          <p:cNvSpPr/>
          <p:nvPr/>
        </p:nvSpPr>
        <p:spPr>
          <a:xfrm>
            <a:off x="7043040" y="2492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173" name="Oval 44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Oval 45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46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Oval 47"/>
            <p:cNvSpPr/>
            <p:nvPr/>
          </p:nvSpPr>
          <p:spPr>
            <a:xfrm>
              <a:off x="1391040" y="2385000"/>
              <a:ext cx="1256400" cy="132552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Oval 48"/>
            <p:cNvSpPr/>
            <p:nvPr/>
          </p:nvSpPr>
          <p:spPr>
            <a:xfrm>
              <a:off x="1458000" y="245196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Oval 49"/>
            <p:cNvSpPr/>
            <p:nvPr/>
          </p:nvSpPr>
          <p:spPr>
            <a:xfrm>
              <a:off x="1476360" y="2471400"/>
              <a:ext cx="10958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Oval 50"/>
            <p:cNvSpPr/>
            <p:nvPr/>
          </p:nvSpPr>
          <p:spPr>
            <a:xfrm>
              <a:off x="1490040" y="2478240"/>
              <a:ext cx="1068840" cy="112428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Oval 51"/>
            <p:cNvSpPr/>
            <p:nvPr/>
          </p:nvSpPr>
          <p:spPr>
            <a:xfrm>
              <a:off x="1501560" y="2489040"/>
              <a:ext cx="1016640" cy="10519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52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2" name="Text Box 53"/>
          <p:cNvSpPr/>
          <p:nvPr/>
        </p:nvSpPr>
        <p:spPr>
          <a:xfrm>
            <a:off x="1726560" y="256536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3" name="Group 54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184" name="Group 55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185" name="Oval 56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6" name="Oval 57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7" name="Oval 58"/>
              <p:cNvSpPr/>
              <p:nvPr/>
            </p:nvSpPr>
            <p:spPr>
              <a:xfrm>
                <a:off x="2689200" y="4591080"/>
                <a:ext cx="1248840" cy="12506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8" name="Oval 59"/>
              <p:cNvSpPr/>
              <p:nvPr/>
            </p:nvSpPr>
            <p:spPr>
              <a:xfrm>
                <a:off x="2689200" y="4600440"/>
                <a:ext cx="1248840" cy="12510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60"/>
              <p:cNvSpPr/>
              <p:nvPr/>
            </p:nvSpPr>
            <p:spPr>
              <a:xfrm>
                <a:off x="2751120" y="4662360"/>
                <a:ext cx="112500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190" name="Group 61"/>
              <p:cNvGrpSpPr/>
              <p:nvPr/>
            </p:nvGrpSpPr>
            <p:grpSpPr>
              <a:xfrm>
                <a:off x="2779560" y="4676760"/>
                <a:ext cx="1090440" cy="1092240"/>
                <a:chOff x="2779560" y="4676760"/>
                <a:chExt cx="1090440" cy="1092240"/>
              </a:xfrm>
            </p:grpSpPr>
            <p:sp>
              <p:nvSpPr>
                <p:cNvPr id="191" name="Oval 62"/>
                <p:cNvSpPr/>
                <p:nvPr/>
              </p:nvSpPr>
              <p:spPr>
                <a:xfrm>
                  <a:off x="2779560" y="4676760"/>
                  <a:ext cx="109044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2" name="Oval 63"/>
                <p:cNvSpPr/>
                <p:nvPr/>
              </p:nvSpPr>
              <p:spPr>
                <a:xfrm>
                  <a:off x="2793240" y="4682880"/>
                  <a:ext cx="106452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3" name="Oval 64"/>
                <p:cNvSpPr/>
                <p:nvPr/>
              </p:nvSpPr>
              <p:spPr>
                <a:xfrm>
                  <a:off x="2804760" y="4693320"/>
                  <a:ext cx="101196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94" name="Oval 65"/>
                <p:cNvSpPr/>
                <p:nvPr/>
              </p:nvSpPr>
              <p:spPr>
                <a:xfrm>
                  <a:off x="2863800" y="4721040"/>
                  <a:ext cx="89964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5" name="Text Box 66"/>
            <p:cNvSpPr/>
            <p:nvPr/>
          </p:nvSpPr>
          <p:spPr>
            <a:xfrm>
              <a:off x="3211560" y="5021280"/>
              <a:ext cx="183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Text Box 53"/>
          <p:cNvSpPr/>
          <p:nvPr/>
        </p:nvSpPr>
        <p:spPr>
          <a:xfrm>
            <a:off x="2988720" y="47149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7" name="Group 32"/>
          <p:cNvGrpSpPr/>
          <p:nvPr/>
        </p:nvGrpSpPr>
        <p:grpSpPr>
          <a:xfrm>
            <a:off x="5257800" y="4495680"/>
            <a:ext cx="1444680" cy="1524240"/>
            <a:chOff x="5257800" y="4495680"/>
            <a:chExt cx="1444680" cy="1524240"/>
          </a:xfrm>
        </p:grpSpPr>
        <p:sp>
          <p:nvSpPr>
            <p:cNvPr id="198" name="Oval 33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Oval 34"/>
            <p:cNvSpPr/>
            <p:nvPr/>
          </p:nvSpPr>
          <p:spPr>
            <a:xfrm>
              <a:off x="5257800" y="4495680"/>
              <a:ext cx="1444680" cy="15242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Oval 35"/>
            <p:cNvSpPr/>
            <p:nvPr/>
          </p:nvSpPr>
          <p:spPr>
            <a:xfrm>
              <a:off x="5351400" y="4594320"/>
              <a:ext cx="1257480" cy="132696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Oval 36"/>
            <p:cNvSpPr/>
            <p:nvPr/>
          </p:nvSpPr>
          <p:spPr>
            <a:xfrm>
              <a:off x="5334120" y="4572000"/>
              <a:ext cx="1255680" cy="132732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Oval 37"/>
            <p:cNvSpPr/>
            <p:nvPr/>
          </p:nvSpPr>
          <p:spPr>
            <a:xfrm>
              <a:off x="5419800" y="4662360"/>
              <a:ext cx="1130400" cy="1190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Oval 38"/>
            <p:cNvSpPr/>
            <p:nvPr/>
          </p:nvSpPr>
          <p:spPr>
            <a:xfrm>
              <a:off x="5410080" y="464832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Oval 39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Oval 40"/>
            <p:cNvSpPr/>
            <p:nvPr/>
          </p:nvSpPr>
          <p:spPr>
            <a:xfrm>
              <a:off x="5464080" y="4699080"/>
              <a:ext cx="1015920" cy="105228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Oval 41"/>
            <p:cNvSpPr/>
            <p:nvPr/>
          </p:nvSpPr>
          <p:spPr>
            <a:xfrm>
              <a:off x="5522760" y="4729320"/>
              <a:ext cx="903600" cy="853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42"/>
            <p:cNvSpPr/>
            <p:nvPr/>
          </p:nvSpPr>
          <p:spPr>
            <a:xfrm>
              <a:off x="5897520" y="5089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Text Box 53"/>
          <p:cNvSpPr/>
          <p:nvPr/>
        </p:nvSpPr>
        <p:spPr>
          <a:xfrm>
            <a:off x="5690520" y="472428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7FF1-0C70-4576-BD39-20D2A124091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Freeform 4"/>
          <p:cNvSpPr/>
          <p:nvPr/>
        </p:nvSpPr>
        <p:spPr>
          <a:xfrm rot="20805000">
            <a:off x="4592520" y="272268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47ec4"/>
              </a:gs>
            </a:gsLst>
            <a:lin ang="7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 rot="5461200">
            <a:off x="2798640" y="2274840"/>
            <a:ext cx="1150920" cy="33163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3316320"/>
              <a:gd name="textAreaBottom" fmla="*/ 3316680 h 3316320"/>
            </a:gdLst>
            <a:ahLst/>
            <a:rect l="textAreaLeft" t="textAreaTop" r="textAreaRight" b="textAreaBottom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2a684c"/>
              </a:gs>
            </a:gsLst>
            <a:lin ang="161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 rot="14128200">
            <a:off x="4649040" y="744480"/>
            <a:ext cx="1150920" cy="3318120"/>
          </a:xfrm>
          <a:custGeom>
            <a:avLst/>
            <a:gdLst/>
            <a:ahLst/>
            <a:rect l="l" t="t" r="r" b="b"/>
            <a:pathLst>
              <a:path w="646" h="1861">
                <a:moveTo>
                  <a:pt x="0" y="0"/>
                </a:moveTo>
                <a:lnTo>
                  <a:pt x="48" y="14"/>
                </a:lnTo>
                <a:lnTo>
                  <a:pt x="98" y="32"/>
                </a:lnTo>
                <a:lnTo>
                  <a:pt x="147" y="54"/>
                </a:lnTo>
                <a:lnTo>
                  <a:pt x="195" y="81"/>
                </a:lnTo>
                <a:lnTo>
                  <a:pt x="242" y="111"/>
                </a:lnTo>
                <a:lnTo>
                  <a:pt x="288" y="147"/>
                </a:lnTo>
                <a:lnTo>
                  <a:pt x="333" y="185"/>
                </a:lnTo>
                <a:lnTo>
                  <a:pt x="377" y="228"/>
                </a:lnTo>
                <a:lnTo>
                  <a:pt x="418" y="275"/>
                </a:lnTo>
                <a:lnTo>
                  <a:pt x="457" y="325"/>
                </a:lnTo>
                <a:lnTo>
                  <a:pt x="493" y="379"/>
                </a:lnTo>
                <a:lnTo>
                  <a:pt x="526" y="437"/>
                </a:lnTo>
                <a:lnTo>
                  <a:pt x="555" y="497"/>
                </a:lnTo>
                <a:lnTo>
                  <a:pt x="582" y="562"/>
                </a:lnTo>
                <a:lnTo>
                  <a:pt x="604" y="630"/>
                </a:lnTo>
                <a:lnTo>
                  <a:pt x="621" y="700"/>
                </a:lnTo>
                <a:lnTo>
                  <a:pt x="634" y="774"/>
                </a:lnTo>
                <a:lnTo>
                  <a:pt x="642" y="851"/>
                </a:lnTo>
                <a:lnTo>
                  <a:pt x="646" y="930"/>
                </a:lnTo>
                <a:lnTo>
                  <a:pt x="643" y="1011"/>
                </a:lnTo>
                <a:lnTo>
                  <a:pt x="636" y="1086"/>
                </a:lnTo>
                <a:lnTo>
                  <a:pt x="623" y="1160"/>
                </a:lnTo>
                <a:lnTo>
                  <a:pt x="607" y="1230"/>
                </a:lnTo>
                <a:lnTo>
                  <a:pt x="585" y="1297"/>
                </a:lnTo>
                <a:lnTo>
                  <a:pt x="561" y="1361"/>
                </a:lnTo>
                <a:lnTo>
                  <a:pt x="533" y="1421"/>
                </a:lnTo>
                <a:lnTo>
                  <a:pt x="500" y="1478"/>
                </a:lnTo>
                <a:lnTo>
                  <a:pt x="466" y="1532"/>
                </a:lnTo>
                <a:lnTo>
                  <a:pt x="428" y="1582"/>
                </a:lnTo>
                <a:lnTo>
                  <a:pt x="388" y="1627"/>
                </a:lnTo>
                <a:lnTo>
                  <a:pt x="345" y="1670"/>
                </a:lnTo>
                <a:lnTo>
                  <a:pt x="301" y="1709"/>
                </a:lnTo>
                <a:lnTo>
                  <a:pt x="254" y="1744"/>
                </a:lnTo>
                <a:lnTo>
                  <a:pt x="205" y="1776"/>
                </a:lnTo>
                <a:lnTo>
                  <a:pt x="156" y="1803"/>
                </a:lnTo>
                <a:lnTo>
                  <a:pt x="104" y="1826"/>
                </a:lnTo>
                <a:lnTo>
                  <a:pt x="53" y="1846"/>
                </a:lnTo>
                <a:lnTo>
                  <a:pt x="0" y="186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7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1625040" y="1494360"/>
            <a:ext cx="5480640" cy="4644000"/>
            <a:chOff x="1625040" y="1494360"/>
            <a:chExt cx="5480640" cy="4644000"/>
          </a:xfrm>
        </p:grpSpPr>
        <p:sp>
          <p:nvSpPr>
            <p:cNvPr id="215" name="Freeform 8"/>
            <p:cNvSpPr/>
            <p:nvPr/>
          </p:nvSpPr>
          <p:spPr>
            <a:xfrm>
              <a:off x="4394880" y="2822400"/>
              <a:ext cx="1150560" cy="331596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 rot="6256200">
              <a:off x="2798640" y="212184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15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 rot="14922600">
              <a:off x="4776120" y="973800"/>
              <a:ext cx="1150560" cy="331668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16680"/>
                <a:gd name="textAreaBottom" fmla="*/ 3317040 h 331668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fdbdf"/>
                </a:gs>
              </a:gsLst>
              <a:lin ang="66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3884760" y="2786040"/>
            <a:ext cx="1339560" cy="1338120"/>
            <a:chOff x="3884760" y="2786040"/>
            <a:chExt cx="1339560" cy="1338120"/>
          </a:xfrm>
        </p:grpSpPr>
        <p:sp>
          <p:nvSpPr>
            <p:cNvPr id="219" name="Oval 12"/>
            <p:cNvSpPr/>
            <p:nvPr/>
          </p:nvSpPr>
          <p:spPr>
            <a:xfrm>
              <a:off x="3884760" y="2786040"/>
              <a:ext cx="1339560" cy="1338120"/>
            </a:xfrm>
            <a:prstGeom prst="ellipse">
              <a:avLst/>
            </a:prstGeom>
            <a:gradFill rotWithShape="0">
              <a:gsLst>
                <a:gs pos="0">
                  <a:srgbClr val="f14343"/>
                </a:gs>
                <a:gs pos="100000">
                  <a:srgbClr val="92292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4037760" y="2808000"/>
              <a:ext cx="1033200" cy="50508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1" name="Text Box 14"/>
          <p:cNvSpPr/>
          <p:nvPr/>
        </p:nvSpPr>
        <p:spPr>
          <a:xfrm>
            <a:off x="4092840" y="29242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暴力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为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1390320" y="29764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5531400" y="214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行为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653280" y="4699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情感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行为评估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8000" y="1146240"/>
          <a:ext cx="9036000" cy="5457600"/>
        </p:xfrm>
        <a:graphic>
          <a:graphicData uri="http://schemas.openxmlformats.org/drawingml/2006/table">
            <a:tbl>
              <a:tblPr/>
              <a:tblGrid>
                <a:gridCol w="1631880"/>
                <a:gridCol w="7404120"/>
              </a:tblGrid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项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具体表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兆行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踱步、静坐不能、握拳或用拳击物、下颌或面部的肌肉紧张、呼吸增快、突然停止正在进行的动作、表情紧张且僵直、双目凝视或敌视医务人员，拒绝治疗和护理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言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威胁真实或想象中的对象、强迫他人注意、大声喧哗、妄想性言语、出现辱骂、语调高或语言暗示、抗议不听劝阻、质问、过多不合理要求、对别人吹毛求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情感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愤怒、敌意、异常焦虑、易激惹、异常或过度欣快及情感不稳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意识方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思维混乱、精神状态突然改变、定向力缺乏、记忆力损害、无力改变自身现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性患者王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，高中学生，诊断为不伴有精神病性症状的躁狂发作。 患者的父亲职业为安保工作，平时对患者家教较为严厉，王某小时候常因不听话而被其父亲打。从上高中以后患者成绩下降，常出入网吧，沉迷于网游，利用网络游戏赌博，自称“小霸王”。入院后患者话多，好管闲事，常与病友发生口角，有时喜欢嘲笑并欺负病友。一日在吸烟时，王某大叫恐吓某位病友，并用脚踢病友，该病友抓住王某右手中指反抗，将王某中指扭伤。护士发现后及时将二人分开，给予王某医学保护性约束。约束期间王某情绪激动，扬言要报复病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7T11:30:51Z</dcterms:modified>
  <cp:revision>6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