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D3F53-5214-4B1A-AA02-FFD1693202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A6C14-FC5C-48D3-BD7C-A0DAD2DF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36C70-61D0-4AF0-8BEC-E23F12E4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191DF-F75F-42F8-8F7C-F3960919F8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E1AE8-0545-4D42-8267-030A1A11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6D5C8-1FAB-4640-B559-8C1E5752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7C1D1-0486-4276-8745-6B316722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30B19-D306-46BE-99E7-2671C776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ADBD2-EDD6-4C41-9EC3-0FFA370F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8E334-4040-4C51-B858-9C266C62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CBF6F-94C5-4DEB-B453-32782A84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0837D-4FAF-4575-9C9D-1D0ACF94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E14F-6269-4270-A482-A9AD3B000CE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133360"/>
            <a:ext cx="58323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心理因素相关生理障碍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44748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贪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是以反复出现的强烈的进食欲望和难以控制的、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冲动性的暴食和伴有惧怕发胖的观念为主要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的一种进食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不可控制的暴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清除行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功能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435640" y="3357720"/>
            <a:ext cx="28814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2FE6-AC5E-4C82-9A0E-EB61246CF9F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测验与性格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生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Picture 4" descr="图片19"/>
          <p:cNvPicPr/>
          <p:nvPr/>
        </p:nvPicPr>
        <p:blipFill>
          <a:blip r:embed="rId1"/>
          <a:stretch/>
        </p:blipFill>
        <p:spPr>
          <a:xfrm>
            <a:off x="5148360" y="24940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营养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饮食习惯和结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皮肤、心血管系统、消化系统、第二性征发育情况以及女性患者的月经情况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相关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自身身材和自我概念的认知情况，对发胖的恐惧程度以及所认为的理想体重是多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情绪状况以及有无自杀、自伤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文化程度、学习情况和职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疾病的认识和态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与家属及周围人的人际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62F8-EB60-4AE7-8F8A-261F3550372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2556000" y="2492280"/>
            <a:ext cx="230040" cy="1936800"/>
          </a:xfrm>
          <a:custGeom>
            <a:avLst/>
            <a:gdLst>
              <a:gd name="textAreaLeft" fmla="*/ 146880 w 230040"/>
              <a:gd name="textAreaRight" fmla="*/ 230400 w 230040"/>
              <a:gd name="textAreaTop" fmla="*/ 64080 h 1936800"/>
              <a:gd name="textAreaBottom" fmla="*/ 1872720 h 193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42"/>
                  <a:pt x="10800" y="2284"/>
                </a:cubicBezTo>
                <a:lnTo>
                  <a:pt x="10800" y="8516"/>
                </a:lnTo>
                <a:cubicBezTo>
                  <a:pt x="10800" y="9658"/>
                  <a:pt x="5400" y="10800"/>
                  <a:pt x="0" y="10800"/>
                </a:cubicBezTo>
                <a:cubicBezTo>
                  <a:pt x="5400" y="10800"/>
                  <a:pt x="10800" y="11942"/>
                  <a:pt x="10800" y="13084"/>
                </a:cubicBezTo>
                <a:lnTo>
                  <a:pt x="10800" y="19316"/>
                </a:lnTo>
                <a:cubicBezTo>
                  <a:pt x="10800" y="20458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867040" y="2416320"/>
            <a:ext cx="19191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认知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886120" y="3314880"/>
            <a:ext cx="19018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行为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900520" y="4280040"/>
            <a:ext cx="188568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家庭治疗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明确诊断为神经性厌食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CE94-A3B0-40CB-BCA9-E828C28A737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限制或拒绝进食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高于机体需要量  与暴食行为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或现存的体液不足  与液体摄入不足、自行引吐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　　　　　　　　　　或导泻行为导致消耗过大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与限制或拒绝进食引起的能量不足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潜在的并发症  与长期营养失调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2978-B035-4E29-93B0-FAE3A119429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像认知歪曲  与社会文化因素、心理因素导致对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自身形象看法改变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焦虑  与对生活缺乏控制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抑郁  与疾病的演变过程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社会支持不足等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  与缺乏疾病相关知识、家庭关系矛盾有关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CB16-A8FF-47A3-9ABB-9091D9717FF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7956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恢复和维持正常体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纠正体像障碍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正常进食行为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D530-273C-4927-BDE6-935CBE3DCE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499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保证营养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帮助患者扩大社交范围，使其获得更多的社会支持，满足情感需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499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协助患者及其家属维持正常的角色功能，帮助患者分析可能的家庭问题，寻求解决的方法，从而建立和谐的家庭关系，为患者提供有效的社会支持系统，减少其寂寞和孤独感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360" y="2707920"/>
            <a:ext cx="540072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一节　进食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  睡眠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3008160"/>
            <a:ext cx="688320" cy="593640"/>
            <a:chOff x="1819440" y="300816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30178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30081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30430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31370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860640"/>
            <a:ext cx="687600" cy="59400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79640" y="4005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2556000" y="34988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2556000" y="44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睡眠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眠障碍是各种心理社会因素引起的非器质性的睡眠和觉醒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57E7-BB9B-425F-85D8-5137BBE2BD9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引起睡眠障碍的原因较多且复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躯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环境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食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F925-632D-4571-9027-71B671981D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3"/>
          <p:cNvSpPr/>
          <p:nvPr/>
        </p:nvSpPr>
        <p:spPr>
          <a:xfrm flipV="1">
            <a:off x="3565440" y="2420640"/>
            <a:ext cx="935280" cy="1150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4572000" y="1990800"/>
            <a:ext cx="2664000" cy="5745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失眠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4572000" y="4726080"/>
            <a:ext cx="266400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异常睡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3564000" y="4006800"/>
            <a:ext cx="936720" cy="10796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4572000" y="3860640"/>
            <a:ext cx="2664000" cy="5781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发作性睡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4572000" y="2925720"/>
            <a:ext cx="266400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嗜睡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Line 3"/>
          <p:cNvSpPr/>
          <p:nvPr/>
        </p:nvSpPr>
        <p:spPr>
          <a:xfrm flipV="1">
            <a:off x="3565440" y="3213000"/>
            <a:ext cx="935280" cy="50328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Line 3"/>
          <p:cNvSpPr/>
          <p:nvPr/>
        </p:nvSpPr>
        <p:spPr>
          <a:xfrm>
            <a:off x="3565440" y="3862440"/>
            <a:ext cx="935280" cy="358560"/>
          </a:xfrm>
          <a:prstGeom prst="line">
            <a:avLst/>
          </a:prstGeom>
          <a:ln cap="sq" w="12600">
            <a:solidFill>
              <a:srgbClr val="046ca6"/>
            </a:solidFill>
            <a:bevel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病前性格内向，多疑多虑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年前丈夫因车祸去世后患者出现心情烦躁、彻夜不眠等情况而到医院就诊，予以药物治疗后情况好转。半年前退休后晚上便开始难以入睡，即使睡着也容易做梦和惊醒，醒来后不容易再睡，躺到天亮。白天感到头昏脑胀，做事无效率，容易发火。经门诊治疗效果不佳，加量服用先前药物无效，要求住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体检：体格检查及实验室检查各项指标未见明显异常。生命体征：体温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。大小便正常，生活协助料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难以入睡，白天困倦。患者神志清楚，对答切题。有抑郁、焦虑情绪，对疾病忧心忡忡，对治疗没信心。无幻觉妄想等精神病性症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86F6-3BD5-47FC-A2E6-08F05F3FDBD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失眠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失眠症是最常见的睡眠障碍，指一种对睡眠的质和量持续较长时间的不满意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499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入睡困难是失眠症患者最常见的主诉，患者还有早醒、维持睡眠困难、易惊醒、多梦、醒后不易再睡等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11E3-A614-4AED-86B3-BF0031F9D9D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嗜睡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嗜睡症是指不存在睡眠不足的情况下出现白天睡眠过多，或由醒来时达到完全觉醒状态的过渡时间延长的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表现为白天睡眠时间延长，醒转时想达到完全的觉醒状态非常困难，醒转后常有短暂的意识模糊，呼吸及心率加快，可伴有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F7FC-9A45-4E1A-BA65-FF38F79FCA6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作性睡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发作性睡病是一种病因不明的睡眠障碍，长期警醒程度降低和不可抗拒的发作性睡眠是本病的主要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白天不可抗拒的短暂睡眠发作是本病最基本的症状，睡眠发作前常有发作先兆，即不可抗拒的困倦感，但部分患者可无预兆地突然从清醒状态陷入睡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72C3-7F6D-421C-B90B-868D5A2554C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梦魇症：是指在睡眠过程中被噩梦惊醒，梦境内容常涉及对生存或安全有威胁的恐怖性事件，如被怪物追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夜惊症：是出现在夜间睡眠过程中的极度恐惧和惊恐发作，常伴有强烈的言语、运动和自主神经系统的高度兴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睡行症：即梦游症，指睡眠和觉醒现象同时存在的一种意识模糊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9C55-A7EF-45BB-ACC0-E615A2E3E90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对睡眠障碍患者的辅助检查手段是多样的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如调查问卷、心理测试、睡眠日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还可对患者进行睡眠多导监护仪监测以及其他睡眠生理功能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4" descr="图片19"/>
          <p:cNvPicPr/>
          <p:nvPr/>
        </p:nvPicPr>
        <p:blipFill>
          <a:blip r:embed="rId1"/>
          <a:stretch/>
        </p:blipFill>
        <p:spPr>
          <a:xfrm>
            <a:off x="6661080" y="3789360"/>
            <a:ext cx="20415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的生命体征、营养状况、饮食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既往健康状况、既往疾病治疗及用药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否有家族性遗传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背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心理因素相关生理障碍的临床表现、主要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问题和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病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常见心理因素相关生理障碍的相关检查方法、治疗方法和生理心理社会评估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护理程序对常见心理因素相关生理障碍患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行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28A8-862D-4A3A-A8B0-E3F368CDBC6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遭遇重大生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有无因睡眠或工作环境改变而有不适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对待失眠的态度，尤其注意有无恐惧、焦虑等不良心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生活、学习或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睡眠障碍是否影响了其与周围人的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及家庭对睡眠障碍的应对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3"/>
          <p:cNvSpPr/>
          <p:nvPr/>
        </p:nvSpPr>
        <p:spPr>
          <a:xfrm>
            <a:off x="928800" y="1785960"/>
            <a:ext cx="67150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该患者明确诊断为失眠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主要存在哪些护理问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如何对其进行护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9347-F7EB-4897-9EEC-36ABEA85E85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一、生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睡眠形态紊乱　与社会心理因素、睡眠环境改变、药物影响、焦虑等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疲乏　与失眠、异常睡眠引起的不适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　与异常睡眠引起的意识模糊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2999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二、心理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焦虑　与睡眠形态紊乱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恐惧　与异常睡眠引起的幻觉、梦魇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三、社会功能方面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　与长期处于失眠或异常睡眠状态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55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家庭应对无效　与家庭成员对疾病的认识不足或家庭关系不和谐有关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0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2BDF-459A-402B-96F2-D5F2A37031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58560" y="1341360"/>
            <a:ext cx="7885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一、对失眠症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诱因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睡眠健康教育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重建规律、有质量的睡眠模式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ts val="43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二、对其他睡眠障碍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保证患者的安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消除心理恐惧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4300"/>
              </a:lnSpc>
              <a:spcBef>
                <a:spcPts val="64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减少发作次数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BFFC-8261-45CA-B453-EE255BA4493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因素相关生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一组以心理和社会因素为主要原因，以躯体症状为主要临床表现的疾病。通常只表现为生理功能障碍而没有形态学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章着重介绍进食障碍、睡眠障碍心理因素相关生理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6440" y="376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进食障碍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进食障碍是指由心理因素导致的以摄食行为异常为主要特征，伴有显著体重改变和生理功能紊乱的一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99FF-286A-439E-AA06-15D1B63D53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5797440" y="3502080"/>
            <a:ext cx="20163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年龄：青少年期和成年早期，尤其是女性群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初发年龄多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3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神经性贪食症则发病稍晚，多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大部分神经性贪食症由神经性厌食症发展而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病因和发病机制尚未完全阐明，可能与社会文化因素、家庭因素、生物学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D996-7697-47B1-9A5D-2476A6E3AD2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Line 3"/>
          <p:cNvSpPr/>
          <p:nvPr/>
        </p:nvSpPr>
        <p:spPr>
          <a:xfrm flipV="1">
            <a:off x="3544920" y="279576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1258920" y="31543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4500720" y="2500200"/>
            <a:ext cx="2592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厌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4500720" y="4365720"/>
            <a:ext cx="2663640" cy="5760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  <a:ea typeface="宋体"/>
              </a:rPr>
              <a:t>神经性贪食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3492360" y="4076640"/>
            <a:ext cx="792360" cy="57780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3"/>
          <p:cNvSpPr/>
          <p:nvPr/>
        </p:nvSpPr>
        <p:spPr>
          <a:xfrm>
            <a:off x="396720" y="1125360"/>
            <a:ext cx="7858440" cy="2016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女生，性格内向，自尊心强。初中时体型较胖，常被男同学嘲笑。因此，开始长跑，每日节食，进食后催吐。初中毕业体重降至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40k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70c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。高中后，仍觉自己胖，依旧每日节食和长跑。近来出现体重持续降低、学习吃力、情绪低落等情况，直到在课堂上晕厥，被家属强制送院治疗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矩形 5"/>
          <p:cNvSpPr/>
          <p:nvPr/>
        </p:nvSpPr>
        <p:spPr>
          <a:xfrm>
            <a:off x="395280" y="3357720"/>
            <a:ext cx="8215200" cy="2001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查体：患者面容消瘦，皮肤弹性差，舟状腹，指甲无光泽。生命体征：体温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5.6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脉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9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、血压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89/5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、呼吸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；实验室检查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WBC3.1×109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3.2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130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Hb9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血清总蛋白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51g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精神检查：患者智力正常，意识清晰，情绪低落，语调低，害怕体重增加，未发现幻觉、妄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剪去单角的矩形 6"/>
          <p:cNvSpPr/>
          <p:nvPr/>
        </p:nvSpPr>
        <p:spPr>
          <a:xfrm>
            <a:off x="395280" y="558972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问题：对该患者进行护理评估的内容有哪些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C932-C54E-4995-AA31-8A02BD4052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性厌食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以患者对自身体像的感知有歪曲，因担心发胖而故意节食，以致体重显著下降为主要特征的进食障碍类的精神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具体有以下四种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体像认知歪曲，病态地恐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肥胖，关注体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减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心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生理功能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6300720" y="2709720"/>
            <a:ext cx="266724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8T08:08:18Z</dcterms:modified>
  <cp:revision>7</cp:revision>
  <dc:subject/>
  <dc:title>第十二章  心理因素相关生理障碍患者的护理</dc:title>
</cp:coreProperties>
</file>