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6728-A654-45B1-B740-7EC2BE2DD4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93BEA-F744-44EC-8702-F6C3CC74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05AA5-A457-41A1-9CCF-703B54A5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4BD4-4A34-4493-BB9E-AA59BA4443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CA46-69BC-4F9A-957F-6F4EEA44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9978-6E00-4FAC-9E17-44F4900A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FD8CF-3175-4927-A3DF-70761ADC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7E41E-6BCC-4C29-99D9-B3D7991F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F561E-3661-44BB-B111-91E743EE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B03DF-F53B-4B03-88A2-127007EF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3031-876B-4B54-8379-4C9E2FBC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C4150-B599-4BE6-988F-A55C339E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6D9C-6854-4DDC-A60C-D524ECB4277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E633-372D-4E9D-9B1B-CAF64EF7D90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小儿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杨园园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8409-1868-4AFB-9ADE-B6E6F14882B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增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600~8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300~4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9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12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年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588000" y="4292640"/>
            <a:ext cx="2109960" cy="2057400"/>
          </a:xfrm>
          <a:prstGeom prst="foldedCorner">
            <a:avLst>
              <a:gd name="adj" fmla="val 12500"/>
            </a:avLst>
          </a:prstGeom>
          <a:solidFill>
            <a:srgbClr val="fff7a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年龄越小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增长越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8BB8-DCE3-40A7-9E36-06A03EFDB99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05120"/>
            <a:ext cx="8039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6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2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2+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5F39-AFA7-4212-BBD6-A55A9B07E32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295280"/>
            <a:ext cx="842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零点，排空大小便，脱去外衣、鞋、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、卧位、立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单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DB57-BA06-4ED1-BFDC-A6F3D39AC87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7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69644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46ca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顶到足底的全身长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50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7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8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龄（岁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×7+75(cm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CAF5-5A00-44AD-849E-05C2189F044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身 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去鞋、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立、两眼正视前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脚跟靠拢，脚尖分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足后跟、臀部、肩胛间同时接触墙壁，在一条直线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3AA1-28B6-4DAA-8A4E-21BE1E421DE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 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顶到坐骨结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顶臀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头颅与脊柱的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7E52-536D-47F2-91AF-4C44877B0CA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3200" y="219240"/>
            <a:ext cx="754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8400" y="1333080"/>
            <a:ext cx="8191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 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眉弓上方，枕骨隆凸绕头一周的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34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6cm → 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8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cm → 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8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最有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较小：脑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过快：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AC60-5818-442D-BE48-7C3960418B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23960" y="1267920"/>
            <a:ext cx="76960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沿乳头下缘水平绕胸一周的长度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＜头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cm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围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青春期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＞头围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7B80-4EBB-454E-A4B1-953F092AB14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匀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06D4-0004-4FF0-911D-A35D03D9CA7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值离差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倍标准差为正常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百分位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或非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正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au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曲线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1280" y="2060640"/>
            <a:ext cx="4969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生长发育的规律及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体格生长发育及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71640" y="3860640"/>
            <a:ext cx="49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体格生长有关的其他系统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育中的特殊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心理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E607-88DE-409A-825A-ED1942D700E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3960" y="1268280"/>
            <a:ext cx="4457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骨骼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头颅骨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点宽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2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早闭：小头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过大：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db52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4" descr="前囟"/>
          <p:cNvPicPr/>
          <p:nvPr/>
        </p:nvPicPr>
        <p:blipFill>
          <a:blip r:embed="rId1"/>
          <a:srcRect l="28327" t="13730" r="5896" b="-34"/>
          <a:stretch/>
        </p:blipFill>
        <p:spPr>
          <a:xfrm>
            <a:off x="5791320" y="1752480"/>
            <a:ext cx="2514600" cy="335304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 flipH="1">
            <a:off x="5790960" y="243828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5715000" y="487692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9528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前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769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后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777240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冠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724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矢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7696080" y="1904760"/>
            <a:ext cx="68580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7010280" y="3657600"/>
            <a:ext cx="121932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B831-009D-451B-8063-4D52F09EFC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2" descr="Skeletal spine"/>
          <p:cNvPicPr/>
          <p:nvPr/>
        </p:nvPicPr>
        <p:blipFill>
          <a:blip r:embed="rId1"/>
          <a:srcRect l="25446" t="0" r="44647" b="0"/>
          <a:stretch/>
        </p:blipFill>
        <p:spPr>
          <a:xfrm>
            <a:off x="6929280" y="1471680"/>
            <a:ext cx="1914840" cy="54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4600" y="2260440"/>
          <a:ext cx="7002360" cy="4213440"/>
        </p:xfrm>
        <a:graphic>
          <a:graphicData uri="http://schemas.openxmlformats.org/drawingml/2006/table">
            <a:tbl>
              <a:tblPr/>
              <a:tblGrid>
                <a:gridCol w="3397320"/>
                <a:gridCol w="1514520"/>
                <a:gridCol w="209052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脊柱弯曲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抬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颈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独坐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胸椎后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走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腰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Line 27"/>
          <p:cNvSpPr/>
          <p:nvPr/>
        </p:nvSpPr>
        <p:spPr>
          <a:xfrm>
            <a:off x="6648480" y="3224160"/>
            <a:ext cx="13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627960" y="4410000"/>
            <a:ext cx="140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653160" y="5602320"/>
            <a:ext cx="141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86720" y="6072120"/>
            <a:ext cx="135720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2270160" y="12175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柱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33" descr="大运动"/>
          <p:cNvPicPr/>
          <p:nvPr/>
        </p:nvPicPr>
        <p:blipFill>
          <a:blip r:embed="rId2"/>
          <a:srcRect l="31879" t="12406" r="31443" b="70086"/>
          <a:stretch/>
        </p:blipFill>
        <p:spPr>
          <a:xfrm>
            <a:off x="1814400" y="27766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大运动"/>
          <p:cNvPicPr/>
          <p:nvPr/>
        </p:nvPicPr>
        <p:blipFill>
          <a:blip r:embed="rId3"/>
          <a:srcRect l="30134" t="41253" r="31443" b="38323"/>
          <a:stretch/>
        </p:blipFill>
        <p:spPr>
          <a:xfrm>
            <a:off x="1544760" y="3728880"/>
            <a:ext cx="1811160" cy="11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大运动"/>
          <p:cNvPicPr/>
          <p:nvPr/>
        </p:nvPicPr>
        <p:blipFill>
          <a:blip r:embed="rId4"/>
          <a:srcRect l="30134" t="68629" r="31443" b="3645"/>
          <a:stretch/>
        </p:blipFill>
        <p:spPr>
          <a:xfrm>
            <a:off x="1616040" y="4896000"/>
            <a:ext cx="1638360" cy="1414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744B-F69E-4C58-8887-BE9D642637D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牙齿的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出牙顺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恒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左右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A0E0-AFA1-47D7-AED1-E48480379B2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27" name="Picture 4" descr="乳牙萌出">
            <a:hlinkClick r:id="rId1" action="ppaction://hlinksldjump"/>
          </p:cNvPr>
          <p:cNvPicPr/>
          <p:nvPr/>
        </p:nvPicPr>
        <p:blipFill>
          <a:blip r:embed="rId2"/>
          <a:srcRect l="10530" t="0" r="12609" b="-1231"/>
          <a:stretch/>
        </p:blipFill>
        <p:spPr>
          <a:xfrm>
            <a:off x="477720" y="803160"/>
            <a:ext cx="8058240" cy="577224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6"/>
          <p:cNvSpPr/>
          <p:nvPr/>
        </p:nvSpPr>
        <p:spPr>
          <a:xfrm>
            <a:off x="1278000" y="1698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3882960" y="17049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圆角矩形 8"/>
          <p:cNvSpPr/>
          <p:nvPr/>
        </p:nvSpPr>
        <p:spPr>
          <a:xfrm>
            <a:off x="6494400" y="17193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1371600" y="4289400"/>
            <a:ext cx="40644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圆角矩形 10"/>
          <p:cNvSpPr/>
          <p:nvPr/>
        </p:nvSpPr>
        <p:spPr>
          <a:xfrm>
            <a:off x="4100400" y="4173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6531120" y="4137120"/>
            <a:ext cx="40608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2CE3-CAD7-47CF-B156-EFDBCCD4F20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殖系统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性征发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早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出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8F23-93FE-4E65-B05E-F00608D74F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905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视 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出生时 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看亮色、人脸、笑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协调注视物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随物水平转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80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随物垂直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区别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视力达到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9" name="Picture 5" descr="照片 036"/>
          <p:cNvPicPr/>
          <p:nvPr/>
        </p:nvPicPr>
        <p:blipFill>
          <a:blip r:embed="rId1"/>
          <a:srcRect l="0" t="0" r="46771" b="0"/>
          <a:stretch/>
        </p:blipFill>
        <p:spPr>
          <a:xfrm>
            <a:off x="5724360" y="2421000"/>
            <a:ext cx="2981520" cy="2873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1162080" y="380880"/>
            <a:ext cx="765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知觉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F355-89AF-409B-A1AD-F0E7344D44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911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胎儿   有听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新生儿 听力很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头可转向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辨父母声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确定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听懂简单吩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听觉发育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56360" y="40464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听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Picture 5" descr="照片 037"/>
          <p:cNvPicPr/>
          <p:nvPr/>
        </p:nvPicPr>
        <p:blipFill>
          <a:blip r:embed="rId1"/>
          <a:stretch/>
        </p:blipFill>
        <p:spPr>
          <a:xfrm>
            <a:off x="4572000" y="1995480"/>
            <a:ext cx="4540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AC64-1BB5-4241-9E58-5B88E9E4F40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67800" y="980640"/>
            <a:ext cx="4983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时   基本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欢甜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对轻微改变很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喜吃异物，易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84720" y="404640"/>
            <a:ext cx="26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味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705E-3AD1-40F8-8FE7-D4A83D66B85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3336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嗅 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755640" y="83664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53352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时已基本完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能区别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2056-7C48-405D-AE65-B3466D1C5E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皮肤感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嘴唇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温度觉：对冷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痛觉：不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述小儿体格生长常用指标的正常值和计算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与体格生长有关的各系统发育关键时点的变化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叙述小儿感知、运动及语言发育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纳小儿生长发育的规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结影响小儿生长发育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评价不同年龄阶段小儿的生长发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别小儿生长发育中的异常情况，为小儿及家长进行健康指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AB42-79C8-4309-9B99-87E0B3A0CB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2D6D-CB81-4F6A-9CCF-B18F1A1930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07544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平衡和大运动：姿势和全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律：同生长发育规律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滚八爬周会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细运动：手指功能的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4B96-76D1-433C-8129-299D6F1AE6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抬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俯卧时必须有人看管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8E20-D719-465B-A14D-171DAFD59B7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翻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置床挡或护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F745-0F38-41E4-8AFF-23904C31C27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独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避免放置硬物、危险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BC1F-2576-43E8-95EE-BF19600D1E6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3" descr="爬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CD5D-3667-4A52-9C9E-6C889343603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723960" y="14414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爬行的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锻炼肌力，促进生长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大脑发育，认知能力的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平衡能力、协调能力，预防感觉统合失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4446-E402-41B6-BB8C-CCCADD4DED6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934320" y="3567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精细动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24080" y="1371240"/>
            <a:ext cx="3848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握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握持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0" name="Picture 4" descr="手"/>
          <p:cNvPicPr/>
          <p:nvPr/>
        </p:nvPicPr>
        <p:blipFill>
          <a:blip r:embed="rId1"/>
          <a:srcRect l="6352" t="5951" r="9528" b="8720"/>
          <a:stretch/>
        </p:blipFill>
        <p:spPr>
          <a:xfrm>
            <a:off x="2819520" y="32004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D176-DC15-47C6-96E1-10B2A7FDBC7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50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吃、玩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6" descr="照片 039"/>
          <p:cNvPicPr/>
          <p:nvPr/>
        </p:nvPicPr>
        <p:blipFill>
          <a:blip r:embed="rId1"/>
          <a:stretch/>
        </p:blipFill>
        <p:spPr>
          <a:xfrm>
            <a:off x="2517840" y="2127240"/>
            <a:ext cx="4106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30AA-A536-4B65-B2CF-0FBBB628477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手掌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Picture 3" descr="拾取"/>
          <p:cNvPicPr/>
          <p:nvPr/>
        </p:nvPicPr>
        <p:blipFill>
          <a:blip r:embed="rId1"/>
          <a:stretch/>
        </p:blipFill>
        <p:spPr>
          <a:xfrm>
            <a:off x="395280" y="1828800"/>
            <a:ext cx="4038480" cy="4011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037"/>
          <p:cNvPicPr/>
          <p:nvPr/>
        </p:nvPicPr>
        <p:blipFill>
          <a:blip r:embed="rId2"/>
          <a:stretch/>
        </p:blipFill>
        <p:spPr>
          <a:xfrm>
            <a:off x="4876920" y="3200400"/>
            <a:ext cx="4114800" cy="3094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5DBB-010B-49E6-96AF-09BC1785654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物体换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Picture 3" descr="两手互递物品"/>
          <p:cNvPicPr/>
          <p:nvPr/>
        </p:nvPicPr>
        <p:blipFill>
          <a:blip r:embed="rId1"/>
          <a:srcRect l="0" t="7930" r="0" b="0"/>
          <a:stretch/>
        </p:blipFill>
        <p:spPr>
          <a:xfrm>
            <a:off x="2786040" y="1714680"/>
            <a:ext cx="3073320" cy="4700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6705720" y="357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0410-FDFB-4B78-B1ED-F2F09B2BC96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小儿各器官、系统的长大和形态变化。量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development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细胞、组织、器官的分化完善和功能上的成熟。质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C518-C0B4-4041-B016-256CDB4B98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拇指、示指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捏"/>
          <p:cNvPicPr/>
          <p:nvPr/>
        </p:nvPicPr>
        <p:blipFill>
          <a:blip r:embed="rId1"/>
          <a:stretch/>
        </p:blipFill>
        <p:spPr>
          <a:xfrm>
            <a:off x="539640" y="2205000"/>
            <a:ext cx="5029200" cy="404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夹物体"/>
          <p:cNvPicPr/>
          <p:nvPr/>
        </p:nvPicPr>
        <p:blipFill>
          <a:blip r:embed="rId2"/>
          <a:srcRect l="0" t="0" r="0" b="7473"/>
          <a:stretch/>
        </p:blipFill>
        <p:spPr>
          <a:xfrm>
            <a:off x="5853240" y="2060640"/>
            <a:ext cx="3290760" cy="4187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6705720" y="42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DACA-C489-4DDE-B761-D327511805D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36520" y="871200"/>
            <a:ext cx="687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学会用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3" descr="用勺2"/>
          <p:cNvPicPr/>
          <p:nvPr/>
        </p:nvPicPr>
        <p:blipFill>
          <a:blip r:embed="rId1"/>
          <a:srcRect l="9462" t="1686" r="12164" b="3832"/>
          <a:stretch/>
        </p:blipFill>
        <p:spPr>
          <a:xfrm>
            <a:off x="2362320" y="1828800"/>
            <a:ext cx="44193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6629400" y="285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B052-DE71-400D-A2EE-3B43DFB1E65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会自己穿衣服、穿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3" descr="脱衣"/>
          <p:cNvPicPr/>
          <p:nvPr/>
        </p:nvPicPr>
        <p:blipFill>
          <a:blip r:embed="rId1"/>
          <a:srcRect l="12609" t="1877" r="16509" b="4088"/>
          <a:stretch/>
        </p:blipFill>
        <p:spPr>
          <a:xfrm>
            <a:off x="2357280" y="192888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6781680" y="428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98C6-9E84-4C77-AB82-8F0D7FB17F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安全，预防意外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合小儿的动作发展规律进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1" name="Picture 3" descr="02_RQHEdbv5UXWF"/>
          <p:cNvPicPr/>
          <p:nvPr/>
        </p:nvPicPr>
        <p:blipFill>
          <a:blip r:embed="rId1"/>
          <a:stretch/>
        </p:blipFill>
        <p:spPr>
          <a:xfrm>
            <a:off x="5857920" y="2857680"/>
            <a:ext cx="237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FA43-BFC9-4A09-A68B-A4D1CAA27C6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音阶段（出生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：准备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元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辅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无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有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76C5-496E-4685-8209-BF652420BEC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某些常用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叫出自己的名字－自我意识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标题 1"/>
          <p:cNvSpPr/>
          <p:nvPr/>
        </p:nvSpPr>
        <p:spPr>
          <a:xfrm>
            <a:off x="99072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语言的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20FF-EE79-4896-9F4C-840DE0EBFD0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叫出身体各部分的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     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构成的句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词→句子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词→代名词、动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句→复杂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2D32-0C87-45C7-A259-E835D67BBAF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：无意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有意注意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幼儿期和学龄前期：无意注意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15CF-6915-437C-A76A-471735354F2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只有再认而无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才有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机械记忆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有意记忆能力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6C31-DA54-41C2-81C2-B961A860407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开始产生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前直觉行动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具体形象思维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学会抽象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7F51-3EB9-4BFC-9868-D187D0B620E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阶段性：高峰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期、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器官系统发育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序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体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3359-A684-424D-9373-9CB04657026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象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想象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：无意想象和再造想象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：有意想象和创造想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19C5-55ED-48AE-8E61-67ED6A61456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无意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幼儿意志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2F8D-5DFD-47DD-981C-B6E59E3B06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和情感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消极情绪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积极情绪增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，依恋、怯生情绪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开始，情感表现日渐丰富和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能有意识地控制自己情感的外部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小儿生长发育中的特殊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格生长偏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行为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23AB-A475-46D9-8A46-4F88CB2DE42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4482-FCD8-41FA-999E-C31A5B160DF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偏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低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过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高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矮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5CD7-AD83-4D26-8E75-8454779C2EE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E135-CB32-474E-9688-AA83233429F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920" y="1052640"/>
            <a:ext cx="8610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行为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气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吮拇指癖与咬指甲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动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尿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孤独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力缺陷多动障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76DB-B791-4F18-9989-C75C44C5601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BB92-306B-492E-8F17-70A82A64FB1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48AB-9401-4B59-92C0-88715A2038F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C3A2-7690-4CD3-AC09-8E9A81C2DDD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652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不平衡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7" name="Picture 4" descr="发育规律图">
            <a:hlinkClick r:id="rId1" action="ppaction://hlinksldjump"/>
          </p:cNvPr>
          <p:cNvPicPr/>
          <p:nvPr/>
        </p:nvPicPr>
        <p:blipFill>
          <a:blip r:embed="rId2"/>
          <a:srcRect l="19811" t="0" r="21113" b="10781"/>
          <a:stretch/>
        </p:blipFill>
        <p:spPr>
          <a:xfrm>
            <a:off x="2424240" y="1143000"/>
            <a:ext cx="4308480" cy="4894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920960" y="1944720"/>
            <a:ext cx="5461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系统发育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F115-FC2E-4046-8815-C36300BA5A9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01680" y="1919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   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    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粗    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级   高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   复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3652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顺序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692360" y="2133720"/>
            <a:ext cx="3664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92360" y="2708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1692360" y="3213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050920" y="371628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050920" y="4221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11" descr="图片1">
            <a:hlinkClick r:id="rId1" action="ppaction://hlinksldjump"/>
          </p:cNvPr>
          <p:cNvPicPr/>
          <p:nvPr/>
        </p:nvPicPr>
        <p:blipFill>
          <a:blip r:embed="rId2"/>
          <a:srcRect l="0" t="0" r="0" b="7120"/>
          <a:stretch/>
        </p:blipFill>
        <p:spPr>
          <a:xfrm>
            <a:off x="4030560" y="1432080"/>
            <a:ext cx="38829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95F3-6FBC-445C-A564-971B3A99578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5715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孕母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和药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9CE2-44AA-4FA5-BCD5-ACABB6F5467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3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 重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weigh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器官、组织及体液的总重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反映体格生长、营养状况的最敏感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3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2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理性体重下降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ysiological weight los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出生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周内，由于摄入不足、水分丧失及排除胎便，体重暂时性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3%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 9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日恢复到出生时的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6T07:49:51Z</dcterms:modified>
  <cp:revision>156</cp:revision>
  <dc:subject/>
  <dc:title>内科护理学</dc:title>
</cp:coreProperties>
</file>