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3159-969B-4D7D-B826-441FD3FA77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61FBD-F1DF-412E-B46A-DB7B773C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9C05-9765-4876-9D40-D7DA31A2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52B8-66E9-4667-A36E-CA08892F46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2F16-E491-4123-BD82-8325F8F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9DF4D-BF68-486F-9684-5F76AC1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6587-F81C-4B28-B359-3589DDEA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D0DB-DAF1-434D-BFBF-CF8379FF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9EFB-A38E-49E7-8FAC-AF9CF5ED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D951-3005-4232-A4A9-5A0FB150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75C4-A6A2-4156-B657-D226743B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90B4-0254-4720-8EB8-51EFF42E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5D9E-B7D7-4429-A54E-6B9D3A7A421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道感染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367280" y="507204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03320" y="2349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道感染病毒是指主要经消化道传播的病毒，包括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科的肠道病毒属和引起急性胃肠炎的相关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41160" y="237024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科的肠道病毒属共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；小球型，无包膜；衣壳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强，但对热、干燥、紫外线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数肠道病毒感染细胞出现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，多引起隐性感染，有病毒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病多原、一原多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627280" y="140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肠道病毒种类与特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1160" y="1844280"/>
            <a:ext cx="80341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的病原体，大多数人为隐性感染，少数出现中枢神经系统症状，又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儿麻痹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两次病毒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前角运动神经元受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可获得对同型病毒牢固的免疫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毒活疫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98764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病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肠道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14240" y="1223640"/>
            <a:ext cx="80344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柯萨奇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为隐性或轻型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无菌性脑膜炎、出疹性疾病、急性心肌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型免疫持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埃可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与柯萨奇病毒类似的神经系统和呼吸系统病变、手足口病以及婴幼儿腹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8-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型可引起脑炎、手足口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640" y="2491920"/>
            <a:ext cx="79200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胃肠炎是人类常见病，主要表现为腹泻。可引起急性胃肠炎的重要病毒种类有：轮状病毒、肠道腺病毒、诺瓦克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急性胃肠炎病毒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轮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00000" y="1267920"/>
            <a:ext cx="7632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基因组分节段；球型，无包膜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层衣壳，内衣壳形如车轮辐条，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急性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组轮状病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体液免疫为主，同型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应及时补液，纠正电解质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杯状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258920" y="2565360"/>
            <a:ext cx="69134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；外界抗性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通过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引起较大年龄儿童和成人急性胃肠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道病毒的共同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脊髓灰质炎病毒的致病特点和免疫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引起人类病毒性急性胃肠炎的病毒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正版用户</cp:lastModifiedBy>
  <dcterms:modified xsi:type="dcterms:W3CDTF">2014-05-26T01:40:52Z</dcterms:modified>
  <cp:revision>141</cp:revision>
  <dc:subject/>
  <dc:title>内科护理学</dc:title>
</cp:coreProperties>
</file>