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png" ContentType="image/png"/>
  <Override PartName="/ppt/media/image11.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38.png" ContentType="image/png"/>
  <Override PartName="/ppt/media/image8.jpeg" ContentType="image/jpeg"/>
  <Override PartName="/ppt/media/image29.jpeg" ContentType="image/jpeg"/>
  <Override PartName="/ppt/media/image5.png" ContentType="image/png"/>
  <Override PartName="/ppt/media/image35.jpeg" ContentType="image/jpeg"/>
  <Override PartName="/ppt/media/image10.jpeg" ContentType="image/jpeg"/>
  <Override PartName="/ppt/media/image33.png" ContentType="image/png"/>
  <Override PartName="/ppt/media/image14.jpeg" ContentType="image/jpeg"/>
  <Override PartName="/ppt/media/image37.png" ContentType="image/png"/>
  <Override PartName="/ppt/media/image34.jpeg" ContentType="image/jpeg"/>
  <Override PartName="/ppt/media/image7.jpeg" ContentType="image/jpeg"/>
  <Override PartName="/ppt/media/image28.jpeg" ContentType="image/jpeg"/>
  <Override PartName="/ppt/media/image36.png" ContentType="image/png"/>
  <Override PartName="/ppt/media/image39.png" ContentType="image/png"/>
  <Override PartName="/ppt/media/image6.jpeg" ContentType="image/jpeg"/>
  <Override PartName="/ppt/media/image27.jpeg" ContentType="image/jpeg"/>
  <Override PartName="/ppt/media/image13.jpeg" ContentType="image/jpeg"/>
  <Override PartName="/ppt/media/image12.jpeg" ContentType="image/jpeg"/>
  <Override PartName="/ppt/media/image4.png" ContentType="image/png"/>
  <Override PartName="/ppt/media/image30.png" ContentType="image/png"/>
  <Override PartName="/ppt/media/image3.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A7CF8-1B4B-464C-8CE3-E1D60B849F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B4AAA78-D310-472F-A1AB-FF44A916A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3D0243-1426-4914-A863-FC406030A7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CB1BDB2-9B67-4368-AEC8-DBE4C82745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714EEC-B865-452B-B2D2-53C45901B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8965D66-CF50-407B-A055-D875DD44F1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E954EF-338A-42D3-99AA-AF636E1F9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ADBFEE-4D83-484D-9E76-C1623AAAC4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420E79-3459-49FB-BC74-3B714B347D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BFA4D9-59DA-487F-8204-90BE95394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F91BB-02B3-4BF9-B48F-1BDC29D42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63E4B8-9AD1-4017-B90B-88F145B80E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7656-FC3E-44DD-B8B5-24D20E6990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41.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十四章</a:t>
            </a:r>
            <a:br>
              <a:rPr sz="4000"/>
            </a:br>
            <a:r>
              <a:rPr b="1" lang="zh-CN" sz="4000" spc="-1" strike="noStrike">
                <a:solidFill>
                  <a:srgbClr val="ffffff"/>
                </a:solidFill>
                <a:latin typeface="Verdana"/>
                <a:ea typeface="宋体"/>
              </a:rPr>
              <a:t>其他病毒</a:t>
            </a:r>
            <a:endParaRPr b="0" lang="en-US" sz="4000" spc="-1" strike="noStrike">
              <a:solidFill>
                <a:srgbClr val="ffffff"/>
              </a:solidFill>
              <a:latin typeface="Verdana"/>
            </a:endParaRPr>
          </a:p>
        </p:txBody>
      </p:sp>
      <p:sp>
        <p:nvSpPr>
          <p:cNvPr id="105" name="TextBox 2"/>
          <p:cNvSpPr/>
          <p:nvPr/>
        </p:nvSpPr>
        <p:spPr>
          <a:xfrm>
            <a:off x="1671480" y="5000760"/>
            <a:ext cx="1095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承德医学院</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方艳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Rectangle 8"/>
          <p:cNvSpPr/>
          <p:nvPr/>
        </p:nvSpPr>
        <p:spPr>
          <a:xfrm>
            <a:off x="1116000" y="1265760"/>
            <a:ext cx="6767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表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兴奋期：神经兴奋性增高</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恐水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麻痹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昏迷、呼吸衰竭、循环衰竭</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死率：</a:t>
            </a:r>
            <a:r>
              <a:rPr b="0" lang="en-US" sz="2400" spc="-1" strike="noStrike">
                <a:solidFill>
                  <a:srgbClr val="046ca6"/>
                </a:solidFill>
                <a:latin typeface="Arial"/>
                <a:ea typeface="宋体"/>
              </a:rPr>
              <a:t>100%</a:t>
            </a:r>
            <a:endParaRPr b="0" lang="en-US" sz="2400" spc="-1" strike="noStrike">
              <a:solidFill>
                <a:srgbClr val="046ca6"/>
              </a:solidFill>
              <a:latin typeface="Arial"/>
            </a:endParaRPr>
          </a:p>
        </p:txBody>
      </p:sp>
      <p:pic>
        <p:nvPicPr>
          <p:cNvPr id="142" name="Picture 9" descr="狂犬病"/>
          <p:cNvPicPr/>
          <p:nvPr/>
        </p:nvPicPr>
        <p:blipFill>
          <a:blip r:embed="rId1"/>
          <a:stretch/>
        </p:blipFill>
        <p:spPr>
          <a:xfrm>
            <a:off x="755640" y="3645000"/>
            <a:ext cx="3165480" cy="2314440"/>
          </a:xfrm>
          <a:prstGeom prst="rect">
            <a:avLst/>
          </a:prstGeom>
          <a:ln w="0">
            <a:noFill/>
          </a:ln>
        </p:spPr>
      </p:pic>
      <p:pic>
        <p:nvPicPr>
          <p:cNvPr id="143" name="Picture 10" descr="狂犬病2"/>
          <p:cNvPicPr/>
          <p:nvPr/>
        </p:nvPicPr>
        <p:blipFill>
          <a:blip r:embed="rId2"/>
          <a:stretch/>
        </p:blipFill>
        <p:spPr>
          <a:xfrm>
            <a:off x="4643280" y="3645000"/>
            <a:ext cx="3384720" cy="23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Text Box 4"/>
          <p:cNvSpPr/>
          <p:nvPr/>
        </p:nvSpPr>
        <p:spPr>
          <a:xfrm>
            <a:off x="197964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147" name="Rectangle 5"/>
          <p:cNvSpPr/>
          <p:nvPr/>
        </p:nvSpPr>
        <p:spPr>
          <a:xfrm>
            <a:off x="755640" y="358632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对咬伤人的可疑动物的观察和微生物学检查对于采取防治措施极为重要。将动物隔离观察，若经</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不发病，一般可认为该动物未患狂犬病或咬人时唾液中尚无狂犬病病毒。若观察期间发病，即将其处死，取海马回部位脑组织切片，寻找内基小体；再做组织涂片，用免疫荧光抗体法检查病毒抗原。对可疑患者常取唾液沉渣涂片，用免疫荧光抗体法检查病毒抗原。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Text Box 4"/>
          <p:cNvSpPr/>
          <p:nvPr/>
        </p:nvSpPr>
        <p:spPr>
          <a:xfrm>
            <a:off x="2627280" y="126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151"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家犬管理、捕杀野犬和注射疫苗是预防狂犬病的主要措施。人被动物咬伤后，立即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肥皂水、</a:t>
            </a:r>
            <a:r>
              <a:rPr b="0" lang="en-US" sz="2400" spc="-1" strike="noStrike">
                <a:solidFill>
                  <a:srgbClr val="046ca6"/>
                </a:solidFill>
                <a:latin typeface="Arial"/>
                <a:ea typeface="宋体"/>
              </a:rPr>
              <a:t>0.1%</a:t>
            </a:r>
            <a:r>
              <a:rPr b="0" lang="zh-CN" sz="2400" spc="-1" strike="noStrike">
                <a:solidFill>
                  <a:srgbClr val="046ca6"/>
                </a:solidFill>
                <a:latin typeface="Arial"/>
                <a:ea typeface="宋体"/>
              </a:rPr>
              <a:t>苯扎溴铵或清水反复冲洗伤口，再用</a:t>
            </a:r>
            <a:r>
              <a:rPr b="0" lang="en-US" sz="2400" spc="-1" strike="noStrike">
                <a:solidFill>
                  <a:srgbClr val="046ca6"/>
                </a:solidFill>
                <a:latin typeface="Arial"/>
                <a:ea typeface="宋体"/>
              </a:rPr>
              <a:t>70%</a:t>
            </a:r>
            <a:r>
              <a:rPr b="0"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Text Box 4"/>
          <p:cNvSpPr/>
          <p:nvPr/>
        </p:nvSpPr>
        <p:spPr>
          <a:xfrm>
            <a:off x="234000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二节  虫媒病毒</a:t>
            </a:r>
            <a:endParaRPr b="0" lang="en-US" sz="4000" spc="-1" strike="noStrike">
              <a:solidFill>
                <a:srgbClr val="046ca6"/>
              </a:solidFill>
              <a:latin typeface="Arial"/>
            </a:endParaRPr>
          </a:p>
        </p:txBody>
      </p:sp>
      <p:sp>
        <p:nvSpPr>
          <p:cNvPr id="155" name="Rectangle 5"/>
          <p:cNvSpPr/>
          <p:nvPr/>
        </p:nvSpPr>
        <p:spPr>
          <a:xfrm>
            <a:off x="611280" y="3630240"/>
            <a:ext cx="76327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虫媒病毒（</a:t>
            </a:r>
            <a:r>
              <a:rPr b="0" lang="en-US" sz="2800" spc="-1" strike="noStrike">
                <a:solidFill>
                  <a:srgbClr val="046ca6"/>
                </a:solidFill>
                <a:latin typeface="Arial"/>
                <a:ea typeface="宋体"/>
              </a:rPr>
              <a:t>arbovirus</a:t>
            </a:r>
            <a:r>
              <a:rPr b="0" lang="zh-CN" sz="2800" spc="-1" strike="noStrike">
                <a:solidFill>
                  <a:srgbClr val="046ca6"/>
                </a:solidFill>
                <a:latin typeface="Arial"/>
                <a:ea typeface="宋体"/>
              </a:rPr>
              <a:t>）是指通过吸血节肢动物为媒介传播，引起人类多种疾病的病毒。虫媒病毒是根据其传播方式归纳在一起的一大类病毒，在病毒学分类上分属于黄病毒科、披膜病毒科和布尼亚病毒科等不同的病毒科和病毒属，引起不同的疾病。在我国，引起疾病的虫媒病毒主要为黄病毒科的流行性乙型脑炎病毒、登革病毒和森林脑炎病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 Box 4"/>
          <p:cNvSpPr/>
          <p:nvPr/>
        </p:nvSpPr>
        <p:spPr>
          <a:xfrm>
            <a:off x="1332000" y="1700280"/>
            <a:ext cx="648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流行性乙型脑炎病毒</a:t>
            </a:r>
            <a:endParaRPr b="0" lang="en-US" sz="4000" spc="-1" strike="noStrike">
              <a:solidFill>
                <a:srgbClr val="046ca6"/>
              </a:solidFill>
              <a:latin typeface="Arial"/>
            </a:endParaRPr>
          </a:p>
        </p:txBody>
      </p:sp>
      <p:sp>
        <p:nvSpPr>
          <p:cNvPr id="159" name="Text Box 5"/>
          <p:cNvSpPr/>
          <p:nvPr/>
        </p:nvSpPr>
        <p:spPr>
          <a:xfrm>
            <a:off x="826920" y="2852640"/>
            <a:ext cx="7993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流行性乙型脑炎病毒（</a:t>
            </a:r>
            <a:r>
              <a:rPr b="0" lang="en-US" sz="2800" spc="-1" strike="noStrike">
                <a:solidFill>
                  <a:srgbClr val="046ca6"/>
                </a:solidFill>
                <a:latin typeface="Arial"/>
                <a:ea typeface="宋体"/>
              </a:rPr>
              <a:t>epidemic type B encephalitis virus</a:t>
            </a:r>
            <a:r>
              <a:rPr b="0" lang="zh-CN" sz="2800" spc="-1" strike="noStrike">
                <a:solidFill>
                  <a:srgbClr val="046ca6"/>
                </a:solidFill>
                <a:latin typeface="Arial"/>
                <a:ea typeface="宋体"/>
              </a:rPr>
              <a:t>）简称乙脑病毒，是引起流行性乙型脑炎（简称乙脑）的病原体，国际上称为日本脑炎病毒（</a:t>
            </a:r>
            <a:r>
              <a:rPr b="0" lang="en-US" sz="2800" spc="-1" strike="noStrike">
                <a:solidFill>
                  <a:srgbClr val="046ca6"/>
                </a:solidFill>
                <a:latin typeface="Arial"/>
                <a:ea typeface="宋体"/>
              </a:rPr>
              <a:t>Japanese encephalitis virus</a:t>
            </a:r>
            <a:r>
              <a:rPr b="0" lang="zh-CN" sz="2800" spc="-1" strike="noStrike">
                <a:solidFill>
                  <a:srgbClr val="046ca6"/>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4" name="Rectangle 6"/>
          <p:cNvSpPr/>
          <p:nvPr/>
        </p:nvSpPr>
        <p:spPr>
          <a:xfrm>
            <a:off x="539640" y="3860640"/>
            <a:ext cx="81378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直径约</a:t>
            </a:r>
            <a:r>
              <a:rPr b="0" lang="en-US" sz="2400" spc="-1" strike="noStrike">
                <a:solidFill>
                  <a:srgbClr val="046ca6"/>
                </a:solidFill>
                <a:latin typeface="Arial"/>
                <a:ea typeface="宋体"/>
              </a:rPr>
              <a:t>30</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40nm</a:t>
            </a:r>
            <a:r>
              <a:rPr b="0" lang="en-US" sz="2400" spc="-1" strike="noStrike">
                <a:solidFill>
                  <a:srgbClr val="046ca6"/>
                </a:solidFill>
                <a:latin typeface="Arial"/>
                <a:ea typeface="宋体"/>
              </a:rPr>
              <a:t>。核酸为单正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衣壳呈</a:t>
            </a:r>
            <a:r>
              <a:rPr b="0" lang="zh-CN" sz="2400" spc="-1" strike="noStrike">
                <a:solidFill>
                  <a:srgbClr val="046ca6"/>
                </a:solidFill>
                <a:latin typeface="Arial"/>
                <a:ea typeface="宋体"/>
              </a:rPr>
              <a:t>立体对称，有包膜。其结构蛋白有</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和</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三种。</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蛋白是衣壳蛋白，</a:t>
            </a:r>
            <a:r>
              <a:rPr b="0" lang="en-US" sz="2400" spc="-1" strike="noStrike">
                <a:solidFill>
                  <a:srgbClr val="046ca6"/>
                </a:solidFill>
                <a:latin typeface="Arial"/>
                <a:ea typeface="宋体"/>
              </a:rPr>
              <a:t>M</a:t>
            </a:r>
            <a:r>
              <a:rPr b="0" lang="zh-CN" sz="2400" spc="-1" strike="noStrike">
                <a:solidFill>
                  <a:srgbClr val="046ca6"/>
                </a:solidFill>
                <a:latin typeface="Arial"/>
                <a:ea typeface="宋体"/>
              </a:rPr>
              <a:t>蛋白位于包膜内面，</a:t>
            </a:r>
            <a:r>
              <a:rPr b="0" lang="en-US" sz="2400" spc="-1" strike="noStrike">
                <a:solidFill>
                  <a:srgbClr val="046ca6"/>
                </a:solidFill>
                <a:latin typeface="Arial"/>
                <a:ea typeface="宋体"/>
              </a:rPr>
              <a:t>E</a:t>
            </a:r>
            <a:r>
              <a:rPr b="0" lang="zh-CN" sz="2400" spc="-1" strike="noStrike">
                <a:solidFill>
                  <a:srgbClr val="046ca6"/>
                </a:solidFill>
                <a:latin typeface="Arial"/>
                <a:ea typeface="宋体"/>
              </a:rPr>
              <a:t>蛋白是镶嵌在包膜中的糖蛋白刺突，能凝集鹅、鸽及雏鸡的红细胞，具有血凝素活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免疫原性稳定，很少变异，现仅发现一种血清型。</a:t>
            </a:r>
            <a:endParaRPr b="0" lang="en-US" sz="2400" spc="-1" strike="noStrike">
              <a:solidFill>
                <a:srgbClr val="046ca6"/>
              </a:solidFill>
              <a:latin typeface="Arial"/>
            </a:endParaRPr>
          </a:p>
        </p:txBody>
      </p:sp>
      <p:pic>
        <p:nvPicPr>
          <p:cNvPr id="165" name="Picture 8" descr="encephalitis"/>
          <p:cNvPicPr/>
          <p:nvPr/>
        </p:nvPicPr>
        <p:blipFill>
          <a:blip r:embed="rId1"/>
          <a:stretch/>
        </p:blipFill>
        <p:spPr>
          <a:xfrm>
            <a:off x="2195640" y="1052640"/>
            <a:ext cx="4511520" cy="2892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传播途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Text Box 3"/>
          <p:cNvSpPr/>
          <p:nvPr/>
        </p:nvSpPr>
        <p:spPr>
          <a:xfrm>
            <a:off x="539640" y="148428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传染源</a:t>
            </a:r>
            <a:endParaRPr b="0" lang="en-US" sz="3200" spc="-1" strike="noStrike">
              <a:solidFill>
                <a:srgbClr val="046ca6"/>
              </a:solidFill>
              <a:latin typeface="Arial"/>
            </a:endParaRPr>
          </a:p>
        </p:txBody>
      </p:sp>
      <p:sp>
        <p:nvSpPr>
          <p:cNvPr id="171" name="Rectangle 4"/>
          <p:cNvSpPr/>
          <p:nvPr/>
        </p:nvSpPr>
        <p:spPr>
          <a:xfrm>
            <a:off x="755640" y="270828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家畜、家禽尤其是幼猪是乙脑病毒的主要的传染源和中间宿主。动物感染后虽不出现明显症状，但可形成高滴度病毒血症，从而成为传染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3" name="Text Box 6"/>
          <p:cNvSpPr/>
          <p:nvPr/>
        </p:nvSpPr>
        <p:spPr>
          <a:xfrm>
            <a:off x="250920" y="1341360"/>
            <a:ext cx="431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传播媒介</a:t>
            </a:r>
            <a:endParaRPr b="0" lang="en-US" sz="3200" spc="-1" strike="noStrike">
              <a:solidFill>
                <a:srgbClr val="046ca6"/>
              </a:solidFill>
              <a:latin typeface="Arial"/>
            </a:endParaRPr>
          </a:p>
        </p:txBody>
      </p:sp>
      <p:sp>
        <p:nvSpPr>
          <p:cNvPr id="174" name="Rectangle 7"/>
          <p:cNvSpPr/>
          <p:nvPr/>
        </p:nvSpPr>
        <p:spPr>
          <a:xfrm>
            <a:off x="611280" y="206064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乙脑病毒主要由三带喙库蚊、白纹伊蚊传播。我国乙脑流行高峰期在</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9</a:t>
            </a:r>
            <a:r>
              <a:rPr b="0" lang="zh-CN" sz="2400" spc="-1" strike="noStrike">
                <a:solidFill>
                  <a:srgbClr val="046ca6"/>
                </a:solidFill>
                <a:latin typeface="Arial"/>
                <a:ea typeface="宋体"/>
              </a:rPr>
              <a:t>月，主要与带病毒蚊虫出现的时间和密度有关。另外，蠛蠓可能是另一种重要的传播媒介。蚊吸血后，病毒在其唾液腺和肠内增殖，通过叮咬易感动物而传播。蚊体可携带乙脑病毒越冬以及经卵传代，因此蚊不仅是传播媒介也是重要的储存宿主。</a:t>
            </a:r>
            <a:endParaRPr b="0" lang="en-US" sz="2400" spc="-1" strike="noStrike">
              <a:solidFill>
                <a:srgbClr val="046ca6"/>
              </a:solidFill>
              <a:latin typeface="Arial"/>
            </a:endParaRPr>
          </a:p>
        </p:txBody>
      </p:sp>
      <p:pic>
        <p:nvPicPr>
          <p:cNvPr id="175" name="Picture 8" descr="je"/>
          <p:cNvPicPr/>
          <p:nvPr/>
        </p:nvPicPr>
        <p:blipFill>
          <a:blip r:embed="rId1"/>
          <a:stretch/>
        </p:blipFill>
        <p:spPr>
          <a:xfrm>
            <a:off x="5219640" y="4221000"/>
            <a:ext cx="3311640" cy="2048040"/>
          </a:xfrm>
          <a:prstGeom prst="rect">
            <a:avLst/>
          </a:prstGeom>
          <a:ln w="0">
            <a:noFill/>
          </a:ln>
        </p:spPr>
      </p:pic>
      <p:pic>
        <p:nvPicPr>
          <p:cNvPr id="176" name="Picture 9" descr="9482"/>
          <p:cNvPicPr/>
          <p:nvPr/>
        </p:nvPicPr>
        <p:blipFill>
          <a:blip r:embed="rId2"/>
          <a:stretch/>
        </p:blipFill>
        <p:spPr>
          <a:xfrm>
            <a:off x="2484360" y="4437000"/>
            <a:ext cx="1457280" cy="173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8" name="Text Box 6"/>
          <p:cNvSpPr/>
          <p:nvPr/>
        </p:nvSpPr>
        <p:spPr>
          <a:xfrm>
            <a:off x="2340000" y="191628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一节  狂犬病病毒</a:t>
            </a:r>
            <a:endParaRPr b="0" lang="en-US" sz="4000" spc="-1" strike="noStrike">
              <a:solidFill>
                <a:srgbClr val="046ca6"/>
              </a:solidFill>
              <a:latin typeface="Arial"/>
            </a:endParaRPr>
          </a:p>
        </p:txBody>
      </p:sp>
      <p:sp>
        <p:nvSpPr>
          <p:cNvPr id="109" name="Rectangle 7"/>
          <p:cNvSpPr/>
          <p:nvPr/>
        </p:nvSpPr>
        <p:spPr>
          <a:xfrm>
            <a:off x="1042920" y="3497400"/>
            <a:ext cx="72010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狂犬病病毒（</a:t>
            </a:r>
            <a:r>
              <a:rPr b="0" lang="en-US" sz="2800" spc="-1" strike="noStrike">
                <a:solidFill>
                  <a:srgbClr val="046ca6"/>
                </a:solidFill>
                <a:latin typeface="Arial"/>
                <a:ea typeface="宋体"/>
              </a:rPr>
              <a:t>rabies virus</a:t>
            </a:r>
            <a:r>
              <a:rPr b="0" lang="zh-CN" sz="2800" spc="-1" strike="noStrike">
                <a:solidFill>
                  <a:srgbClr val="046ca6"/>
                </a:solidFill>
                <a:latin typeface="Arial"/>
                <a:ea typeface="宋体"/>
              </a:rPr>
              <a:t>）是引起狂犬病的病原体，属弹状病毒科，狂犬病病毒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19"/>
          <p:cNvSpPr/>
          <p:nvPr/>
        </p:nvSpPr>
        <p:spPr>
          <a:xfrm>
            <a:off x="971640" y="5373720"/>
            <a:ext cx="2376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经血脑屏障进入脑组织</a:t>
            </a:r>
            <a:endParaRPr b="0" lang="en-US" sz="3200" spc="-1" strike="noStrike">
              <a:solidFill>
                <a:srgbClr val="046ca6"/>
              </a:solidFill>
              <a:latin typeface="Arial"/>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Text Box 15"/>
          <p:cNvSpPr/>
          <p:nvPr/>
        </p:nvSpPr>
        <p:spPr>
          <a:xfrm>
            <a:off x="3564000" y="191628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毛细血管内皮细胞</a:t>
            </a:r>
            <a:endParaRPr b="0" lang="en-US" sz="2800" spc="-1" strike="noStrike">
              <a:solidFill>
                <a:srgbClr val="046ca6"/>
              </a:solidFill>
              <a:latin typeface="Arial"/>
            </a:endParaRPr>
          </a:p>
        </p:txBody>
      </p:sp>
      <p:sp>
        <p:nvSpPr>
          <p:cNvPr id="183" name="Text Box 16"/>
          <p:cNvSpPr/>
          <p:nvPr/>
        </p:nvSpPr>
        <p:spPr>
          <a:xfrm>
            <a:off x="179280" y="1844640"/>
            <a:ext cx="331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初次病毒血症</a:t>
            </a:r>
            <a:endParaRPr b="0" lang="en-US" sz="3200" spc="-1" strike="noStrike">
              <a:solidFill>
                <a:srgbClr val="046ca6"/>
              </a:solidFill>
              <a:latin typeface="Arial"/>
            </a:endParaRPr>
          </a:p>
        </p:txBody>
      </p:sp>
      <p:sp>
        <p:nvSpPr>
          <p:cNvPr id="184" name="Text Box 17"/>
          <p:cNvSpPr/>
          <p:nvPr/>
        </p:nvSpPr>
        <p:spPr>
          <a:xfrm>
            <a:off x="179280" y="299736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肝、脾、淋巴结的单核巨噬细胞系统</a:t>
            </a:r>
            <a:endParaRPr b="0" lang="en-US" sz="3200" spc="-1" strike="noStrike">
              <a:solidFill>
                <a:srgbClr val="046ca6"/>
              </a:solidFill>
              <a:latin typeface="Arial"/>
            </a:endParaRPr>
          </a:p>
        </p:txBody>
      </p:sp>
      <p:sp>
        <p:nvSpPr>
          <p:cNvPr id="185" name="Text Box 18"/>
          <p:cNvSpPr/>
          <p:nvPr/>
        </p:nvSpPr>
        <p:spPr>
          <a:xfrm>
            <a:off x="324000" y="4221000"/>
            <a:ext cx="38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第二次病毒血症</a:t>
            </a:r>
            <a:endParaRPr b="0" lang="en-US" sz="3200" spc="-1" strike="noStrike">
              <a:solidFill>
                <a:srgbClr val="046ca6"/>
              </a:solidFill>
              <a:latin typeface="Arial"/>
            </a:endParaRPr>
          </a:p>
        </p:txBody>
      </p:sp>
      <p:sp>
        <p:nvSpPr>
          <p:cNvPr id="186" name="Text Box 20"/>
          <p:cNvSpPr/>
          <p:nvPr/>
        </p:nvSpPr>
        <p:spPr>
          <a:xfrm>
            <a:off x="4211640" y="4149720"/>
            <a:ext cx="34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流感样综合征</a:t>
            </a:r>
            <a:endParaRPr b="0" lang="en-US" sz="3200" spc="-1" strike="noStrike">
              <a:solidFill>
                <a:srgbClr val="046ca6"/>
              </a:solidFill>
              <a:latin typeface="Arial"/>
            </a:endParaRPr>
          </a:p>
        </p:txBody>
      </p:sp>
      <p:sp>
        <p:nvSpPr>
          <p:cNvPr id="187" name="Text Box 21"/>
          <p:cNvSpPr/>
          <p:nvPr/>
        </p:nvSpPr>
        <p:spPr>
          <a:xfrm>
            <a:off x="4572000" y="5661000"/>
            <a:ext cx="38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脑实质和脑膜炎症</a:t>
            </a:r>
            <a:endParaRPr b="0" lang="en-US" sz="3200" spc="-1" strike="noStrike">
              <a:solidFill>
                <a:srgbClr val="046ca6"/>
              </a:solidFill>
              <a:latin typeface="Arial"/>
            </a:endParaRPr>
          </a:p>
        </p:txBody>
      </p:sp>
      <p:sp>
        <p:nvSpPr>
          <p:cNvPr id="188" name="AutoShape 22"/>
          <p:cNvSpPr/>
          <p:nvPr/>
        </p:nvSpPr>
        <p:spPr>
          <a:xfrm rot="5400000">
            <a:off x="3024000" y="1952640"/>
            <a:ext cx="360360" cy="576000"/>
          </a:xfrm>
          <a:prstGeom prst="down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3"/>
          <p:cNvSpPr/>
          <p:nvPr/>
        </p:nvSpPr>
        <p:spPr>
          <a:xfrm>
            <a:off x="1763640" y="2492280"/>
            <a:ext cx="360360" cy="503280"/>
          </a:xfrm>
          <a:prstGeom prst="downArrow">
            <a:avLst>
              <a:gd name="adj1" fmla="val 50000"/>
              <a:gd name="adj2" fmla="val 349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24"/>
          <p:cNvSpPr/>
          <p:nvPr/>
        </p:nvSpPr>
        <p:spPr>
          <a:xfrm>
            <a:off x="1763640" y="3716280"/>
            <a:ext cx="360360" cy="504720"/>
          </a:xfrm>
          <a:prstGeom prst="downArrow">
            <a:avLst>
              <a:gd name="adj1" fmla="val 50000"/>
              <a:gd name="adj2" fmla="val 3501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25"/>
          <p:cNvSpPr/>
          <p:nvPr/>
        </p:nvSpPr>
        <p:spPr>
          <a:xfrm>
            <a:off x="1763640" y="4869000"/>
            <a:ext cx="360360" cy="431640"/>
          </a:xfrm>
          <a:prstGeom prst="downArrow">
            <a:avLst>
              <a:gd name="adj1" fmla="val 50000"/>
              <a:gd name="adj2" fmla="val 29945"/>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AutoShape 26"/>
          <p:cNvSpPr/>
          <p:nvPr/>
        </p:nvSpPr>
        <p:spPr>
          <a:xfrm>
            <a:off x="3419640" y="4365720"/>
            <a:ext cx="576000" cy="360360"/>
          </a:xfrm>
          <a:prstGeom prst="rightArrow">
            <a:avLst>
              <a:gd name="adj1" fmla="val 50000"/>
              <a:gd name="adj2" fmla="val 399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27"/>
          <p:cNvSpPr/>
          <p:nvPr/>
        </p:nvSpPr>
        <p:spPr>
          <a:xfrm>
            <a:off x="3564000" y="5805360"/>
            <a:ext cx="718920" cy="360360"/>
          </a:xfrm>
          <a:prstGeom prst="rightArrow">
            <a:avLst>
              <a:gd name="adj1" fmla="val 50000"/>
              <a:gd name="adj2" fmla="val 4987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28"/>
          <p:cNvSpPr/>
          <p:nvPr/>
        </p:nvSpPr>
        <p:spPr>
          <a:xfrm>
            <a:off x="4284720" y="105264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乙脑病毒</a:t>
            </a:r>
            <a:endParaRPr b="0" lang="en-US" sz="2800" spc="-1" strike="noStrike">
              <a:solidFill>
                <a:srgbClr val="046ca6"/>
              </a:solidFill>
              <a:latin typeface="Arial"/>
            </a:endParaRPr>
          </a:p>
        </p:txBody>
      </p:sp>
      <p:sp>
        <p:nvSpPr>
          <p:cNvPr id="195" name="AutoShape 29"/>
          <p:cNvSpPr/>
          <p:nvPr/>
        </p:nvSpPr>
        <p:spPr>
          <a:xfrm>
            <a:off x="4932360" y="1557360"/>
            <a:ext cx="360360" cy="358920"/>
          </a:xfrm>
          <a:prstGeom prst="downArrow">
            <a:avLst>
              <a:gd name="adj1" fmla="val 50000"/>
              <a:gd name="adj2" fmla="val 25000"/>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Rectangle 4"/>
          <p:cNvSpPr/>
          <p:nvPr/>
        </p:nvSpPr>
        <p:spPr>
          <a:xfrm>
            <a:off x="1042920" y="278136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力：乙脑病毒感染的免疫以体液免疫为主，产生的中和抗体可维持数年至终生，对病毒再次感染有免疫力。隐性感染同样可获得免疫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2" name="Rectangle 3"/>
          <p:cNvSpPr/>
          <p:nvPr/>
        </p:nvSpPr>
        <p:spPr>
          <a:xfrm>
            <a:off x="611280" y="1484280"/>
            <a:ext cx="734544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病原学检查：将发病初期患者的脑脊液或尸检脑组织接种于白蚊伊蚊细胞等传代细胞中，可分离出乙脑病毒。病毒分离后可采用鹅红细胞血凝吸附试验或单克隆抗体免疫荧光试验等方法鉴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血清学检测：临床诊断一般检测患者血清中特异性乙脑病毒抗体，用血凝抑制试验、补体结合试验等方法检测病人急性期和恢复期双份血清的抗体效价，后者增高</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或</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倍以上有确诊意义。采用捕获</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的</a:t>
            </a:r>
            <a:r>
              <a:rPr b="0" lang="en-US" sz="2400" spc="-1" strike="noStrike">
                <a:solidFill>
                  <a:srgbClr val="046ca6"/>
                </a:solidFill>
                <a:latin typeface="Arial"/>
                <a:ea typeface="宋体"/>
              </a:rPr>
              <a:t>ELISA</a:t>
            </a:r>
            <a:r>
              <a:rPr b="0" lang="zh-CN" sz="2400" spc="-1" strike="noStrike">
                <a:solidFill>
                  <a:srgbClr val="046ca6"/>
                </a:solidFill>
                <a:latin typeface="Arial"/>
                <a:ea typeface="宋体"/>
              </a:rPr>
              <a:t>法检测病人血清或脑脊液中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抗体，可用于早期诊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5"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Rectangle 3"/>
          <p:cNvSpPr/>
          <p:nvPr/>
        </p:nvSpPr>
        <p:spPr>
          <a:xfrm>
            <a:off x="826920" y="1484280"/>
            <a:ext cx="73454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防蚊灭蚊是预防乙脑的关键。</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特异性预防可接种乙脑疫苗，我国目前使用的是乙脑灭活疫苗，在易感人群中（</a:t>
            </a:r>
            <a:r>
              <a:rPr b="0" lang="en-US" sz="2400" spc="-1" strike="noStrike">
                <a:solidFill>
                  <a:srgbClr val="046ca6"/>
                </a:solidFill>
                <a:latin typeface="Arial"/>
                <a:ea typeface="宋体"/>
              </a:rPr>
              <a:t>9</a:t>
            </a:r>
            <a:r>
              <a:rPr b="0" lang="en-US" sz="2400" spc="-1" strike="noStrike">
                <a:solidFill>
                  <a:srgbClr val="046ca6"/>
                </a:solidFill>
                <a:latin typeface="Arial"/>
                <a:ea typeface="宋体"/>
              </a:rPr>
              <a:t>个月至</a:t>
            </a:r>
            <a:r>
              <a:rPr b="0" lang="en-US" sz="2400" spc="-1" strike="noStrike">
                <a:solidFill>
                  <a:srgbClr val="046ca6"/>
                </a:solidFill>
                <a:latin typeface="Arial"/>
                <a:ea typeface="宋体"/>
              </a:rPr>
              <a:t>10</a:t>
            </a:r>
            <a:r>
              <a:rPr b="0" lang="en-US" sz="2400" spc="-1" strike="noStrike">
                <a:solidFill>
                  <a:srgbClr val="046ca6"/>
                </a:solidFill>
                <a:latin typeface="Arial"/>
                <a:ea typeface="宋体"/>
              </a:rPr>
              <a:t>岁）接种，安全有效。给流行区的幼猪接种疫苗，有可能控制乙脑在猪群及人群的传播和流行。</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对乙脑患者，则应隔离治疗。</a:t>
            </a:r>
            <a:endParaRPr b="0" lang="en-US" sz="2400" spc="-1" strike="noStrike">
              <a:solidFill>
                <a:srgbClr val="046ca6"/>
              </a:solidFill>
              <a:latin typeface="Arial"/>
            </a:endParaRPr>
          </a:p>
        </p:txBody>
      </p:sp>
      <p:pic>
        <p:nvPicPr>
          <p:cNvPr id="208" name="Picture 4" descr="11"/>
          <p:cNvPicPr/>
          <p:nvPr/>
        </p:nvPicPr>
        <p:blipFill>
          <a:blip r:embed="rId1"/>
          <a:srcRect l="0" t="0" r="46490" b="0"/>
          <a:stretch/>
        </p:blipFill>
        <p:spPr>
          <a:xfrm>
            <a:off x="1763640" y="4292640"/>
            <a:ext cx="2737080" cy="2149560"/>
          </a:xfrm>
          <a:prstGeom prst="rect">
            <a:avLst/>
          </a:prstGeom>
          <a:ln w="0">
            <a:noFill/>
          </a:ln>
        </p:spPr>
      </p:pic>
      <p:pic>
        <p:nvPicPr>
          <p:cNvPr id="209" name="Picture 5" descr="xin_54080316083926509031"/>
          <p:cNvPicPr/>
          <p:nvPr/>
        </p:nvPicPr>
        <p:blipFill>
          <a:blip r:embed="rId2"/>
          <a:srcRect l="0" t="0" r="45" b="0"/>
          <a:stretch/>
        </p:blipFill>
        <p:spPr>
          <a:xfrm>
            <a:off x="4932360" y="4292640"/>
            <a:ext cx="287964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2" name="Text Box 4"/>
          <p:cNvSpPr/>
          <p:nvPr/>
        </p:nvSpPr>
        <p:spPr>
          <a:xfrm>
            <a:off x="2843280" y="1628640"/>
            <a:ext cx="3672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登革病毒</a:t>
            </a:r>
            <a:endParaRPr b="0" lang="en-US" sz="4000" spc="-1" strike="noStrike">
              <a:solidFill>
                <a:srgbClr val="046ca6"/>
              </a:solidFill>
              <a:latin typeface="Arial"/>
            </a:endParaRPr>
          </a:p>
        </p:txBody>
      </p:sp>
      <p:sp>
        <p:nvSpPr>
          <p:cNvPr id="213" name="Text Box 5"/>
          <p:cNvSpPr/>
          <p:nvPr/>
        </p:nvSpPr>
        <p:spPr>
          <a:xfrm>
            <a:off x="826920" y="285264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登革病毒（</a:t>
            </a:r>
            <a:r>
              <a:rPr b="0" lang="en-US" sz="2800" spc="-1" strike="noStrike">
                <a:solidFill>
                  <a:srgbClr val="046ca6"/>
                </a:solidFill>
                <a:latin typeface="Arial"/>
                <a:ea typeface="宋体"/>
              </a:rPr>
              <a:t>Dengue virus</a:t>
            </a:r>
            <a:r>
              <a:rPr b="0" lang="zh-CN" sz="2800" spc="-1" strike="noStrike">
                <a:solidFill>
                  <a:srgbClr val="046ca6"/>
                </a:solidFill>
                <a:latin typeface="Arial"/>
                <a:ea typeface="宋体"/>
              </a:rPr>
              <a:t>）是登革热的病原体，主要在东南亚、西太平洋、中南美洲流行，近年在我国广东、海南和广西等地区均有发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Rectangle 3"/>
          <p:cNvSpPr/>
          <p:nvPr/>
        </p:nvSpPr>
        <p:spPr>
          <a:xfrm>
            <a:off x="1763640" y="4653000"/>
            <a:ext cx="58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登革病毒的形态和结构与乙脑病毒相似；有四个血清型，四型之间抗原有交叉。</a:t>
            </a:r>
            <a:endParaRPr b="0" lang="en-US" sz="2400" spc="-1" strike="noStrike">
              <a:solidFill>
                <a:srgbClr val="046ca6"/>
              </a:solidFill>
              <a:latin typeface="Arial"/>
            </a:endParaRPr>
          </a:p>
        </p:txBody>
      </p:sp>
      <p:pic>
        <p:nvPicPr>
          <p:cNvPr id="216" name="Picture 6" descr="image005"/>
          <p:cNvPicPr/>
          <p:nvPr/>
        </p:nvPicPr>
        <p:blipFill>
          <a:blip r:embed="rId1"/>
          <a:srcRect l="3612" t="4665" r="6792" b="13398"/>
          <a:stretch/>
        </p:blipFill>
        <p:spPr>
          <a:xfrm>
            <a:off x="1908000" y="1484280"/>
            <a:ext cx="5616720" cy="2664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8" name="Rectangle 3"/>
          <p:cNvSpPr/>
          <p:nvPr/>
        </p:nvSpPr>
        <p:spPr>
          <a:xfrm>
            <a:off x="1476360" y="522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人类和灵长类动物是登革病毒的自然宿主，埃及伊蚊和白纹伊蚊是登革病毒的主要传播媒介。</a:t>
            </a:r>
            <a:endParaRPr b="0" lang="en-US" sz="2400" spc="-1" strike="noStrike">
              <a:solidFill>
                <a:srgbClr val="046ca6"/>
              </a:solidFill>
              <a:latin typeface="Arial"/>
            </a:endParaRPr>
          </a:p>
        </p:txBody>
      </p:sp>
      <p:pic>
        <p:nvPicPr>
          <p:cNvPr id="219" name="Picture 5" descr="nrmicro1690-f2"/>
          <p:cNvPicPr/>
          <p:nvPr/>
        </p:nvPicPr>
        <p:blipFill>
          <a:blip r:embed="rId1"/>
          <a:stretch/>
        </p:blipFill>
        <p:spPr>
          <a:xfrm>
            <a:off x="1476360" y="1341360"/>
            <a:ext cx="6153120" cy="374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Rectangle 3"/>
          <p:cNvSpPr/>
          <p:nvPr/>
        </p:nvSpPr>
        <p:spPr>
          <a:xfrm>
            <a:off x="468360" y="1341360"/>
            <a:ext cx="842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人体后可在毛细血管内皮细胞和单核细胞中增殖，然后经血流播散，</a:t>
            </a:r>
            <a:r>
              <a:rPr b="0" lang="zh-CN" sz="2400" spc="-1" strike="noStrike">
                <a:solidFill>
                  <a:srgbClr val="046ca6"/>
                </a:solidFill>
                <a:latin typeface="Arial"/>
                <a:ea typeface="宋体"/>
              </a:rPr>
              <a:t>导致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登革热的主要表现是发热、剧烈头痛、肌肉和关节痛、恶心、呕吐、眼痛和皮疹，具有自限性。</a:t>
            </a:r>
            <a:endParaRPr b="0" lang="en-US" sz="2400" spc="-1" strike="noStrike">
              <a:solidFill>
                <a:srgbClr val="046ca6"/>
              </a:solidFill>
              <a:latin typeface="Arial"/>
            </a:endParaRPr>
          </a:p>
        </p:txBody>
      </p:sp>
      <p:pic>
        <p:nvPicPr>
          <p:cNvPr id="222" name="Picture 5" descr="dengue_fever7"/>
          <p:cNvPicPr/>
          <p:nvPr/>
        </p:nvPicPr>
        <p:blipFill>
          <a:blip r:embed="rId1"/>
          <a:stretch/>
        </p:blipFill>
        <p:spPr>
          <a:xfrm>
            <a:off x="1187280" y="3284640"/>
            <a:ext cx="3111840" cy="3066840"/>
          </a:xfrm>
          <a:prstGeom prst="rect">
            <a:avLst/>
          </a:prstGeom>
          <a:ln w="0">
            <a:noFill/>
          </a:ln>
        </p:spPr>
      </p:pic>
      <p:pic>
        <p:nvPicPr>
          <p:cNvPr id="223" name="Picture 6" descr="dengu21"/>
          <p:cNvPicPr/>
          <p:nvPr/>
        </p:nvPicPr>
        <p:blipFill>
          <a:blip r:embed="rId2"/>
          <a:stretch/>
        </p:blipFill>
        <p:spPr>
          <a:xfrm>
            <a:off x="5219640" y="3933720"/>
            <a:ext cx="2448000" cy="181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Rectangle 3"/>
          <p:cNvSpPr/>
          <p:nvPr/>
        </p:nvSpPr>
        <p:spPr>
          <a:xfrm>
            <a:off x="395280" y="134136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严重的登革病毒感染可导致登革出血热</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登革休克综合征，初期有典型登革热症状，但会迅速恶化，出现严重出血，皮肤大片紫癜和瘀斑，并可进一步发展为出血性休克，多发生于体内存在来自母体的登革病毒抗体的儿童、或曾感染过其他血清型的登革病毒并产生非中和抗体的个体。</a:t>
            </a:r>
            <a:endParaRPr b="0" lang="en-US" sz="2400" spc="-1" strike="noStrike">
              <a:solidFill>
                <a:srgbClr val="046ca6"/>
              </a:solidFill>
              <a:latin typeface="Arial"/>
            </a:endParaRPr>
          </a:p>
        </p:txBody>
      </p:sp>
      <p:pic>
        <p:nvPicPr>
          <p:cNvPr id="226" name="Picture 6" descr="2006030616243927_7"/>
          <p:cNvPicPr/>
          <p:nvPr/>
        </p:nvPicPr>
        <p:blipFill>
          <a:blip r:embed="rId1"/>
          <a:stretch/>
        </p:blipFill>
        <p:spPr>
          <a:xfrm>
            <a:off x="684360" y="3500280"/>
            <a:ext cx="3975120" cy="2686320"/>
          </a:xfrm>
          <a:prstGeom prst="rect">
            <a:avLst/>
          </a:prstGeom>
          <a:ln w="0">
            <a:noFill/>
          </a:ln>
        </p:spPr>
      </p:pic>
      <p:pic>
        <p:nvPicPr>
          <p:cNvPr id="227" name="Picture 7" descr="ZI9B64CAII5WO5CAO0HLSZCAVJ9GSECA4ZPES3CANFKVTDCA3VIF7PCA3QGVUMCA1TTYG4CAY2JRYICAUOZJ6CCA6X2XXMCAY3H97FCAR0NG95CAOHHMPJCAZMOKWHCA8K6CDCCAIJXHJJCA52THTE"/>
          <p:cNvPicPr/>
          <p:nvPr/>
        </p:nvPicPr>
        <p:blipFill>
          <a:blip r:embed="rId2"/>
          <a:stretch/>
        </p:blipFill>
        <p:spPr>
          <a:xfrm>
            <a:off x="5867280" y="2997360"/>
            <a:ext cx="2543400" cy="33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0"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出血热病毒</a:t>
            </a:r>
            <a:endParaRPr b="0" lang="en-US" sz="4000" spc="-1" strike="noStrike">
              <a:solidFill>
                <a:srgbClr val="046ca6"/>
              </a:solidFill>
              <a:latin typeface="Arial"/>
            </a:endParaRPr>
          </a:p>
        </p:txBody>
      </p:sp>
      <p:sp>
        <p:nvSpPr>
          <p:cNvPr id="231" name="Rectangle 5"/>
          <p:cNvSpPr/>
          <p:nvPr/>
        </p:nvSpPr>
        <p:spPr>
          <a:xfrm>
            <a:off x="611280" y="3842640"/>
            <a:ext cx="763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出血热病毒是指由啮齿动物或节肢动物携带和传播的、引起以出血和发热为主要临床症状的一些病毒。目前已发现多种，分属于</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个病毒科。我国已发现有汉坦病毒、新疆出血热病毒和登革病毒。此外，近年非洲流行的埃博拉病毒引起的出血热发病迅速、死亡率高，备受世界各国的关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Text Box 4"/>
          <p:cNvSpPr/>
          <p:nvPr/>
        </p:nvSpPr>
        <p:spPr>
          <a:xfrm>
            <a:off x="2556000" y="1484280"/>
            <a:ext cx="3527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汉坦病毒</a:t>
            </a:r>
            <a:endParaRPr b="0" lang="en-US" sz="4000" spc="-1" strike="noStrike">
              <a:solidFill>
                <a:srgbClr val="046ca6"/>
              </a:solidFill>
              <a:latin typeface="Arial"/>
            </a:endParaRPr>
          </a:p>
        </p:txBody>
      </p:sp>
      <p:sp>
        <p:nvSpPr>
          <p:cNvPr id="235" name="Text Box 5"/>
          <p:cNvSpPr/>
          <p:nvPr/>
        </p:nvSpPr>
        <p:spPr>
          <a:xfrm>
            <a:off x="395280" y="2781360"/>
            <a:ext cx="835200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汉坦病毒（</a:t>
            </a:r>
            <a:r>
              <a:rPr b="0" lang="en-US" sz="2800" spc="-1" strike="noStrike">
                <a:solidFill>
                  <a:srgbClr val="046ca6"/>
                </a:solidFill>
                <a:latin typeface="Arial"/>
                <a:ea typeface="宋体"/>
              </a:rPr>
              <a:t>Hantaan virus</a:t>
            </a:r>
            <a:r>
              <a:rPr b="0" lang="zh-CN" sz="2800" spc="-1" strike="noStrike">
                <a:solidFill>
                  <a:srgbClr val="046ca6"/>
                </a:solidFill>
                <a:latin typeface="Arial"/>
                <a:ea typeface="宋体"/>
              </a:rPr>
              <a:t>）属布尼亚病毒科（</a:t>
            </a:r>
            <a:r>
              <a:rPr b="0" lang="en-US" sz="2800" spc="-1" strike="noStrike">
                <a:solidFill>
                  <a:srgbClr val="046ca6"/>
                </a:solidFill>
                <a:latin typeface="Arial"/>
                <a:ea typeface="宋体"/>
              </a:rPr>
              <a:t>Bunyaviridae</a:t>
            </a:r>
            <a:r>
              <a:rPr b="0" lang="zh-CN" sz="2800" spc="-1" strike="noStrike">
                <a:solidFill>
                  <a:srgbClr val="046ca6"/>
                </a:solidFill>
                <a:latin typeface="Arial"/>
                <a:ea typeface="宋体"/>
              </a:rPr>
              <a:t>）汉坦病毒属，是肾综合征出血热（</a:t>
            </a:r>
            <a:r>
              <a:rPr b="0" lang="en-US" sz="2800" spc="-1" strike="noStrike">
                <a:solidFill>
                  <a:srgbClr val="046ca6"/>
                </a:solidFill>
                <a:latin typeface="Arial"/>
                <a:ea typeface="宋体"/>
              </a:rPr>
              <a:t>hemorrhagic fever with renal syndrome</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的病原体。</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我国是</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流行最严重的国家，</a:t>
            </a:r>
            <a:r>
              <a:rPr b="0" lang="en-US" sz="2800" spc="-1" strike="noStrike">
                <a:solidFill>
                  <a:srgbClr val="046ca6"/>
                </a:solidFill>
                <a:latin typeface="Arial"/>
                <a:ea typeface="宋体"/>
              </a:rPr>
              <a:t>HFRS</a:t>
            </a:r>
            <a:r>
              <a:rPr b="0" lang="zh-CN" sz="2800" spc="-1" strike="noStrike">
                <a:solidFill>
                  <a:srgbClr val="046ca6"/>
                </a:solidFill>
                <a:latin typeface="Arial"/>
                <a:ea typeface="宋体"/>
              </a:rPr>
              <a:t>习惯上称之为流行性出血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8"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Rectangle 3"/>
          <p:cNvSpPr/>
          <p:nvPr/>
        </p:nvSpPr>
        <p:spPr>
          <a:xfrm>
            <a:off x="4788000" y="1557360"/>
            <a:ext cx="4032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呈球形、卵圆形或多形态性，平均直径约</a:t>
            </a:r>
            <a:r>
              <a:rPr b="0" lang="en-US" sz="2400" spc="-1" strike="noStrike">
                <a:solidFill>
                  <a:srgbClr val="046ca6"/>
                </a:solidFill>
                <a:latin typeface="Arial"/>
                <a:ea typeface="宋体"/>
              </a:rPr>
              <a:t>120nm</a:t>
            </a:r>
            <a:r>
              <a:rPr b="0" lang="en-US" sz="2400" spc="-1" strike="noStrike">
                <a:solidFill>
                  <a:srgbClr val="046ca6"/>
                </a:solidFill>
                <a:latin typeface="Arial"/>
                <a:ea typeface="宋体"/>
              </a:rPr>
              <a:t>，核酸类型为单负股</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有长、中、短三个片段，分别编码病毒的</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多聚酶（</a:t>
            </a:r>
            <a:r>
              <a:rPr b="0" lang="en-US" sz="2400" spc="-1" strike="noStrike">
                <a:solidFill>
                  <a:srgbClr val="046ca6"/>
                </a:solidFill>
                <a:latin typeface="Arial"/>
                <a:ea typeface="宋体"/>
              </a:rPr>
              <a:t>L</a:t>
            </a:r>
            <a:r>
              <a:rPr b="0" lang="en-US" sz="2400" spc="-1" strike="noStrike">
                <a:solidFill>
                  <a:srgbClr val="046ca6"/>
                </a:solidFill>
                <a:latin typeface="Arial"/>
                <a:ea typeface="宋体"/>
              </a:rPr>
              <a:t>），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和核蛋白（</a:t>
            </a:r>
            <a:r>
              <a:rPr b="0" lang="en-US" sz="2400" spc="-1" strike="noStrike">
                <a:solidFill>
                  <a:srgbClr val="046ca6"/>
                </a:solidFill>
                <a:latin typeface="Arial"/>
                <a:ea typeface="宋体"/>
              </a:rPr>
              <a:t>N</a:t>
            </a:r>
            <a:r>
              <a:rPr b="0" lang="en-US" sz="2400" spc="-1" strike="noStrike">
                <a:solidFill>
                  <a:srgbClr val="046ca6"/>
                </a:solidFill>
                <a:latin typeface="Arial"/>
                <a:ea typeface="宋体"/>
              </a:rPr>
              <a:t>）。核衣壳外有包膜，包膜上有由糖蛋白</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组成的刺突，</a:t>
            </a:r>
            <a:r>
              <a:rPr b="0" lang="en-US" sz="2400" spc="-1" strike="noStrike">
                <a:solidFill>
                  <a:srgbClr val="046ca6"/>
                </a:solidFill>
                <a:latin typeface="Arial"/>
                <a:ea typeface="宋体"/>
              </a:rPr>
              <a:t>G1</a:t>
            </a:r>
            <a:r>
              <a:rPr b="0" lang="en-US" sz="2400" spc="-1" strike="noStrike">
                <a:solidFill>
                  <a:srgbClr val="046ca6"/>
                </a:solidFill>
                <a:latin typeface="Arial"/>
                <a:ea typeface="宋体"/>
              </a:rPr>
              <a:t>和</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糖蛋白可刺激机体产生中和抗体，病毒的血凝活性位点主要存在于糖蛋白</a:t>
            </a:r>
            <a:r>
              <a:rPr b="0" lang="en-US" sz="2400" spc="-1" strike="noStrike">
                <a:solidFill>
                  <a:srgbClr val="046ca6"/>
                </a:solidFill>
                <a:latin typeface="Arial"/>
                <a:ea typeface="宋体"/>
              </a:rPr>
              <a:t>G2</a:t>
            </a:r>
            <a:r>
              <a:rPr b="0" lang="en-US" sz="2400" spc="-1" strike="noStrike">
                <a:solidFill>
                  <a:srgbClr val="046ca6"/>
                </a:solidFill>
                <a:latin typeface="Arial"/>
                <a:ea typeface="宋体"/>
              </a:rPr>
              <a:t>上。</a:t>
            </a:r>
            <a:endParaRPr b="0" lang="en-US" sz="2400" spc="-1" strike="noStrike">
              <a:solidFill>
                <a:srgbClr val="046ca6"/>
              </a:solidFill>
              <a:latin typeface="Arial"/>
            </a:endParaRPr>
          </a:p>
        </p:txBody>
      </p:sp>
      <p:pic>
        <p:nvPicPr>
          <p:cNvPr id="241" name="Picture 5" descr="hantavirus-morphology-1"/>
          <p:cNvPicPr/>
          <p:nvPr/>
        </p:nvPicPr>
        <p:blipFill>
          <a:blip r:embed="rId1"/>
          <a:stretch/>
        </p:blipFill>
        <p:spPr>
          <a:xfrm>
            <a:off x="179280" y="1916280"/>
            <a:ext cx="4613400" cy="354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Rectangle 3"/>
          <p:cNvSpPr/>
          <p:nvPr/>
        </p:nvSpPr>
        <p:spPr>
          <a:xfrm>
            <a:off x="900000" y="242100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不同地区不同动物宿主分离的病毒基因组核酸序列和抗原成分有差异。用血清学方法可将汉坦病毒分成</a:t>
            </a:r>
            <a:r>
              <a:rPr b="0" lang="en-US" sz="2400" spc="-1" strike="noStrike">
                <a:solidFill>
                  <a:srgbClr val="046ca6"/>
                </a:solidFill>
                <a:latin typeface="Arial"/>
                <a:ea typeface="宋体"/>
              </a:rPr>
              <a:t>14</a:t>
            </a:r>
            <a:r>
              <a:rPr b="0" lang="en-US" sz="2400" spc="-1" strike="noStrike">
                <a:solidFill>
                  <a:srgbClr val="046ca6"/>
                </a:solidFill>
                <a:latin typeface="Arial"/>
                <a:ea typeface="宋体"/>
              </a:rPr>
              <a:t>个不同的血清型，与人类疾病关系密切的有</a:t>
            </a:r>
            <a:r>
              <a:rPr b="0" lang="en-US" sz="2400" spc="-1" strike="noStrike">
                <a:solidFill>
                  <a:srgbClr val="046ca6"/>
                </a:solidFill>
                <a:latin typeface="Arial"/>
                <a:ea typeface="宋体"/>
              </a:rPr>
              <a:t>6</a:t>
            </a:r>
            <a:r>
              <a:rPr b="0" lang="en-US" sz="2400" spc="-1" strike="noStrike">
                <a:solidFill>
                  <a:srgbClr val="046ca6"/>
                </a:solidFill>
                <a:latin typeface="Arial"/>
                <a:ea typeface="宋体"/>
              </a:rPr>
              <a:t>个型别。我国流行的是Ⅰ型和Ⅱ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环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8" name="Rectangle 4"/>
          <p:cNvSpPr/>
          <p:nvPr/>
        </p:nvSpPr>
        <p:spPr>
          <a:xfrm>
            <a:off x="3564000" y="249228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的动物宿主为啮齿类动物，以鼠为主。流行性出血热有明显的地区性和季节性，此与鼠类分布和活动有关。我国汉坦病毒的传染源主要是黑线姬鼠和褐家鼠。携带病毒的动物通过唾液、尿、粪排出病毒，污染食物、水、空气等，人或动物经呼吸道、消化道或直接接触等方式被感染。</a:t>
            </a:r>
            <a:endParaRPr b="0" lang="en-US" sz="2400" spc="-1" strike="noStrike">
              <a:solidFill>
                <a:srgbClr val="046ca6"/>
              </a:solidFill>
              <a:latin typeface="Arial"/>
            </a:endParaRPr>
          </a:p>
        </p:txBody>
      </p:sp>
      <p:pic>
        <p:nvPicPr>
          <p:cNvPr id="249" name="Picture 5" descr="person"/>
          <p:cNvPicPr/>
          <p:nvPr/>
        </p:nvPicPr>
        <p:blipFill>
          <a:blip r:embed="rId1"/>
          <a:stretch/>
        </p:blipFill>
        <p:spPr>
          <a:xfrm>
            <a:off x="250920" y="4797360"/>
            <a:ext cx="1008000" cy="1511280"/>
          </a:xfrm>
          <a:prstGeom prst="rect">
            <a:avLst/>
          </a:prstGeom>
          <a:ln w="0">
            <a:noFill/>
          </a:ln>
        </p:spPr>
      </p:pic>
      <p:pic>
        <p:nvPicPr>
          <p:cNvPr id="250" name="Picture 6" descr="d_13_h5"/>
          <p:cNvPicPr/>
          <p:nvPr/>
        </p:nvPicPr>
        <p:blipFill>
          <a:blip r:embed="rId2"/>
          <a:stretch/>
        </p:blipFill>
        <p:spPr>
          <a:xfrm>
            <a:off x="1332000" y="2492280"/>
            <a:ext cx="1272960" cy="1076400"/>
          </a:xfrm>
          <a:prstGeom prst="rect">
            <a:avLst/>
          </a:prstGeom>
          <a:ln w="0">
            <a:noFill/>
          </a:ln>
        </p:spPr>
      </p:pic>
      <p:pic>
        <p:nvPicPr>
          <p:cNvPr id="251" name="Picture 7" descr="d_13_h5"/>
          <p:cNvPicPr/>
          <p:nvPr/>
        </p:nvPicPr>
        <p:blipFill>
          <a:blip r:embed="rId3"/>
          <a:stretch/>
        </p:blipFill>
        <p:spPr>
          <a:xfrm>
            <a:off x="1403280" y="1125360"/>
            <a:ext cx="1273320" cy="1076400"/>
          </a:xfrm>
          <a:prstGeom prst="rect">
            <a:avLst/>
          </a:prstGeom>
          <a:ln w="0">
            <a:noFill/>
          </a:ln>
        </p:spPr>
      </p:pic>
      <p:sp>
        <p:nvSpPr>
          <p:cNvPr id="252" name="Freeform 8"/>
          <p:cNvSpPr/>
          <p:nvPr/>
        </p:nvSpPr>
        <p:spPr>
          <a:xfrm>
            <a:off x="179280" y="1268280"/>
            <a:ext cx="1152720" cy="2016360"/>
          </a:xfrm>
          <a:custGeom>
            <a:avLst/>
            <a:gdLst>
              <a:gd name="textAreaLeft" fmla="*/ 0 w 1152720"/>
              <a:gd name="textAreaRight" fmla="*/ 1153080 w 1152720"/>
              <a:gd name="textAreaTop" fmla="*/ 0 h 2016360"/>
              <a:gd name="textAreaBottom" fmla="*/ 2016720 h 2016360"/>
            </a:gdLst>
            <a:ahLst/>
            <a:rect l="textAreaLeft" t="textAreaTop" r="textAreaRight" b="textAreaBottom"/>
            <a:pathLst>
              <a:path w="1566" h="1855">
                <a:moveTo>
                  <a:pt x="1535" y="1715"/>
                </a:moveTo>
                <a:lnTo>
                  <a:pt x="1535" y="1854"/>
                </a:lnTo>
                <a:lnTo>
                  <a:pt x="1444" y="1849"/>
                </a:lnTo>
                <a:lnTo>
                  <a:pt x="1356" y="1841"/>
                </a:lnTo>
                <a:lnTo>
                  <a:pt x="1270" y="1831"/>
                </a:lnTo>
                <a:lnTo>
                  <a:pt x="1186" y="1820"/>
                </a:lnTo>
                <a:lnTo>
                  <a:pt x="1105" y="1807"/>
                </a:lnTo>
                <a:lnTo>
                  <a:pt x="1028" y="1792"/>
                </a:lnTo>
                <a:lnTo>
                  <a:pt x="952" y="1775"/>
                </a:lnTo>
                <a:lnTo>
                  <a:pt x="879" y="1756"/>
                </a:lnTo>
                <a:lnTo>
                  <a:pt x="810" y="1736"/>
                </a:lnTo>
                <a:lnTo>
                  <a:pt x="742" y="1715"/>
                </a:lnTo>
                <a:lnTo>
                  <a:pt x="678" y="1691"/>
                </a:lnTo>
                <a:lnTo>
                  <a:pt x="616" y="1666"/>
                </a:lnTo>
                <a:lnTo>
                  <a:pt x="556" y="1640"/>
                </a:lnTo>
                <a:lnTo>
                  <a:pt x="500" y="1612"/>
                </a:lnTo>
                <a:lnTo>
                  <a:pt x="447" y="1583"/>
                </a:lnTo>
                <a:lnTo>
                  <a:pt x="397" y="1552"/>
                </a:lnTo>
                <a:lnTo>
                  <a:pt x="349" y="1521"/>
                </a:lnTo>
                <a:lnTo>
                  <a:pt x="306" y="1488"/>
                </a:lnTo>
                <a:lnTo>
                  <a:pt x="264" y="1453"/>
                </a:lnTo>
                <a:lnTo>
                  <a:pt x="226" y="1418"/>
                </a:lnTo>
                <a:lnTo>
                  <a:pt x="189" y="1382"/>
                </a:lnTo>
                <a:lnTo>
                  <a:pt x="156" y="1344"/>
                </a:lnTo>
                <a:lnTo>
                  <a:pt x="127" y="1306"/>
                </a:lnTo>
                <a:lnTo>
                  <a:pt x="101" y="1266"/>
                </a:lnTo>
                <a:lnTo>
                  <a:pt x="77" y="1226"/>
                </a:lnTo>
                <a:lnTo>
                  <a:pt x="57" y="1185"/>
                </a:lnTo>
                <a:lnTo>
                  <a:pt x="39" y="1142"/>
                </a:lnTo>
                <a:lnTo>
                  <a:pt x="24" y="1100"/>
                </a:lnTo>
                <a:lnTo>
                  <a:pt x="14" y="1056"/>
                </a:lnTo>
                <a:lnTo>
                  <a:pt x="5" y="1012"/>
                </a:lnTo>
                <a:lnTo>
                  <a:pt x="1" y="967"/>
                </a:lnTo>
                <a:lnTo>
                  <a:pt x="0" y="922"/>
                </a:lnTo>
                <a:lnTo>
                  <a:pt x="1" y="885"/>
                </a:lnTo>
                <a:lnTo>
                  <a:pt x="5" y="848"/>
                </a:lnTo>
                <a:lnTo>
                  <a:pt x="12" y="812"/>
                </a:lnTo>
                <a:lnTo>
                  <a:pt x="22" y="776"/>
                </a:lnTo>
                <a:lnTo>
                  <a:pt x="36" y="741"/>
                </a:lnTo>
                <a:lnTo>
                  <a:pt x="50" y="707"/>
                </a:lnTo>
                <a:lnTo>
                  <a:pt x="69" y="673"/>
                </a:lnTo>
                <a:lnTo>
                  <a:pt x="90" y="640"/>
                </a:lnTo>
                <a:lnTo>
                  <a:pt x="113" y="607"/>
                </a:lnTo>
                <a:lnTo>
                  <a:pt x="138" y="575"/>
                </a:lnTo>
                <a:lnTo>
                  <a:pt x="166" y="544"/>
                </a:lnTo>
                <a:lnTo>
                  <a:pt x="198" y="513"/>
                </a:lnTo>
                <a:lnTo>
                  <a:pt x="230" y="483"/>
                </a:lnTo>
                <a:lnTo>
                  <a:pt x="265" y="454"/>
                </a:lnTo>
                <a:lnTo>
                  <a:pt x="303" y="426"/>
                </a:lnTo>
                <a:lnTo>
                  <a:pt x="342" y="398"/>
                </a:lnTo>
                <a:lnTo>
                  <a:pt x="384" y="371"/>
                </a:lnTo>
                <a:lnTo>
                  <a:pt x="427" y="345"/>
                </a:lnTo>
                <a:lnTo>
                  <a:pt x="473" y="319"/>
                </a:lnTo>
                <a:lnTo>
                  <a:pt x="522" y="295"/>
                </a:lnTo>
                <a:lnTo>
                  <a:pt x="570" y="271"/>
                </a:lnTo>
                <a:lnTo>
                  <a:pt x="622" y="248"/>
                </a:lnTo>
                <a:lnTo>
                  <a:pt x="675" y="226"/>
                </a:lnTo>
                <a:lnTo>
                  <a:pt x="730" y="205"/>
                </a:lnTo>
                <a:lnTo>
                  <a:pt x="786" y="185"/>
                </a:lnTo>
                <a:lnTo>
                  <a:pt x="844" y="165"/>
                </a:lnTo>
                <a:lnTo>
                  <a:pt x="904" y="147"/>
                </a:lnTo>
                <a:lnTo>
                  <a:pt x="965" y="130"/>
                </a:lnTo>
                <a:lnTo>
                  <a:pt x="1028" y="113"/>
                </a:lnTo>
                <a:lnTo>
                  <a:pt x="1092" y="98"/>
                </a:lnTo>
                <a:lnTo>
                  <a:pt x="1158" y="83"/>
                </a:lnTo>
                <a:lnTo>
                  <a:pt x="1225" y="70"/>
                </a:lnTo>
                <a:lnTo>
                  <a:pt x="1165" y="0"/>
                </a:lnTo>
                <a:lnTo>
                  <a:pt x="1565" y="68"/>
                </a:lnTo>
                <a:lnTo>
                  <a:pt x="1236" y="245"/>
                </a:lnTo>
                <a:lnTo>
                  <a:pt x="1251" y="160"/>
                </a:lnTo>
                <a:lnTo>
                  <a:pt x="1193" y="173"/>
                </a:lnTo>
                <a:lnTo>
                  <a:pt x="1136" y="186"/>
                </a:lnTo>
                <a:lnTo>
                  <a:pt x="1082" y="200"/>
                </a:lnTo>
                <a:lnTo>
                  <a:pt x="1028" y="215"/>
                </a:lnTo>
                <a:lnTo>
                  <a:pt x="976" y="231"/>
                </a:lnTo>
                <a:lnTo>
                  <a:pt x="925" y="248"/>
                </a:lnTo>
                <a:lnTo>
                  <a:pt x="876" y="265"/>
                </a:lnTo>
                <a:lnTo>
                  <a:pt x="829" y="283"/>
                </a:lnTo>
                <a:lnTo>
                  <a:pt x="781" y="302"/>
                </a:lnTo>
                <a:lnTo>
                  <a:pt x="738" y="323"/>
                </a:lnTo>
                <a:lnTo>
                  <a:pt x="694" y="343"/>
                </a:lnTo>
                <a:lnTo>
                  <a:pt x="652" y="364"/>
                </a:lnTo>
                <a:lnTo>
                  <a:pt x="612" y="387"/>
                </a:lnTo>
                <a:lnTo>
                  <a:pt x="574" y="409"/>
                </a:lnTo>
                <a:lnTo>
                  <a:pt x="537" y="433"/>
                </a:lnTo>
                <a:lnTo>
                  <a:pt x="502" y="457"/>
                </a:lnTo>
                <a:lnTo>
                  <a:pt x="470" y="482"/>
                </a:lnTo>
                <a:lnTo>
                  <a:pt x="438" y="507"/>
                </a:lnTo>
                <a:lnTo>
                  <a:pt x="409" y="533"/>
                </a:lnTo>
                <a:lnTo>
                  <a:pt x="382" y="560"/>
                </a:lnTo>
                <a:lnTo>
                  <a:pt x="356" y="588"/>
                </a:lnTo>
                <a:lnTo>
                  <a:pt x="333" y="615"/>
                </a:lnTo>
                <a:lnTo>
                  <a:pt x="311" y="643"/>
                </a:lnTo>
                <a:lnTo>
                  <a:pt x="293" y="672"/>
                </a:lnTo>
                <a:lnTo>
                  <a:pt x="275" y="702"/>
                </a:lnTo>
                <a:lnTo>
                  <a:pt x="261" y="732"/>
                </a:lnTo>
                <a:lnTo>
                  <a:pt x="248" y="762"/>
                </a:lnTo>
                <a:lnTo>
                  <a:pt x="237" y="793"/>
                </a:lnTo>
                <a:lnTo>
                  <a:pt x="229" y="824"/>
                </a:lnTo>
                <a:lnTo>
                  <a:pt x="223" y="855"/>
                </a:lnTo>
                <a:lnTo>
                  <a:pt x="220" y="887"/>
                </a:lnTo>
                <a:lnTo>
                  <a:pt x="218" y="920"/>
                </a:lnTo>
                <a:lnTo>
                  <a:pt x="220" y="960"/>
                </a:lnTo>
                <a:lnTo>
                  <a:pt x="223" y="999"/>
                </a:lnTo>
                <a:lnTo>
                  <a:pt x="231" y="1038"/>
                </a:lnTo>
                <a:lnTo>
                  <a:pt x="241" y="1076"/>
                </a:lnTo>
                <a:lnTo>
                  <a:pt x="255" y="1113"/>
                </a:lnTo>
                <a:lnTo>
                  <a:pt x="271" y="1150"/>
                </a:lnTo>
                <a:lnTo>
                  <a:pt x="290" y="1186"/>
                </a:lnTo>
                <a:lnTo>
                  <a:pt x="311" y="1220"/>
                </a:lnTo>
                <a:lnTo>
                  <a:pt x="336" y="1254"/>
                </a:lnTo>
                <a:lnTo>
                  <a:pt x="362" y="1287"/>
                </a:lnTo>
                <a:lnTo>
                  <a:pt x="391" y="1319"/>
                </a:lnTo>
                <a:lnTo>
                  <a:pt x="424" y="1350"/>
                </a:lnTo>
                <a:lnTo>
                  <a:pt x="457" y="1380"/>
                </a:lnTo>
                <a:lnTo>
                  <a:pt x="495" y="1409"/>
                </a:lnTo>
                <a:lnTo>
                  <a:pt x="534" y="1436"/>
                </a:lnTo>
                <a:lnTo>
                  <a:pt x="576" y="1463"/>
                </a:lnTo>
                <a:lnTo>
                  <a:pt x="619" y="1489"/>
                </a:lnTo>
                <a:lnTo>
                  <a:pt x="666" y="1513"/>
                </a:lnTo>
                <a:lnTo>
                  <a:pt x="715" y="1536"/>
                </a:lnTo>
                <a:lnTo>
                  <a:pt x="766" y="1558"/>
                </a:lnTo>
                <a:lnTo>
                  <a:pt x="819" y="1579"/>
                </a:lnTo>
                <a:lnTo>
                  <a:pt x="874" y="1598"/>
                </a:lnTo>
                <a:lnTo>
                  <a:pt x="932" y="1617"/>
                </a:lnTo>
                <a:lnTo>
                  <a:pt x="992" y="1633"/>
                </a:lnTo>
                <a:lnTo>
                  <a:pt x="1053" y="1649"/>
                </a:lnTo>
                <a:lnTo>
                  <a:pt x="1116" y="1663"/>
                </a:lnTo>
                <a:lnTo>
                  <a:pt x="1181" y="1675"/>
                </a:lnTo>
                <a:lnTo>
                  <a:pt x="1248" y="1686"/>
                </a:lnTo>
                <a:lnTo>
                  <a:pt x="1318" y="1695"/>
                </a:lnTo>
                <a:lnTo>
                  <a:pt x="1389" y="1704"/>
                </a:lnTo>
                <a:lnTo>
                  <a:pt x="1461" y="1710"/>
                </a:lnTo>
                <a:lnTo>
                  <a:pt x="1535" y="1715"/>
                </a:lnTo>
              </a:path>
            </a:pathLst>
          </a:custGeom>
          <a:gradFill rotWithShape="0">
            <a:gsLst>
              <a:gs pos="0">
                <a:srgbClr val="dddddd"/>
              </a:gs>
              <a:gs pos="100000">
                <a:srgbClr val="ffffff"/>
              </a:gs>
            </a:gsLst>
            <a:lin ang="189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Freeform 9"/>
          <p:cNvSpPr/>
          <p:nvPr/>
        </p:nvSpPr>
        <p:spPr>
          <a:xfrm>
            <a:off x="2195640" y="1268280"/>
            <a:ext cx="1368360" cy="2016360"/>
          </a:xfrm>
          <a:custGeom>
            <a:avLst/>
            <a:gdLst>
              <a:gd name="textAreaLeft" fmla="*/ 0 w 1368360"/>
              <a:gd name="textAreaRight" fmla="*/ 1368720 w 1368360"/>
              <a:gd name="textAreaTop" fmla="*/ 0 h 2016360"/>
              <a:gd name="textAreaBottom" fmla="*/ 2016720 h 2016360"/>
            </a:gdLst>
            <a:ahLst/>
            <a:rect l="textAreaLeft" t="textAreaTop" r="textAreaRight" b="textAreaBottom"/>
            <a:pathLst>
              <a:path w="1566" h="1855">
                <a:moveTo>
                  <a:pt x="29" y="139"/>
                </a:moveTo>
                <a:lnTo>
                  <a:pt x="29" y="0"/>
                </a:lnTo>
                <a:lnTo>
                  <a:pt x="120" y="5"/>
                </a:lnTo>
                <a:lnTo>
                  <a:pt x="208" y="13"/>
                </a:lnTo>
                <a:lnTo>
                  <a:pt x="294" y="23"/>
                </a:lnTo>
                <a:lnTo>
                  <a:pt x="378" y="34"/>
                </a:lnTo>
                <a:lnTo>
                  <a:pt x="459" y="47"/>
                </a:lnTo>
                <a:lnTo>
                  <a:pt x="536" y="62"/>
                </a:lnTo>
                <a:lnTo>
                  <a:pt x="612" y="79"/>
                </a:lnTo>
                <a:lnTo>
                  <a:pt x="685" y="98"/>
                </a:lnTo>
                <a:lnTo>
                  <a:pt x="754" y="118"/>
                </a:lnTo>
                <a:lnTo>
                  <a:pt x="822" y="139"/>
                </a:lnTo>
                <a:lnTo>
                  <a:pt x="886" y="163"/>
                </a:lnTo>
                <a:lnTo>
                  <a:pt x="948" y="188"/>
                </a:lnTo>
                <a:lnTo>
                  <a:pt x="1008" y="214"/>
                </a:lnTo>
                <a:lnTo>
                  <a:pt x="1064" y="242"/>
                </a:lnTo>
                <a:lnTo>
                  <a:pt x="1117" y="271"/>
                </a:lnTo>
                <a:lnTo>
                  <a:pt x="1167" y="302"/>
                </a:lnTo>
                <a:lnTo>
                  <a:pt x="1215" y="333"/>
                </a:lnTo>
                <a:lnTo>
                  <a:pt x="1258" y="366"/>
                </a:lnTo>
                <a:lnTo>
                  <a:pt x="1300" y="401"/>
                </a:lnTo>
                <a:lnTo>
                  <a:pt x="1338" y="436"/>
                </a:lnTo>
                <a:lnTo>
                  <a:pt x="1375" y="472"/>
                </a:lnTo>
                <a:lnTo>
                  <a:pt x="1408" y="510"/>
                </a:lnTo>
                <a:lnTo>
                  <a:pt x="1437" y="548"/>
                </a:lnTo>
                <a:lnTo>
                  <a:pt x="1463" y="588"/>
                </a:lnTo>
                <a:lnTo>
                  <a:pt x="1487" y="628"/>
                </a:lnTo>
                <a:lnTo>
                  <a:pt x="1507" y="669"/>
                </a:lnTo>
                <a:lnTo>
                  <a:pt x="1525" y="712"/>
                </a:lnTo>
                <a:lnTo>
                  <a:pt x="1540" y="754"/>
                </a:lnTo>
                <a:lnTo>
                  <a:pt x="1550" y="798"/>
                </a:lnTo>
                <a:lnTo>
                  <a:pt x="1559" y="842"/>
                </a:lnTo>
                <a:lnTo>
                  <a:pt x="1563" y="887"/>
                </a:lnTo>
                <a:lnTo>
                  <a:pt x="1565" y="932"/>
                </a:lnTo>
                <a:lnTo>
                  <a:pt x="1563" y="969"/>
                </a:lnTo>
                <a:lnTo>
                  <a:pt x="1559" y="1006"/>
                </a:lnTo>
                <a:lnTo>
                  <a:pt x="1552" y="1042"/>
                </a:lnTo>
                <a:lnTo>
                  <a:pt x="1542" y="1078"/>
                </a:lnTo>
                <a:lnTo>
                  <a:pt x="1528" y="1113"/>
                </a:lnTo>
                <a:lnTo>
                  <a:pt x="1514" y="1147"/>
                </a:lnTo>
                <a:lnTo>
                  <a:pt x="1495" y="1181"/>
                </a:lnTo>
                <a:lnTo>
                  <a:pt x="1474" y="1214"/>
                </a:lnTo>
                <a:lnTo>
                  <a:pt x="1451" y="1247"/>
                </a:lnTo>
                <a:lnTo>
                  <a:pt x="1426" y="1279"/>
                </a:lnTo>
                <a:lnTo>
                  <a:pt x="1398" y="1310"/>
                </a:lnTo>
                <a:lnTo>
                  <a:pt x="1366" y="1341"/>
                </a:lnTo>
                <a:lnTo>
                  <a:pt x="1334" y="1371"/>
                </a:lnTo>
                <a:lnTo>
                  <a:pt x="1299" y="1400"/>
                </a:lnTo>
                <a:lnTo>
                  <a:pt x="1261" y="1428"/>
                </a:lnTo>
                <a:lnTo>
                  <a:pt x="1222" y="1456"/>
                </a:lnTo>
                <a:lnTo>
                  <a:pt x="1180" y="1483"/>
                </a:lnTo>
                <a:lnTo>
                  <a:pt x="1137" y="1509"/>
                </a:lnTo>
                <a:lnTo>
                  <a:pt x="1091" y="1535"/>
                </a:lnTo>
                <a:lnTo>
                  <a:pt x="1042" y="1559"/>
                </a:lnTo>
                <a:lnTo>
                  <a:pt x="994" y="1583"/>
                </a:lnTo>
                <a:lnTo>
                  <a:pt x="942" y="1606"/>
                </a:lnTo>
                <a:lnTo>
                  <a:pt x="889" y="1628"/>
                </a:lnTo>
                <a:lnTo>
                  <a:pt x="834" y="1649"/>
                </a:lnTo>
                <a:lnTo>
                  <a:pt x="778" y="1669"/>
                </a:lnTo>
                <a:lnTo>
                  <a:pt x="720" y="1689"/>
                </a:lnTo>
                <a:lnTo>
                  <a:pt x="660" y="1707"/>
                </a:lnTo>
                <a:lnTo>
                  <a:pt x="599" y="1724"/>
                </a:lnTo>
                <a:lnTo>
                  <a:pt x="536" y="1741"/>
                </a:lnTo>
                <a:lnTo>
                  <a:pt x="472" y="1756"/>
                </a:lnTo>
                <a:lnTo>
                  <a:pt x="406" y="1771"/>
                </a:lnTo>
                <a:lnTo>
                  <a:pt x="339" y="1784"/>
                </a:lnTo>
                <a:lnTo>
                  <a:pt x="399" y="1854"/>
                </a:lnTo>
                <a:lnTo>
                  <a:pt x="0" y="1786"/>
                </a:lnTo>
                <a:lnTo>
                  <a:pt x="328" y="1609"/>
                </a:lnTo>
                <a:lnTo>
                  <a:pt x="313" y="1694"/>
                </a:lnTo>
                <a:lnTo>
                  <a:pt x="371" y="1681"/>
                </a:lnTo>
                <a:lnTo>
                  <a:pt x="428" y="1668"/>
                </a:lnTo>
                <a:lnTo>
                  <a:pt x="482" y="1654"/>
                </a:lnTo>
                <a:lnTo>
                  <a:pt x="536" y="1639"/>
                </a:lnTo>
                <a:lnTo>
                  <a:pt x="588" y="1623"/>
                </a:lnTo>
                <a:lnTo>
                  <a:pt x="639" y="1606"/>
                </a:lnTo>
                <a:lnTo>
                  <a:pt x="688" y="1589"/>
                </a:lnTo>
                <a:lnTo>
                  <a:pt x="735" y="1571"/>
                </a:lnTo>
                <a:lnTo>
                  <a:pt x="783" y="1552"/>
                </a:lnTo>
                <a:lnTo>
                  <a:pt x="826" y="1531"/>
                </a:lnTo>
                <a:lnTo>
                  <a:pt x="870" y="1511"/>
                </a:lnTo>
                <a:lnTo>
                  <a:pt x="912" y="1490"/>
                </a:lnTo>
                <a:lnTo>
                  <a:pt x="952" y="1467"/>
                </a:lnTo>
                <a:lnTo>
                  <a:pt x="990" y="1445"/>
                </a:lnTo>
                <a:lnTo>
                  <a:pt x="1027" y="1421"/>
                </a:lnTo>
                <a:lnTo>
                  <a:pt x="1062" y="1397"/>
                </a:lnTo>
                <a:lnTo>
                  <a:pt x="1094" y="1372"/>
                </a:lnTo>
                <a:lnTo>
                  <a:pt x="1126" y="1347"/>
                </a:lnTo>
                <a:lnTo>
                  <a:pt x="1155" y="1321"/>
                </a:lnTo>
                <a:lnTo>
                  <a:pt x="1182" y="1294"/>
                </a:lnTo>
                <a:lnTo>
                  <a:pt x="1208" y="1266"/>
                </a:lnTo>
                <a:lnTo>
                  <a:pt x="1231" y="1239"/>
                </a:lnTo>
                <a:lnTo>
                  <a:pt x="1253" y="1211"/>
                </a:lnTo>
                <a:lnTo>
                  <a:pt x="1271" y="1182"/>
                </a:lnTo>
                <a:lnTo>
                  <a:pt x="1289" y="1152"/>
                </a:lnTo>
                <a:lnTo>
                  <a:pt x="1303" y="1122"/>
                </a:lnTo>
                <a:lnTo>
                  <a:pt x="1316" y="1092"/>
                </a:lnTo>
                <a:lnTo>
                  <a:pt x="1327" y="1061"/>
                </a:lnTo>
                <a:lnTo>
                  <a:pt x="1335" y="1030"/>
                </a:lnTo>
                <a:lnTo>
                  <a:pt x="1341" y="999"/>
                </a:lnTo>
                <a:lnTo>
                  <a:pt x="1344" y="967"/>
                </a:lnTo>
                <a:lnTo>
                  <a:pt x="1346" y="934"/>
                </a:lnTo>
                <a:lnTo>
                  <a:pt x="1344" y="894"/>
                </a:lnTo>
                <a:lnTo>
                  <a:pt x="1341" y="855"/>
                </a:lnTo>
                <a:lnTo>
                  <a:pt x="1333" y="816"/>
                </a:lnTo>
                <a:lnTo>
                  <a:pt x="1323" y="778"/>
                </a:lnTo>
                <a:lnTo>
                  <a:pt x="1309" y="741"/>
                </a:lnTo>
                <a:lnTo>
                  <a:pt x="1293" y="704"/>
                </a:lnTo>
                <a:lnTo>
                  <a:pt x="1274" y="668"/>
                </a:lnTo>
                <a:lnTo>
                  <a:pt x="1253" y="634"/>
                </a:lnTo>
                <a:lnTo>
                  <a:pt x="1228" y="600"/>
                </a:lnTo>
                <a:lnTo>
                  <a:pt x="1202" y="567"/>
                </a:lnTo>
                <a:lnTo>
                  <a:pt x="1173" y="535"/>
                </a:lnTo>
                <a:lnTo>
                  <a:pt x="1140" y="504"/>
                </a:lnTo>
                <a:lnTo>
                  <a:pt x="1107" y="474"/>
                </a:lnTo>
                <a:lnTo>
                  <a:pt x="1069" y="445"/>
                </a:lnTo>
                <a:lnTo>
                  <a:pt x="1030" y="418"/>
                </a:lnTo>
                <a:lnTo>
                  <a:pt x="988" y="391"/>
                </a:lnTo>
                <a:lnTo>
                  <a:pt x="945" y="365"/>
                </a:lnTo>
                <a:lnTo>
                  <a:pt x="898" y="341"/>
                </a:lnTo>
                <a:lnTo>
                  <a:pt x="849" y="318"/>
                </a:lnTo>
                <a:lnTo>
                  <a:pt x="798" y="296"/>
                </a:lnTo>
                <a:lnTo>
                  <a:pt x="745" y="275"/>
                </a:lnTo>
                <a:lnTo>
                  <a:pt x="690" y="256"/>
                </a:lnTo>
                <a:lnTo>
                  <a:pt x="632" y="237"/>
                </a:lnTo>
                <a:lnTo>
                  <a:pt x="573" y="221"/>
                </a:lnTo>
                <a:lnTo>
                  <a:pt x="511" y="205"/>
                </a:lnTo>
                <a:lnTo>
                  <a:pt x="448" y="191"/>
                </a:lnTo>
                <a:lnTo>
                  <a:pt x="383" y="179"/>
                </a:lnTo>
                <a:lnTo>
                  <a:pt x="316" y="168"/>
                </a:lnTo>
                <a:lnTo>
                  <a:pt x="246" y="159"/>
                </a:lnTo>
                <a:lnTo>
                  <a:pt x="175" y="150"/>
                </a:lnTo>
                <a:lnTo>
                  <a:pt x="103" y="144"/>
                </a:lnTo>
                <a:lnTo>
                  <a:pt x="29" y="139"/>
                </a:lnTo>
              </a:path>
            </a:pathLst>
          </a:custGeom>
          <a:gradFill rotWithShape="0">
            <a:gsLst>
              <a:gs pos="0">
                <a:srgbClr val="ffffff"/>
              </a:gs>
              <a:gs pos="100000">
                <a:srgbClr val="dddddd"/>
              </a:gs>
            </a:gsLst>
            <a:lin ang="2700000"/>
          </a:gradFill>
          <a:ln cap="rnd" w="255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Freeform 10"/>
          <p:cNvSpPr/>
          <p:nvPr/>
        </p:nvSpPr>
        <p:spPr>
          <a:xfrm>
            <a:off x="1116000" y="3429000"/>
            <a:ext cx="1636560" cy="1467000"/>
          </a:xfrm>
          <a:custGeom>
            <a:avLst/>
            <a:gdLst>
              <a:gd name="textAreaLeft" fmla="*/ 0 w 1636560"/>
              <a:gd name="textAreaRight" fmla="*/ 1636920 w 1636560"/>
              <a:gd name="textAreaTop" fmla="*/ 0 h 1467000"/>
              <a:gd name="textAreaBottom" fmla="*/ 1467360 h 1467000"/>
            </a:gdLst>
            <a:ahLst/>
            <a:rect l="textAreaLeft" t="textAreaTop" r="textAreaRight" b="textAreaBottom"/>
            <a:pathLst>
              <a:path w="1160" h="1196">
                <a:moveTo>
                  <a:pt x="730" y="139"/>
                </a:moveTo>
                <a:lnTo>
                  <a:pt x="730" y="0"/>
                </a:lnTo>
                <a:lnTo>
                  <a:pt x="816" y="4"/>
                </a:lnTo>
                <a:lnTo>
                  <a:pt x="892" y="10"/>
                </a:lnTo>
                <a:lnTo>
                  <a:pt x="956" y="17"/>
                </a:lnTo>
                <a:lnTo>
                  <a:pt x="1011" y="24"/>
                </a:lnTo>
                <a:lnTo>
                  <a:pt x="1056" y="32"/>
                </a:lnTo>
                <a:lnTo>
                  <a:pt x="1093" y="41"/>
                </a:lnTo>
                <a:lnTo>
                  <a:pt x="1120" y="50"/>
                </a:lnTo>
                <a:lnTo>
                  <a:pt x="1139" y="61"/>
                </a:lnTo>
                <a:lnTo>
                  <a:pt x="1152" y="72"/>
                </a:lnTo>
                <a:lnTo>
                  <a:pt x="1159" y="85"/>
                </a:lnTo>
                <a:lnTo>
                  <a:pt x="1157" y="98"/>
                </a:lnTo>
                <a:lnTo>
                  <a:pt x="1151" y="113"/>
                </a:lnTo>
                <a:lnTo>
                  <a:pt x="1139" y="128"/>
                </a:lnTo>
                <a:lnTo>
                  <a:pt x="1124" y="145"/>
                </a:lnTo>
                <a:lnTo>
                  <a:pt x="1103" y="163"/>
                </a:lnTo>
                <a:lnTo>
                  <a:pt x="1080" y="183"/>
                </a:lnTo>
                <a:lnTo>
                  <a:pt x="1054" y="203"/>
                </a:lnTo>
                <a:lnTo>
                  <a:pt x="1025" y="225"/>
                </a:lnTo>
                <a:lnTo>
                  <a:pt x="994" y="249"/>
                </a:lnTo>
                <a:lnTo>
                  <a:pt x="963" y="273"/>
                </a:lnTo>
                <a:lnTo>
                  <a:pt x="930" y="299"/>
                </a:lnTo>
                <a:lnTo>
                  <a:pt x="897" y="327"/>
                </a:lnTo>
                <a:lnTo>
                  <a:pt x="866" y="357"/>
                </a:lnTo>
                <a:lnTo>
                  <a:pt x="834" y="387"/>
                </a:lnTo>
                <a:lnTo>
                  <a:pt x="805" y="420"/>
                </a:lnTo>
                <a:lnTo>
                  <a:pt x="778" y="454"/>
                </a:lnTo>
                <a:lnTo>
                  <a:pt x="753" y="489"/>
                </a:lnTo>
                <a:lnTo>
                  <a:pt x="732" y="527"/>
                </a:lnTo>
                <a:lnTo>
                  <a:pt x="714" y="566"/>
                </a:lnTo>
                <a:lnTo>
                  <a:pt x="702" y="607"/>
                </a:lnTo>
                <a:lnTo>
                  <a:pt x="693" y="650"/>
                </a:lnTo>
                <a:lnTo>
                  <a:pt x="689" y="695"/>
                </a:lnTo>
                <a:lnTo>
                  <a:pt x="689" y="724"/>
                </a:lnTo>
                <a:lnTo>
                  <a:pt x="690" y="752"/>
                </a:lnTo>
                <a:lnTo>
                  <a:pt x="692" y="778"/>
                </a:lnTo>
                <a:lnTo>
                  <a:pt x="694" y="803"/>
                </a:lnTo>
                <a:lnTo>
                  <a:pt x="695" y="826"/>
                </a:lnTo>
                <a:lnTo>
                  <a:pt x="697" y="848"/>
                </a:lnTo>
                <a:lnTo>
                  <a:pt x="698" y="869"/>
                </a:lnTo>
                <a:lnTo>
                  <a:pt x="699" y="888"/>
                </a:lnTo>
                <a:lnTo>
                  <a:pt x="702" y="906"/>
                </a:lnTo>
                <a:lnTo>
                  <a:pt x="703" y="922"/>
                </a:lnTo>
                <a:lnTo>
                  <a:pt x="704" y="938"/>
                </a:lnTo>
                <a:lnTo>
                  <a:pt x="704" y="953"/>
                </a:lnTo>
                <a:lnTo>
                  <a:pt x="704" y="966"/>
                </a:lnTo>
                <a:lnTo>
                  <a:pt x="702" y="979"/>
                </a:lnTo>
                <a:lnTo>
                  <a:pt x="701" y="991"/>
                </a:lnTo>
                <a:lnTo>
                  <a:pt x="697" y="1002"/>
                </a:lnTo>
                <a:lnTo>
                  <a:pt x="694" y="1012"/>
                </a:lnTo>
                <a:lnTo>
                  <a:pt x="689" y="1021"/>
                </a:lnTo>
                <a:lnTo>
                  <a:pt x="683" y="1031"/>
                </a:lnTo>
                <a:lnTo>
                  <a:pt x="675" y="1039"/>
                </a:lnTo>
                <a:lnTo>
                  <a:pt x="667" y="1046"/>
                </a:lnTo>
                <a:lnTo>
                  <a:pt x="657" y="1054"/>
                </a:lnTo>
                <a:lnTo>
                  <a:pt x="644" y="1061"/>
                </a:lnTo>
                <a:lnTo>
                  <a:pt x="631" y="1068"/>
                </a:lnTo>
                <a:lnTo>
                  <a:pt x="615" y="1074"/>
                </a:lnTo>
                <a:lnTo>
                  <a:pt x="598" y="1080"/>
                </a:lnTo>
                <a:lnTo>
                  <a:pt x="579" y="1087"/>
                </a:lnTo>
                <a:lnTo>
                  <a:pt x="556" y="1092"/>
                </a:lnTo>
                <a:lnTo>
                  <a:pt x="533" y="1099"/>
                </a:lnTo>
                <a:lnTo>
                  <a:pt x="508" y="1105"/>
                </a:lnTo>
                <a:lnTo>
                  <a:pt x="480" y="1111"/>
                </a:lnTo>
                <a:lnTo>
                  <a:pt x="448" y="1117"/>
                </a:lnTo>
                <a:lnTo>
                  <a:pt x="434" y="1120"/>
                </a:lnTo>
                <a:lnTo>
                  <a:pt x="419" y="1123"/>
                </a:lnTo>
                <a:lnTo>
                  <a:pt x="405" y="1126"/>
                </a:lnTo>
                <a:lnTo>
                  <a:pt x="389" y="1129"/>
                </a:lnTo>
                <a:lnTo>
                  <a:pt x="373" y="1132"/>
                </a:lnTo>
                <a:lnTo>
                  <a:pt x="356" y="1136"/>
                </a:lnTo>
                <a:lnTo>
                  <a:pt x="339" y="1139"/>
                </a:lnTo>
                <a:lnTo>
                  <a:pt x="320" y="1143"/>
                </a:lnTo>
                <a:lnTo>
                  <a:pt x="302" y="1146"/>
                </a:lnTo>
                <a:lnTo>
                  <a:pt x="283" y="1150"/>
                </a:lnTo>
                <a:lnTo>
                  <a:pt x="263" y="1154"/>
                </a:lnTo>
                <a:lnTo>
                  <a:pt x="241" y="1158"/>
                </a:lnTo>
                <a:lnTo>
                  <a:pt x="219" y="1163"/>
                </a:lnTo>
                <a:lnTo>
                  <a:pt x="196" y="1167"/>
                </a:lnTo>
                <a:lnTo>
                  <a:pt x="173" y="1171"/>
                </a:lnTo>
                <a:lnTo>
                  <a:pt x="148" y="1176"/>
                </a:lnTo>
                <a:lnTo>
                  <a:pt x="199" y="1194"/>
                </a:lnTo>
                <a:lnTo>
                  <a:pt x="0" y="1195"/>
                </a:lnTo>
                <a:lnTo>
                  <a:pt x="141" y="1106"/>
                </a:lnTo>
                <a:lnTo>
                  <a:pt x="131" y="1143"/>
                </a:lnTo>
                <a:lnTo>
                  <a:pt x="151" y="1139"/>
                </a:lnTo>
                <a:lnTo>
                  <a:pt x="168" y="1135"/>
                </a:lnTo>
                <a:lnTo>
                  <a:pt x="184" y="1131"/>
                </a:lnTo>
                <a:lnTo>
                  <a:pt x="198" y="1129"/>
                </a:lnTo>
                <a:lnTo>
                  <a:pt x="209" y="1126"/>
                </a:lnTo>
                <a:lnTo>
                  <a:pt x="219" y="1123"/>
                </a:lnTo>
                <a:lnTo>
                  <a:pt x="228" y="1121"/>
                </a:lnTo>
                <a:lnTo>
                  <a:pt x="236" y="1119"/>
                </a:lnTo>
                <a:lnTo>
                  <a:pt x="243" y="1117"/>
                </a:lnTo>
                <a:lnTo>
                  <a:pt x="250" y="1116"/>
                </a:lnTo>
                <a:lnTo>
                  <a:pt x="257" y="1114"/>
                </a:lnTo>
                <a:lnTo>
                  <a:pt x="264" y="1112"/>
                </a:lnTo>
                <a:lnTo>
                  <a:pt x="271" y="1110"/>
                </a:lnTo>
                <a:lnTo>
                  <a:pt x="279" y="1108"/>
                </a:lnTo>
                <a:lnTo>
                  <a:pt x="288" y="1106"/>
                </a:lnTo>
                <a:lnTo>
                  <a:pt x="298" y="1104"/>
                </a:lnTo>
                <a:lnTo>
                  <a:pt x="321" y="1099"/>
                </a:lnTo>
                <a:lnTo>
                  <a:pt x="343" y="1094"/>
                </a:lnTo>
                <a:lnTo>
                  <a:pt x="363" y="1089"/>
                </a:lnTo>
                <a:lnTo>
                  <a:pt x="381" y="1083"/>
                </a:lnTo>
                <a:lnTo>
                  <a:pt x="398" y="1077"/>
                </a:lnTo>
                <a:lnTo>
                  <a:pt x="412" y="1071"/>
                </a:lnTo>
                <a:lnTo>
                  <a:pt x="425" y="1065"/>
                </a:lnTo>
                <a:lnTo>
                  <a:pt x="437" y="1057"/>
                </a:lnTo>
                <a:lnTo>
                  <a:pt x="447" y="1050"/>
                </a:lnTo>
                <a:lnTo>
                  <a:pt x="455" y="1043"/>
                </a:lnTo>
                <a:lnTo>
                  <a:pt x="463" y="1035"/>
                </a:lnTo>
                <a:lnTo>
                  <a:pt x="469" y="1026"/>
                </a:lnTo>
                <a:lnTo>
                  <a:pt x="474" y="1017"/>
                </a:lnTo>
                <a:lnTo>
                  <a:pt x="478" y="1007"/>
                </a:lnTo>
                <a:lnTo>
                  <a:pt x="481" y="997"/>
                </a:lnTo>
                <a:lnTo>
                  <a:pt x="483" y="986"/>
                </a:lnTo>
                <a:lnTo>
                  <a:pt x="486" y="974"/>
                </a:lnTo>
                <a:lnTo>
                  <a:pt x="486" y="962"/>
                </a:lnTo>
                <a:lnTo>
                  <a:pt x="486" y="949"/>
                </a:lnTo>
                <a:lnTo>
                  <a:pt x="486" y="935"/>
                </a:lnTo>
                <a:lnTo>
                  <a:pt x="486" y="921"/>
                </a:lnTo>
                <a:lnTo>
                  <a:pt x="483" y="905"/>
                </a:lnTo>
                <a:lnTo>
                  <a:pt x="482" y="889"/>
                </a:lnTo>
                <a:lnTo>
                  <a:pt x="481" y="872"/>
                </a:lnTo>
                <a:lnTo>
                  <a:pt x="480" y="853"/>
                </a:lnTo>
                <a:lnTo>
                  <a:pt x="478" y="834"/>
                </a:lnTo>
                <a:lnTo>
                  <a:pt x="475" y="814"/>
                </a:lnTo>
                <a:lnTo>
                  <a:pt x="474" y="793"/>
                </a:lnTo>
                <a:lnTo>
                  <a:pt x="473" y="771"/>
                </a:lnTo>
                <a:lnTo>
                  <a:pt x="471" y="747"/>
                </a:lnTo>
                <a:lnTo>
                  <a:pt x="471" y="723"/>
                </a:lnTo>
                <a:lnTo>
                  <a:pt x="471" y="697"/>
                </a:lnTo>
                <a:lnTo>
                  <a:pt x="473" y="657"/>
                </a:lnTo>
                <a:lnTo>
                  <a:pt x="482" y="620"/>
                </a:lnTo>
                <a:lnTo>
                  <a:pt x="496" y="584"/>
                </a:lnTo>
                <a:lnTo>
                  <a:pt x="515" y="550"/>
                </a:lnTo>
                <a:lnTo>
                  <a:pt x="537" y="518"/>
                </a:lnTo>
                <a:lnTo>
                  <a:pt x="563" y="488"/>
                </a:lnTo>
                <a:lnTo>
                  <a:pt x="593" y="460"/>
                </a:lnTo>
                <a:lnTo>
                  <a:pt x="624" y="433"/>
                </a:lnTo>
                <a:lnTo>
                  <a:pt x="658" y="408"/>
                </a:lnTo>
                <a:lnTo>
                  <a:pt x="693" y="384"/>
                </a:lnTo>
                <a:lnTo>
                  <a:pt x="728" y="362"/>
                </a:lnTo>
                <a:lnTo>
                  <a:pt x="765" y="342"/>
                </a:lnTo>
                <a:lnTo>
                  <a:pt x="801" y="322"/>
                </a:lnTo>
                <a:lnTo>
                  <a:pt x="836" y="304"/>
                </a:lnTo>
                <a:lnTo>
                  <a:pt x="869" y="287"/>
                </a:lnTo>
                <a:lnTo>
                  <a:pt x="901" y="272"/>
                </a:lnTo>
                <a:lnTo>
                  <a:pt x="931" y="257"/>
                </a:lnTo>
                <a:lnTo>
                  <a:pt x="958" y="244"/>
                </a:lnTo>
                <a:lnTo>
                  <a:pt x="981" y="232"/>
                </a:lnTo>
                <a:lnTo>
                  <a:pt x="1001" y="220"/>
                </a:lnTo>
                <a:lnTo>
                  <a:pt x="1016" y="210"/>
                </a:lnTo>
                <a:lnTo>
                  <a:pt x="1026" y="200"/>
                </a:lnTo>
                <a:lnTo>
                  <a:pt x="1029" y="192"/>
                </a:lnTo>
                <a:lnTo>
                  <a:pt x="1028" y="184"/>
                </a:lnTo>
                <a:lnTo>
                  <a:pt x="1019" y="176"/>
                </a:lnTo>
                <a:lnTo>
                  <a:pt x="1003" y="170"/>
                </a:lnTo>
                <a:lnTo>
                  <a:pt x="981" y="163"/>
                </a:lnTo>
                <a:lnTo>
                  <a:pt x="949" y="158"/>
                </a:lnTo>
                <a:lnTo>
                  <a:pt x="909" y="152"/>
                </a:lnTo>
                <a:lnTo>
                  <a:pt x="859" y="148"/>
                </a:lnTo>
                <a:lnTo>
                  <a:pt x="800" y="144"/>
                </a:lnTo>
                <a:lnTo>
                  <a:pt x="730" y="139"/>
                </a:lnTo>
              </a:path>
            </a:pathLst>
          </a:custGeom>
          <a:gradFill rotWithShape="0">
            <a:gsLst>
              <a:gs pos="0">
                <a:srgbClr val="dddddd"/>
              </a:gs>
              <a:gs pos="100000">
                <a:srgbClr val="ffffff"/>
              </a:gs>
            </a:gsLst>
            <a:lin ang="2700000"/>
          </a:gradFill>
          <a:ln cap="rnd"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11"/>
          <p:cNvSpPr/>
          <p:nvPr/>
        </p:nvSpPr>
        <p:spPr>
          <a:xfrm>
            <a:off x="324000" y="3933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唾液；尿；粪</a:t>
            </a:r>
            <a:endParaRPr b="0" lang="en-US" sz="2800" spc="-1" strike="noStrike">
              <a:solidFill>
                <a:srgbClr val="046ca6"/>
              </a:solidFill>
              <a:latin typeface="Arial"/>
            </a:endParaRPr>
          </a:p>
        </p:txBody>
      </p:sp>
      <p:sp>
        <p:nvSpPr>
          <p:cNvPr id="256" name="Text Box 12"/>
          <p:cNvSpPr/>
          <p:nvPr/>
        </p:nvSpPr>
        <p:spPr>
          <a:xfrm>
            <a:off x="1332000" y="4724280"/>
            <a:ext cx="172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呼吸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消化道</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伤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8"/>
          <p:cNvSpPr/>
          <p:nvPr/>
        </p:nvSpPr>
        <p:spPr>
          <a:xfrm>
            <a:off x="4211640" y="2852640"/>
            <a:ext cx="374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外形似子弹状，大小约</a:t>
            </a:r>
            <a:r>
              <a:rPr b="0" lang="en-US" sz="2400" spc="-1" strike="noStrike">
                <a:solidFill>
                  <a:srgbClr val="046ca6"/>
                </a:solidFill>
                <a:latin typeface="Arial"/>
                <a:ea typeface="宋体"/>
              </a:rPr>
              <a:t>75nm×180nm</a:t>
            </a:r>
            <a:r>
              <a:rPr b="0" lang="en-US"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15" name="Picture 9" descr="rabies_thumb"/>
          <p:cNvPicPr/>
          <p:nvPr/>
        </p:nvPicPr>
        <p:blipFill>
          <a:blip r:embed="rId1"/>
          <a:stretch/>
        </p:blipFill>
        <p:spPr>
          <a:xfrm>
            <a:off x="525600" y="1901880"/>
            <a:ext cx="3470040" cy="3470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1" name="Rectangle 3"/>
          <p:cNvSpPr/>
          <p:nvPr/>
        </p:nvSpPr>
        <p:spPr>
          <a:xfrm>
            <a:off x="684360" y="2133720"/>
            <a:ext cx="76327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的发病机理尚未完全清楚，可能的机制包括：</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病毒的直接作用：病毒在血管内皮细胞内增殖，直接损伤小血管和毛细血管，影响其舒缩功能，导致血管通透性增高和微循环障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免疫病理反应的参与：病程早期出现的免疫复合物可沉积于血管和肾小球基底膜等处，激活补体，进而导致沉积部位损伤。细胞免疫可能也参与免疫病理反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Rectangle 3"/>
          <p:cNvSpPr/>
          <p:nvPr/>
        </p:nvSpPr>
        <p:spPr>
          <a:xfrm>
            <a:off x="250920" y="1484280"/>
            <a:ext cx="626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FRS</a:t>
            </a:r>
            <a:r>
              <a:rPr b="0" lang="zh-CN" sz="2400" spc="-1" strike="noStrike">
                <a:solidFill>
                  <a:srgbClr val="046ca6"/>
                </a:solidFill>
                <a:latin typeface="Arial"/>
                <a:ea typeface="宋体"/>
              </a:rPr>
              <a:t>典型的临床表现为发热、出血和肾损害，肾脏的病理改变尤为突出，如肾小球血管的充血和出血、上皮细胞变性和坏死、肾间质水肿出血和炎症细胞浸润等。</a:t>
            </a:r>
            <a:endParaRPr b="0" lang="en-US" sz="2400" spc="-1" strike="noStrike">
              <a:solidFill>
                <a:srgbClr val="046ca6"/>
              </a:solidFill>
              <a:latin typeface="Arial"/>
            </a:endParaRPr>
          </a:p>
        </p:txBody>
      </p:sp>
      <p:pic>
        <p:nvPicPr>
          <p:cNvPr id="264" name="Picture 4" descr="01501502"/>
          <p:cNvPicPr/>
          <p:nvPr/>
        </p:nvPicPr>
        <p:blipFill>
          <a:blip r:embed="rId1"/>
          <a:stretch/>
        </p:blipFill>
        <p:spPr>
          <a:xfrm>
            <a:off x="4643280" y="3429000"/>
            <a:ext cx="4083120" cy="2774880"/>
          </a:xfrm>
          <a:prstGeom prst="rect">
            <a:avLst/>
          </a:prstGeom>
          <a:ln w="0">
            <a:noFill/>
          </a:ln>
        </p:spPr>
      </p:pic>
      <p:pic>
        <p:nvPicPr>
          <p:cNvPr id="265" name="Picture 5" descr="01501401"/>
          <p:cNvPicPr/>
          <p:nvPr/>
        </p:nvPicPr>
        <p:blipFill>
          <a:blip r:embed="rId2"/>
          <a:stretch/>
        </p:blipFill>
        <p:spPr>
          <a:xfrm>
            <a:off x="250920" y="3429000"/>
            <a:ext cx="4130640" cy="2816280"/>
          </a:xfrm>
          <a:prstGeom prst="rect">
            <a:avLst/>
          </a:prstGeom>
          <a:ln w="0">
            <a:noFill/>
          </a:ln>
        </p:spPr>
      </p:pic>
      <p:pic>
        <p:nvPicPr>
          <p:cNvPr id="266" name="Picture 6" descr="20071228163123357_S"/>
          <p:cNvPicPr/>
          <p:nvPr/>
        </p:nvPicPr>
        <p:blipFill>
          <a:blip r:embed="rId3"/>
          <a:stretch/>
        </p:blipFill>
        <p:spPr>
          <a:xfrm>
            <a:off x="6516720" y="1341360"/>
            <a:ext cx="2286000" cy="1714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8" name="Rectangle 3"/>
          <p:cNvSpPr/>
          <p:nvPr/>
        </p:nvSpPr>
        <p:spPr>
          <a:xfrm>
            <a:off x="611280" y="119700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临床过程可分为五期：发热期、低血压休克期、少尿期、多尿期和恢复期。病死率较高，隐性感染率较低。</a:t>
            </a:r>
            <a:endParaRPr b="0" lang="en-US" sz="2400" spc="-1" strike="noStrike">
              <a:solidFill>
                <a:srgbClr val="046ca6"/>
              </a:solidFill>
              <a:latin typeface="Arial"/>
            </a:endParaRPr>
          </a:p>
        </p:txBody>
      </p:sp>
      <p:pic>
        <p:nvPicPr>
          <p:cNvPr id="269" name="Picture 4" descr="crimean%20hemorrhagic2"/>
          <p:cNvPicPr/>
          <p:nvPr/>
        </p:nvPicPr>
        <p:blipFill>
          <a:blip r:embed="rId1"/>
          <a:stretch/>
        </p:blipFill>
        <p:spPr>
          <a:xfrm>
            <a:off x="4500720" y="2205000"/>
            <a:ext cx="4467240" cy="3006720"/>
          </a:xfrm>
          <a:prstGeom prst="rect">
            <a:avLst/>
          </a:prstGeom>
          <a:ln w="0">
            <a:noFill/>
          </a:ln>
        </p:spPr>
      </p:pic>
      <p:pic>
        <p:nvPicPr>
          <p:cNvPr id="270" name="Picture 5" descr="varicella-infant-hemorrhagic-fifthday_lrg"/>
          <p:cNvPicPr/>
          <p:nvPr/>
        </p:nvPicPr>
        <p:blipFill>
          <a:blip r:embed="rId2"/>
          <a:stretch/>
        </p:blipFill>
        <p:spPr>
          <a:xfrm>
            <a:off x="539640" y="2133720"/>
            <a:ext cx="3724560" cy="3035160"/>
          </a:xfrm>
          <a:prstGeom prst="rect">
            <a:avLst/>
          </a:prstGeom>
          <a:ln w="0">
            <a:noFill/>
          </a:ln>
        </p:spPr>
      </p:pic>
      <p:sp>
        <p:nvSpPr>
          <p:cNvPr id="271" name="Rectangle 6"/>
          <p:cNvSpPr/>
          <p:nvPr/>
        </p:nvSpPr>
        <p:spPr>
          <a:xfrm>
            <a:off x="539640" y="5300640"/>
            <a:ext cx="83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汉坦病毒感染后，发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天即可出现特异性</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第</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天达高峰。</a:t>
            </a: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抗体随之出现，可持续多年。病后免疫力持久。隐性感染免疫力不能持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4"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微生物学检查</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6" name="Rectangle 3"/>
          <p:cNvSpPr/>
          <p:nvPr/>
        </p:nvSpPr>
        <p:spPr>
          <a:xfrm>
            <a:off x="395280" y="1844640"/>
            <a:ext cx="8353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en-US" sz="2400" spc="-1" strike="noStrike">
                <a:solidFill>
                  <a:srgbClr val="046ca6"/>
                </a:solidFill>
                <a:latin typeface="Arial"/>
                <a:ea typeface="宋体"/>
              </a:rPr>
              <a:t>病毒分离与抗原检测</a:t>
            </a:r>
            <a:r>
              <a:rPr b="0" lang="zh-CN" sz="2400" spc="-1" strike="noStrike">
                <a:solidFill>
                  <a:srgbClr val="046ca6"/>
                </a:solidFill>
                <a:latin typeface="Arial"/>
                <a:ea typeface="宋体"/>
              </a:rPr>
              <a:t>：要在具有严格隔离条件的实验室进行。病人急性期血清、尸检病死者器官和感染动物肺、肾组织，均可用于病毒分离和抗原检测。待检标本接种</a:t>
            </a:r>
            <a:r>
              <a:rPr b="0" lang="en-US" sz="2400" spc="-1" strike="noStrike">
                <a:solidFill>
                  <a:srgbClr val="046ca6"/>
                </a:solidFill>
                <a:latin typeface="Arial"/>
                <a:ea typeface="宋体"/>
              </a:rPr>
              <a:t>Vero</a:t>
            </a:r>
            <a:r>
              <a:rPr b="0" lang="en-US" sz="2400" spc="-1" strike="noStrike">
                <a:solidFill>
                  <a:srgbClr val="046ca6"/>
                </a:solidFill>
                <a:latin typeface="Arial"/>
                <a:ea typeface="宋体"/>
              </a:rPr>
              <a:t>细胞或</a:t>
            </a:r>
            <a:r>
              <a:rPr b="0" lang="en-US" sz="2400" spc="-1" strike="noStrike">
                <a:solidFill>
                  <a:srgbClr val="046ca6"/>
                </a:solidFill>
                <a:latin typeface="Arial"/>
                <a:ea typeface="宋体"/>
              </a:rPr>
              <a:t>A549</a:t>
            </a:r>
            <a:r>
              <a:rPr b="0" lang="en-US" sz="2400" spc="-1" strike="noStrike">
                <a:solidFill>
                  <a:srgbClr val="046ca6"/>
                </a:solidFill>
                <a:latin typeface="Arial"/>
                <a:ea typeface="宋体"/>
              </a:rPr>
              <a:t>细胞进行病毒分离，并可用免疫荧光抗体染色检查细胞</a:t>
            </a:r>
            <a:r>
              <a:rPr b="0" lang="zh-CN" sz="2400" spc="-1" strike="noStrike">
                <a:solidFill>
                  <a:srgbClr val="046ca6"/>
                </a:solidFill>
                <a:latin typeface="Arial"/>
                <a:ea typeface="宋体"/>
              </a:rPr>
              <a:t>质</a:t>
            </a:r>
            <a:r>
              <a:rPr b="0" lang="en-US" sz="2400" spc="-1" strike="noStrike">
                <a:solidFill>
                  <a:srgbClr val="046ca6"/>
                </a:solidFill>
                <a:latin typeface="Arial"/>
                <a:ea typeface="宋体"/>
              </a:rPr>
              <a:t>内病毒抗原。标本接种黑线姬鼠、大鼠或初生乳鼠后，可检测肺组织中的特异性病毒抗原。</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en-US" sz="2400" spc="-1" strike="noStrike">
                <a:solidFill>
                  <a:srgbClr val="046ca6"/>
                </a:solidFill>
                <a:latin typeface="Arial"/>
                <a:ea typeface="宋体"/>
              </a:rPr>
              <a:t>血清学诊断</a:t>
            </a:r>
            <a:r>
              <a:rPr b="0" lang="zh-CN" sz="2400" spc="-1" strike="noStrike">
                <a:solidFill>
                  <a:srgbClr val="046ca6"/>
                </a:solidFill>
                <a:latin typeface="Arial"/>
                <a:ea typeface="宋体"/>
              </a:rPr>
              <a:t>：用感染汉坦病毒的鼠肺组织或培养细胞制成的抗原片检查病人血清中病毒特异性</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或</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单份血清</a:t>
            </a:r>
            <a:r>
              <a:rPr b="0" lang="en-US" sz="2400" spc="-1" strike="noStrike">
                <a:solidFill>
                  <a:srgbClr val="046ca6"/>
                </a:solidFill>
                <a:latin typeface="Arial"/>
                <a:ea typeface="宋体"/>
              </a:rPr>
              <a:t>IgM</a:t>
            </a:r>
            <a:r>
              <a:rPr b="0" lang="en-US" sz="2400" spc="-1" strike="noStrike">
                <a:solidFill>
                  <a:srgbClr val="046ca6"/>
                </a:solidFill>
                <a:latin typeface="Arial"/>
                <a:ea typeface="宋体"/>
              </a:rPr>
              <a:t>阳性或双份血清</a:t>
            </a:r>
            <a:r>
              <a:rPr b="0" lang="en-US" sz="2400" spc="-1" strike="noStrike">
                <a:solidFill>
                  <a:srgbClr val="046ca6"/>
                </a:solidFill>
                <a:latin typeface="Arial"/>
                <a:ea typeface="宋体"/>
              </a:rPr>
              <a:t>IgG</a:t>
            </a:r>
            <a:r>
              <a:rPr b="0" lang="en-US" sz="2400" spc="-1" strike="noStrike">
                <a:solidFill>
                  <a:srgbClr val="046ca6"/>
                </a:solidFill>
                <a:latin typeface="Arial"/>
                <a:ea typeface="宋体"/>
              </a:rPr>
              <a:t>抗体≥</a:t>
            </a:r>
            <a:r>
              <a:rPr b="0" lang="en-US" sz="2400" spc="-1" strike="noStrike">
                <a:solidFill>
                  <a:srgbClr val="046ca6"/>
                </a:solidFill>
                <a:latin typeface="Arial"/>
                <a:ea typeface="宋体"/>
              </a:rPr>
              <a:t>4</a:t>
            </a:r>
            <a:r>
              <a:rPr b="0" lang="en-US" sz="2400" spc="-1" strike="noStrike">
                <a:solidFill>
                  <a:srgbClr val="046ca6"/>
                </a:solidFill>
                <a:latin typeface="Arial"/>
                <a:ea typeface="宋体"/>
              </a:rPr>
              <a:t>倍增高者，均有诊断意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Text Box 4"/>
          <p:cNvSpPr/>
          <p:nvPr/>
        </p:nvSpPr>
        <p:spPr>
          <a:xfrm>
            <a:off x="2050920" y="2637000"/>
            <a:ext cx="540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五）防治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Rectangle 3"/>
          <p:cNvSpPr/>
          <p:nvPr/>
        </p:nvSpPr>
        <p:spPr>
          <a:xfrm>
            <a:off x="826920" y="242100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采取灭鼠、加强实验动物管理、注意流行地区有关人员的个人防护等措施控制病毒的传播。易感者可接种灭活疫苗。利巴韦林（病毒唑）治疗有一定的疗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Text Box 4"/>
          <p:cNvSpPr/>
          <p:nvPr/>
        </p:nvSpPr>
        <p:spPr>
          <a:xfrm>
            <a:off x="1979640" y="1341360"/>
            <a:ext cx="518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新疆出血热病毒</a:t>
            </a:r>
            <a:endParaRPr b="0" lang="en-US" sz="4000" spc="-1" strike="noStrike">
              <a:solidFill>
                <a:srgbClr val="046ca6"/>
              </a:solidFill>
              <a:latin typeface="Arial"/>
            </a:endParaRPr>
          </a:p>
        </p:txBody>
      </p:sp>
      <p:sp>
        <p:nvSpPr>
          <p:cNvPr id="285" name="Text Box 5"/>
          <p:cNvSpPr/>
          <p:nvPr/>
        </p:nvSpPr>
        <p:spPr>
          <a:xfrm>
            <a:off x="611280" y="2565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病毒是因</a:t>
            </a:r>
            <a:r>
              <a:rPr b="0" lang="en-US" sz="2400" spc="-1" strike="noStrike">
                <a:solidFill>
                  <a:srgbClr val="046ca6"/>
                </a:solidFill>
                <a:latin typeface="Arial"/>
                <a:ea typeface="宋体"/>
              </a:rPr>
              <a:t>1966</a:t>
            </a:r>
            <a:r>
              <a:rPr b="0" lang="zh-CN" sz="2400" spc="-1" strike="noStrike">
                <a:solidFill>
                  <a:srgbClr val="046ca6"/>
                </a:solidFill>
                <a:latin typeface="Arial"/>
                <a:ea typeface="宋体"/>
              </a:rPr>
              <a:t>年从我国新疆塔里木盆地出血热病人的血液、尸体脏器中以及在疫区捕获的硬蜱中分离获得而命名。</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后经鉴定证实，它与先期发现的布尼亚病毒科内罗病毒属（</a:t>
            </a:r>
            <a:r>
              <a:rPr b="0" lang="en-US" sz="2400" spc="-1" strike="noStrike">
                <a:solidFill>
                  <a:srgbClr val="046ca6"/>
                </a:solidFill>
                <a:latin typeface="Arial"/>
                <a:ea typeface="宋体"/>
              </a:rPr>
              <a:t>Nairovirus</a:t>
            </a:r>
            <a:r>
              <a:rPr b="0" lang="zh-CN" sz="2400" spc="-1" strike="noStrike">
                <a:solidFill>
                  <a:srgbClr val="046ca6"/>
                </a:solidFill>
                <a:latin typeface="Arial"/>
                <a:ea typeface="宋体"/>
              </a:rPr>
              <a:t>）的克里米亚</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刚果出血热病毒是同一种病毒。</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毒结构、培养特性和抵抗力与其他布尼亚病毒相似，但其免疫原性、传播方式及致病性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Text Box 5"/>
          <p:cNvSpPr/>
          <p:nvPr/>
        </p:nvSpPr>
        <p:spPr>
          <a:xfrm>
            <a:off x="324000" y="1557360"/>
            <a:ext cx="835164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疆出血热是一种自然疫源性疾病，有严格的地区性和明显的季节性，主要分布在荒漠牧场。硬蜱是该病毒的传染源和传播媒介，病毒可经蜱卵传代。野生啮齿动物及家畜等是其主要储存宿主。</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传播途径包括虫媒传播、动物源性传播和人</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人传播。新疆出血热的潜伏期为</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临床表现以高热和出血为主要特征。病后机体可产生中和抗体，获得持久免疫力。</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微生物学检查与汉坦病毒基本相同，其预防主要针对传染源和传播途径采取有效的控制措施。我国研制的鼠脑灭活疫苗在试用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Text Box 4"/>
          <p:cNvSpPr/>
          <p:nvPr/>
        </p:nvSpPr>
        <p:spPr>
          <a:xfrm>
            <a:off x="2050920" y="1557360"/>
            <a:ext cx="518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四节 人乳头瘤病毒</a:t>
            </a:r>
            <a:endParaRPr b="0" lang="en-US" sz="4000" spc="-1" strike="noStrike">
              <a:solidFill>
                <a:srgbClr val="046ca6"/>
              </a:solidFill>
              <a:latin typeface="Arial"/>
            </a:endParaRPr>
          </a:p>
        </p:txBody>
      </p:sp>
      <p:sp>
        <p:nvSpPr>
          <p:cNvPr id="292"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人乳头瘤病毒（</a:t>
            </a:r>
            <a:r>
              <a:rPr b="0" lang="en-US" sz="2400" spc="-1" strike="noStrike">
                <a:solidFill>
                  <a:srgbClr val="046ca6"/>
                </a:solidFill>
                <a:latin typeface="Arial"/>
                <a:ea typeface="宋体"/>
              </a:rPr>
              <a:t>human papillomaviru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属于乳多空病毒科中的乳头瘤病毒属，主要侵犯人的皮肤和黏膜，导致增生性病变，有些型别引起良性病变，某些型别可引起组织癌变，是常见的性传播疾病的病原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Rectangle 3"/>
          <p:cNvSpPr/>
          <p:nvPr/>
        </p:nvSpPr>
        <p:spPr>
          <a:xfrm>
            <a:off x="395280" y="4653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核心由单股负链</a:t>
            </a:r>
            <a:r>
              <a:rPr b="0" lang="en-US" sz="2400" spc="-1" strike="noStrike">
                <a:solidFill>
                  <a:srgbClr val="046ca6"/>
                </a:solidFill>
                <a:latin typeface="Arial"/>
                <a:ea typeface="宋体"/>
              </a:rPr>
              <a:t>RNA</a:t>
            </a:r>
            <a:r>
              <a:rPr b="0" lang="en-US" sz="2400" spc="-1" strike="noStrike">
                <a:solidFill>
                  <a:srgbClr val="046ca6"/>
                </a:solidFill>
                <a:latin typeface="Arial"/>
                <a:ea typeface="宋体"/>
              </a:rPr>
              <a:t>、核蛋白和</a:t>
            </a:r>
            <a:r>
              <a:rPr b="0" lang="zh-CN" sz="2400" spc="-1" strike="noStrike">
                <a:solidFill>
                  <a:srgbClr val="046ca6"/>
                </a:solidFill>
                <a:latin typeface="Arial"/>
                <a:ea typeface="宋体"/>
              </a:rPr>
              <a:t>依赖</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RNA</a:t>
            </a:r>
            <a:r>
              <a:rPr b="0" lang="zh-CN" sz="2400" spc="-1" strike="noStrike">
                <a:solidFill>
                  <a:srgbClr val="046ca6"/>
                </a:solidFill>
                <a:latin typeface="Arial"/>
                <a:ea typeface="宋体"/>
              </a:rPr>
              <a:t>多聚酶组成；核心外为螺旋对称型排列的蛋白质衣壳；外有包膜，包膜上的糖蛋白刺突与病毒的感染性、毒力和血凝性等有关。</a:t>
            </a:r>
            <a:endParaRPr b="0" lang="en-US" sz="2400" spc="-1" strike="noStrike">
              <a:solidFill>
                <a:srgbClr val="046ca6"/>
              </a:solidFill>
              <a:latin typeface="Arial"/>
            </a:endParaRPr>
          </a:p>
        </p:txBody>
      </p:sp>
      <p:pic>
        <p:nvPicPr>
          <p:cNvPr id="118" name="Picture 5" descr="virus_rabies_orig"/>
          <p:cNvPicPr/>
          <p:nvPr/>
        </p:nvPicPr>
        <p:blipFill>
          <a:blip r:embed="rId1"/>
          <a:srcRect l="0" t="17050" r="0" b="20954"/>
          <a:stretch/>
        </p:blipFill>
        <p:spPr>
          <a:xfrm>
            <a:off x="1332000" y="1341360"/>
            <a:ext cx="6191280" cy="2879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5"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Rectangle 3"/>
          <p:cNvSpPr/>
          <p:nvPr/>
        </p:nvSpPr>
        <p:spPr>
          <a:xfrm>
            <a:off x="4356000" y="1844640"/>
            <a:ext cx="41767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呈球形，衣壳为二十面立体对称，由</a:t>
            </a:r>
            <a:r>
              <a:rPr b="0" lang="en-US" sz="2400" spc="-1" strike="noStrike">
                <a:solidFill>
                  <a:srgbClr val="046ca6"/>
                </a:solidFill>
                <a:latin typeface="Arial"/>
                <a:ea typeface="宋体"/>
              </a:rPr>
              <a:t>72</a:t>
            </a:r>
            <a:r>
              <a:rPr b="0" lang="en-US" sz="2400" spc="-1" strike="noStrike">
                <a:solidFill>
                  <a:srgbClr val="046ca6"/>
                </a:solidFill>
                <a:latin typeface="Arial"/>
                <a:ea typeface="宋体"/>
              </a:rPr>
              <a:t>个壳粒组成，无包膜。病毒基因组为双股环状</a:t>
            </a:r>
            <a:r>
              <a:rPr b="0" lang="en-US" sz="2400" spc="-1" strike="noStrike">
                <a:solidFill>
                  <a:srgbClr val="046ca6"/>
                </a:solidFill>
                <a:latin typeface="Arial"/>
                <a:ea typeface="宋体"/>
              </a:rPr>
              <a:t>DNA</a:t>
            </a:r>
            <a:r>
              <a:rPr b="0" lang="en-US" sz="2400" spc="-1" strike="noStrike">
                <a:solidFill>
                  <a:srgbClr val="046ca6"/>
                </a:solidFill>
                <a:latin typeface="Arial"/>
                <a:ea typeface="宋体"/>
              </a:rPr>
              <a:t>。根据核苷酸序列分型，已发现</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有</a:t>
            </a:r>
            <a:r>
              <a:rPr b="0" lang="en-US" sz="2400" spc="-1" strike="noStrike">
                <a:solidFill>
                  <a:srgbClr val="046ca6"/>
                </a:solidFill>
                <a:latin typeface="Arial"/>
                <a:ea typeface="宋体"/>
              </a:rPr>
              <a:t>100</a:t>
            </a:r>
            <a:r>
              <a:rPr b="0" lang="en-US" sz="2400" spc="-1" strike="noStrike">
                <a:solidFill>
                  <a:srgbClr val="046ca6"/>
                </a:solidFill>
                <a:latin typeface="Arial"/>
                <a:ea typeface="宋体"/>
              </a:rPr>
              <a:t>多个型。</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只能感染人的皮肤和黏膜上皮细胞，因此人类是</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唯一自然宿主。目前</a:t>
            </a: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尚不能在常规组织细胞中进行培养。</a:t>
            </a:r>
            <a:endParaRPr b="0" lang="en-US" sz="2400" spc="-1" strike="noStrike">
              <a:solidFill>
                <a:srgbClr val="046ca6"/>
              </a:solidFill>
              <a:latin typeface="Arial"/>
            </a:endParaRPr>
          </a:p>
        </p:txBody>
      </p:sp>
      <p:pic>
        <p:nvPicPr>
          <p:cNvPr id="298" name="Picture 5" descr="hpv2"/>
          <p:cNvPicPr/>
          <p:nvPr/>
        </p:nvPicPr>
        <p:blipFill>
          <a:blip r:embed="rId1"/>
          <a:srcRect l="3638" t="1966" r="2277" b="3550"/>
          <a:stretch/>
        </p:blipFill>
        <p:spPr>
          <a:xfrm>
            <a:off x="250920" y="1916280"/>
            <a:ext cx="3743280" cy="3456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1"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Rectangle 3"/>
          <p:cNvSpPr/>
          <p:nvPr/>
        </p:nvSpPr>
        <p:spPr>
          <a:xfrm>
            <a:off x="826920" y="2133720"/>
            <a:ext cx="7632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HPV</a:t>
            </a:r>
            <a:r>
              <a:rPr b="0" lang="en-US" sz="2400" spc="-1" strike="noStrike">
                <a:solidFill>
                  <a:srgbClr val="046ca6"/>
                </a:solidFill>
                <a:latin typeface="Arial"/>
                <a:ea typeface="宋体"/>
              </a:rPr>
              <a:t>的传播主要通过直接接触感染者病损部位或间接接触被病毒污染的物品。生殖器感染主要由性交传播。</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新生儿可在通过产道时受感染。</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病毒感染仅停留于局部皮肤和黏膜中，不产生病毒血症。</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主要病理改变是引起上皮增生性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Rectangle 3"/>
          <p:cNvSpPr/>
          <p:nvPr/>
        </p:nvSpPr>
        <p:spPr>
          <a:xfrm>
            <a:off x="1042920" y="1377720"/>
            <a:ext cx="72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不同型别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侵犯的部位和所致疾病不尽相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危型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尤其是</a:t>
            </a:r>
            <a:r>
              <a:rPr b="0" lang="en-US" sz="2400" spc="-1" strike="noStrike">
                <a:solidFill>
                  <a:srgbClr val="046ca6"/>
                </a:solidFill>
                <a:latin typeface="Arial"/>
                <a:ea typeface="宋体"/>
              </a:rPr>
              <a:t>HPV1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8</a:t>
            </a:r>
            <a:r>
              <a:rPr b="0" lang="zh-CN" sz="2400" spc="-1" strike="noStrike">
                <a:solidFill>
                  <a:srgbClr val="046ca6"/>
                </a:solidFill>
                <a:latin typeface="Arial"/>
                <a:ea typeface="宋体"/>
              </a:rPr>
              <a:t>型与宫颈癌的发生密切相关。</a:t>
            </a:r>
            <a:endParaRPr b="0" lang="en-US" sz="2400" spc="-1" strike="noStrike">
              <a:solidFill>
                <a:srgbClr val="046ca6"/>
              </a:solidFill>
              <a:latin typeface="Arial"/>
            </a:endParaRPr>
          </a:p>
        </p:txBody>
      </p:sp>
      <p:pic>
        <p:nvPicPr>
          <p:cNvPr id="306" name="Picture 6" descr="hpv"/>
          <p:cNvPicPr/>
          <p:nvPr/>
        </p:nvPicPr>
        <p:blipFill>
          <a:blip r:embed="rId1"/>
          <a:stretch/>
        </p:blipFill>
        <p:spPr>
          <a:xfrm>
            <a:off x="971640" y="2492280"/>
            <a:ext cx="3152520" cy="2629080"/>
          </a:xfrm>
          <a:prstGeom prst="rect">
            <a:avLst/>
          </a:prstGeom>
          <a:ln w="0">
            <a:noFill/>
          </a:ln>
        </p:spPr>
      </p:pic>
      <p:pic>
        <p:nvPicPr>
          <p:cNvPr id="307" name="Picture 8" descr="hpvtant_2">
            <a:hlinkClick r:id="rId2" action="ppaction://hlinksldjump"/>
          </p:cNvPr>
          <p:cNvPicPr/>
          <p:nvPr/>
        </p:nvPicPr>
        <p:blipFill>
          <a:blip r:embed="rId3"/>
          <a:stretch/>
        </p:blipFill>
        <p:spPr>
          <a:xfrm>
            <a:off x="4284720" y="2565360"/>
            <a:ext cx="3502080" cy="2543040"/>
          </a:xfrm>
          <a:prstGeom prst="rect">
            <a:avLst/>
          </a:prstGeom>
          <a:ln w="0">
            <a:noFill/>
          </a:ln>
        </p:spPr>
      </p:pic>
      <p:sp>
        <p:nvSpPr>
          <p:cNvPr id="308" name="Rectangle 11"/>
          <p:cNvSpPr/>
          <p:nvPr/>
        </p:nvSpPr>
        <p:spPr>
          <a:xfrm>
            <a:off x="2891880" y="5373720"/>
            <a:ext cx="365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尖锐湿疣主要由 </a:t>
            </a:r>
            <a:r>
              <a:rPr b="0" lang="en-US" sz="2400" spc="-1" strike="noStrike">
                <a:solidFill>
                  <a:srgbClr val="046ca6"/>
                </a:solidFill>
                <a:latin typeface="Arial"/>
                <a:ea typeface="宋体"/>
              </a:rPr>
              <a:t>HPV6</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1</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0" name="Rectangle 6"/>
          <p:cNvSpPr/>
          <p:nvPr/>
        </p:nvSpPr>
        <p:spPr>
          <a:xfrm>
            <a:off x="3127680" y="5300640"/>
            <a:ext cx="30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跖疣主要由</a:t>
            </a:r>
            <a:r>
              <a:rPr b="0" lang="en-US" sz="2400" spc="-1" strike="noStrike">
                <a:solidFill>
                  <a:srgbClr val="046ca6"/>
                </a:solidFill>
                <a:latin typeface="Arial"/>
                <a:ea typeface="宋体"/>
              </a:rPr>
              <a:t>HPV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1" name="Picture 7" descr="1"/>
          <p:cNvPicPr/>
          <p:nvPr/>
        </p:nvPicPr>
        <p:blipFill>
          <a:blip r:embed="rId1"/>
          <a:srcRect l="0" t="0" r="0" b="9547"/>
          <a:stretch/>
        </p:blipFill>
        <p:spPr>
          <a:xfrm>
            <a:off x="324000" y="1844640"/>
            <a:ext cx="4032000" cy="2736720"/>
          </a:xfrm>
          <a:prstGeom prst="rect">
            <a:avLst/>
          </a:prstGeom>
          <a:ln w="0">
            <a:noFill/>
          </a:ln>
        </p:spPr>
      </p:pic>
      <p:pic>
        <p:nvPicPr>
          <p:cNvPr id="312" name="Picture 8" descr="HE6LE7HOCC3UDS1B"/>
          <p:cNvPicPr/>
          <p:nvPr/>
        </p:nvPicPr>
        <p:blipFill>
          <a:blip r:embed="rId2"/>
          <a:stretch/>
        </p:blipFill>
        <p:spPr>
          <a:xfrm>
            <a:off x="4859280" y="1989000"/>
            <a:ext cx="3962520" cy="25401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3"/>
          <p:cNvSpPr/>
          <p:nvPr/>
        </p:nvSpPr>
        <p:spPr>
          <a:xfrm>
            <a:off x="2560320" y="5157720"/>
            <a:ext cx="35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寻常疣多由</a:t>
            </a:r>
            <a:r>
              <a:rPr b="0" lang="en-US" sz="2400" spc="-1" strike="noStrike">
                <a:solidFill>
                  <a:srgbClr val="046ca6"/>
                </a:solidFill>
                <a:latin typeface="Arial"/>
                <a:ea typeface="宋体"/>
              </a:rPr>
              <a:t>HPV 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型引起</a:t>
            </a:r>
            <a:endParaRPr b="0" lang="en-US" sz="2400" spc="-1" strike="noStrike">
              <a:solidFill>
                <a:srgbClr val="046ca6"/>
              </a:solidFill>
              <a:latin typeface="Arial"/>
            </a:endParaRPr>
          </a:p>
        </p:txBody>
      </p:sp>
      <p:pic>
        <p:nvPicPr>
          <p:cNvPr id="315" name="Picture 6" descr="e2d96319c10ed476dab4bdc8"/>
          <p:cNvPicPr/>
          <p:nvPr/>
        </p:nvPicPr>
        <p:blipFill>
          <a:blip r:embed="rId1"/>
          <a:stretch/>
        </p:blipFill>
        <p:spPr>
          <a:xfrm>
            <a:off x="2268360" y="1341360"/>
            <a:ext cx="4222800" cy="3435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7" name="Rectangle 3"/>
          <p:cNvSpPr/>
          <p:nvPr/>
        </p:nvSpPr>
        <p:spPr>
          <a:xfrm>
            <a:off x="2899800" y="5589720"/>
            <a:ext cx="339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扁平疣主要由</a:t>
            </a:r>
            <a:r>
              <a:rPr b="0" lang="en-US" sz="2400" spc="-1" strike="noStrike">
                <a:solidFill>
                  <a:srgbClr val="046ca6"/>
                </a:solidFill>
                <a:latin typeface="Arial"/>
                <a:ea typeface="宋体"/>
              </a:rPr>
              <a:t>HPV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a:t>
            </a:r>
            <a:r>
              <a:rPr b="0" lang="zh-CN" sz="2400" spc="-1" strike="noStrike">
                <a:solidFill>
                  <a:srgbClr val="046ca6"/>
                </a:solidFill>
                <a:latin typeface="Arial"/>
                <a:ea typeface="宋体"/>
              </a:rPr>
              <a:t>型所致</a:t>
            </a:r>
            <a:endParaRPr b="0" lang="en-US" sz="2400" spc="-1" strike="noStrike">
              <a:solidFill>
                <a:srgbClr val="046ca6"/>
              </a:solidFill>
              <a:latin typeface="Arial"/>
            </a:endParaRPr>
          </a:p>
        </p:txBody>
      </p:sp>
      <p:pic>
        <p:nvPicPr>
          <p:cNvPr id="318" name="Picture 5" descr="无标题1"/>
          <p:cNvPicPr/>
          <p:nvPr/>
        </p:nvPicPr>
        <p:blipFill>
          <a:blip r:embed="rId1"/>
          <a:stretch/>
        </p:blipFill>
        <p:spPr>
          <a:xfrm>
            <a:off x="1619280" y="1197000"/>
            <a:ext cx="5654520" cy="4241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1" name="Text Box 4"/>
          <p:cNvSpPr/>
          <p:nvPr/>
        </p:nvSpPr>
        <p:spPr>
          <a:xfrm>
            <a:off x="1979640" y="1773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法</a:t>
            </a:r>
            <a:endParaRPr b="0" lang="en-US" sz="3600" spc="-1" strike="noStrike">
              <a:solidFill>
                <a:srgbClr val="046ca6"/>
              </a:solidFill>
              <a:latin typeface="Arial"/>
            </a:endParaRPr>
          </a:p>
        </p:txBody>
      </p:sp>
      <p:sp>
        <p:nvSpPr>
          <p:cNvPr id="322" name="Rectangle 5"/>
          <p:cNvSpPr/>
          <p:nvPr/>
        </p:nvSpPr>
        <p:spPr>
          <a:xfrm>
            <a:off x="900000" y="3681360"/>
            <a:ext cx="69850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可采用免疫组化方法检测病变组织中的</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抗原，也可用核酸杂交法或</a:t>
            </a:r>
            <a:r>
              <a:rPr b="0" lang="en-US" sz="2400" spc="-1" strike="noStrike">
                <a:solidFill>
                  <a:srgbClr val="046ca6"/>
                </a:solidFill>
                <a:latin typeface="Arial"/>
                <a:ea typeface="宋体"/>
              </a:rPr>
              <a:t>PCR</a:t>
            </a:r>
            <a:r>
              <a:rPr b="0" lang="zh-CN" sz="2400" spc="-1" strike="noStrike">
                <a:solidFill>
                  <a:srgbClr val="046ca6"/>
                </a:solidFill>
                <a:latin typeface="Arial"/>
                <a:ea typeface="宋体"/>
              </a:rPr>
              <a:t>方法对</a:t>
            </a:r>
            <a:r>
              <a:rPr b="0" lang="en-US" sz="2400" spc="-1" strike="noStrike">
                <a:solidFill>
                  <a:srgbClr val="046ca6"/>
                </a:solidFill>
                <a:latin typeface="Arial"/>
                <a:ea typeface="宋体"/>
              </a:rPr>
              <a:t>HPV</a:t>
            </a:r>
            <a:r>
              <a:rPr b="0" lang="zh-CN" sz="2400" spc="-1" strike="noStrike">
                <a:solidFill>
                  <a:srgbClr val="046ca6"/>
                </a:solidFill>
                <a:latin typeface="Arial"/>
                <a:ea typeface="宋体"/>
              </a:rPr>
              <a:t>感染进行早期诊断及型别鉴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5"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26" name="Rectangle 5"/>
          <p:cNvSpPr/>
          <p:nvPr/>
        </p:nvSpPr>
        <p:spPr>
          <a:xfrm>
            <a:off x="684360" y="3515040"/>
            <a:ext cx="78501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46ca6"/>
                </a:solidFill>
                <a:latin typeface="Arial"/>
                <a:ea typeface="宋体"/>
              </a:rPr>
              <a:t>加强家犬管理、捕杀野犬和注射疫苗是预防狂犬病的主要措施。人被动物咬伤后，立即用</a:t>
            </a:r>
            <a:r>
              <a:rPr b="0" i="1" lang="en-US" sz="2400" spc="-1" strike="noStrike">
                <a:solidFill>
                  <a:srgbClr val="046ca6"/>
                </a:solidFill>
                <a:latin typeface="Arial"/>
                <a:ea typeface="宋体"/>
              </a:rPr>
              <a:t>20%</a:t>
            </a:r>
            <a:r>
              <a:rPr b="0" i="1" lang="zh-CN" sz="2400" spc="-1" strike="noStrike">
                <a:solidFill>
                  <a:srgbClr val="046ca6"/>
                </a:solidFill>
                <a:latin typeface="Arial"/>
                <a:ea typeface="宋体"/>
              </a:rPr>
              <a:t>肥皂水、</a:t>
            </a:r>
            <a:r>
              <a:rPr b="0" i="1" lang="en-US" sz="2400" spc="-1" strike="noStrike">
                <a:solidFill>
                  <a:srgbClr val="046ca6"/>
                </a:solidFill>
                <a:latin typeface="Arial"/>
                <a:ea typeface="宋体"/>
              </a:rPr>
              <a:t>0.1%</a:t>
            </a:r>
            <a:r>
              <a:rPr b="0" i="1" lang="zh-CN" sz="2400" spc="-1" strike="noStrike">
                <a:solidFill>
                  <a:srgbClr val="046ca6"/>
                </a:solidFill>
                <a:latin typeface="Arial"/>
                <a:ea typeface="宋体"/>
              </a:rPr>
              <a:t>苯扎溴铵或清水反复冲洗伤口，再用</a:t>
            </a:r>
            <a:r>
              <a:rPr b="0" i="1" lang="en-US" sz="2400" spc="-1" strike="noStrike">
                <a:solidFill>
                  <a:srgbClr val="046ca6"/>
                </a:solidFill>
                <a:latin typeface="Arial"/>
                <a:ea typeface="宋体"/>
              </a:rPr>
              <a:t>70%</a:t>
            </a:r>
            <a:r>
              <a:rPr b="0" i="1" lang="zh-CN" sz="2400" spc="-1" strike="noStrike">
                <a:solidFill>
                  <a:srgbClr val="046ca6"/>
                </a:solidFill>
                <a:latin typeface="Arial"/>
                <a:ea typeface="宋体"/>
              </a:rPr>
              <a:t>酒精及碘酒涂擦。及时接种狂犬病疫苗可以预防发病。我国现使用地鼠肾原代细胞或二倍体细胞培养制备的灭活病毒疫苗，免疫效果好，副作用少。在伤口严重等特殊情况下，应联合使用高效价抗狂犬病病毒免疫球蛋白进行局部浸润注射和肌内注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Rectangle 6"/>
          <p:cNvSpPr/>
          <p:nvPr/>
        </p:nvSpPr>
        <p:spPr>
          <a:xfrm>
            <a:off x="755640" y="501336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有嗜神经细胞性，易在中枢神经细胞内增殖，在胞浆内形成圆形或椭圆形的嗜酸性包涵体，称内基小体</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121" name="Picture 8" descr="cytoplasmic Negry body"/>
          <p:cNvPicPr/>
          <p:nvPr/>
        </p:nvPicPr>
        <p:blipFill>
          <a:blip r:embed="rId1"/>
          <a:stretch/>
        </p:blipFill>
        <p:spPr>
          <a:xfrm>
            <a:off x="2200320" y="1187280"/>
            <a:ext cx="4819680" cy="3524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9" name="Text Box 4"/>
          <p:cNvSpPr/>
          <p:nvPr/>
        </p:nvSpPr>
        <p:spPr>
          <a:xfrm>
            <a:off x="2916360" y="1557360"/>
            <a:ext cx="3457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五节 朊粒</a:t>
            </a:r>
            <a:endParaRPr b="0" lang="en-US" sz="4000" spc="-1" strike="noStrike">
              <a:solidFill>
                <a:srgbClr val="046ca6"/>
              </a:solidFill>
              <a:latin typeface="Arial"/>
            </a:endParaRPr>
          </a:p>
        </p:txBody>
      </p:sp>
      <p:sp>
        <p:nvSpPr>
          <p:cNvPr id="330" name="Rectangle 5"/>
          <p:cNvSpPr/>
          <p:nvPr/>
        </p:nvSpPr>
        <p:spPr>
          <a:xfrm>
            <a:off x="684360" y="3177720"/>
            <a:ext cx="7705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a:t>
            </a:r>
            <a:r>
              <a:rPr b="0" lang="en-US" sz="2400" spc="-1" strike="noStrike">
                <a:solidFill>
                  <a:srgbClr val="046ca6"/>
                </a:solidFill>
                <a:latin typeface="Arial"/>
                <a:ea typeface="宋体"/>
              </a:rPr>
              <a:t>prion</a:t>
            </a:r>
            <a:r>
              <a:rPr b="0" lang="zh-CN" sz="2400" spc="-1" strike="noStrike">
                <a:solidFill>
                  <a:srgbClr val="046ca6"/>
                </a:solidFill>
                <a:latin typeface="Arial"/>
                <a:ea typeface="宋体"/>
              </a:rPr>
              <a:t>）又称朊病毒或传染性蛋白粒子，是人和动物传染性海绵状脑病（</a:t>
            </a:r>
            <a:r>
              <a:rPr b="0" lang="en-US" sz="2400" spc="-1" strike="noStrike">
                <a:solidFill>
                  <a:srgbClr val="046ca6"/>
                </a:solidFill>
                <a:latin typeface="Arial"/>
                <a:ea typeface="宋体"/>
              </a:rPr>
              <a:t>transmissible spongiform encephalopathy</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的病原体。朊粒与其他微生物不同，其本质是由正常宿主细胞基因编码的构象异常的蛋白质，称为朊蛋白（</a:t>
            </a:r>
            <a:r>
              <a:rPr b="0" lang="en-US" sz="2400" spc="-1" strike="noStrike">
                <a:solidFill>
                  <a:srgbClr val="046ca6"/>
                </a:solidFill>
                <a:latin typeface="Arial"/>
                <a:ea typeface="宋体"/>
              </a:rPr>
              <a:t>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3" name="Text Box 4"/>
          <p:cNvSpPr/>
          <p:nvPr/>
        </p:nvSpPr>
        <p:spPr>
          <a:xfrm>
            <a:off x="2484360" y="2637000"/>
            <a:ext cx="431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生物学特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5" name="Rectangle 3"/>
          <p:cNvSpPr/>
          <p:nvPr/>
        </p:nvSpPr>
        <p:spPr>
          <a:xfrm>
            <a:off x="2843280" y="1628640"/>
            <a:ext cx="590400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是一种不含核酸和脂类的疏水性糖蛋白，分子量为</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0kD</a:t>
            </a:r>
            <a:r>
              <a:rPr b="0" lang="zh-CN" sz="2400" spc="-1" strike="noStrike">
                <a:solidFill>
                  <a:srgbClr val="046ca6"/>
                </a:solidFill>
                <a:latin typeface="Arial"/>
                <a:ea typeface="宋体"/>
              </a:rPr>
              <a:t>，能抵抗蛋白酶的消化作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研究发现有两种不同分子构型的朊蛋白，一种是</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基因编码的</a:t>
            </a:r>
            <a:r>
              <a:rPr b="0" lang="en-US" sz="2400" spc="-1" strike="noStrike">
                <a:solidFill>
                  <a:srgbClr val="046ca6"/>
                </a:solidFill>
                <a:latin typeface="Arial"/>
                <a:ea typeface="宋体"/>
              </a:rPr>
              <a:t>PrP</a:t>
            </a:r>
            <a:r>
              <a:rPr b="0" lang="zh-CN" sz="2400" spc="-1" strike="noStrike">
                <a:solidFill>
                  <a:srgbClr val="046ca6"/>
                </a:solidFill>
                <a:latin typeface="Arial"/>
                <a:ea typeface="宋体"/>
              </a:rPr>
              <a:t>前体蛋白，分子量</a:t>
            </a:r>
            <a:r>
              <a:rPr b="0" lang="en-US" sz="2400" spc="-1" strike="noStrike">
                <a:solidFill>
                  <a:srgbClr val="046ca6"/>
                </a:solidFill>
                <a:latin typeface="Arial"/>
                <a:ea typeface="宋体"/>
              </a:rPr>
              <a:t>3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35kD</a:t>
            </a:r>
            <a:r>
              <a:rPr b="0" lang="zh-CN" sz="2400" spc="-1" strike="noStrike">
                <a:solidFill>
                  <a:srgbClr val="046ca6"/>
                </a:solidFill>
                <a:latin typeface="Arial"/>
                <a:ea typeface="宋体"/>
              </a:rPr>
              <a:t>，对蛋白酶敏感，没有致病性，称为细胞朊蛋白（</a:t>
            </a:r>
            <a:r>
              <a:rPr b="0" lang="en-US" sz="2400" spc="-1" strike="noStrike">
                <a:solidFill>
                  <a:srgbClr val="046ca6"/>
                </a:solidFill>
                <a:latin typeface="Arial"/>
                <a:ea typeface="宋体"/>
              </a:rPr>
              <a:t>cellular isoform of PrP</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另一种是存在于</a:t>
            </a:r>
            <a:r>
              <a:rPr b="0" lang="en-US" sz="2400" spc="-1" strike="noStrike">
                <a:solidFill>
                  <a:srgbClr val="046ca6"/>
                </a:solidFill>
                <a:latin typeface="Arial"/>
                <a:ea typeface="宋体"/>
              </a:rPr>
              <a:t>TSE</a:t>
            </a:r>
            <a:r>
              <a:rPr b="0" lang="zh-CN" sz="2400" spc="-1" strike="noStrike">
                <a:solidFill>
                  <a:srgbClr val="046ca6"/>
                </a:solidFill>
                <a:latin typeface="Arial"/>
                <a:ea typeface="宋体"/>
              </a:rPr>
              <a:t>感染的人和动物组织中，有致病性和传染性的朊蛋白，又称为羊瘙痒病朊蛋白（</a:t>
            </a:r>
            <a:r>
              <a:rPr b="0" lang="en-US" sz="2400" spc="-1" strike="noStrike">
                <a:solidFill>
                  <a:srgbClr val="046ca6"/>
                </a:solidFill>
                <a:latin typeface="Arial"/>
                <a:ea typeface="宋体"/>
              </a:rPr>
              <a:t>scrapie prion protein</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6" name="Picture 5" descr="06"/>
          <p:cNvPicPr/>
          <p:nvPr/>
        </p:nvPicPr>
        <p:blipFill>
          <a:blip r:embed="rId1"/>
          <a:stretch/>
        </p:blipFill>
        <p:spPr>
          <a:xfrm>
            <a:off x="179280" y="1484280"/>
            <a:ext cx="2600280" cy="3679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8" name="Rectangle 3"/>
          <p:cNvSpPr/>
          <p:nvPr/>
        </p:nvSpPr>
        <p:spPr>
          <a:xfrm>
            <a:off x="684360" y="4797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 </a:t>
            </a:r>
            <a:r>
              <a:rPr b="0" lang="zh-CN" sz="2400" spc="-1" strike="noStrike">
                <a:solidFill>
                  <a:srgbClr val="046ca6"/>
                </a:solidFill>
                <a:latin typeface="Arial"/>
                <a:ea typeface="宋体"/>
              </a:rPr>
              <a:t>与</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一级结构相同，但空间结构存在着明显的差异，</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转化为</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r>
              <a:rPr b="0" lang="zh-CN" sz="2400" spc="-1" strike="noStrike">
                <a:solidFill>
                  <a:srgbClr val="046ca6"/>
                </a:solidFill>
                <a:latin typeface="Arial"/>
                <a:ea typeface="宋体"/>
              </a:rPr>
              <a:t>的确切机制尚未明了。在感染的脑组织中的两种异构体均存在；而正常脑组织中仅有</a:t>
            </a: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pic>
        <p:nvPicPr>
          <p:cNvPr id="339" name="Picture 6" descr="normal_rogue"/>
          <p:cNvPicPr/>
          <p:nvPr/>
        </p:nvPicPr>
        <p:blipFill>
          <a:blip r:embed="rId1"/>
          <a:stretch/>
        </p:blipFill>
        <p:spPr>
          <a:xfrm>
            <a:off x="1835280" y="1125360"/>
            <a:ext cx="5114880" cy="3343320"/>
          </a:xfrm>
          <a:prstGeom prst="rect">
            <a:avLst/>
          </a:prstGeom>
          <a:ln w="0">
            <a:noFill/>
          </a:ln>
        </p:spPr>
      </p:pic>
      <p:sp>
        <p:nvSpPr>
          <p:cNvPr id="340" name="Rectangle 18"/>
          <p:cNvSpPr/>
          <p:nvPr/>
        </p:nvSpPr>
        <p:spPr>
          <a:xfrm>
            <a:off x="1484640" y="2276640"/>
            <a:ext cx="77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c</a:t>
            </a:r>
            <a:endParaRPr b="0" lang="en-US" sz="2400" spc="-1" strike="noStrike">
              <a:solidFill>
                <a:srgbClr val="046ca6"/>
              </a:solidFill>
              <a:latin typeface="Arial"/>
            </a:endParaRPr>
          </a:p>
        </p:txBody>
      </p:sp>
      <p:sp>
        <p:nvSpPr>
          <p:cNvPr id="341" name="Rectangle 20"/>
          <p:cNvSpPr/>
          <p:nvPr/>
        </p:nvSpPr>
        <p:spPr>
          <a:xfrm>
            <a:off x="7035120" y="2205000"/>
            <a:ext cx="86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rP</a:t>
            </a:r>
            <a:r>
              <a:rPr b="0" lang="en-US" sz="2400" spc="-1" strike="noStrike" baseline="30000">
                <a:solidFill>
                  <a:srgbClr val="046ca6"/>
                </a:solidFill>
                <a:latin typeface="Arial"/>
                <a:ea typeface="宋体"/>
              </a:rPr>
              <a:t>sc</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3" name="Rectangle 3"/>
          <p:cNvSpPr/>
          <p:nvPr/>
        </p:nvSpPr>
        <p:spPr>
          <a:xfrm>
            <a:off x="684360" y="1989000"/>
            <a:ext cx="7993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对理化因素的抵抗力强，对热、辐射、酸碱及常用消毒剂有很强的抗性。</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对朊粒最常用的消毒灭菌方法是：</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次氯酸钠或</a:t>
            </a:r>
            <a:r>
              <a:rPr b="0" lang="en-US" sz="2400" spc="-1" strike="noStrike">
                <a:solidFill>
                  <a:srgbClr val="046ca6"/>
                </a:solidFill>
                <a:latin typeface="Arial"/>
                <a:ea typeface="宋体"/>
              </a:rPr>
              <a:t>1mol/L</a:t>
            </a:r>
            <a:r>
              <a:rPr b="0" lang="zh-CN" sz="2400" spc="-1" strike="noStrike">
                <a:solidFill>
                  <a:srgbClr val="046ca6"/>
                </a:solidFill>
                <a:latin typeface="Arial"/>
                <a:ea typeface="宋体"/>
              </a:rPr>
              <a:t>的氢氧化钠浸泡手术器械</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高压灭菌需用</a:t>
            </a:r>
            <a:r>
              <a:rPr b="0" lang="en-US" sz="2400" spc="-1" strike="noStrike">
                <a:solidFill>
                  <a:srgbClr val="046ca6"/>
                </a:solidFill>
                <a:latin typeface="Arial"/>
                <a:ea typeface="宋体"/>
              </a:rPr>
              <a:t>202kPa</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34℃</a:t>
            </a:r>
            <a:r>
              <a:rPr b="0" lang="zh-CN" sz="2400" spc="-1" strike="noStrike">
                <a:solidFill>
                  <a:srgbClr val="046ca6"/>
                </a:solidFill>
                <a:latin typeface="Arial"/>
                <a:ea typeface="宋体"/>
              </a:rPr>
              <a:t>处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小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与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8" name="Rectangle 3"/>
          <p:cNvSpPr/>
          <p:nvPr/>
        </p:nvSpPr>
        <p:spPr>
          <a:xfrm>
            <a:off x="395280" y="1413000"/>
            <a:ext cx="828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引起致死性中枢神经系统的慢性退行性疾病。</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朊粒疾病的共同特征是：</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 </a:t>
            </a:r>
            <a:r>
              <a:rPr b="0" lang="zh-CN" sz="2400" spc="-1" strike="noStrike">
                <a:solidFill>
                  <a:srgbClr val="046ca6"/>
                </a:solidFill>
                <a:latin typeface="Arial"/>
                <a:ea typeface="宋体"/>
              </a:rPr>
              <a:t>潜伏期长，可达数年至数十年；</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② </a:t>
            </a:r>
            <a:r>
              <a:rPr b="0" lang="zh-CN" sz="2400" spc="-1" strike="noStrike">
                <a:solidFill>
                  <a:srgbClr val="046ca6"/>
                </a:solidFill>
                <a:latin typeface="Arial"/>
                <a:ea typeface="宋体"/>
              </a:rPr>
              <a:t>发病即成慢性进行性发展，最终死亡；</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③ </a:t>
            </a:r>
            <a:r>
              <a:rPr b="0" lang="zh-CN" sz="2400" spc="-1" strike="noStrike">
                <a:solidFill>
                  <a:srgbClr val="046ca6"/>
                </a:solidFill>
                <a:latin typeface="Arial"/>
                <a:ea typeface="宋体"/>
              </a:rPr>
              <a:t>患者出现痴呆、共济失调、震颤等症状，目前朊粒的致病机制不完全清楚；</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④ </a:t>
            </a:r>
            <a:r>
              <a:rPr b="0" lang="zh-CN" sz="2400" spc="-1" strike="noStrike">
                <a:solidFill>
                  <a:srgbClr val="046ca6"/>
                </a:solidFill>
                <a:latin typeface="Arial"/>
                <a:ea typeface="宋体"/>
              </a:rPr>
              <a:t>病理学特点是大脑皮质的神经元退化、空泡变性，神经细胞弥漫性缺失，形成淀粉样斑块，脑组织呈海绵状改变等；</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⑤ </a:t>
            </a:r>
            <a:r>
              <a:rPr b="0" lang="zh-CN" sz="2400" spc="-1" strike="noStrike">
                <a:solidFill>
                  <a:srgbClr val="046ca6"/>
                </a:solidFill>
                <a:latin typeface="Arial"/>
                <a:ea typeface="宋体"/>
              </a:rPr>
              <a:t>感染者对朊粒缺乏免疫应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0" name="Rectangle 3"/>
          <p:cNvSpPr/>
          <p:nvPr/>
        </p:nvSpPr>
        <p:spPr>
          <a:xfrm>
            <a:off x="1403280" y="551664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大脑（左）与朊粒疾病大脑比较（右）</a:t>
            </a:r>
            <a:endParaRPr b="0" lang="en-US" sz="2400" spc="-1" strike="noStrike">
              <a:solidFill>
                <a:srgbClr val="046ca6"/>
              </a:solidFill>
              <a:latin typeface="Arial"/>
            </a:endParaRPr>
          </a:p>
        </p:txBody>
      </p:sp>
      <p:pic>
        <p:nvPicPr>
          <p:cNvPr id="351" name="Picture 4" descr="figure1"/>
          <p:cNvPicPr/>
          <p:nvPr/>
        </p:nvPicPr>
        <p:blipFill>
          <a:blip r:embed="rId1"/>
          <a:srcRect l="14936" t="14134" r="5556" b="49079"/>
          <a:stretch/>
        </p:blipFill>
        <p:spPr>
          <a:xfrm>
            <a:off x="468360" y="1557360"/>
            <a:ext cx="3743280" cy="3340080"/>
          </a:xfrm>
          <a:prstGeom prst="rect">
            <a:avLst/>
          </a:prstGeom>
          <a:ln w="0">
            <a:noFill/>
          </a:ln>
        </p:spPr>
      </p:pic>
      <p:pic>
        <p:nvPicPr>
          <p:cNvPr id="352" name="Picture 5" descr="figure1"/>
          <p:cNvPicPr/>
          <p:nvPr/>
        </p:nvPicPr>
        <p:blipFill>
          <a:blip r:embed="rId2"/>
          <a:srcRect l="14967" t="54961" r="3476" b="1787"/>
          <a:stretch/>
        </p:blipFill>
        <p:spPr>
          <a:xfrm>
            <a:off x="4716360" y="1484280"/>
            <a:ext cx="3743280" cy="3578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5" name="Text Box 4"/>
          <p:cNvSpPr/>
          <p:nvPr/>
        </p:nvSpPr>
        <p:spPr>
          <a:xfrm>
            <a:off x="2268360" y="126828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微生物学检查</a:t>
            </a:r>
            <a:endParaRPr b="0" lang="en-US" sz="3600" spc="-1" strike="noStrike">
              <a:solidFill>
                <a:srgbClr val="046ca6"/>
              </a:solidFill>
              <a:latin typeface="Arial"/>
            </a:endParaRPr>
          </a:p>
        </p:txBody>
      </p:sp>
      <p:sp>
        <p:nvSpPr>
          <p:cNvPr id="356" name="Rectangle 5"/>
          <p:cNvSpPr/>
          <p:nvPr/>
        </p:nvSpPr>
        <p:spPr>
          <a:xfrm>
            <a:off x="826920" y="2962080"/>
            <a:ext cx="7560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临床诊断朊粒感染主要依据神经病理学检查。实验室诊断常用免疫组化或免疫印迹法检测脑组织或非神经组织中的</a:t>
            </a:r>
            <a:r>
              <a:rPr b="0" lang="en-US" sz="2400" spc="-1" strike="noStrike">
                <a:solidFill>
                  <a:srgbClr val="046ca6"/>
                </a:solidFill>
                <a:latin typeface="Arial"/>
                <a:ea typeface="宋体"/>
              </a:rPr>
              <a:t>PrPsc</a:t>
            </a:r>
            <a:r>
              <a:rPr b="0" lang="zh-CN" sz="2400" spc="-1" strike="noStrike">
                <a:solidFill>
                  <a:srgbClr val="046ca6"/>
                </a:solidFill>
                <a:latin typeface="Arial"/>
                <a:ea typeface="宋体"/>
              </a:rPr>
              <a:t>。近期出现基因诊断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9" name="Text Box 4"/>
          <p:cNvSpPr/>
          <p:nvPr/>
        </p:nvSpPr>
        <p:spPr>
          <a:xfrm>
            <a:off x="2771640" y="1341360"/>
            <a:ext cx="482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防治原则</a:t>
            </a:r>
            <a:endParaRPr b="0" lang="en-US" sz="3600" spc="-1" strike="noStrike">
              <a:solidFill>
                <a:srgbClr val="046ca6"/>
              </a:solidFill>
              <a:latin typeface="Arial"/>
            </a:endParaRPr>
          </a:p>
        </p:txBody>
      </p:sp>
      <p:sp>
        <p:nvSpPr>
          <p:cNvPr id="360" name="Rectangle 5"/>
          <p:cNvSpPr/>
          <p:nvPr/>
        </p:nvSpPr>
        <p:spPr>
          <a:xfrm>
            <a:off x="684360" y="3000240"/>
            <a:ext cx="78501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因无有效治疗方法，目前对朊粒感染以预防为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注意医源性感染的预防，禁止用任何动物脏器（尤其脑、脊髓、视网膜等）加工成牛或其他动物的饲料，并加强进口牛、羊制品和饲料的严格检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 Box 4"/>
          <p:cNvSpPr/>
          <p:nvPr/>
        </p:nvSpPr>
        <p:spPr>
          <a:xfrm>
            <a:off x="2124000" y="270828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致病性和免疫性</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6" name="Rectangle 4"/>
          <p:cNvSpPr/>
          <p:nvPr/>
        </p:nvSpPr>
        <p:spPr>
          <a:xfrm>
            <a:off x="4788000" y="2637000"/>
            <a:ext cx="396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狂犬病病毒主要在野生动物及家畜中传播，主要传染源是病犬，其次是猫和狼。动物在发病前</a:t>
            </a:r>
            <a:r>
              <a:rPr b="0" lang="en-US" sz="2400" spc="-1" strike="noStrike">
                <a:solidFill>
                  <a:srgbClr val="046ca6"/>
                </a:solidFill>
                <a:latin typeface="Arial"/>
                <a:ea typeface="宋体"/>
              </a:rPr>
              <a:t>5</a:t>
            </a:r>
            <a:r>
              <a:rPr b="0" lang="en-US" sz="2400" spc="-1" strike="noStrike">
                <a:solidFill>
                  <a:srgbClr val="046ca6"/>
                </a:solidFill>
                <a:latin typeface="Arial"/>
                <a:ea typeface="宋体"/>
              </a:rPr>
              <a:t>天唾液中可含病毒，即具有传染性。</a:t>
            </a:r>
            <a:endParaRPr b="0" lang="en-US" sz="2400" spc="-1" strike="noStrike">
              <a:solidFill>
                <a:srgbClr val="046ca6"/>
              </a:solidFill>
              <a:latin typeface="Arial"/>
            </a:endParaRPr>
          </a:p>
        </p:txBody>
      </p:sp>
      <p:pic>
        <p:nvPicPr>
          <p:cNvPr id="127" name="Picture 5" descr="20241926"/>
          <p:cNvPicPr/>
          <p:nvPr/>
        </p:nvPicPr>
        <p:blipFill>
          <a:blip r:embed="rId1"/>
          <a:stretch/>
        </p:blipFill>
        <p:spPr>
          <a:xfrm>
            <a:off x="468360" y="2060640"/>
            <a:ext cx="3851280" cy="315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 Box 5"/>
          <p:cNvSpPr/>
          <p:nvPr/>
        </p:nvSpPr>
        <p:spPr>
          <a:xfrm>
            <a:off x="250920" y="1484280"/>
            <a:ext cx="230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病毒在局部肌纤维细胞中繁殖</a:t>
            </a:r>
            <a:endParaRPr b="0" lang="en-US" sz="3200" spc="-1" strike="noStrike">
              <a:solidFill>
                <a:srgbClr val="046ca6"/>
              </a:solidFill>
              <a:latin typeface="Arial"/>
            </a:endParaRPr>
          </a:p>
        </p:txBody>
      </p:sp>
      <p:sp>
        <p:nvSpPr>
          <p:cNvPr id="130" name="Text Box 6"/>
          <p:cNvSpPr/>
          <p:nvPr/>
        </p:nvSpPr>
        <p:spPr>
          <a:xfrm>
            <a:off x="6372360" y="1700280"/>
            <a:ext cx="23749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背根神经节并大量繁殖</a:t>
            </a:r>
            <a:r>
              <a:rPr b="0" lang="zh-CN" sz="3200" spc="-1" strike="noStrike">
                <a:solidFill>
                  <a:srgbClr val="046ca6"/>
                </a:solidFill>
                <a:latin typeface="黑体"/>
                <a:ea typeface="黑体"/>
              </a:rPr>
              <a:t> </a:t>
            </a:r>
            <a:endParaRPr b="0" lang="en-US" sz="3200" spc="-1" strike="noStrike">
              <a:solidFill>
                <a:srgbClr val="046ca6"/>
              </a:solidFill>
              <a:latin typeface="Arial"/>
            </a:endParaRPr>
          </a:p>
        </p:txBody>
      </p:sp>
      <p:sp>
        <p:nvSpPr>
          <p:cNvPr id="131" name="Text Box 7"/>
          <p:cNvSpPr/>
          <p:nvPr/>
        </p:nvSpPr>
        <p:spPr>
          <a:xfrm>
            <a:off x="358920" y="3645000"/>
            <a:ext cx="50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沿传出神经侵入各组织与器官：舌、唾液腺、心脏等，引起迷走神经核、舌咽神经核和舌下神经核受损。</a:t>
            </a:r>
            <a:endParaRPr b="0" lang="en-US" sz="3200" spc="-1" strike="noStrike">
              <a:solidFill>
                <a:srgbClr val="046ca6"/>
              </a:solidFill>
              <a:latin typeface="Arial"/>
            </a:endParaRPr>
          </a:p>
        </p:txBody>
      </p:sp>
      <p:sp>
        <p:nvSpPr>
          <p:cNvPr id="132" name="AutoShape 8"/>
          <p:cNvSpPr/>
          <p:nvPr/>
        </p:nvSpPr>
        <p:spPr>
          <a:xfrm rot="16200000">
            <a:off x="273600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0"/>
          <p:cNvSpPr/>
          <p:nvPr/>
        </p:nvSpPr>
        <p:spPr>
          <a:xfrm>
            <a:off x="3348000" y="1700280"/>
            <a:ext cx="223200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沿周围传入</a:t>
            </a:r>
            <a:endParaRPr b="0" lang="en-US" sz="32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神经上行</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4" name="Text Box 11"/>
          <p:cNvSpPr/>
          <p:nvPr/>
        </p:nvSpPr>
        <p:spPr>
          <a:xfrm>
            <a:off x="6300720" y="5013360"/>
            <a:ext cx="26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破坏脑干及小脑等处神经元</a:t>
            </a:r>
            <a:endParaRPr b="0" lang="en-US" sz="3200" spc="-1" strike="noStrike">
              <a:solidFill>
                <a:srgbClr val="046ca6"/>
              </a:solidFill>
              <a:latin typeface="Arial"/>
            </a:endParaRPr>
          </a:p>
        </p:txBody>
      </p:sp>
      <p:sp>
        <p:nvSpPr>
          <p:cNvPr id="135" name="AutoShape 12"/>
          <p:cNvSpPr/>
          <p:nvPr/>
        </p:nvSpPr>
        <p:spPr>
          <a:xfrm>
            <a:off x="7236000" y="436572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AutoShape 13"/>
          <p:cNvSpPr/>
          <p:nvPr/>
        </p:nvSpPr>
        <p:spPr>
          <a:xfrm rot="7062000">
            <a:off x="5713560" y="4864680"/>
            <a:ext cx="431640" cy="649080"/>
          </a:xfrm>
          <a:prstGeom prst="downArrow">
            <a:avLst>
              <a:gd name="adj1" fmla="val 50000"/>
              <a:gd name="adj2" fmla="val 37594"/>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Text Box 14"/>
          <p:cNvSpPr/>
          <p:nvPr/>
        </p:nvSpPr>
        <p:spPr>
          <a:xfrm>
            <a:off x="5975280" y="3284640"/>
            <a:ext cx="3168720" cy="10198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宋体"/>
                <a:ea typeface="宋体"/>
              </a:rPr>
              <a:t>脊髓和中枢神经系统大量繁殖</a:t>
            </a:r>
            <a:r>
              <a:rPr b="1" lang="zh-CN" sz="4400" spc="-1" strike="noStrike">
                <a:solidFill>
                  <a:srgbClr val="046ca6"/>
                </a:solidFill>
                <a:latin typeface="黑体"/>
                <a:ea typeface="黑体"/>
              </a:rPr>
              <a:t> </a:t>
            </a:r>
            <a:endParaRPr b="0" lang="en-US" sz="4400" spc="-1" strike="noStrike">
              <a:solidFill>
                <a:srgbClr val="046ca6"/>
              </a:solidFill>
              <a:latin typeface="Arial"/>
            </a:endParaRPr>
          </a:p>
        </p:txBody>
      </p:sp>
      <p:sp>
        <p:nvSpPr>
          <p:cNvPr id="138" name="AutoShape 15"/>
          <p:cNvSpPr/>
          <p:nvPr/>
        </p:nvSpPr>
        <p:spPr>
          <a:xfrm>
            <a:off x="7236000" y="2637000"/>
            <a:ext cx="431640" cy="502920"/>
          </a:xfrm>
          <a:prstGeom prst="downArrow">
            <a:avLst>
              <a:gd name="adj1" fmla="val 50000"/>
              <a:gd name="adj2" fmla="val 29128"/>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16"/>
          <p:cNvSpPr/>
          <p:nvPr/>
        </p:nvSpPr>
        <p:spPr>
          <a:xfrm rot="16200000">
            <a:off x="5544360" y="2024280"/>
            <a:ext cx="431640" cy="503280"/>
          </a:xfrm>
          <a:prstGeom prst="downArrow">
            <a:avLst>
              <a:gd name="adj1" fmla="val 50000"/>
              <a:gd name="adj2" fmla="val 29149"/>
            </a:avLst>
          </a:pr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26T08:08:10Z</dcterms:modified>
  <cp:revision>168</cp:revision>
  <dc:subject/>
  <dc:title>内科护理学</dc:title>
</cp:coreProperties>
</file>