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EF2F-BB7C-43C8-93A5-E5D8F720A8D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FDDA-2627-4A80-A838-FAE9E11437A4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F22-A82C-4C7E-A42E-FA07A06BF8A2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9C47-94C1-4A42-9645-C3AC6EA97D28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4445-B8FA-45C9-96D1-600F38354FFA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FF20-0CCF-4AC2-95E0-7D98D3BDFA4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BD94-102D-4C26-8746-341DC4717FC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C70C-5AD7-495B-B0B1-DAEB6C519BB1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备注占位符 4"/>
          <p:cNvSpPr/>
          <p:nvPr/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2C76-69DF-4674-8FCE-76759B13DC7F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A4A9-0715-4EDC-AD7E-9B8432B2534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146E-4E29-44C7-8684-D32DCAC1FEE5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FF88-087D-489F-9FBA-04842FDEA733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49E4-BCF4-4555-9C3E-AE804672EA9D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4AE5-276C-4A3B-AD07-CD82F64A0EDC}" type="slidenum">
              <a:rPr b="0" lang="en-US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3D79-98C1-4323-BC8C-E13334112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4556-7598-4CF3-A9E8-296223C6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90E2-BEC3-4AC5-A08B-7CECB396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5181-DC3A-40C7-8BA7-6658B4E252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7289-D3A3-459B-8C41-218CA914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4CF6-B015-4997-A02B-1761E93F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F95A-5E73-4700-98DA-0AB869E8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8287-3180-4531-B58D-84B543F4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4D84D-DCF1-44CF-A88D-43FDCDD88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6660-6E0C-451D-BDB2-FB40EE50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58427-6A2C-4A6F-88A1-24F7EBF0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ADDD-2507-44CA-8C4C-18C9F97A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F817-F3B5-44D7-BE35-332FDC2CED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360"/>
              <a:ext cx="9115560" cy="1808280"/>
              <a:chOff x="28440" y="5049360"/>
              <a:chExt cx="9115560" cy="18082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360"/>
                <a:ext cx="9115560" cy="18082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36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4280"/>
              <a:chOff x="0" y="4689360"/>
              <a:chExt cx="9097920" cy="40428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0"/>
          <p:cNvSpPr/>
          <p:nvPr/>
        </p:nvSpPr>
        <p:spPr>
          <a:xfrm>
            <a:off x="1214280" y="5000760"/>
            <a:ext cx="6324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北大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600" y="2214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二十五章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弧菌属与弯曲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500040" y="1857240"/>
            <a:ext cx="83581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通过污染的水源或食物经口摄入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及无症状感染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烈性肠道传染病霍乱，为我国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甲类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法定传染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典型病例一般在吞食细菌后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3d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突然出现剧烈腹泻和呕吐，在疾病最严重时，每小时失水量可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L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排出如</a:t>
            </a:r>
            <a:r>
              <a:rPr b="1" lang="zh-CN" sz="2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米泔水样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腹泻物。脱水，代谢性酸中毒，低碱血症和低容量性休克及心率不齐和肾衰竭，如未经治疗处理，病死率高达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6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％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副霍乱弧菌所致疾病较古典生物型所致疾病症状要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3728880" y="92880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71680" y="2071800"/>
            <a:ext cx="765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患过霍乱的人可获得牢固的免疫力，再感染者少见。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发病后数日内，血液中即出现特异性抗体。一般认为起主要作用的是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SIgA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可保护肠粘膜免受霍乱弧菌及肠毒素侵袭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3569040" y="1143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2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14240" y="1643040"/>
            <a:ext cx="8121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是烈性传染病，发现病人应尽快确诊，及时上报疫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标本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取患者“米泔水”样粪便或呕吐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镜检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悬滴法检查有无“鱼群”样穿梭运动的弧菌。 革兰染色后观察细菌形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养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标本接种于碱性蛋白胨水鉴定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快速诊断方法有免疫荧光法、协同凝集试验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2000160" y="857160"/>
            <a:ext cx="47149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857160" y="1857240"/>
            <a:ext cx="7923240" cy="23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坚持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为主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“标本兼治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,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综合治理”的原则，对疫区应采取以切断传播途径为主导的综合性措施。对患者和带菌者按我国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传染病防治法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防治手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有关规定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由于疫苗免疫持续时间较短，另外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也能预防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霍乱的高效疫苗尚未研制成功，因此对健康人群暂未推行霍乱菌苗的常规预防注射。</a:t>
            </a:r>
            <a:r>
              <a:rPr b="0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      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及时和适当的补充液体，纠正电解质平衡紊乱，是治疗霍乱的关键。常用的抗生素有强力霉素、氯霉素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411720" y="10717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r>
              <a:rPr b="1" lang="zh-CN" sz="3600" spc="-1" strike="noStrike">
                <a:solidFill>
                  <a:srgbClr val="9900c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种嗜盐性细菌，存在于近海岸的海水、海底沉积物和鱼类、贝类等海产品中，可引起食物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其特点是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食入被细菌污染的海产品或淹渍品，或炊具、食物容器被污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潜伏期短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26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小时），恢复快，病后免疫力不强；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3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临床主要症状为腹痛、呕吐、腹泻与发热，多为水样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928800" y="928800"/>
            <a:ext cx="58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副溶血性弧菌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parahemolyticus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928800" y="9288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弯曲菌属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ampylobacter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00040" y="242892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一类呈逗点状或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形的革兰阴性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对人致病的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导致散发性细菌性肠炎，部分血清型与格林巴利综合征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胎儿弯曲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——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引起牛、羊流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285920" y="1500120"/>
            <a:ext cx="631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螺杆菌属</a:t>
            </a: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- </a:t>
            </a: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幽门螺杆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( Helicobacter pylori 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68360" y="3286080"/>
            <a:ext cx="810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革兰氏阴性，呈螺旋形、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单端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~8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鞭毛，运动活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体内富含尿素酶（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urease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），其检测可辅助快速诊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spcAft>
                <a:spcPts val="901"/>
              </a:spcAft>
              <a:buClr>
                <a:srgbClr val="ff0000"/>
              </a:buClr>
              <a:buFont typeface="Arial Narrow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与慢性胃炎、消耗性溃疡关系密切，是胃癌发生的重要致病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 rot="17431200">
            <a:off x="6032880" y="2627640"/>
            <a:ext cx="1935360" cy="21751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southmed.usouthal.edu/com/micro/faculty/mcgeefig2.jpg"/>
          <p:cNvPicPr/>
          <p:nvPr/>
        </p:nvPicPr>
        <p:blipFill>
          <a:blip r:embed="rId1"/>
          <a:srcRect l="2118" t="806" r="3328" b="4032"/>
          <a:stretch/>
        </p:blipFill>
        <p:spPr>
          <a:xfrm>
            <a:off x="128520" y="158760"/>
            <a:ext cx="7683480" cy="5214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0" y="5635800"/>
            <a:ext cx="91440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994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，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WHO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国际癌症研究机构正式将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HP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列为第一类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即肯定的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)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致癌因子，是目前为止唯一被列为致癌因子的原核细胞型微生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7556400" y="183348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7556400" y="2905200"/>
            <a:ext cx="158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5"/>
          <p:cNvSpPr/>
          <p:nvPr/>
        </p:nvSpPr>
        <p:spPr>
          <a:xfrm>
            <a:off x="7812000" y="414972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胃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6" name="直接箭头连接符 7"/>
          <p:cNvCxnSpPr/>
          <p:nvPr/>
        </p:nvCxnSpPr>
        <p:spPr>
          <a:xfrm>
            <a:off x="8387280" y="2420640"/>
            <a:ext cx="1080" cy="47844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cxnSp>
        <p:nvCxnSpPr>
          <p:cNvPr id="157" name="直接箭头连接符 8"/>
          <p:cNvCxnSpPr/>
          <p:nvPr/>
        </p:nvCxnSpPr>
        <p:spPr>
          <a:xfrm>
            <a:off x="8387280" y="3499920"/>
            <a:ext cx="1080" cy="47700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74293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生物学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肠毒素（ 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cholera toxin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的致病机理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所致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空肠弯曲菌可导致格林巴利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幽门螺杆菌是导致胃癌的重要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3750840" y="107172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  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428760" y="1214280"/>
            <a:ext cx="827568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弧菌属（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Vibrio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800" spc="-1" strike="noStrike">
                <a:solidFill>
                  <a:srgbClr val="99669b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细菌是一大群短小、弯曲成弧形或逗点状的革兰阴性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本属细菌的主要特点是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适合生长在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碱性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培养基中，具有单端单鞭毛，运动活泼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细菌种类多，对人致病的主要有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霍乱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副溶血性弧菌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928800" y="1214280"/>
            <a:ext cx="724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</a:t>
            </a:r>
            <a:r>
              <a:rPr b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(</a:t>
            </a:r>
            <a:r>
              <a:rPr b="1" i="1" lang="en-US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)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77880" y="2276640"/>
            <a:ext cx="7975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（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V. cholera</a:t>
            </a: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是引起霍乱的病原菌。霍乱是一种烈性消化道传染病，属国际检疫的传染病，曾发生</a:t>
            </a:r>
            <a:r>
              <a:rPr b="1" lang="en-US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次世界性大流行。主要表现为剧烈地呕吐、腹泻、脱水，重者可导致死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428760" y="2571840"/>
            <a:ext cx="594360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短小弧形或直线型，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G</a:t>
            </a:r>
            <a:r>
              <a:rPr b="1" lang="en-US" sz="2400" spc="-1" strike="noStrike" baseline="30000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杆菌，产氧化酶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鞭毛，运动活泼，无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857160" y="1143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霍乱弧菌生物学性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57120" y="3786120"/>
            <a:ext cx="4714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病人粪便标本做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悬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观察，成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“鱼群”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样穿梭运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98560" y="200016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5072040" y="4000680"/>
            <a:ext cx="3649680" cy="248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rcRect l="4978" t="4757" r="5688" b="6451"/>
          <a:stretch/>
        </p:blipFill>
        <p:spPr>
          <a:xfrm>
            <a:off x="6143760" y="1285920"/>
            <a:ext cx="2376360" cy="2627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images"/>
          <p:cNvPicPr/>
          <p:nvPr/>
        </p:nvPicPr>
        <p:blipFill>
          <a:blip r:embed="rId3"/>
          <a:stretch/>
        </p:blipFill>
        <p:spPr>
          <a:xfrm>
            <a:off x="714240" y="4929120"/>
            <a:ext cx="37436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霍乱弧菌－3"/>
          <p:cNvPicPr/>
          <p:nvPr/>
        </p:nvPicPr>
        <p:blipFill>
          <a:blip r:embed="rId1"/>
          <a:srcRect l="31425" t="1290" r="20855" b="20586"/>
          <a:stretch/>
        </p:blipFill>
        <p:spPr>
          <a:xfrm>
            <a:off x="1000080" y="1428840"/>
            <a:ext cx="2541600" cy="3813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1880" y="5373720"/>
            <a:ext cx="309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V. cholerae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在</a:t>
            </a:r>
            <a:r>
              <a:rPr b="1" lang="zh-CN" sz="20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培养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中生长。液体呈均匀混浊，有菌膜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6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～</a:t>
            </a:r>
            <a:r>
              <a:rPr b="1" lang="en-US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8h</a:t>
            </a:r>
            <a:r>
              <a:rPr b="1" lang="zh-CN" sz="20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），左侧为阴性对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4143240" y="2214720"/>
            <a:ext cx="45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需氧，营养要求不高。耐碱不耐酸，在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pH8.4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～</a:t>
            </a:r>
            <a:r>
              <a:rPr b="1" lang="en-US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9.0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的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或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碱性琼脂平板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上生长良好。故常用</a:t>
            </a:r>
            <a:r>
              <a:rPr b="1" lang="zh-CN" sz="2400" spc="-1" strike="noStrike">
                <a:solidFill>
                  <a:srgbClr val="cc3300"/>
                </a:solidFill>
                <a:latin typeface="微软雅黑"/>
                <a:ea typeface="微软雅黑"/>
              </a:rPr>
              <a:t>碱性蛋白胨水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作为选择性增殖霍乱弧菌的培养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5510160" y="15001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3608" t="0" r="3160" b="0"/>
          <a:stretch/>
        </p:blipFill>
        <p:spPr>
          <a:xfrm>
            <a:off x="3708360" y="836640"/>
            <a:ext cx="5257800" cy="5184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57120" y="1571760"/>
            <a:ext cx="3276720" cy="382428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选择培养基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TCB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（硫代硫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橼酸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胆盐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蔗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琼脂平板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微软雅黑"/>
                <a:ea typeface="微软雅黑"/>
              </a:rPr>
              <a:t>霍乱弧菌形成较大菌落，发酵蔗糖产酸使菌落呈黄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85880" y="2643120"/>
            <a:ext cx="757224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有菌体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和鞭毛抗原（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）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与其它弧菌的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H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相同，无特异性。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特异性高，根据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抗原的不同将其分为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0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余个血清群，其中 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、</a:t>
            </a:r>
            <a:r>
              <a:rPr b="1" lang="en-US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O139</a:t>
            </a:r>
            <a:r>
              <a:rPr b="1" lang="zh-CN" sz="2600" spc="-1" strike="noStrike">
                <a:solidFill>
                  <a:srgbClr val="002060"/>
                </a:solidFill>
                <a:latin typeface="微软雅黑"/>
                <a:ea typeface="微软雅黑"/>
              </a:rPr>
              <a:t>群引起霍乱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2428920" y="150012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抗原构造与分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2133720"/>
            <a:ext cx="82152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热及消毒剂抵抗力弱，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55℃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湿热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15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死亡，对酸的抵抗力更弱，在正常胃酸中仅能存活</a:t>
            </a: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4min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，该菌在河水中能存活较长时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霍乱弧菌对氯敏感，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漂白粉处理排泄物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可达消毒目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EI Tor 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生物型比古典生物型的抵抗力强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935520" y="1125360"/>
            <a:ext cx="124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抵 抗 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71680" y="1714680"/>
            <a:ext cx="814356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鞭毛与菌毛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pili and flagella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进入小肠后，依靠活泼的鞭毛运动穿过粘膜表面的粘液层，通过菌毛粘附于肠壁上皮细胞刷状缘的微绒毛上，并在其上繁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霍乱肠毒素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holera enterotoxin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CTX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2060"/>
                </a:solidFill>
                <a:latin typeface="微软雅黑"/>
                <a:ea typeface="微软雅黑"/>
              </a:rPr>
              <a:t>外毒素，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作用于腺苷环化酶，使细胞内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AT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转变为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AM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，促进肠粘膜细胞的分泌功能，肠液大量分泌，导致严重腹泻和呕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3809160" y="92880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5:23Z</dcterms:modified>
  <cp:revision>85</cp:revision>
  <dc:subject/>
  <dc:title>内科护理学</dc:title>
</cp:coreProperties>
</file>