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FDAF-25F3-4DF0-8D57-48DFAB5B9D8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CA2E-D006-4B78-B956-30C1518A299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EA2B-7476-4C53-AE6F-490A0774D85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FEA61-134D-4F2C-B8F0-E97DC346A9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0E3C0-F467-4CE9-A42E-86E8BC51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DA0B7-892A-4590-98CD-81232B2A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17748-7B0C-4A1E-9F29-58C84577E6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4F1D6-E825-46E4-BF9E-3C96D8B1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16B89-5E6D-4B1D-A68D-057FC7A5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DBAF6-45D9-4C2A-8379-3FBF40AB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7E31D-DA7E-4FF3-91F5-554E6730C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85F80-108F-4100-B277-49277C5EB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64755-DEF3-429B-A048-396192A2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7CAA1-3A2F-46DF-B951-FB38516B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62651-D251-40D4-8E42-7954D291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B21F-577E-4CA1-A1DA-AA9DE2F6CCD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八章 细菌的致病性与感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16"/>
          <p:cNvGrpSpPr/>
          <p:nvPr/>
        </p:nvGrpSpPr>
        <p:grpSpPr>
          <a:xfrm>
            <a:off x="6000840" y="2000160"/>
            <a:ext cx="3143160" cy="2085480"/>
            <a:chOff x="6000840" y="2000160"/>
            <a:chExt cx="3143160" cy="2085480"/>
          </a:xfrm>
        </p:grpSpPr>
        <p:pic>
          <p:nvPicPr>
            <p:cNvPr id="157" name="Group 4" descr=""/>
            <p:cNvPicPr/>
            <p:nvPr/>
          </p:nvPicPr>
          <p:blipFill>
            <a:blip r:embed="rId1"/>
            <a:stretch/>
          </p:blipFill>
          <p:spPr>
            <a:xfrm>
              <a:off x="6303240" y="2000160"/>
              <a:ext cx="2023920" cy="79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7"/>
            <p:cNvSpPr/>
            <p:nvPr/>
          </p:nvSpPr>
          <p:spPr>
            <a:xfrm>
              <a:off x="6000840" y="3077280"/>
              <a:ext cx="3143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隐性感染或恢复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重要的传染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9" name="组合 4"/>
          <p:cNvGrpSpPr/>
          <p:nvPr/>
        </p:nvGrpSpPr>
        <p:grpSpPr>
          <a:xfrm>
            <a:off x="357120" y="2071800"/>
            <a:ext cx="2521080" cy="2084040"/>
            <a:chOff x="357120" y="2071800"/>
            <a:chExt cx="2521080" cy="2084040"/>
          </a:xfrm>
        </p:grpSpPr>
        <p:pic>
          <p:nvPicPr>
            <p:cNvPr id="160" name="Group 9" descr=""/>
            <p:cNvPicPr/>
            <p:nvPr/>
          </p:nvPicPr>
          <p:blipFill>
            <a:blip r:embed="rId4"/>
            <a:stretch/>
          </p:blipFill>
          <p:spPr>
            <a:xfrm>
              <a:off x="524160" y="2071800"/>
              <a:ext cx="190224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Text Box 12"/>
            <p:cNvSpPr/>
            <p:nvPr/>
          </p:nvSpPr>
          <p:spPr>
            <a:xfrm>
              <a:off x="357120" y="3147480"/>
              <a:ext cx="2521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多见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可获得免疫力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2" name="Rectangle 28"/>
          <p:cNvSpPr/>
          <p:nvPr/>
        </p:nvSpPr>
        <p:spPr>
          <a:xfrm>
            <a:off x="2963880" y="1197000"/>
            <a:ext cx="3120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的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2714760" y="2071800"/>
            <a:ext cx="3357360" cy="4608360"/>
            <a:chOff x="2714760" y="2071800"/>
            <a:chExt cx="3357360" cy="4608360"/>
          </a:xfrm>
        </p:grpSpPr>
        <p:sp>
          <p:nvSpPr>
            <p:cNvPr id="164" name="下箭头标注 3"/>
            <p:cNvSpPr/>
            <p:nvPr/>
          </p:nvSpPr>
          <p:spPr>
            <a:xfrm>
              <a:off x="3278160" y="2071800"/>
              <a:ext cx="2016000" cy="968400"/>
            </a:xfrm>
            <a:prstGeom prst="downArrowCallout">
              <a:avLst>
                <a:gd name="adj1" fmla="val 24984"/>
                <a:gd name="adj2" fmla="val 24991"/>
                <a:gd name="adj3" fmla="val 25000"/>
                <a:gd name="adj4" fmla="val 64977"/>
              </a:avLst>
            </a:prstGeom>
            <a:solidFill>
              <a:srgbClr val="f2f2f2"/>
            </a:solidFill>
            <a:ln w="1260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显性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 Box 12"/>
            <p:cNvSpPr/>
            <p:nvPr/>
          </p:nvSpPr>
          <p:spPr>
            <a:xfrm>
              <a:off x="2714760" y="3111480"/>
              <a:ext cx="3357360" cy="356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急性与慢性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局部感染与全身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全身感染的类型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菌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毒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内毒素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败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脓毒血症</a:t>
              </a: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3f2ea9"/>
                  </a:solidFill>
                  <a:latin typeface="楷体_GB2312"/>
                  <a:ea typeface="楷体_GB2312"/>
                </a:rPr>
                <a:t>     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85840" y="16426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概念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或病原菌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pathogenic bacterium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机体、生长繁殖导致宿主疾病的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42920" y="1285560"/>
            <a:ext cx="885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条件致病菌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正常情况下并不致病，只有在某些特定情况下才可引起宿主疾病的细菌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致病条件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寄居部位改变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</a:t>
            </a:r>
            <a:r>
              <a:rPr b="1" i="1" lang="en-US" sz="2800" spc="-1" strike="noStrike">
                <a:solidFill>
                  <a:srgbClr val="7030a0"/>
                </a:solidFill>
                <a:latin typeface="Arial"/>
                <a:ea typeface="楷体_GB2312"/>
              </a:rPr>
              <a:t>E.coli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从肠道进入泌尿道、血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宿主免疫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菌群失调：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如长期使用抗生素，可致</a:t>
            </a:r>
            <a:r>
              <a:rPr b="1" lang="zh-CN" sz="2800" spc="-1" strike="noStrike">
                <a:solidFill>
                  <a:srgbClr val="fe230c"/>
                </a:solidFill>
                <a:latin typeface="楷体_GB2312"/>
                <a:ea typeface="楷体_GB2312"/>
              </a:rPr>
              <a:t>菌群失调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一节 致病菌与条件致病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285840" y="2071800"/>
            <a:ext cx="838980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细菌对宿主感染致病的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毒力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示致病性的强弱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定指标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半数致死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半数感染量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I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50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质基础：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侵袭力、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538200" y="1133640"/>
            <a:ext cx="2665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5fb6f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1"/>
          <p:cNvSpPr/>
          <p:nvPr/>
        </p:nvSpPr>
        <p:spPr>
          <a:xfrm>
            <a:off x="0" y="83808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714760" y="1857240"/>
            <a:ext cx="14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786040" y="3500280"/>
            <a:ext cx="35719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素（内、外毒素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2357280" y="2071800"/>
            <a:ext cx="287640" cy="1785960"/>
          </a:xfrm>
          <a:custGeom>
            <a:avLst/>
            <a:gdLst>
              <a:gd name="textAreaLeft" fmla="*/ 183960 w 287640"/>
              <a:gd name="textAreaRight" fmla="*/ 288000 w 287640"/>
              <a:gd name="textAreaTop" fmla="*/ 27360 h 1785960"/>
              <a:gd name="textAreaBottom" fmla="*/ 1758600 h 17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1"/>
                  <a:pt x="10800" y="1061"/>
                </a:cubicBezTo>
                <a:lnTo>
                  <a:pt x="10800" y="9755"/>
                </a:lnTo>
                <a:cubicBezTo>
                  <a:pt x="10800" y="10286"/>
                  <a:pt x="5400" y="10816"/>
                  <a:pt x="0" y="10816"/>
                </a:cubicBezTo>
                <a:cubicBezTo>
                  <a:pt x="5400" y="10816"/>
                  <a:pt x="10800" y="11347"/>
                  <a:pt x="10800" y="11877"/>
                </a:cubicBezTo>
                <a:lnTo>
                  <a:pt x="10800" y="20539"/>
                </a:lnTo>
                <a:cubicBezTo>
                  <a:pt x="10800" y="2107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1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1285920" y="2571840"/>
            <a:ext cx="1071360" cy="520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1285920" y="4000680"/>
            <a:ext cx="1993680" cy="520560"/>
          </a:xfrm>
          <a:prstGeom prst="rect">
            <a:avLst/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数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1071720" y="4929120"/>
            <a:ext cx="7343640" cy="520560"/>
          </a:xfrm>
          <a:prstGeom prst="rect">
            <a:avLst/>
          </a:prstGeom>
          <a:noFill/>
          <a:ln w="1260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入部位：呼吸道、消化道、皮肤伤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21"/>
          <p:cNvSpPr/>
          <p:nvPr/>
        </p:nvSpPr>
        <p:spPr>
          <a:xfrm>
            <a:off x="1071720" y="2786040"/>
            <a:ext cx="242640" cy="2571840"/>
          </a:xfrm>
          <a:custGeom>
            <a:avLst/>
            <a:gdLst>
              <a:gd name="textAreaLeft" fmla="*/ 155160 w 242640"/>
              <a:gd name="textAreaRight" fmla="*/ 243000 w 242640"/>
              <a:gd name="textAreaTop" fmla="*/ 51840 h 2571840"/>
              <a:gd name="textAreaBottom" fmla="*/ 2520000 h 257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7"/>
                  <a:pt x="10800" y="1393"/>
                </a:cubicBezTo>
                <a:lnTo>
                  <a:pt x="10800" y="9407"/>
                </a:lnTo>
                <a:cubicBezTo>
                  <a:pt x="10800" y="10104"/>
                  <a:pt x="5400" y="10800"/>
                  <a:pt x="0" y="10800"/>
                </a:cubicBezTo>
                <a:cubicBezTo>
                  <a:pt x="5400" y="10800"/>
                  <a:pt x="10800" y="11497"/>
                  <a:pt x="10800" y="12193"/>
                </a:cubicBezTo>
                <a:lnTo>
                  <a:pt x="10800" y="20207"/>
                </a:lnTo>
                <a:cubicBezTo>
                  <a:pt x="10800" y="2090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2"/>
          <p:cNvSpPr/>
          <p:nvPr/>
        </p:nvSpPr>
        <p:spPr>
          <a:xfrm>
            <a:off x="285840" y="2857680"/>
            <a:ext cx="571320" cy="2774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菌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4071960" y="1214280"/>
            <a:ext cx="287280" cy="1872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7360 h 1872000"/>
              <a:gd name="textAreaBottom" fmla="*/ 1844640 h 18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06"/>
                  <a:pt x="10800" y="1012"/>
                </a:cubicBezTo>
                <a:lnTo>
                  <a:pt x="10800" y="9804"/>
                </a:lnTo>
                <a:cubicBezTo>
                  <a:pt x="10800" y="10310"/>
                  <a:pt x="5400" y="10816"/>
                  <a:pt x="0" y="10816"/>
                </a:cubicBezTo>
                <a:cubicBezTo>
                  <a:pt x="5400" y="10816"/>
                  <a:pt x="10800" y="11322"/>
                  <a:pt x="10800" y="11828"/>
                </a:cubicBezTo>
                <a:lnTo>
                  <a:pt x="10800" y="20588"/>
                </a:lnTo>
                <a:cubicBezTo>
                  <a:pt x="10800" y="2109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35b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Box 17"/>
          <p:cNvSpPr/>
          <p:nvPr/>
        </p:nvSpPr>
        <p:spPr>
          <a:xfrm>
            <a:off x="4429080" y="107172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素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附与定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4429080" y="1714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侵袭性酶类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繁殖、扩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Box 19"/>
          <p:cNvSpPr/>
          <p:nvPr/>
        </p:nvSpPr>
        <p:spPr>
          <a:xfrm>
            <a:off x="4429080" y="250020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荚膜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抵抗机体的防御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999720"/>
            <a:ext cx="2514600" cy="1190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外毒素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exotox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214200" y="2500200"/>
            <a:ext cx="8786880" cy="43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性质为蛋白质，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亚单位组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性作用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性强，引起特有病理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化稳定性差：不耐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强 ：甲醛处理为类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ts val="3798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类多：神经毒、细胞毒、肠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4786200" y="1143000"/>
            <a:ext cx="4357800" cy="1449360"/>
          </a:xfrm>
          <a:prstGeom prst="wedgeRoundRectCallout">
            <a:avLst>
              <a:gd name="adj1" fmla="val -101458"/>
              <a:gd name="adj2" fmla="val -51439"/>
              <a:gd name="adj3" fmla="val 16667"/>
            </a:avLst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合成代谢产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和部分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仿宋_GB2312"/>
                <a:ea typeface="仿宋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菌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释放到菌体外，或溶解释放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000080"/>
            <a:ext cx="4205160" cy="650880"/>
          </a:xfrm>
          <a:prstGeom prst="rect">
            <a:avLst/>
          </a:prstGeom>
          <a:solidFill>
            <a:srgbClr val="f8f8f8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内毒素 </a:t>
            </a: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endotoxi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E371-9A57-4639-9059-7A668538B592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071600" y="999720"/>
            <a:ext cx="4357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脂多糖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楷体_GB2312"/>
                <a:ea typeface="楷体_GB2312"/>
              </a:rPr>
              <a:t>LPS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  lipopolysacharide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菌体裂解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性质稳定，耐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毒性作用较弱，无选择性，无组织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抗原性弱，不能用甲醛处理为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刺激机体产生抗内毒素抗体，但中和作用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ts val="3098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人体对内毒素敏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4" name="Group 14"/>
          <p:cNvGrpSpPr/>
          <p:nvPr/>
        </p:nvGrpSpPr>
        <p:grpSpPr>
          <a:xfrm>
            <a:off x="214200" y="2286000"/>
            <a:ext cx="4570200" cy="4102560"/>
            <a:chOff x="214200" y="2286000"/>
            <a:chExt cx="4570200" cy="4102560"/>
          </a:xfrm>
        </p:grpSpPr>
        <p:pic>
          <p:nvPicPr>
            <p:cNvPr id="145" name="Picture 9" descr="Release of LPS (Endotoxin) from the Gram-Negative Cell WallRelease of LPS (Endotoxin) from the Gram-Negative Cell Wall"/>
            <p:cNvPicPr/>
            <p:nvPr/>
          </p:nvPicPr>
          <p:blipFill>
            <a:blip r:embed="rId1"/>
            <a:stretch/>
          </p:blipFill>
          <p:spPr>
            <a:xfrm>
              <a:off x="371520" y="2286000"/>
              <a:ext cx="3367440" cy="35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Rectangle 12"/>
            <p:cNvSpPr/>
            <p:nvPr/>
          </p:nvSpPr>
          <p:spPr>
            <a:xfrm>
              <a:off x="214200" y="5928840"/>
              <a:ext cx="45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G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菌崩解和内毒素释放过程演示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0FFE-2DC1-44B2-9722-C4328D16B55F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856880"/>
            <a:ext cx="292896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细胞反应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毒素血症与内毒素休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285840" y="11430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内毒素的生物学作用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4" descr="内毒素作用机理"/>
          <p:cNvPicPr/>
          <p:nvPr/>
        </p:nvPicPr>
        <p:blipFill>
          <a:blip r:embed="rId1"/>
          <a:stretch/>
        </p:blipFill>
        <p:spPr>
          <a:xfrm>
            <a:off x="3000240" y="1714680"/>
            <a:ext cx="5815080" cy="4844880"/>
          </a:xfrm>
          <a:prstGeom prst="rect">
            <a:avLst/>
          </a:prstGeom>
          <a:ln w="0">
            <a:noFill/>
          </a:ln>
        </p:spPr>
      </p:pic>
      <p:sp>
        <p:nvSpPr>
          <p:cNvPr id="152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二节 细菌的致病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2"/>
          <p:cNvSpPr/>
          <p:nvPr/>
        </p:nvSpPr>
        <p:spPr>
          <a:xfrm>
            <a:off x="500040" y="1714680"/>
            <a:ext cx="7929720" cy="58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外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、带菌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畜、带菌动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黏膜感染（呼吸道、消化道、泌尿生殖道等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感染（破损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整皮肤、节肢动物叮咬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途径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内源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菌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的病原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714240" y="1000080"/>
            <a:ext cx="6500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感染的来源及传播途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56800" y="5000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第三节 细菌性感染的发生发展与结局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39:18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