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F465-2E99-47B6-AB36-E26BBEBF5D4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破伤风外毒素与脊髓前角抑制性神经元结合，阻断抑制性神经元细胞释放抑制性神经递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使肌体屈肌、伸肌和呼吸肌运动神经元同时兴奋，出现破伤风所特有的“肌肉痉挛”、“苦笑面容”和“角弓反张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8F20-9334-479B-AE1F-48CF91A42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435B-40D5-4979-A5BB-A1944D1E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96B2-1874-4CC5-BDC4-0DA76934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7C64-CFB9-47B3-A646-71B0358868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D2BE-7FE5-4A40-AACD-B77073F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7192-FB29-4DD1-9DBF-30841DEE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AC5C-9990-496A-B539-B402AF1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5515-027C-4B01-BB0A-8BBD2D58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695FA-B7BE-4630-81F8-46C4940E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860C-F8A4-41C9-8D55-7FDE6DF9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F839-88C4-4E48-8BD2-71C47C09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2152-9AC0-4BC6-9C2F-ECC8E061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952D-9F2A-4CDF-8FD7-84FB1DE9A4B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9000"/>
              <a:ext cx="9115560" cy="1808640"/>
              <a:chOff x="28440" y="5049000"/>
              <a:chExt cx="9115560" cy="18086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9000"/>
                <a:ext cx="9115560" cy="18086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90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3920"/>
              <a:chOff x="0" y="4689000"/>
              <a:chExt cx="9097920" cy="40392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96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6036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5"/>
          <p:cNvSpPr/>
          <p:nvPr/>
        </p:nvSpPr>
        <p:spPr>
          <a:xfrm>
            <a:off x="357120" y="2857680"/>
            <a:ext cx="63676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1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26</a:t>
            </a:r>
            <a:r>
              <a:rPr b="1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 厌氧性细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方正姚体"/>
                <a:ea typeface="方正姚体"/>
              </a:rPr>
              <a:t>Anaerobic spore-forming clostridium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785880" y="2000160"/>
            <a:ext cx="782640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涂片及分离培养阳性率极低，一般不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根据典型的症状及创伤史可作出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 algn="just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的致病性及抗毒素保护性动物实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000160" y="1143000"/>
            <a:ext cx="495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微软雅黑"/>
                <a:ea typeface="微软雅黑"/>
              </a:rPr>
              <a:t>实验室诊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小鼠"/>
          <p:cNvPicPr/>
          <p:nvPr/>
        </p:nvPicPr>
        <p:blipFill>
          <a:blip r:embed="rId1"/>
          <a:stretch/>
        </p:blipFill>
        <p:spPr>
          <a:xfrm>
            <a:off x="5788080" y="4376880"/>
            <a:ext cx="2147760" cy="197964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5"/>
          <p:cNvGrpSpPr/>
          <p:nvPr/>
        </p:nvGrpSpPr>
        <p:grpSpPr>
          <a:xfrm>
            <a:off x="793800" y="3860640"/>
            <a:ext cx="4290840" cy="2448000"/>
            <a:chOff x="793800" y="3860640"/>
            <a:chExt cx="4290840" cy="2448000"/>
          </a:xfrm>
        </p:grpSpPr>
        <p:pic>
          <p:nvPicPr>
            <p:cNvPr id="171" name="Picture 9" descr=""/>
            <p:cNvPicPr/>
            <p:nvPr/>
          </p:nvPicPr>
          <p:blipFill>
            <a:blip r:embed="rId2"/>
            <a:srcRect l="11224" t="38098" r="3809" b="19509"/>
            <a:stretch/>
          </p:blipFill>
          <p:spPr>
            <a:xfrm>
              <a:off x="793800" y="4149720"/>
              <a:ext cx="429084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6"/>
            <p:cNvSpPr/>
            <p:nvPr/>
          </p:nvSpPr>
          <p:spPr>
            <a:xfrm>
              <a:off x="2406240" y="5235480"/>
              <a:ext cx="8895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46ca6"/>
                  </a:solidFill>
                  <a:latin typeface="Arial Narrow"/>
                  <a:ea typeface="宋体"/>
                </a:rPr>
                <a:t>Colony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Oval 2"/>
            <p:cNvSpPr/>
            <p:nvPr/>
          </p:nvSpPr>
          <p:spPr>
            <a:xfrm>
              <a:off x="1867680" y="3860640"/>
              <a:ext cx="2681640" cy="576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3"/>
            <p:cNvSpPr/>
            <p:nvPr/>
          </p:nvSpPr>
          <p:spPr>
            <a:xfrm>
              <a:off x="1801080" y="4221000"/>
              <a:ext cx="1006200" cy="10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"/>
            <p:cNvSpPr/>
            <p:nvPr/>
          </p:nvSpPr>
          <p:spPr>
            <a:xfrm>
              <a:off x="3141360" y="4149720"/>
              <a:ext cx="604440" cy="79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28800" y="1714680"/>
            <a:ext cx="79153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buClr>
                <a:srgbClr val="046ca6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正确处理伤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及时清创扩创，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% H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2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伤口污染严重而又未经过基础免疫的患者，立即注射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同时给予破伤风类毒素作主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3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早期足量使用青霉素，抑制细菌繁殖，终止毒素释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儿童接种白、百、破三联疫苗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(DPT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易感人群接种破伤风类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5.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出现症状的患者使用肌肉松弛剂、镇静剂，缓解临床症状，大剂量</a:t>
            </a:r>
            <a:r>
              <a:rPr b="1" lang="en-US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TAT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静脉滴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357280" y="1071720"/>
            <a:ext cx="4543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500120" y="2857680"/>
            <a:ext cx="30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428840" y="3500280"/>
            <a:ext cx="3136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G+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杆菌，有芽孢、荚膜，发酵糖类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酸产气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0" name="Picture 7" descr="nfC"/>
          <p:cNvPicPr/>
          <p:nvPr/>
        </p:nvPicPr>
        <p:blipFill>
          <a:blip r:embed="rId1"/>
          <a:srcRect l="39204" t="16432" r="4524" b="13693"/>
          <a:stretch/>
        </p:blipFill>
        <p:spPr>
          <a:xfrm>
            <a:off x="5214960" y="2928960"/>
            <a:ext cx="1827360" cy="2813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456200" y="1428840"/>
            <a:ext cx="5644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perfringen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1328760" y="1844640"/>
            <a:ext cx="6175080" cy="4342680"/>
            <a:chOff x="1328760" y="1844640"/>
            <a:chExt cx="6175080" cy="4342680"/>
          </a:xfrm>
        </p:grpSpPr>
        <p:grpSp>
          <p:nvGrpSpPr>
            <p:cNvPr id="183" name="Group 3"/>
            <p:cNvGrpSpPr/>
            <p:nvPr/>
          </p:nvGrpSpPr>
          <p:grpSpPr>
            <a:xfrm>
              <a:off x="1328760" y="3494880"/>
              <a:ext cx="6088680" cy="1747800"/>
              <a:chOff x="1328760" y="3494880"/>
              <a:chExt cx="6088680" cy="1747800"/>
            </a:xfrm>
          </p:grpSpPr>
          <p:sp>
            <p:nvSpPr>
              <p:cNvPr id="184" name="Text Box 4"/>
              <p:cNvSpPr/>
              <p:nvPr/>
            </p:nvSpPr>
            <p:spPr>
              <a:xfrm>
                <a:off x="5663160" y="3494880"/>
                <a:ext cx="175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外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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85" name="Group 5"/>
              <p:cNvGrpSpPr/>
              <p:nvPr/>
            </p:nvGrpSpPr>
            <p:grpSpPr>
              <a:xfrm>
                <a:off x="2328480" y="3638160"/>
                <a:ext cx="2203920" cy="1604520"/>
                <a:chOff x="2328480" y="3638160"/>
                <a:chExt cx="2203920" cy="1604520"/>
              </a:xfrm>
            </p:grpSpPr>
            <p:sp>
              <p:nvSpPr>
                <p:cNvPr id="186" name="AutoShape 6"/>
                <p:cNvSpPr/>
                <p:nvPr/>
              </p:nvSpPr>
              <p:spPr>
                <a:xfrm>
                  <a:off x="3614400" y="4279680"/>
                  <a:ext cx="306000" cy="384840"/>
                </a:xfrm>
                <a:prstGeom prst="flowChartConnector">
                  <a:avLst/>
                </a:prstGeom>
                <a:solidFill>
                  <a:srgbClr val="046ca6"/>
                </a:solidFill>
                <a:ln w="9360">
                  <a:solidFill>
                    <a:srgbClr val="046ca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7" name="AutoShape 7"/>
                <p:cNvSpPr/>
                <p:nvPr/>
              </p:nvSpPr>
              <p:spPr>
                <a:xfrm>
                  <a:off x="2880000" y="3638160"/>
                  <a:ext cx="1652400" cy="1604520"/>
                </a:xfrm>
                <a:custGeom>
                  <a:avLst/>
                  <a:gdLst>
                    <a:gd name="textAreaLeft" fmla="*/ 242280 w 1652400"/>
                    <a:gd name="textAreaRight" fmla="*/ 1410120 w 1652400"/>
                    <a:gd name="textAreaTop" fmla="*/ 235080 h 1604520"/>
                    <a:gd name="textAreaBottom" fmla="*/ 1369440 h 1604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6667" y="10800"/>
                      </a:moveTo>
                      <a:cubicBezTo>
                        <a:pt x="6667" y="13083"/>
                        <a:pt x="8517" y="14933"/>
                        <a:pt x="10800" y="14933"/>
                      </a:cubicBezTo>
                      <a:cubicBezTo>
                        <a:pt x="13083" y="14933"/>
                        <a:pt x="14933" y="13083"/>
                        <a:pt x="14933" y="10800"/>
                      </a:cubicBezTo>
                      <a:cubicBezTo>
                        <a:pt x="14933" y="8517"/>
                        <a:pt x="13083" y="6667"/>
                        <a:pt x="10800" y="6667"/>
                      </a:cubicBezTo>
                      <a:cubicBezTo>
                        <a:pt x="8517" y="6667"/>
                        <a:pt x="6667" y="8517"/>
                        <a:pt x="6667" y="10800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8" name="AutoShape 8"/>
                <p:cNvSpPr/>
                <p:nvPr/>
              </p:nvSpPr>
              <p:spPr>
                <a:xfrm>
                  <a:off x="3430800" y="4087080"/>
                  <a:ext cx="612000" cy="705960"/>
                </a:xfrm>
                <a:custGeom>
                  <a:avLst/>
                  <a:gdLst>
                    <a:gd name="textAreaLeft" fmla="*/ 89280 w 612000"/>
                    <a:gd name="textAreaRight" fmla="*/ 522720 w 612000"/>
                    <a:gd name="textAreaTop" fmla="*/ 102960 h 705960"/>
                    <a:gd name="textAreaBottom" fmla="*/ 603000 h 705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2328480" y="4472280"/>
                  <a:ext cx="1407960" cy="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10"/>
              <p:cNvSpPr/>
              <p:nvPr/>
            </p:nvSpPr>
            <p:spPr>
              <a:xfrm>
                <a:off x="1328760" y="41518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菌落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Text Box 11"/>
              <p:cNvSpPr/>
              <p:nvPr/>
            </p:nvSpPr>
            <p:spPr>
              <a:xfrm>
                <a:off x="5663880" y="4344480"/>
                <a:ext cx="1714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内环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(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Symbol"/>
                    <a:ea typeface="Symbol"/>
                  </a:rPr>
                  <a:t></a:t>
                </a:r>
                <a:r>
                  <a:rPr b="1" lang="zh-CN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毒素</a:t>
                </a:r>
                <a:r>
                  <a:rPr b="1" lang="en-US" sz="2800" spc="-1" strike="noStrike">
                    <a:solidFill>
                      <a:srgbClr val="046ca6"/>
                    </a:solidFill>
                    <a:latin typeface="Brush Script MT"/>
                    <a:ea typeface="宋体"/>
                  </a:rPr>
                  <a:t>)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Line 12"/>
              <p:cNvSpPr/>
              <p:nvPr/>
            </p:nvSpPr>
            <p:spPr>
              <a:xfrm flipH="1">
                <a:off x="4053960" y="3921480"/>
                <a:ext cx="134136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Line 13"/>
              <p:cNvSpPr/>
              <p:nvPr/>
            </p:nvSpPr>
            <p:spPr>
              <a:xfrm flipH="1">
                <a:off x="3861720" y="4676760"/>
                <a:ext cx="153324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AutoShape 14"/>
            <p:cNvSpPr/>
            <p:nvPr/>
          </p:nvSpPr>
          <p:spPr>
            <a:xfrm>
              <a:off x="1562040" y="5432040"/>
              <a:ext cx="5941800" cy="755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3040560" y="5422320"/>
              <a:ext cx="335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Brush Script MT"/>
                  <a:ea typeface="楷体_GB2312"/>
                </a:rPr>
                <a:t>魏氏梭菌在血平皿上菌落形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16"/>
            <p:cNvSpPr/>
            <p:nvPr/>
          </p:nvSpPr>
          <p:spPr>
            <a:xfrm>
              <a:off x="4245480" y="1844640"/>
              <a:ext cx="2587320" cy="1510560"/>
            </a:xfrm>
            <a:prstGeom prst="wedgeEllipseCallout">
              <a:avLst>
                <a:gd name="adj1" fmla="val -44675"/>
                <a:gd name="adj2" fmla="val 67449"/>
              </a:avLst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17"/>
            <p:cNvSpPr/>
            <p:nvPr/>
          </p:nvSpPr>
          <p:spPr>
            <a:xfrm>
              <a:off x="3998880" y="2143440"/>
              <a:ext cx="2990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生长速度快</a:t>
              </a: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!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Brush Script MT"/>
                  <a:ea typeface="宋体"/>
                </a:rPr>
                <a:t>7min/cycle,37°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1357200" y="1428840"/>
            <a:ext cx="356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  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rcRect l="11432" t="0" r="14295" b="0"/>
          <a:stretch/>
        </p:blipFill>
        <p:spPr>
          <a:xfrm>
            <a:off x="6400800" y="990720"/>
            <a:ext cx="1981080" cy="464796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3"/>
          <p:cNvSpPr/>
          <p:nvPr/>
        </p:nvSpPr>
        <p:spPr>
          <a:xfrm>
            <a:off x="5796000" y="5877000"/>
            <a:ext cx="31878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Brush Script MT"/>
                <a:ea typeface="楷体_GB2312"/>
              </a:rPr>
              <a:t>牛乳培养基中的生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85840" y="1285920"/>
            <a:ext cx="66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汹涌发酵（</a:t>
            </a:r>
            <a:r>
              <a:rPr b="1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stormy fermentation</a:t>
            </a:r>
            <a:r>
              <a:rPr b="1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1693800" y="2143080"/>
            <a:ext cx="353196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在牛乳培养基中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乳糖，使牛奶中的酪蛋白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固，同时产生大量气体冲碎凝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的酪蛋白，并使液面上的凡士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封固层向上推挤，甚至冲开管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的棉塞，此现象称为汹涌发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本菌的特点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500280" y="928800"/>
            <a:ext cx="2133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14240" y="1500120"/>
            <a:ext cx="24656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病物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3360" y="3068640"/>
            <a:ext cx="130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03360" y="4581360"/>
            <a:ext cx="8216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毒素</a:t>
            </a:r>
            <a:r>
              <a:rPr b="1" lang="en-US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:</a:t>
            </a:r>
            <a:r>
              <a:rPr b="1" lang="en-US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素，对氧敏感，能改变毛细血管的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透性，并对心肌有毒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6135840" y="2284560"/>
            <a:ext cx="1904760" cy="1523880"/>
          </a:xfrm>
          <a:custGeom>
            <a:avLst/>
            <a:gdLst>
              <a:gd name="textAreaLeft" fmla="*/ 434880 w 1904760"/>
              <a:gd name="textAreaRight" fmla="*/ 1469880 w 1904760"/>
              <a:gd name="textAreaTop" fmla="*/ 347760 h 1523880"/>
              <a:gd name="textAreaBottom" fmla="*/ 117612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3544920" y="2665440"/>
            <a:ext cx="16002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红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白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肌细胞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3697200" y="3732120"/>
            <a:ext cx="15264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49840" y="3808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4078440" y="3884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307040" y="388476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12"/>
          <p:cNvSpPr/>
          <p:nvPr/>
        </p:nvSpPr>
        <p:spPr>
          <a:xfrm>
            <a:off x="4535640" y="380844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AutoShape 13"/>
          <p:cNvSpPr/>
          <p:nvPr/>
        </p:nvSpPr>
        <p:spPr>
          <a:xfrm>
            <a:off x="4764240" y="3732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916520" y="36561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3621240" y="35798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6"/>
          <p:cNvSpPr/>
          <p:nvPr/>
        </p:nvSpPr>
        <p:spPr>
          <a:xfrm>
            <a:off x="3544920" y="34275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7"/>
          <p:cNvSpPr/>
          <p:nvPr/>
        </p:nvSpPr>
        <p:spPr>
          <a:xfrm>
            <a:off x="4992840" y="35035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5068800" y="3351240"/>
            <a:ext cx="15264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50688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20"/>
          <p:cNvSpPr/>
          <p:nvPr/>
        </p:nvSpPr>
        <p:spPr>
          <a:xfrm>
            <a:off x="4992840" y="29703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1"/>
          <p:cNvSpPr/>
          <p:nvPr/>
        </p:nvSpPr>
        <p:spPr>
          <a:xfrm>
            <a:off x="40784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2"/>
          <p:cNvSpPr/>
          <p:nvPr/>
        </p:nvSpPr>
        <p:spPr>
          <a:xfrm>
            <a:off x="4307040" y="25891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535640" y="25891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4687920" y="2665440"/>
            <a:ext cx="15228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4916520" y="28177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3621240" y="2817720"/>
            <a:ext cx="152280" cy="15264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3544920" y="3046320"/>
            <a:ext cx="152280" cy="15264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28"/>
          <p:cNvSpPr/>
          <p:nvPr/>
        </p:nvSpPr>
        <p:spPr>
          <a:xfrm>
            <a:off x="3468600" y="319896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AutoShape 29"/>
          <p:cNvSpPr/>
          <p:nvPr/>
        </p:nvSpPr>
        <p:spPr>
          <a:xfrm>
            <a:off x="3925800" y="2665440"/>
            <a:ext cx="152640" cy="152280"/>
          </a:xfrm>
          <a:prstGeom prst="flowChartConnector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AutoShape 30"/>
          <p:cNvSpPr/>
          <p:nvPr/>
        </p:nvSpPr>
        <p:spPr>
          <a:xfrm>
            <a:off x="3773520" y="2741760"/>
            <a:ext cx="152280" cy="15228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1868400" y="3274920"/>
            <a:ext cx="152424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1822320" y="3504600"/>
            <a:ext cx="1953000" cy="365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33"/>
          <p:cNvSpPr/>
          <p:nvPr/>
        </p:nvSpPr>
        <p:spPr>
          <a:xfrm>
            <a:off x="1693800" y="2743200"/>
            <a:ext cx="180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卵磷脂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34"/>
          <p:cNvSpPr/>
          <p:nvPr/>
        </p:nvSpPr>
        <p:spPr>
          <a:xfrm>
            <a:off x="2538360" y="38289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35"/>
          <p:cNvSpPr/>
          <p:nvPr/>
        </p:nvSpPr>
        <p:spPr>
          <a:xfrm>
            <a:off x="1785960" y="357192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鞘髓磷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36"/>
          <p:cNvSpPr/>
          <p:nvPr/>
        </p:nvSpPr>
        <p:spPr>
          <a:xfrm>
            <a:off x="5373720" y="3122640"/>
            <a:ext cx="685800" cy="304920"/>
          </a:xfrm>
          <a:prstGeom prst="rightArrow">
            <a:avLst>
              <a:gd name="adj1" fmla="val 50000"/>
              <a:gd name="adj2" fmla="val 63256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6135840" y="2514600"/>
            <a:ext cx="2047680" cy="8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溶血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坏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血管内皮损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AutoShape 38"/>
          <p:cNvSpPr/>
          <p:nvPr/>
        </p:nvSpPr>
        <p:spPr>
          <a:xfrm>
            <a:off x="5830920" y="3884760"/>
            <a:ext cx="2597040" cy="380880"/>
          </a:xfrm>
          <a:prstGeom prst="flowChartTerminator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LD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微软雅黑"/>
                <a:ea typeface="微软雅黑"/>
              </a:rPr>
              <a:t>50</a:t>
            </a: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=5mg/kg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39"/>
          <p:cNvSpPr/>
          <p:nvPr/>
        </p:nvSpPr>
        <p:spPr>
          <a:xfrm>
            <a:off x="7993080" y="2133720"/>
            <a:ext cx="270000" cy="1066680"/>
          </a:xfrm>
          <a:custGeom>
            <a:avLst/>
            <a:gdLst>
              <a:gd name="textAreaLeft" fmla="*/ 0 w 270000"/>
              <a:gd name="textAreaRight" fmla="*/ 231480 w 270000"/>
              <a:gd name="textAreaTop" fmla="*/ 7113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AutoShape 40"/>
          <p:cNvSpPr/>
          <p:nvPr/>
        </p:nvSpPr>
        <p:spPr>
          <a:xfrm>
            <a:off x="6858000" y="357120"/>
            <a:ext cx="2438280" cy="1905120"/>
          </a:xfrm>
          <a:prstGeom prst="irregularSeal2">
            <a:avLst/>
          </a:prstGeom>
          <a:solidFill>
            <a:srgbClr val="6699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41"/>
          <p:cNvSpPr/>
          <p:nvPr/>
        </p:nvSpPr>
        <p:spPr>
          <a:xfrm>
            <a:off x="7215120" y="1143000"/>
            <a:ext cx="1727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楷体_GB2312"/>
              </a:rPr>
              <a:t>组织气肿，有捻发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2428920" y="1285920"/>
            <a:ext cx="4726080" cy="5205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：主要由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型菌产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Oval 3"/>
          <p:cNvSpPr/>
          <p:nvPr/>
        </p:nvSpPr>
        <p:spPr>
          <a:xfrm>
            <a:off x="1828800" y="3657600"/>
            <a:ext cx="1371600" cy="914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286000" y="3352680"/>
            <a:ext cx="380880" cy="457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 rot="10800000">
            <a:off x="2286000" y="335232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 rot="10800000">
            <a:off x="2286000" y="3200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1811880" y="4724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小肠上皮细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438280" y="2666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250920" y="33526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蛋白受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041560" y="2133720"/>
            <a:ext cx="131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352680" y="388620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114800" y="3657600"/>
            <a:ext cx="1371600" cy="9144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07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 rot="10800000">
            <a:off x="4572000" y="36576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 rot="15300000">
            <a:off x="4648320" y="434340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17"/>
          <p:cNvSpPr/>
          <p:nvPr/>
        </p:nvSpPr>
        <p:spPr>
          <a:xfrm rot="15300000">
            <a:off x="5105520" y="396252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Freeform 18"/>
          <p:cNvSpPr/>
          <p:nvPr/>
        </p:nvSpPr>
        <p:spPr>
          <a:xfrm>
            <a:off x="2048040" y="411480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Freeform 19"/>
          <p:cNvSpPr/>
          <p:nvPr/>
        </p:nvSpPr>
        <p:spPr>
          <a:xfrm>
            <a:off x="2189160" y="4027320"/>
            <a:ext cx="187200" cy="20664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Freeform 20"/>
          <p:cNvSpPr/>
          <p:nvPr/>
        </p:nvSpPr>
        <p:spPr>
          <a:xfrm>
            <a:off x="2200320" y="42670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Freeform 21"/>
          <p:cNvSpPr/>
          <p:nvPr/>
        </p:nvSpPr>
        <p:spPr>
          <a:xfrm>
            <a:off x="2590920" y="411480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Freeform 22"/>
          <p:cNvSpPr/>
          <p:nvPr/>
        </p:nvSpPr>
        <p:spPr>
          <a:xfrm>
            <a:off x="26668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Freeform 23"/>
          <p:cNvSpPr/>
          <p:nvPr/>
        </p:nvSpPr>
        <p:spPr>
          <a:xfrm rot="18000000">
            <a:off x="5333760" y="350496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Freeform 24"/>
          <p:cNvSpPr/>
          <p:nvPr/>
        </p:nvSpPr>
        <p:spPr>
          <a:xfrm>
            <a:off x="2525760" y="382104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Freeform 25"/>
          <p:cNvSpPr/>
          <p:nvPr/>
        </p:nvSpPr>
        <p:spPr>
          <a:xfrm>
            <a:off x="2666880" y="3733920"/>
            <a:ext cx="187560" cy="206280"/>
          </a:xfrm>
          <a:custGeom>
            <a:avLst/>
            <a:gdLst>
              <a:gd name="textAreaLeft" fmla="*/ 0 w 187560"/>
              <a:gd name="textAreaRight" fmla="*/ 187920 w 187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Freeform 26"/>
          <p:cNvSpPr/>
          <p:nvPr/>
        </p:nvSpPr>
        <p:spPr>
          <a:xfrm>
            <a:off x="4343400" y="396252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Freeform 27"/>
          <p:cNvSpPr/>
          <p:nvPr/>
        </p:nvSpPr>
        <p:spPr>
          <a:xfrm>
            <a:off x="5105520" y="44956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Freeform 28"/>
          <p:cNvSpPr/>
          <p:nvPr/>
        </p:nvSpPr>
        <p:spPr>
          <a:xfrm>
            <a:off x="502920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Freeform 29"/>
          <p:cNvSpPr/>
          <p:nvPr/>
        </p:nvSpPr>
        <p:spPr>
          <a:xfrm rot="18900000">
            <a:off x="5257440" y="3428640"/>
            <a:ext cx="158760" cy="17928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4724280" y="40384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rot="2700000">
            <a:off x="5028840" y="3657600"/>
            <a:ext cx="75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Freeform 32"/>
          <p:cNvSpPr/>
          <p:nvPr/>
        </p:nvSpPr>
        <p:spPr>
          <a:xfrm rot="18000000">
            <a:off x="5114880" y="3647880"/>
            <a:ext cx="187200" cy="206280"/>
          </a:xfrm>
          <a:custGeom>
            <a:avLst/>
            <a:gdLst>
              <a:gd name="textAreaLeft" fmla="*/ 0 w 187200"/>
              <a:gd name="textAreaRight" fmla="*/ 187560 w 1872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18" h="130">
                <a:moveTo>
                  <a:pt x="17" y="17"/>
                </a:moveTo>
                <a:cubicBezTo>
                  <a:pt x="52" y="118"/>
                  <a:pt x="0" y="0"/>
                  <a:pt x="68" y="68"/>
                </a:cubicBezTo>
                <a:cubicBezTo>
                  <a:pt x="77" y="77"/>
                  <a:pt x="72" y="95"/>
                  <a:pt x="80" y="105"/>
                </a:cubicBezTo>
                <a:cubicBezTo>
                  <a:pt x="90" y="117"/>
                  <a:pt x="118" y="130"/>
                  <a:pt x="118" y="130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Rectangle 33"/>
          <p:cNvSpPr/>
          <p:nvPr/>
        </p:nvSpPr>
        <p:spPr>
          <a:xfrm rot="9000000">
            <a:off x="5028840" y="434304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5181480" y="4724280"/>
            <a:ext cx="158760" cy="179640"/>
          </a:xfrm>
          <a:custGeom>
            <a:avLst/>
            <a:gdLst>
              <a:gd name="textAreaLeft" fmla="*/ 0 w 158760"/>
              <a:gd name="textAreaRight" fmla="*/ 159120 w 158760"/>
              <a:gd name="textAreaTop" fmla="*/ 0 h 179640"/>
              <a:gd name="textAreaBottom" fmla="*/ 180000 h 179640"/>
            </a:gdLst>
            <a:ahLst/>
            <a:rect l="textAreaLeft" t="textAreaTop" r="textAreaRight" b="textAreaBottom"/>
            <a:pathLst>
              <a:path w="100" h="113">
                <a:moveTo>
                  <a:pt x="0" y="0"/>
                </a:moveTo>
                <a:cubicBezTo>
                  <a:pt x="12" y="8"/>
                  <a:pt x="32" y="11"/>
                  <a:pt x="37" y="25"/>
                </a:cubicBezTo>
                <a:cubicBezTo>
                  <a:pt x="42" y="37"/>
                  <a:pt x="20" y="51"/>
                  <a:pt x="25" y="63"/>
                </a:cubicBezTo>
                <a:cubicBezTo>
                  <a:pt x="40" y="101"/>
                  <a:pt x="100" y="75"/>
                  <a:pt x="100" y="113"/>
                </a:cubicBezTo>
              </a:path>
            </a:pathLst>
          </a:custGeom>
          <a:noFill/>
          <a:ln w="255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AutoShape 35"/>
          <p:cNvSpPr/>
          <p:nvPr/>
        </p:nvSpPr>
        <p:spPr>
          <a:xfrm>
            <a:off x="5638680" y="3962520"/>
            <a:ext cx="685800" cy="228600"/>
          </a:xfrm>
          <a:prstGeom prst="rightArrow">
            <a:avLst>
              <a:gd name="adj1" fmla="val 50000"/>
              <a:gd name="adj2" fmla="val 84375"/>
            </a:avLst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AutoShape 36"/>
          <p:cNvSpPr/>
          <p:nvPr/>
        </p:nvSpPr>
        <p:spPr>
          <a:xfrm>
            <a:off x="6434280" y="5029200"/>
            <a:ext cx="2058840" cy="1295280"/>
          </a:xfrm>
          <a:prstGeom prst="irregularSeal1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细胞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AutoShape 37"/>
          <p:cNvSpPr/>
          <p:nvPr/>
        </p:nvSpPr>
        <p:spPr>
          <a:xfrm>
            <a:off x="6705720" y="3505320"/>
            <a:ext cx="1287360" cy="1295280"/>
          </a:xfrm>
          <a:prstGeom prst="downArrowCallout">
            <a:avLst>
              <a:gd name="adj1" fmla="val 27947"/>
              <a:gd name="adj2" fmla="val 27940"/>
              <a:gd name="adj3" fmla="val 16662"/>
              <a:gd name="adj4" fmla="val 66667"/>
            </a:avLst>
          </a:prstGeom>
          <a:solidFill>
            <a:srgbClr val="9696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38"/>
          <p:cNvSpPr/>
          <p:nvPr/>
        </p:nvSpPr>
        <p:spPr>
          <a:xfrm>
            <a:off x="6840360" y="3657600"/>
            <a:ext cx="10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毒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39"/>
          <p:cNvSpPr/>
          <p:nvPr/>
        </p:nvSpPr>
        <p:spPr>
          <a:xfrm>
            <a:off x="4267080" y="5410080"/>
            <a:ext cx="1287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AutoShape 40"/>
          <p:cNvSpPr/>
          <p:nvPr/>
        </p:nvSpPr>
        <p:spPr>
          <a:xfrm>
            <a:off x="3657600" y="5181480"/>
            <a:ext cx="1346040" cy="134640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3726000" y="5638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物中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AutoShape 42"/>
          <p:cNvSpPr/>
          <p:nvPr/>
        </p:nvSpPr>
        <p:spPr>
          <a:xfrm>
            <a:off x="5283360" y="5715000"/>
            <a:ext cx="947520" cy="228600"/>
          </a:xfrm>
          <a:prstGeom prst="leftArrow">
            <a:avLst>
              <a:gd name="adj1" fmla="val 50000"/>
              <a:gd name="adj2" fmla="val 1165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85840" y="2286000"/>
            <a:ext cx="5286240" cy="185148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气性坏疽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gas gangrene 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病原菌芽孢由伤口侵入局部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发芽繁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分解组织中糖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生大量气体形成气肿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压迫局部组织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导致局部组织供血、供氧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2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和侵袭性酶的产生</a:t>
            </a:r>
            <a:r>
              <a:rPr b="1" lang="zh-CN" sz="24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利于其向周围组织扩散、并增加血管通透性、局部出现水肿，加速坏死组织的蔓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857240" y="1285920"/>
            <a:ext cx="54216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产气荚膜梭菌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5715000" y="2286000"/>
            <a:ext cx="3327480" cy="1576800"/>
          </a:xfrm>
          <a:prstGeom prst="rect">
            <a:avLst/>
          </a:prstGeom>
          <a:noFill/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食物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food poisoning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3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常因食入被大量产气荚膜梭菌污染的食物（以肉食为主）而感染。临床表现为腹痛、腹泻，极少有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early stages of the gas gangrene in the leg"/>
          <p:cNvPicPr/>
          <p:nvPr/>
        </p:nvPicPr>
        <p:blipFill>
          <a:blip r:embed="rId1"/>
          <a:stretch/>
        </p:blipFill>
        <p:spPr>
          <a:xfrm>
            <a:off x="284040" y="1557360"/>
            <a:ext cx="4986360" cy="3176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"/>
          <p:cNvSpPr/>
          <p:nvPr/>
        </p:nvSpPr>
        <p:spPr>
          <a:xfrm>
            <a:off x="642960" y="5072040"/>
            <a:ext cx="43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性蜂窝组织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9" name="Picture 2" descr="gas gangrene"/>
          <p:cNvPicPr/>
          <p:nvPr/>
        </p:nvPicPr>
        <p:blipFill>
          <a:blip r:embed="rId2"/>
          <a:stretch/>
        </p:blipFill>
        <p:spPr>
          <a:xfrm>
            <a:off x="5403960" y="1557360"/>
            <a:ext cx="3405240" cy="31669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6000840" y="5072040"/>
            <a:ext cx="29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气性坏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765080" y="2000160"/>
            <a:ext cx="546588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微软雅黑"/>
              <a:buAutoNum type="arabicPeriod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涂片镜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取气性坏疽患者伤口渗出物或坏死组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分离培养和生化试验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疱肉培养基、血琼脂平板、汹涌发酵试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3. 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肠毒素检测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用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ELISA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检测病人粪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1571760" y="642960"/>
            <a:ext cx="594360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40464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69696"/>
                          </a:solidFill>
                          <a:latin typeface="隶书"/>
                          <a:ea typeface="隶书"/>
                        </a:rPr>
                        <a:t>             </a:t>
                      </a:r>
                      <a:r>
                        <a:rPr b="1" lang="zh-CN" sz="40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厌氧性细菌</a:t>
                      </a:r>
                      <a:endParaRPr b="0" lang="en-US" sz="4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                </a:t>
                      </a:r>
                      <a:r>
                        <a:rPr b="1" lang="zh-CN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anaerobic bacteria</a:t>
                      </a: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根据能否形成芽胞分为两大类</a:t>
                      </a:r>
                      <a:r>
                        <a:rPr b="1" lang="zh-CN" sz="36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</a:t>
                      </a:r>
                      <a:endParaRPr b="0" lang="en-US" sz="3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厌氧芽胞梭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lvl="2" marL="914400" algn="just">
                        <a:lnSpc>
                          <a:spcPct val="100000"/>
                        </a:lnSpc>
                        <a:spcBef>
                          <a:spcPts val="1800"/>
                        </a:spcBef>
                        <a:buClr>
                          <a:srgbClr val="969696"/>
                        </a:buClr>
                        <a:buSzPct val="90000"/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芽胞厌氧菌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42960" y="1571760"/>
            <a:ext cx="525780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预防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对可疑伤口及时清创、扩创，局部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氧水冲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目前尚无预防用的类毒素及抗毒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彻底清除坏死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大剂量青霉素杀灭局部伤口中的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45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采用</a:t>
            </a:r>
            <a:r>
              <a:rPr b="1" lang="zh-CN" sz="2400" spc="-1" strike="noStrike">
                <a:solidFill>
                  <a:srgbClr val="cc0000"/>
                </a:solidFill>
                <a:latin typeface="微软雅黑"/>
                <a:ea typeface="微软雅黑"/>
              </a:rPr>
              <a:t>高压氧舱</a:t>
            </a: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治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000080" y="1000080"/>
            <a:ext cx="6202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 治 原 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1"/>
          <a:stretch/>
        </p:blipFill>
        <p:spPr>
          <a:xfrm>
            <a:off x="5892840" y="3902040"/>
            <a:ext cx="3182760" cy="2406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_x0016_23-08_GangreneToes.jpg                                         000163BE_x000c_Macintosh HD                   ABA78158:"/>
          <p:cNvPicPr/>
          <p:nvPr/>
        </p:nvPicPr>
        <p:blipFill>
          <a:blip r:embed="rId2"/>
          <a:stretch/>
        </p:blipFill>
        <p:spPr>
          <a:xfrm>
            <a:off x="5916600" y="1268280"/>
            <a:ext cx="307188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14240" y="257184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8" name="Picture 3" descr="bothum形态"/>
          <p:cNvPicPr/>
          <p:nvPr/>
        </p:nvPicPr>
        <p:blipFill>
          <a:blip r:embed="rId1"/>
          <a:srcRect l="0" t="0" r="21172" b="0"/>
          <a:stretch/>
        </p:blipFill>
        <p:spPr>
          <a:xfrm>
            <a:off x="3357720" y="3643200"/>
            <a:ext cx="2428560" cy="201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肉毒"/>
          <p:cNvPicPr/>
          <p:nvPr/>
        </p:nvPicPr>
        <p:blipFill>
          <a:blip r:embed="rId2"/>
          <a:srcRect l="0" t="0" r="10542" b="0"/>
          <a:stretch/>
        </p:blipFill>
        <p:spPr>
          <a:xfrm>
            <a:off x="785880" y="3643200"/>
            <a:ext cx="2428920" cy="2003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botulinum2"/>
          <p:cNvPicPr/>
          <p:nvPr/>
        </p:nvPicPr>
        <p:blipFill>
          <a:blip r:embed="rId3"/>
          <a:srcRect l="0" t="0" r="42942" b="0"/>
          <a:stretch/>
        </p:blipFill>
        <p:spPr>
          <a:xfrm>
            <a:off x="5929200" y="3643200"/>
            <a:ext cx="2428920" cy="2000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1643040" y="114300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肉毒梭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Clostridium botulinum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3357720" y="15001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培    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3" name="Picture 3" descr="botulinum菌落"/>
          <p:cNvPicPr/>
          <p:nvPr/>
        </p:nvPicPr>
        <p:blipFill>
          <a:blip r:embed="rId1"/>
          <a:stretch/>
        </p:blipFill>
        <p:spPr>
          <a:xfrm>
            <a:off x="1571760" y="3000240"/>
            <a:ext cx="5867280" cy="304956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4"/>
          <p:cNvSpPr/>
          <p:nvPr/>
        </p:nvSpPr>
        <p:spPr>
          <a:xfrm>
            <a:off x="6600960" y="1247760"/>
            <a:ext cx="1600200" cy="1295280"/>
          </a:xfrm>
          <a:prstGeom prst="wedgeRoundRectCallout">
            <a:avLst>
              <a:gd name="adj1" fmla="val -93351"/>
              <a:gd name="adj2" fmla="val 141787"/>
              <a:gd name="adj3" fmla="val 16667"/>
            </a:avLst>
          </a:prstGeom>
          <a:solidFill>
            <a:srgbClr val="99ff99"/>
          </a:solidFill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6715080" y="1500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落较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有溶血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714680" y="1071720"/>
            <a:ext cx="59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病物质及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828800" y="1928880"/>
            <a:ext cx="63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梭菌的致病物质主要是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肉毒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4" descr="肠道"/>
          <p:cNvPicPr/>
          <p:nvPr/>
        </p:nvPicPr>
        <p:blipFill>
          <a:blip r:embed="rId1"/>
          <a:stretch/>
        </p:blipFill>
        <p:spPr>
          <a:xfrm>
            <a:off x="228600" y="3124080"/>
            <a:ext cx="2362320" cy="2514600"/>
          </a:xfrm>
          <a:prstGeom prst="rect">
            <a:avLst/>
          </a:prstGeom>
          <a:ln w="0">
            <a:noFill/>
          </a:ln>
        </p:spPr>
      </p:pic>
      <p:sp>
        <p:nvSpPr>
          <p:cNvPr id="309" name="Line 5"/>
          <p:cNvSpPr/>
          <p:nvPr/>
        </p:nvSpPr>
        <p:spPr>
          <a:xfrm flipH="1">
            <a:off x="2057040" y="2438280"/>
            <a:ext cx="380988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6" descr="roudujili"/>
          <p:cNvPicPr/>
          <p:nvPr/>
        </p:nvPicPr>
        <p:blipFill>
          <a:blip r:embed="rId2"/>
          <a:srcRect l="0" t="42759" r="66817" b="21020"/>
          <a:stretch/>
        </p:blipFill>
        <p:spPr>
          <a:xfrm>
            <a:off x="3276720" y="3733920"/>
            <a:ext cx="1218960" cy="1366560"/>
          </a:xfrm>
          <a:prstGeom prst="rect">
            <a:avLst/>
          </a:prstGeom>
          <a:ln w="0">
            <a:noFill/>
          </a:ln>
        </p:spPr>
      </p:pic>
      <p:sp>
        <p:nvSpPr>
          <p:cNvPr id="311" name="Line 7"/>
          <p:cNvSpPr/>
          <p:nvPr/>
        </p:nvSpPr>
        <p:spPr>
          <a:xfrm>
            <a:off x="2286000" y="4419720"/>
            <a:ext cx="9144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314440" y="3962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2289960" y="4495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淋巴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 rot="2287800">
            <a:off x="5257800" y="342900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 rot="18000000">
            <a:off x="5295600" y="346716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Line 12"/>
          <p:cNvSpPr/>
          <p:nvPr/>
        </p:nvSpPr>
        <p:spPr>
          <a:xfrm>
            <a:off x="4495680" y="441972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5181480" y="3962520"/>
            <a:ext cx="457200" cy="155412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Brush Script MT"/>
                <a:ea typeface="宋体"/>
              </a:rPr>
              <a:t>乙酰胆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14"/>
          <p:cNvSpPr/>
          <p:nvPr/>
        </p:nvSpPr>
        <p:spPr>
          <a:xfrm>
            <a:off x="5791320" y="449568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15"/>
          <p:cNvSpPr/>
          <p:nvPr/>
        </p:nvSpPr>
        <p:spPr>
          <a:xfrm rot="2287800">
            <a:off x="6553080" y="335268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Rectangle 16"/>
          <p:cNvSpPr/>
          <p:nvPr/>
        </p:nvSpPr>
        <p:spPr>
          <a:xfrm rot="18000000">
            <a:off x="6590880" y="3390840"/>
            <a:ext cx="763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Rectangle 17"/>
          <p:cNvSpPr/>
          <p:nvPr/>
        </p:nvSpPr>
        <p:spPr>
          <a:xfrm>
            <a:off x="6400800" y="4038480"/>
            <a:ext cx="457200" cy="14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神经冲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2843280" y="533412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外周神经肌肉接头处颅脑神经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Brush Script MT"/>
                <a:ea typeface="宋体"/>
              </a:rPr>
              <a:t>植物神经末梢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>
            <a:off x="7010280" y="4572000"/>
            <a:ext cx="5335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AutoShape 20"/>
          <p:cNvSpPr/>
          <p:nvPr/>
        </p:nvSpPr>
        <p:spPr>
          <a:xfrm>
            <a:off x="7543800" y="3048120"/>
            <a:ext cx="1143000" cy="281916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肌肉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Brush Script MT"/>
                <a:ea typeface="宋体"/>
              </a:rPr>
              <a:t>型麻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642960" y="2428920"/>
          <a:ext cx="8381880" cy="3352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33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⑴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食物中毒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单纯毒素中毒。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特征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: 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无胃肠道症状，软瘫，神志清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24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⑵ </a:t>
                      </a:r>
                      <a:r>
                        <a:rPr b="1" lang="zh-CN" sz="3200" spc="-1" strike="noStrike">
                          <a:solidFill>
                            <a:srgbClr val="046ca6"/>
                          </a:solidFill>
                          <a:latin typeface="微软雅黑"/>
                          <a:ea typeface="微软雅黑"/>
                        </a:rPr>
                        <a:t>婴儿肉毒病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矩形 2"/>
          <p:cNvSpPr/>
          <p:nvPr/>
        </p:nvSpPr>
        <p:spPr>
          <a:xfrm>
            <a:off x="3474360" y="1428840"/>
            <a:ext cx="163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 致 疾 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1214280" y="2071800"/>
            <a:ext cx="714384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加强食品卫生管理和监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严格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食前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	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抛弃可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肉毒多价抗毒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辅助呼吸系统支持疗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外伤肉毒病给予抗生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77720" indent="-47772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571840" y="1143000"/>
            <a:ext cx="40971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85880" y="121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无芽胞厌氧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13880" y="1981080"/>
            <a:ext cx="82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种类繁多、分布广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是机体正常菌群的主要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重要组成部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绝对优势菌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引起内源性感染，占临床细菌感染的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3880" y="8568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致 病 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85520" y="1980720"/>
            <a:ext cx="75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属正常菌群，在成为条件致病菌后，可引起内源性感染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感染条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寄居部位改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宿主免疫力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菌群失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799"/>
              </a:spcBef>
              <a:buClr>
                <a:srgbClr val="c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微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026"/>
          <p:cNvSpPr/>
          <p:nvPr/>
        </p:nvSpPr>
        <p:spPr>
          <a:xfrm>
            <a:off x="642960" y="2000160"/>
            <a:ext cx="807228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腹腔感染：腹膜炎、阑尾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女性生殖道和盆腔感染：盆腔脓肿、子宫内膜炎等。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口腔感染：牙周脓肿，下颌骨髓炎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呼吸道感染：坏死性肺炎、肺脓疡等。败血症：多为脆弱类杆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中枢神经系统感染：脑脓疡，可继发中耳炎、鼻窦炎等</a:t>
            </a: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2"/>
          <p:cNvSpPr/>
          <p:nvPr/>
        </p:nvSpPr>
        <p:spPr>
          <a:xfrm>
            <a:off x="359172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1680" y="15714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小   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85560" y="2428560"/>
            <a:ext cx="691020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梭菌的致病条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的防治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破伤风痉挛毒素、肉毒毒素的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产气荚膜梭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芽孢厌氧菌的致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2816280" y="1444680"/>
            <a:ext cx="32176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厌氧芽孢梭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-217440" y="3075120"/>
            <a:ext cx="2417760" cy="576000"/>
            <a:chOff x="-217440" y="3075120"/>
            <a:chExt cx="2417760" cy="576000"/>
          </a:xfrm>
        </p:grpSpPr>
        <p:sp>
          <p:nvSpPr>
            <p:cNvPr id="116" name="Text Box 5"/>
            <p:cNvSpPr/>
            <p:nvPr/>
          </p:nvSpPr>
          <p:spPr>
            <a:xfrm>
              <a:off x="-217440" y="3103200"/>
              <a:ext cx="241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5"/>
            <p:cNvSpPr/>
            <p:nvPr/>
          </p:nvSpPr>
          <p:spPr>
            <a:xfrm>
              <a:off x="65160" y="3075120"/>
              <a:ext cx="18532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Group 7"/>
          <p:cNvGrpSpPr/>
          <p:nvPr/>
        </p:nvGrpSpPr>
        <p:grpSpPr>
          <a:xfrm>
            <a:off x="2394000" y="3076560"/>
            <a:ext cx="1967040" cy="576360"/>
            <a:chOff x="2394000" y="3076560"/>
            <a:chExt cx="1967040" cy="576360"/>
          </a:xfrm>
        </p:grpSpPr>
        <p:sp>
          <p:nvSpPr>
            <p:cNvPr id="119" name="Rectangle 9"/>
            <p:cNvSpPr/>
            <p:nvPr/>
          </p:nvSpPr>
          <p:spPr>
            <a:xfrm>
              <a:off x="2394000" y="3106080"/>
              <a:ext cx="19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AutoShape 16"/>
            <p:cNvSpPr/>
            <p:nvPr/>
          </p:nvSpPr>
          <p:spPr>
            <a:xfrm>
              <a:off x="2622240" y="3076560"/>
              <a:ext cx="15084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Group 10"/>
          <p:cNvGrpSpPr/>
          <p:nvPr/>
        </p:nvGrpSpPr>
        <p:grpSpPr>
          <a:xfrm>
            <a:off x="4770720" y="3075120"/>
            <a:ext cx="2112480" cy="576000"/>
            <a:chOff x="4770720" y="3075120"/>
            <a:chExt cx="2112480" cy="576000"/>
          </a:xfrm>
        </p:grpSpPr>
        <p:sp>
          <p:nvSpPr>
            <p:cNvPr id="122" name="Rectangle 7"/>
            <p:cNvSpPr/>
            <p:nvPr/>
          </p:nvSpPr>
          <p:spPr>
            <a:xfrm>
              <a:off x="4986360" y="3104280"/>
              <a:ext cx="15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产气荚膜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8"/>
            <p:cNvSpPr/>
            <p:nvPr/>
          </p:nvSpPr>
          <p:spPr>
            <a:xfrm>
              <a:off x="4770720" y="3075120"/>
              <a:ext cx="211248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4" name="Group 13"/>
          <p:cNvGrpSpPr/>
          <p:nvPr/>
        </p:nvGrpSpPr>
        <p:grpSpPr>
          <a:xfrm>
            <a:off x="7386480" y="3075120"/>
            <a:ext cx="1535400" cy="576000"/>
            <a:chOff x="7386480" y="3075120"/>
            <a:chExt cx="1535400" cy="576000"/>
          </a:xfrm>
        </p:grpSpPr>
        <p:sp>
          <p:nvSpPr>
            <p:cNvPr id="125" name="Rectangle 8"/>
            <p:cNvSpPr/>
            <p:nvPr/>
          </p:nvSpPr>
          <p:spPr>
            <a:xfrm>
              <a:off x="7386480" y="3104280"/>
              <a:ext cx="153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艰难梭菌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AutoShape 20"/>
            <p:cNvSpPr/>
            <p:nvPr/>
          </p:nvSpPr>
          <p:spPr>
            <a:xfrm>
              <a:off x="7400520" y="3075120"/>
              <a:ext cx="1508400" cy="576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7" name="Group 16"/>
          <p:cNvGrpSpPr/>
          <p:nvPr/>
        </p:nvGrpSpPr>
        <p:grpSpPr>
          <a:xfrm>
            <a:off x="88920" y="4371840"/>
            <a:ext cx="1555560" cy="576360"/>
            <a:chOff x="88920" y="4371840"/>
            <a:chExt cx="1555560" cy="576360"/>
          </a:xfrm>
        </p:grpSpPr>
        <p:sp>
          <p:nvSpPr>
            <p:cNvPr id="128" name="Text Box 10"/>
            <p:cNvSpPr/>
            <p:nvPr/>
          </p:nvSpPr>
          <p:spPr>
            <a:xfrm>
              <a:off x="88920" y="4400280"/>
              <a:ext cx="155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破伤风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23"/>
            <p:cNvSpPr/>
            <p:nvPr/>
          </p:nvSpPr>
          <p:spPr>
            <a:xfrm>
              <a:off x="259560" y="4371840"/>
              <a:ext cx="121500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0" name="Group 19"/>
          <p:cNvGrpSpPr/>
          <p:nvPr/>
        </p:nvGrpSpPr>
        <p:grpSpPr>
          <a:xfrm>
            <a:off x="2328840" y="4371840"/>
            <a:ext cx="2049480" cy="576360"/>
            <a:chOff x="2328840" y="4371840"/>
            <a:chExt cx="2049480" cy="576360"/>
          </a:xfrm>
        </p:grpSpPr>
        <p:sp>
          <p:nvSpPr>
            <p:cNvPr id="131" name="Rectangle 12"/>
            <p:cNvSpPr/>
            <p:nvPr/>
          </p:nvSpPr>
          <p:spPr>
            <a:xfrm>
              <a:off x="2328840" y="4400280"/>
              <a:ext cx="204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肉毒中毒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AutoShape 24"/>
            <p:cNvSpPr/>
            <p:nvPr/>
          </p:nvSpPr>
          <p:spPr>
            <a:xfrm>
              <a:off x="2616840" y="4371840"/>
              <a:ext cx="147312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4952880" y="4371840"/>
            <a:ext cx="1681200" cy="576360"/>
            <a:chOff x="4952880" y="4371840"/>
            <a:chExt cx="1681200" cy="576360"/>
          </a:xfrm>
        </p:grpSpPr>
        <p:sp>
          <p:nvSpPr>
            <p:cNvPr id="134" name="Rectangle 11"/>
            <p:cNvSpPr/>
            <p:nvPr/>
          </p:nvSpPr>
          <p:spPr>
            <a:xfrm>
              <a:off x="4952880" y="4400280"/>
              <a:ext cx="16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气性坏疽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5024880" y="4371840"/>
              <a:ext cx="1536840" cy="576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6937200" y="430056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抗生素相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性腹泻和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微软雅黑"/>
                <a:ea typeface="微软雅黑"/>
              </a:rPr>
              <a:t>膜性结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AutoShape 26"/>
          <p:cNvSpPr/>
          <p:nvPr/>
        </p:nvSpPr>
        <p:spPr>
          <a:xfrm>
            <a:off x="7192800" y="4303800"/>
            <a:ext cx="1820880" cy="1368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857160" y="2571840"/>
            <a:ext cx="7359840" cy="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441680" y="1924200"/>
            <a:ext cx="0" cy="647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33"/>
          <p:cNvSpPr/>
          <p:nvPr/>
        </p:nvSpPr>
        <p:spPr>
          <a:xfrm>
            <a:off x="85716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34"/>
          <p:cNvSpPr/>
          <p:nvPr/>
        </p:nvSpPr>
        <p:spPr>
          <a:xfrm>
            <a:off x="33526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>
            <a:off x="578628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36"/>
          <p:cNvSpPr/>
          <p:nvPr/>
        </p:nvSpPr>
        <p:spPr>
          <a:xfrm>
            <a:off x="8217000" y="2571840"/>
            <a:ext cx="0" cy="43164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85716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3526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578628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45"/>
          <p:cNvSpPr/>
          <p:nvPr/>
        </p:nvSpPr>
        <p:spPr>
          <a:xfrm>
            <a:off x="8217000" y="3651120"/>
            <a:ext cx="0" cy="648000"/>
          </a:xfrm>
          <a:prstGeom prst="line">
            <a:avLst/>
          </a:prstGeom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71720" y="928800"/>
            <a:ext cx="7232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梭菌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Clostridium tetani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75440" y="1857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生物学性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Picture 5" descr="破伤风芽孢图"/>
          <p:cNvPicPr/>
          <p:nvPr/>
        </p:nvPicPr>
        <p:blipFill>
          <a:blip r:embed="rId1"/>
          <a:stretch/>
        </p:blipFill>
        <p:spPr>
          <a:xfrm>
            <a:off x="1285920" y="3429000"/>
            <a:ext cx="263376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2"/>
          <a:stretch/>
        </p:blipFill>
        <p:spPr>
          <a:xfrm>
            <a:off x="4071960" y="3429000"/>
            <a:ext cx="4033800" cy="30178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071720" y="2643120"/>
            <a:ext cx="72975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菌体细长</a:t>
            </a:r>
            <a:r>
              <a:rPr b="1" lang="en-US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周鞭毛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无荚膜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鼓槌状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有芽胞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603360" y="1484280"/>
            <a:ext cx="78976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培养特性</a:t>
            </a:r>
            <a:r>
              <a:rPr b="1" lang="en-US" sz="3200" spc="-1" strike="noStrike">
                <a:solidFill>
                  <a:srgbClr val="cc0000"/>
                </a:solidFill>
                <a:latin typeface="微软雅黑"/>
                <a:ea typeface="微软雅黑"/>
              </a:rPr>
              <a:t>: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培养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疱肉培养基，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37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</a:rPr>
              <a:t>℃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形成不规则菌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在</a:t>
            </a:r>
            <a:r>
              <a:rPr b="1" lang="zh-CN" sz="2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血平板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上培养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48h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后，可形成中心紧密，四周松散似羽毛状的不规则菌落，菌落周边有轻度</a:t>
            </a:r>
            <a:r>
              <a:rPr b="1" lang="en-US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β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微软雅黑"/>
                <a:ea typeface="微软雅黑"/>
              </a:rPr>
              <a:t>溶血环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214200" y="1428480"/>
            <a:ext cx="91440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致 病 物 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7374240" y="604044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B</a:t>
            </a: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785880" y="2500200"/>
            <a:ext cx="7810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痉挛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spasm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：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由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质粒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编码，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神经毒素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，毒性极强，化学本质为蛋白质，抗原性强，可以经甲醛脱毒为类毒素，刺激机体产生抗毒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破伤风溶血毒素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宋体"/>
              </a:rPr>
              <a:t>tetanolysin</a:t>
            </a:r>
            <a:r>
              <a:rPr b="1" lang="en-US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9-16b_Tetanus_L"/>
          <p:cNvPicPr/>
          <p:nvPr/>
        </p:nvPicPr>
        <p:blipFill>
          <a:blip r:embed="rId1"/>
          <a:srcRect l="0" t="0" r="0" b="7095"/>
          <a:stretch/>
        </p:blipFill>
        <p:spPr>
          <a:xfrm>
            <a:off x="214200" y="1857240"/>
            <a:ext cx="8534520" cy="38466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2286000" y="1785960"/>
            <a:ext cx="1727280" cy="1584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76280" y="5589720"/>
            <a:ext cx="83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微软雅黑"/>
                <a:ea typeface="微软雅黑"/>
              </a:rPr>
              <a:t>毒素进入末梢神经，沿神经轴索的神经纤维间隙逆行向上到达脊髓前角运动细胞，与脊髓前角抑制性神经元结合，阻断抑制性神经元细胞释放抑制性神经递质，使肌体屈肌、伸肌和呼吸肌运动神经元同时兴奋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428840" y="1045800"/>
            <a:ext cx="6592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微软雅黑"/>
                <a:ea typeface="微软雅黑"/>
              </a:rPr>
              <a:t>破伤风痉挛毒素的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8" descr="TetanusRisusSardonicusPhoto"/>
          <p:cNvPicPr/>
          <p:nvPr/>
        </p:nvPicPr>
        <p:blipFill>
          <a:blip r:embed="rId1"/>
          <a:stretch/>
        </p:blipFill>
        <p:spPr>
          <a:xfrm>
            <a:off x="826920" y="333360"/>
            <a:ext cx="3816360" cy="2954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5148360" y="1413000"/>
            <a:ext cx="165564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苦笑面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34960" y="4653000"/>
            <a:ext cx="1800360" cy="520560"/>
          </a:xfrm>
          <a:prstGeom prst="rect">
            <a:avLst/>
          </a:prstGeom>
          <a:solidFill>
            <a:srgbClr val="996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宋体"/>
              </a:rPr>
              <a:t>角弓反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12" descr="Tetanus 2 copy"/>
          <p:cNvPicPr/>
          <p:nvPr/>
        </p:nvPicPr>
        <p:blipFill>
          <a:blip r:embed="rId2"/>
          <a:srcRect l="483" t="0" r="241" b="1089"/>
          <a:stretch/>
        </p:blipFill>
        <p:spPr>
          <a:xfrm>
            <a:off x="3564000" y="3645000"/>
            <a:ext cx="5181480" cy="2460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3"/>
          <p:cNvSpPr/>
          <p:nvPr/>
        </p:nvSpPr>
        <p:spPr>
          <a:xfrm>
            <a:off x="1928880" y="1357200"/>
            <a:ext cx="4976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发生破伤风的重要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8"/>
          <p:cNvSpPr/>
          <p:nvPr/>
        </p:nvSpPr>
        <p:spPr>
          <a:xfrm>
            <a:off x="1571760" y="2571840"/>
            <a:ext cx="621504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窄而深有泥土或异物污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伤口局部坏死组织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微软雅黑"/>
                <a:ea typeface="微软雅黑"/>
              </a:rPr>
              <a:t>局部组织供血不足同时伴有需氧菌或兼性厌氧菌的混合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5:56:08Z</dcterms:modified>
  <cp:revision>105</cp:revision>
  <dc:subject/>
  <dc:title>内科护理学</dc:title>
</cp:coreProperties>
</file>