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03B9-358A-4744-BB34-E7FFA8D0B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A3F8-FC3C-4777-8F7F-93C8C849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0D91-C4DC-41D6-8C87-1974EAA7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6753-1565-4FC4-821E-6D0FECF026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1810-47F3-4C46-A18A-2655A0A6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1CFC3-3B05-4094-93B2-7B490062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9AE1-E60D-4674-8800-2452A627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CC10-CDCD-465F-9D92-90B98903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8AE7-2737-4239-AD1B-E8E3DDEE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E38C-55CF-44AA-B86F-70F1D0BC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DD3D-7882-410F-8809-54B0986C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8B18-437F-4C66-8DA7-3060AB7F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43FC-061D-4CF2-A137-E9348C655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4126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十一章  消毒与灭菌</a:t>
            </a:r>
            <a:br>
              <a:rPr sz="5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Control of Infectious Dideases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1640" y="1143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消毒与灭菌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7160" y="2414520"/>
            <a:ext cx="6854760" cy="35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消毒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disinfection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灭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sterilization)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sepsis)\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无菌操作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抑菌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bacteriosta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防腐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antisepsis)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9284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物理消毒灭菌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1999800"/>
            <a:ext cx="5867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㈠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热力灭菌法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热灭菌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焚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烧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繁殖体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~100℃1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芽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0~170℃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红外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9" name="Picture 5" descr="烧灼接种环"/>
          <p:cNvPicPr/>
          <p:nvPr/>
        </p:nvPicPr>
        <p:blipFill>
          <a:blip r:embed="rId1"/>
          <a:stretch/>
        </p:blipFill>
        <p:spPr>
          <a:xfrm>
            <a:off x="6172200" y="1038240"/>
            <a:ext cx="2684520" cy="2819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烧灼试管口"/>
          <p:cNvPicPr/>
          <p:nvPr/>
        </p:nvPicPr>
        <p:blipFill>
          <a:blip r:embed="rId2"/>
          <a:stretch/>
        </p:blipFill>
        <p:spPr>
          <a:xfrm>
            <a:off x="6143760" y="3786120"/>
            <a:ext cx="26668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600" y="85680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湿热灭菌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3840" y="1785960"/>
            <a:ext cx="810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氏消毒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2℃ 30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2℃ 30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煮沸法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2h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流动蒸汽消毒法（常压蒸汽消毒法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歇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5~80℃ 30~60min→37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过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 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压蒸汽灭菌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05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, 121.3℃, 15~3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600" y="1285560"/>
            <a:ext cx="6119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㈡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辐射杀菌法（紫外线）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2209680"/>
            <a:ext cx="82152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波长：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~300n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0~260n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最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杀菌原理：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子构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→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干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制→细菌死亡或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空气、物体表面消毒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m  30mi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 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宋体"/>
              </a:rPr>
              <a:t>*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人体应注意防护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357200"/>
            <a:ext cx="441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㈢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过滤除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85840" y="2428560"/>
            <a:ext cx="585792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理：物理阻留法，除去液体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中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滤菌器孔径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22μm/0.45μ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：血清、毒素、抗生素等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06-蔡氏滤器"/>
          <p:cNvPicPr/>
          <p:nvPr/>
        </p:nvPicPr>
        <p:blipFill>
          <a:blip r:embed="rId1"/>
          <a:stretch/>
        </p:blipFill>
        <p:spPr>
          <a:xfrm>
            <a:off x="6137280" y="1747800"/>
            <a:ext cx="3006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00360" y="70920"/>
            <a:ext cx="39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embrane filt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9" name="组合 51"/>
          <p:cNvGrpSpPr/>
          <p:nvPr/>
        </p:nvGrpSpPr>
        <p:grpSpPr>
          <a:xfrm>
            <a:off x="5143680" y="3841920"/>
            <a:ext cx="2209680" cy="2873160"/>
            <a:chOff x="5143680" y="3841920"/>
            <a:chExt cx="2209680" cy="2873160"/>
          </a:xfrm>
        </p:grpSpPr>
        <p:sp>
          <p:nvSpPr>
            <p:cNvPr id="120" name="Freeform 33"/>
            <p:cNvSpPr/>
            <p:nvPr/>
          </p:nvSpPr>
          <p:spPr>
            <a:xfrm>
              <a:off x="5143680" y="3841920"/>
              <a:ext cx="2209680" cy="2819520"/>
            </a:xfrm>
            <a:prstGeom prst="pie">
              <a:avLst/>
            </a:prstGeom>
            <a:noFill/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34"/>
            <p:cNvSpPr/>
            <p:nvPr/>
          </p:nvSpPr>
          <p:spPr>
            <a:xfrm>
              <a:off x="5362560" y="4389480"/>
              <a:ext cx="1762200" cy="232560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9f3fd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2" name="组合 48"/>
          <p:cNvGrpSpPr/>
          <p:nvPr/>
        </p:nvGrpSpPr>
        <p:grpSpPr>
          <a:xfrm>
            <a:off x="305280" y="730080"/>
            <a:ext cx="3597840" cy="3138120"/>
            <a:chOff x="305280" y="730080"/>
            <a:chExt cx="3597840" cy="3138120"/>
          </a:xfrm>
        </p:grpSpPr>
        <p:sp>
          <p:nvSpPr>
            <p:cNvPr id="123" name="Freeform 12"/>
            <p:cNvSpPr/>
            <p:nvPr/>
          </p:nvSpPr>
          <p:spPr>
            <a:xfrm rot="6040200">
              <a:off x="885600" y="623880"/>
              <a:ext cx="2438640" cy="3200400"/>
            </a:xfrm>
            <a:prstGeom prst="pie">
              <a:avLst/>
            </a:prstGeom>
            <a:noFill/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 rot="6040200">
              <a:off x="459360" y="979560"/>
              <a:ext cx="2438640" cy="2336760"/>
            </a:xfrm>
            <a:prstGeom prst="pie">
              <a:avLst/>
            </a:prstGeom>
            <a:solidFill>
              <a:srgbClr val="66ccff"/>
            </a:solidFill>
            <a:ln w="7920">
              <a:solidFill>
                <a:srgbClr val="009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Oval 14"/>
            <p:cNvSpPr/>
            <p:nvPr/>
          </p:nvSpPr>
          <p:spPr>
            <a:xfrm>
              <a:off x="1201680" y="20718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Oval 15"/>
            <p:cNvSpPr/>
            <p:nvPr/>
          </p:nvSpPr>
          <p:spPr>
            <a:xfrm>
              <a:off x="1506600" y="25290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Oval 16"/>
            <p:cNvSpPr/>
            <p:nvPr/>
          </p:nvSpPr>
          <p:spPr>
            <a:xfrm>
              <a:off x="820440" y="16146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91840" y="245268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Line 18"/>
            <p:cNvSpPr/>
            <p:nvPr/>
          </p:nvSpPr>
          <p:spPr>
            <a:xfrm flipV="1">
              <a:off x="1242720" y="2807280"/>
              <a:ext cx="376560" cy="662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Text Box 36"/>
            <p:cNvSpPr/>
            <p:nvPr/>
          </p:nvSpPr>
          <p:spPr>
            <a:xfrm>
              <a:off x="500040" y="340848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bacteria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1" name="组合 49"/>
          <p:cNvGrpSpPr/>
          <p:nvPr/>
        </p:nvGrpSpPr>
        <p:grpSpPr>
          <a:xfrm>
            <a:off x="4038480" y="1447920"/>
            <a:ext cx="3318120" cy="2133360"/>
            <a:chOff x="4038480" y="1447920"/>
            <a:chExt cx="3318120" cy="2133360"/>
          </a:xfrm>
        </p:grpSpPr>
        <p:sp>
          <p:nvSpPr>
            <p:cNvPr id="132" name="Oval 3"/>
            <p:cNvSpPr/>
            <p:nvPr/>
          </p:nvSpPr>
          <p:spPr>
            <a:xfrm>
              <a:off x="4038480" y="1447920"/>
              <a:ext cx="2210040" cy="21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Oval 4"/>
            <p:cNvSpPr/>
            <p:nvPr/>
          </p:nvSpPr>
          <p:spPr>
            <a:xfrm>
              <a:off x="442872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5072040" y="1857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571500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07204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71500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072040" y="24192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4428720" y="2428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5705280" y="1847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Oval 21"/>
            <p:cNvSpPr/>
            <p:nvPr/>
          </p:nvSpPr>
          <p:spPr>
            <a:xfrm>
              <a:off x="4428720" y="29908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35"/>
            <p:cNvSpPr/>
            <p:nvPr/>
          </p:nvSpPr>
          <p:spPr>
            <a:xfrm>
              <a:off x="6464160" y="28288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Times New Roman"/>
                </a:rPr>
                <a:t>pores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Line 37"/>
            <p:cNvSpPr/>
            <p:nvPr/>
          </p:nvSpPr>
          <p:spPr>
            <a:xfrm flipH="1" flipV="1">
              <a:off x="5929200" y="2643120"/>
              <a:ext cx="571320" cy="4284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2590920" y="4267080"/>
            <a:ext cx="2209680" cy="2133720"/>
            <a:chOff x="2590920" y="4267080"/>
            <a:chExt cx="2209680" cy="2133720"/>
          </a:xfrm>
        </p:grpSpPr>
        <p:sp>
          <p:nvSpPr>
            <p:cNvPr id="145" name="Oval 19"/>
            <p:cNvSpPr/>
            <p:nvPr/>
          </p:nvSpPr>
          <p:spPr>
            <a:xfrm>
              <a:off x="2590920" y="4267080"/>
              <a:ext cx="2209680" cy="213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20"/>
            <p:cNvSpPr/>
            <p:nvPr/>
          </p:nvSpPr>
          <p:spPr>
            <a:xfrm>
              <a:off x="3214800" y="58579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22"/>
            <p:cNvSpPr/>
            <p:nvPr/>
          </p:nvSpPr>
          <p:spPr>
            <a:xfrm>
              <a:off x="427680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23"/>
            <p:cNvSpPr/>
            <p:nvPr/>
          </p:nvSpPr>
          <p:spPr>
            <a:xfrm>
              <a:off x="36338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24"/>
            <p:cNvSpPr/>
            <p:nvPr/>
          </p:nvSpPr>
          <p:spPr>
            <a:xfrm>
              <a:off x="29192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Oval 25"/>
            <p:cNvSpPr/>
            <p:nvPr/>
          </p:nvSpPr>
          <p:spPr>
            <a:xfrm>
              <a:off x="427680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Oval 26"/>
            <p:cNvSpPr/>
            <p:nvPr/>
          </p:nvSpPr>
          <p:spPr>
            <a:xfrm>
              <a:off x="3633840" y="52862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27"/>
            <p:cNvSpPr/>
            <p:nvPr/>
          </p:nvSpPr>
          <p:spPr>
            <a:xfrm>
              <a:off x="3429000" y="542916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Oval 28"/>
            <p:cNvSpPr/>
            <p:nvPr/>
          </p:nvSpPr>
          <p:spPr>
            <a:xfrm>
              <a:off x="427680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Oval 29"/>
            <p:cNvSpPr/>
            <p:nvPr/>
          </p:nvSpPr>
          <p:spPr>
            <a:xfrm>
              <a:off x="292896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0"/>
            <p:cNvSpPr/>
            <p:nvPr/>
          </p:nvSpPr>
          <p:spPr>
            <a:xfrm>
              <a:off x="3633840" y="4714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Oval 31"/>
            <p:cNvSpPr/>
            <p:nvPr/>
          </p:nvSpPr>
          <p:spPr>
            <a:xfrm>
              <a:off x="2928960" y="492912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Oval 32"/>
            <p:cNvSpPr/>
            <p:nvPr/>
          </p:nvSpPr>
          <p:spPr>
            <a:xfrm>
              <a:off x="3714840" y="4786200"/>
              <a:ext cx="761760" cy="2286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Oval 38"/>
            <p:cNvSpPr/>
            <p:nvPr/>
          </p:nvSpPr>
          <p:spPr>
            <a:xfrm>
              <a:off x="2919240" y="5857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Line 39"/>
          <p:cNvSpPr/>
          <p:nvPr/>
        </p:nvSpPr>
        <p:spPr>
          <a:xfrm>
            <a:off x="4500720" y="3643200"/>
            <a:ext cx="0" cy="4572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99800" y="928440"/>
            <a:ext cx="507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二 化学消毒灭菌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2400" y="2058480"/>
            <a:ext cx="64594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常用化学消毒剂的种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消毒剂的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微生物蛋白变性或凝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微生物的酶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损伤菌细胞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病毒包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14760" y="857160"/>
            <a:ext cx="3657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  结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71320" y="2201400"/>
            <a:ext cx="800100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、灭菌、无菌、抑菌、防腐的概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消毒与灭菌的区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物理消毒灭菌方法：热力、紫外线、过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化学消毒剂的种类及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30000"/>
              </a:lnSpc>
              <a:spcBef>
                <a:spcPts val="799"/>
              </a:spcBef>
              <a:buClr>
                <a:srgbClr val="8ac8de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影响消毒灭菌效果的因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52:53Z</dcterms:created>
  <dc:creator>mg</dc:creator>
  <dc:description/>
  <dc:language>en-US</dc:language>
  <cp:lastModifiedBy>正版用户</cp:lastModifiedBy>
  <dcterms:modified xsi:type="dcterms:W3CDTF">2014-05-26T01:33:55Z</dcterms:modified>
  <cp:revision>49</cp:revision>
  <dc:subject/>
  <dc:title>没有幻灯片标题</dc:title>
</cp:coreProperties>
</file>