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CAB-5237-482B-AE74-BF6476DE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0FDB-D609-4ED9-ABFC-22CC8D23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D72-39F8-4F1F-A39C-00B6C4E2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D404-7CEF-4845-908E-A7CAF1C7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BA53-C664-4509-BA9E-ACD278E3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1F6B-FD15-4002-9DAB-447C146F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43D8-378A-471A-9E3A-F0039202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BC3F-C02E-4EAA-BE8F-8B789FDF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B5F7-A311-481B-89EE-F0E5B02F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CDBE-962A-44C5-B1CC-5A41D7BE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0025-6E53-40B1-BA5A-CAFB160E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180-8800-40E5-AD44-8EDB6C65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2FDE-AD4A-49DD-AD14-1A90235A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24D9-EBCE-4ED7-9B1E-9547EB2E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1D6F-D924-4CF3-B9CF-4C2B4B87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E242-30F4-46A6-A401-C581BC28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E80C-EE05-4838-A408-12BC9E83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C8A-5F72-4B6D-BC80-6E68DC09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344-437B-4553-A9EF-364500EB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150-9C0C-414F-B09F-83238C99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CA1-38B7-4C1F-AC36-00605840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E40-F7EF-4E53-8145-DCF2DEBD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4F92-03C8-4539-96D6-4A624C82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1024-3A8F-4E84-945D-6837793E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3240"/>
            <a:ext cx="2317680" cy="2058840"/>
            <a:chOff x="6934320" y="-3240"/>
            <a:chExt cx="2317680" cy="2058840"/>
          </a:xfrm>
        </p:grpSpPr>
        <p:sp>
          <p:nvSpPr>
            <p:cNvPr id="231" name="未知"/>
            <p:cNvSpPr/>
            <p:nvPr/>
          </p:nvSpPr>
          <p:spPr>
            <a:xfrm>
              <a:off x="7041600" y="-3240"/>
              <a:ext cx="2102760" cy="19094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3240"/>
              <a:ext cx="2317680" cy="2052360"/>
              <a:chOff x="6934320" y="3240"/>
              <a:chExt cx="2317680" cy="205236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324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3240"/>
                <a:ext cx="2317680" cy="2052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8040"/>
                <a:ext cx="186480" cy="214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6240"/>
                <a:ext cx="162720" cy="288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79880"/>
                <a:ext cx="534960" cy="241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4240"/>
                <a:ext cx="383760" cy="391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68240"/>
                <a:ext cx="39240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2760"/>
                <a:ext cx="301680" cy="18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2880"/>
                <a:ext cx="325080" cy="141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7160"/>
                <a:ext cx="54684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0640"/>
                <a:ext cx="44388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8840"/>
                <a:ext cx="455040" cy="365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2680"/>
                <a:ext cx="257400" cy="649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417C-5654-46A3-A964-DA868A58DA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B8B4-BD5E-4553-88ED-A1E0EFB165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第三十六章</a:t>
            </a: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真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"/>
          <p:cNvSpPr/>
          <p:nvPr/>
        </p:nvSpPr>
        <p:spPr>
          <a:xfrm>
            <a:off x="3442320" y="43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内蒙古医科大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apfHumnst Dm BT"/>
                <a:ea typeface="楷体_GB2312"/>
              </a:rPr>
              <a:t>卢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三、真菌的培养特性与菌落特征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培养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的营养要求不高，常用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沙保培养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。主要含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胨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琼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基不同，菌落形态差异很大，为统一标准，鉴定真菌时均以沙保培养基上菌落形态为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4-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浅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-2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的最适温度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2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出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真菌的繁殖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依靠菌丝和孢子进行繁殖，真菌的繁殖能力较强，繁殖方式多样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性繁殖：是指经过两性细胞结合产生新个体的繁殖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繁殖：主要形式有芽生、菌丝断裂、细胞裂殖和隔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539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菌落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324000" y="855720"/>
            <a:ext cx="871380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光滑湿润、柔软致密。形态与细菌菌落相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类酵母型菌落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酵母型菌落相似，为某些单细胞真菌所形成的菌落，因其出芽繁殖后形成的假菌丝向下伸入培养基中，故而称为类酵母型菌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e1f4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丝状型菌落：</a:t>
            </a:r>
            <a:r>
              <a:rPr b="1" lang="zh-CN" sz="2800" spc="-1" strike="noStrike">
                <a:solidFill>
                  <a:srgbClr val="000000"/>
                </a:solidFill>
                <a:latin typeface="Garamond"/>
                <a:ea typeface="楷体_GB2312"/>
              </a:rPr>
              <a:t>菌落呈棉絮状、绒毛状、或粉末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yeas3.jpg (6046 bytes)"/>
          <p:cNvPicPr/>
          <p:nvPr/>
        </p:nvPicPr>
        <p:blipFill>
          <a:blip r:embed="rId1"/>
          <a:stretch/>
        </p:blipFill>
        <p:spPr>
          <a:xfrm>
            <a:off x="914400" y="4105440"/>
            <a:ext cx="2743200" cy="2327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5" descr="Pict0152"/>
          <p:cNvPicPr/>
          <p:nvPr/>
        </p:nvPicPr>
        <p:blipFill>
          <a:blip r:embed="rId2"/>
          <a:srcRect l="4718" t="0" r="8618" b="0"/>
          <a:stretch/>
        </p:blipFill>
        <p:spPr>
          <a:xfrm>
            <a:off x="6248520" y="4105440"/>
            <a:ext cx="28954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51920" y="1123920"/>
            <a:ext cx="89154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菌对干燥、阳光、紫外线、一般消毒剂有较强抵抗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耐热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℃1h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和孢子均被杀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常用抗细菌感染的抗生素均不敏感，灰黄霉素、制霉菌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二性霉素、酮康唑、氟康唑等对真菌有抑制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易发生变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如培养时间过长或多次传代，其形态、结构、菌落特征、甚至毒力都可能发生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971640" y="18900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四、真菌的抵抗力与变异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65530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五、真菌的致病性与免疫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81080" y="1198080"/>
            <a:ext cx="885816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致病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真菌的致病形式不同，大致包括以下几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致病性真菌感染：皮肤、皮下组织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条件致病性真菌感染：内源性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性中毒：某些真菌或其毒素食入后可导致急性或慢性中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超敏反应疾病：荨麻疹、哮喘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毒素与肿瘤：黄曲霉毒素诱发肝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26828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免疫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机体对真菌的免疫包括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固有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适应性免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固有免疫在阻止真菌病的发生上起重要作用，如皮脂腺分泌的不饱和脂肪酸具有抗真菌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外，人体中也存在一些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天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具有抗真菌作用的物质，如促癣吞噬肽、转铁蛋白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感染后可刺激机体产生细胞免疫和体液免疫，但以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细胞免疫为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338200"/>
            <a:ext cx="7772400" cy="82548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节  主要致病性真菌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68360" y="192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一、皮肤与皮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下组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织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皮肤癣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嗜角质性，侵犯表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毛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指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毛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表皮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孢子癣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3"/>
          <p:cNvGrpSpPr/>
          <p:nvPr/>
        </p:nvGrpSpPr>
        <p:grpSpPr>
          <a:xfrm>
            <a:off x="1116360" y="3932280"/>
            <a:ext cx="6708600" cy="2768400"/>
            <a:chOff x="1116360" y="3932280"/>
            <a:chExt cx="6708600" cy="2768400"/>
          </a:xfrm>
        </p:grpSpPr>
        <p:pic>
          <p:nvPicPr>
            <p:cNvPr id="550" name="Picture 4" descr="077f13"/>
            <p:cNvPicPr/>
            <p:nvPr/>
          </p:nvPicPr>
          <p:blipFill>
            <a:blip r:embed="rId1"/>
            <a:stretch/>
          </p:blipFill>
          <p:spPr>
            <a:xfrm rot="5400000">
              <a:off x="2259720" y="4464720"/>
              <a:ext cx="2768400" cy="17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5" descr="073f03"/>
            <p:cNvPicPr/>
            <p:nvPr/>
          </p:nvPicPr>
          <p:blipFill>
            <a:blip r:embed="rId2"/>
            <a:stretch/>
          </p:blipFill>
          <p:spPr>
            <a:xfrm rot="5400000">
              <a:off x="58896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076f09"/>
            <p:cNvPicPr/>
            <p:nvPr/>
          </p:nvPicPr>
          <p:blipFill>
            <a:blip r:embed="rId3"/>
            <a:srcRect l="0" t="0" r="0" b="7414"/>
            <a:stretch/>
          </p:blipFill>
          <p:spPr>
            <a:xfrm rot="5400000">
              <a:off x="3942000" y="4459320"/>
              <a:ext cx="276840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7" descr="077f12"/>
            <p:cNvPicPr/>
            <p:nvPr/>
          </p:nvPicPr>
          <p:blipFill>
            <a:blip r:embed="rId4"/>
            <a:stretch/>
          </p:blipFill>
          <p:spPr>
            <a:xfrm rot="5400000">
              <a:off x="5600880" y="4476600"/>
              <a:ext cx="276840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09120" y="622080"/>
            <a:ext cx="815364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申克孢子丝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皮下组织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皮肤微小伤口侵入机体，然后沿淋巴管扩散，引起亚急性或慢性肉芽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此菌也可通过呼吸道或消化道感染人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可经血行播散至其他器官引起深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90360" y="-1138320"/>
            <a:ext cx="73911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80720" y="982440"/>
            <a:ext cx="8783640" cy="38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部感染真菌包括致病性真菌和机会致病性真菌两大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会致病性真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丝酵母菌属：白假丝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隐球菌属：新生隐球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曲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霉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"/>
          <p:cNvGrpSpPr/>
          <p:nvPr/>
        </p:nvGrpSpPr>
        <p:grpSpPr>
          <a:xfrm>
            <a:off x="457200" y="3962520"/>
            <a:ext cx="8458200" cy="2743200"/>
            <a:chOff x="457200" y="3962520"/>
            <a:chExt cx="8458200" cy="2743200"/>
          </a:xfrm>
        </p:grpSpPr>
        <p:pic>
          <p:nvPicPr>
            <p:cNvPr id="558" name="Picture 5" descr="GP2037"/>
            <p:cNvPicPr/>
            <p:nvPr/>
          </p:nvPicPr>
          <p:blipFill>
            <a:blip r:embed="rId1"/>
            <a:srcRect l="10000" t="0" r="10000" b="0"/>
            <a:stretch/>
          </p:blipFill>
          <p:spPr>
            <a:xfrm>
              <a:off x="45720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9" name="Picture 6" descr="GP2103"/>
            <p:cNvPicPr/>
            <p:nvPr/>
          </p:nvPicPr>
          <p:blipFill>
            <a:blip r:embed="rId2"/>
            <a:srcRect l="10000" t="0" r="10000" b="0"/>
            <a:stretch/>
          </p:blipFill>
          <p:spPr>
            <a:xfrm>
              <a:off x="2590920" y="3962520"/>
              <a:ext cx="219384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7" descr="Aspergillus"/>
            <p:cNvPicPr/>
            <p:nvPr/>
          </p:nvPicPr>
          <p:blipFill>
            <a:blip r:embed="rId3"/>
            <a:stretch/>
          </p:blipFill>
          <p:spPr>
            <a:xfrm>
              <a:off x="4724280" y="3962520"/>
              <a:ext cx="19638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8" descr="GP2116"/>
            <p:cNvPicPr/>
            <p:nvPr/>
          </p:nvPicPr>
          <p:blipFill>
            <a:blip r:embed="rId4"/>
            <a:srcRect l="8331" t="0" r="8331" b="0"/>
            <a:stretch/>
          </p:blipFill>
          <p:spPr>
            <a:xfrm>
              <a:off x="6629400" y="3962520"/>
              <a:ext cx="228600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Text Box 9"/>
          <p:cNvSpPr/>
          <p:nvPr/>
        </p:nvSpPr>
        <p:spPr>
          <a:xfrm>
            <a:off x="2280960" y="3049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二、深部感染真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真菌（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fungus</a:t>
            </a:r>
            <a:r>
              <a:rPr b="1" lang="zh-CN" sz="36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真正的细胞核及细胞器，不含叶绿素及根、茎、叶的分化，能进行有性和无性繁殖的真核细胞型微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单细胞、多细胞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大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" y="694800"/>
            <a:ext cx="87267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60000" bIns="3600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白假丝酵母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也称为白色念珠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体呈椭圆形，以芽生孢子出芽繁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存在于正常人的口腔、上呼吸道、阴道及肠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白假丝酵母菌可侵犯人体许多部位，可引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皮肤黏膜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内脏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中枢神经系统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4" descr="msotw9_temp0"/>
          <p:cNvPicPr/>
          <p:nvPr/>
        </p:nvPicPr>
        <p:blipFill>
          <a:blip r:embed="rId1"/>
          <a:stretch/>
        </p:blipFill>
        <p:spPr>
          <a:xfrm>
            <a:off x="5791320" y="4572000"/>
            <a:ext cx="3047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新生隐球菌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9080" y="1555560"/>
            <a:ext cx="892836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卵圆形，菌体外周有宽厚荚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墨汁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大量存在于鸽粪中，故鸽是主要的传染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外源性感染，经呼吸道传播，引起肺部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数病人可血行播散，侵犯中枢神经系统或其他脏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4" descr="图42-3_新型隐球菌-校稿用图"/>
          <p:cNvPicPr/>
          <p:nvPr/>
        </p:nvPicPr>
        <p:blipFill>
          <a:blip r:embed="rId1"/>
          <a:stretch/>
        </p:blipFill>
        <p:spPr>
          <a:xfrm>
            <a:off x="5791320" y="4191120"/>
            <a:ext cx="3200400" cy="2666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msotw9_temp0"/>
          <p:cNvPicPr/>
          <p:nvPr/>
        </p:nvPicPr>
        <p:blipFill>
          <a:blip r:embed="rId2"/>
          <a:stretch/>
        </p:blipFill>
        <p:spPr>
          <a:xfrm>
            <a:off x="1908000" y="4221000"/>
            <a:ext cx="388332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87440"/>
          </a:xfrm>
          <a:prstGeom prst="rect">
            <a:avLst/>
          </a:prstGeom>
          <a:noFill/>
          <a:ln w="28440">
            <a:solidFill>
              <a:srgbClr val="66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真菌的基本特性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一、真菌的分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80720" y="811080"/>
            <a:ext cx="858204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种类繁多，约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余万种，在生物学分类上已被独立列为真菌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界分为真菌门和黏菌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医学有关的真菌包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个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接合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属条件致病性真菌，如毛霉属、根霉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子囊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大多为腐生性真菌，少数为条件致病菌性真菌，如酵母菌属、毛癣菌属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担子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这类真菌包括食用真菌和药用真菌，如银耳、木耳、香菇、灵芝等；亦有致病性真菌，如新生隐球菌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半知菌亚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医学上具有重要意义的真菌大多属于此亚门，如曲霉属、假丝酵母菌属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252360" y="12682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形态和结构，真菌可分为单细胞和多细胞真菌两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单细胞真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09480" y="234468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酵母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形、椭圆形，以出芽方式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菌丝，有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丝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yeas5.jpg (7083 bytes)"/>
          <p:cNvPicPr/>
          <p:nvPr/>
        </p:nvPicPr>
        <p:blipFill>
          <a:blip r:embed="rId1"/>
          <a:stretch/>
        </p:blipFill>
        <p:spPr>
          <a:xfrm>
            <a:off x="6934320" y="2287440"/>
            <a:ext cx="1657080" cy="25718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yeas6.jpg (7310 bytes)"/>
          <p:cNvPicPr/>
          <p:nvPr/>
        </p:nvPicPr>
        <p:blipFill>
          <a:blip r:embed="rId2"/>
          <a:stretch/>
        </p:blipFill>
        <p:spPr>
          <a:xfrm>
            <a:off x="3657600" y="4851360"/>
            <a:ext cx="2209680" cy="1897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yeas10.jpg (9138 bytes)"/>
          <p:cNvPicPr/>
          <p:nvPr/>
        </p:nvPicPr>
        <p:blipFill>
          <a:blip r:embed="rId3"/>
          <a:stretch/>
        </p:blipFill>
        <p:spPr>
          <a:xfrm>
            <a:off x="762120" y="485136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yeas4.jpg (10461 bytes)"/>
          <p:cNvPicPr/>
          <p:nvPr/>
        </p:nvPicPr>
        <p:blipFill>
          <a:blip r:embed="rId4"/>
          <a:stretch/>
        </p:blipFill>
        <p:spPr>
          <a:xfrm>
            <a:off x="5486400" y="2287440"/>
            <a:ext cx="1474920" cy="2571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yeas2.jpg (6277 bytes)"/>
          <p:cNvPicPr/>
          <p:nvPr/>
        </p:nvPicPr>
        <p:blipFill>
          <a:blip r:embed="rId5"/>
          <a:stretch/>
        </p:blipFill>
        <p:spPr>
          <a:xfrm>
            <a:off x="5867280" y="4851360"/>
            <a:ext cx="2743200" cy="19130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9"/>
          <p:cNvSpPr/>
          <p:nvPr/>
        </p:nvSpPr>
        <p:spPr>
          <a:xfrm>
            <a:off x="29844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</a:rPr>
              <a:t>二、真菌的形态与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9144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多细胞真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霉菌（丝状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68360" y="90792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菌丝（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hypha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孢子（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Spore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不同丝状菌长出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孢子不同是鉴别真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重要标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oogonium.jpg (5735 bytes)"/>
          <p:cNvPicPr/>
          <p:nvPr/>
        </p:nvPicPr>
        <p:blipFill>
          <a:blip r:embed="rId1"/>
          <a:stretch/>
        </p:blipFill>
        <p:spPr>
          <a:xfrm>
            <a:off x="5562720" y="1494000"/>
            <a:ext cx="3429000" cy="26208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5" descr="saprolegnialean zoosporangia2.jpg (10721 bytes)"/>
          <p:cNvPicPr/>
          <p:nvPr/>
        </p:nvPicPr>
        <p:blipFill>
          <a:blip r:embed="rId2"/>
          <a:stretch/>
        </p:blipFill>
        <p:spPr>
          <a:xfrm>
            <a:off x="5562720" y="4111560"/>
            <a:ext cx="3429000" cy="21369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saprolegnialean zoosporangia1.jpg (7873 bytes)"/>
          <p:cNvPicPr/>
          <p:nvPr/>
        </p:nvPicPr>
        <p:blipFill>
          <a:blip r:embed="rId3"/>
          <a:stretch/>
        </p:blipFill>
        <p:spPr>
          <a:xfrm>
            <a:off x="990720" y="3657600"/>
            <a:ext cx="2571480" cy="259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perono1.jpg (5449 bytes)"/>
          <p:cNvPicPr/>
          <p:nvPr/>
        </p:nvPicPr>
        <p:blipFill>
          <a:blip r:embed="rId4"/>
          <a:stretch/>
        </p:blipFill>
        <p:spPr>
          <a:xfrm>
            <a:off x="3581280" y="3657600"/>
            <a:ext cx="19227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菌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真菌的孢子以出芽方式繁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长出芽管，延长呈丝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菌丝又可长出许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枝交织成团称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菌丝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伸入培养基中吸取养料的菌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营养菌丝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生长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气生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能产孢子的菌丝称</a:t>
            </a:r>
            <a:r>
              <a:rPr b="1" lang="zh-CN" sz="2800" spc="-1" strike="noStrike" u="sng">
                <a:solidFill>
                  <a:srgbClr val="000099"/>
                </a:solidFill>
                <a:uFillTx/>
                <a:latin typeface="Arial"/>
                <a:ea typeface="楷体_GB2312"/>
              </a:rPr>
              <a:t>生殖菌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图5-1_真菌菌丝形态"/>
          <p:cNvPicPr/>
          <p:nvPr/>
        </p:nvPicPr>
        <p:blipFill>
          <a:blip r:embed="rId1"/>
          <a:stretch/>
        </p:blipFill>
        <p:spPr>
          <a:xfrm>
            <a:off x="0" y="4861080"/>
            <a:ext cx="9144000" cy="19969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26" descr="D:\Documents and Settings\WQ\My Documents\教材\第五版教材\真菌\69.jpg"/>
          <p:cNvPicPr/>
          <p:nvPr/>
        </p:nvPicPr>
        <p:blipFill>
          <a:blip r:embed="rId2"/>
          <a:srcRect l="26015" t="16567" r="23549" b="25447"/>
          <a:stretch/>
        </p:blipFill>
        <p:spPr>
          <a:xfrm>
            <a:off x="5651640" y="189000"/>
            <a:ext cx="31017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02920" y="333360"/>
            <a:ext cx="4953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孢子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孢子是真菌的繁殖器官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有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两个细胞触合经减数分裂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无性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菌丝上的细胞分化或出芽生成。病原性真菌大多形成无性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性孢子根据形态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分生孢子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小分生孢子、大分生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叶状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由菌丝内细胞直接形成，关节孢子、厚膜孢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孢子囊孢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菌丝未端膨大形成囊状、内含大量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4" descr="图5-2_真菌孢子形态"/>
          <p:cNvPicPr/>
          <p:nvPr/>
        </p:nvPicPr>
        <p:blipFill>
          <a:blip r:embed="rId1"/>
          <a:stretch/>
        </p:blipFill>
        <p:spPr>
          <a:xfrm>
            <a:off x="304920" y="1052640"/>
            <a:ext cx="8839080" cy="26226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468360" y="429264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大分生孢子（小孢子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芽生孢子和假菌丝（假丝酵母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厚膜孢子（假丝酵母菌）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关节孢子（球孢子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孢子囊孢子（毛霉）　　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小分生孢子（曲霉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5:23:51Z</dcterms:created>
  <dc:creator>微软用户</dc:creator>
  <dc:description/>
  <cp:keywords/>
  <dc:language>en-US</dc:language>
  <cp:lastModifiedBy>正版用户</cp:lastModifiedBy>
  <dcterms:modified xsi:type="dcterms:W3CDTF">2014-05-26T01:44:06Z</dcterms:modified>
  <cp:revision>5</cp:revision>
  <dc:subject/>
  <dc:title>第三十七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