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11279-3A25-497C-8E48-DC059AB7E9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6E765-CFD2-4747-943F-AAB49BD1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2B93F-3A23-4FC7-8D7A-A616D008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5C3D-48E4-4784-844E-C74F77FBD5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21846-9E69-431A-B21B-925FFB116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4AA3E-E40C-4245-A9B3-268F701F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2BDAF-E2CE-43AB-9ED8-4103EDAA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811B3-EA18-4ED6-8F10-8E51E94D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A106C-5C48-4930-B53A-2443A8D1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2E994-8AE7-48A4-A89E-C482B657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43DD9-30AF-4F98-8F26-0E33E52A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3C7A6-4894-4996-9869-83FB1F3F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8E93A-5953-4E8B-A036-2AF1859A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04ED3-D8BF-47F5-AF85-30EAE806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D2987-EED2-477D-9D09-0F8190C6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0FC53-6836-42A4-8FB8-EA2A35DD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F6246-9FE9-4359-AB1D-40B44D29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E32B4A-CC57-4D04-A814-4A152E55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3BAAFA-09C1-4A25-8298-C56D5277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3991CD-433F-48EA-9F6A-CEC10572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A6BC16-E0D5-4453-8A44-8B4C9C6C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985770-3A40-4143-BA41-B2A30F03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AC9EC-75FD-4F01-8E66-30F5CE0F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991ED9-B680-44CA-ADC1-A93C3B55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38ED78-D05D-4CD4-B20C-BCAE70CE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BF4382-0DBF-47E7-AC50-53866312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0A43EE-823A-4080-98B7-749F8854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283DD6-2CCC-470D-BD12-8E652385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B169BA-0535-43DB-BE2E-C09CA1CD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4EED3B-47A9-43B6-B909-14632CFD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C696-3DDF-44AC-9BFD-FD50BA49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0929B-D3F0-4C55-B9D3-CF5DA4E01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076D7-4A95-4DCE-96D5-05B144A6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B32F8-0E1E-4FB1-907F-8C233014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A7394-FD61-4CFE-8A04-83FFB5F34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4CD8D-070F-4186-9D78-F156968F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A714-6A9B-487B-90D6-032CE8982BD4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15C1-E852-43F9-BCF4-4FE146219764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3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4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95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Garamond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B166-0EA9-4542-9EAE-948A0056EA84}" type="slidenum">
              <a:rPr b="0" lang="en-US" sz="1400" spc="-1" strike="noStrike">
                <a:solidFill>
                  <a:srgbClr val="046ca6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25239;&#33647;&#32467;&#26680;&#33740;.MPG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9720" y="1571400"/>
            <a:ext cx="720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第</a:t>
            </a:r>
            <a:r>
              <a:rPr b="1" lang="en-US" sz="6600" spc="-1" strike="noStrike">
                <a:solidFill>
                  <a:srgbClr val="000000"/>
                </a:solidFill>
                <a:latin typeface="幼圆"/>
              </a:rPr>
              <a:t>27</a:t>
            </a:r>
            <a:r>
              <a:rPr b="1" lang="zh-CN" sz="6600" spc="-1" strike="noStrike">
                <a:solidFill>
                  <a:srgbClr val="000000"/>
                </a:solidFill>
                <a:latin typeface="幼圆"/>
              </a:rPr>
              <a:t>章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1360" y="2785680"/>
            <a:ext cx="7143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幼圆"/>
              </a:rPr>
              <a:t>分枝杆菌属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ycobacteria</a:t>
            </a:r>
            <a:r>
              <a:rPr b="0" lang="en-US" sz="5400" spc="-1" strike="noStrike">
                <a:solidFill>
                  <a:srgbClr val="000000"/>
                </a:solidFill>
                <a:latin typeface="幼圆"/>
              </a:rPr>
              <a:t>)</a:t>
            </a:r>
            <a:endParaRPr b="1" lang="en-US" sz="54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首都医科大学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郑群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6656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三、微生物学检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87280" y="2492280"/>
            <a:ext cx="6553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涂片染色镜检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痰涂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抗酸染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金胺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 3~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因诊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CR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2743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检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197080" y="5229000"/>
            <a:ext cx="457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罗丹明染色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64" name="Picture 4" descr="P97图8-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952880" cy="4641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97图8-4"/>
          <p:cNvPicPr/>
          <p:nvPr/>
        </p:nvPicPr>
        <p:blipFill>
          <a:blip r:embed="rId2"/>
          <a:srcRect l="31350" t="0" r="25814" b="3333"/>
          <a:stretch/>
        </p:blipFill>
        <p:spPr>
          <a:xfrm>
            <a:off x="7164360" y="0"/>
            <a:ext cx="19810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uramine rhodamine stain"/>
          <p:cNvPicPr/>
          <p:nvPr/>
        </p:nvPicPr>
        <p:blipFill>
          <a:blip r:embed="rId3"/>
          <a:srcRect l="36319" t="30238" r="0" b="0"/>
          <a:stretch/>
        </p:blipFill>
        <p:spPr>
          <a:xfrm>
            <a:off x="4952880" y="0"/>
            <a:ext cx="2176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四、防治原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3400" y="2606400"/>
            <a:ext cx="6851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预防：卡介苗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治疗：抗结核药 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联合用药    药物副作用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耐药菌株的产生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8720" y="919080"/>
            <a:ext cx="746928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结核分枝杆菌小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2034720"/>
            <a:ext cx="853416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抗酸阳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抵抗力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罗氏培养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型菌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缓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侵袭力和毒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菌体类脂引起机体超敏反应引起结核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胞免疫与超敏反应共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验可诊断结核病和测定细胞免疫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C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预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合用药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079640"/>
            <a:ext cx="7272360" cy="105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麻风分枝杆菌（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M.lepra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22636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形态染色：与结核杆菌相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培养：动物接种（小白鼠足垫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传播途径：直接接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临床分型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样型：皮肤、黏膜、周围神经（预后较好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瘤型麻风：全身脏器（传染性强、预后差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leptosy-who4"/>
          <p:cNvPicPr/>
          <p:nvPr/>
        </p:nvPicPr>
        <p:blipFill>
          <a:blip r:embed="rId1"/>
          <a:stretch/>
        </p:blipFill>
        <p:spPr>
          <a:xfrm>
            <a:off x="539640" y="2492280"/>
            <a:ext cx="2843280" cy="4216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50440" y="1452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Mycobacterium lepra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2" descr="leprosy-who"/>
          <p:cNvPicPr/>
          <p:nvPr/>
        </p:nvPicPr>
        <p:blipFill>
          <a:blip r:embed="rId2"/>
          <a:stretch/>
        </p:blipFill>
        <p:spPr>
          <a:xfrm>
            <a:off x="3637080" y="2924280"/>
            <a:ext cx="493704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950400"/>
            <a:ext cx="48434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2203560"/>
            <a:ext cx="504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特点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种类及病原菌</a:t>
            </a:r>
            <a:endParaRPr b="1" lang="en-US" sz="36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核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麻风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结核分枝杆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腐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会致病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5797440" y="1273320"/>
            <a:ext cx="3167280" cy="4937040"/>
            <a:chOff x="5797440" y="1273320"/>
            <a:chExt cx="3167280" cy="4937040"/>
          </a:xfrm>
        </p:grpSpPr>
        <p:pic>
          <p:nvPicPr>
            <p:cNvPr id="142" name="Picture 8" descr="结核杆菌抗酸染色"/>
            <p:cNvPicPr/>
            <p:nvPr/>
          </p:nvPicPr>
          <p:blipFill>
            <a:blip r:embed="rId1"/>
            <a:stretch/>
          </p:blipFill>
          <p:spPr>
            <a:xfrm>
              <a:off x="5797440" y="1273320"/>
              <a:ext cx="3099960" cy="24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9" descr="18-麻风杆菌 copy"/>
            <p:cNvPicPr/>
            <p:nvPr/>
          </p:nvPicPr>
          <p:blipFill>
            <a:blip r:embed="rId2"/>
            <a:stretch/>
          </p:blipFill>
          <p:spPr>
            <a:xfrm>
              <a:off x="5797440" y="3702240"/>
              <a:ext cx="316728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3640" y="112392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4160" y="2354400"/>
            <a:ext cx="748656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染色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染色阳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长微弯分枝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胞壁含大量类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培养特点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专性需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长缓慢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h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时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罗氏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wenste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固体培养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H6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8,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菌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黄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花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~4w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46" name="Picture 15" descr="myc-tub-dk"/>
          <p:cNvPicPr/>
          <p:nvPr/>
        </p:nvPicPr>
        <p:blipFill>
          <a:blip r:embed="rId1"/>
          <a:stretch/>
        </p:blipFill>
        <p:spPr>
          <a:xfrm>
            <a:off x="5724360" y="1268280"/>
            <a:ext cx="3348360" cy="251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637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、生物学性状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6560" y="2203560"/>
            <a:ext cx="82108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抵抗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耐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燥、酸碱、染料（孔雀绿、结晶紫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敏感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热、紫外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醇、抗结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异性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型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耐药性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毒力变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BC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3280" y="1063440"/>
            <a:ext cx="863784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二、致病性与免疫性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1520" y="2111400"/>
            <a:ext cx="820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主要致病物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菌体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类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磷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刺激单核细胞增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酪样坏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索状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枝菌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酸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破坏线粒体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肉芽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硫酸脑苷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抗吞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蜡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-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迟发型超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600" y="1279440"/>
            <a:ext cx="772776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45680" y="237312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核病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多途径感染，最常引起肺结核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易播散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潜伏带菌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继发感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局限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组织损伤重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1380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原发感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次感染（外源性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6000" y="2017440"/>
            <a:ext cx="592308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儿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尚未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易扩散→原发综合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发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淋巴管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肺门淋巴结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胸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见 哑铃形阴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55" name="Picture 5" descr="18-哑铃阴影 copy"/>
          <p:cNvPicPr/>
          <p:nvPr/>
        </p:nvPicPr>
        <p:blipFill>
          <a:blip r:embed="rId1">
            <a:alphaModFix amt="49000"/>
          </a:blip>
          <a:stretch/>
        </p:blipFill>
        <p:spPr>
          <a:xfrm>
            <a:off x="6372360" y="3502080"/>
            <a:ext cx="2539800" cy="2539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08848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继发感染（原发后感染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9840" y="2346480"/>
            <a:ext cx="663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次感染（多为内源性感染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见于成年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异性免疫已建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变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灶局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增殖性病变为主：结核结节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0080" y="1208160"/>
            <a:ext cx="7296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所致疾病及免疫特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5680" y="2301480"/>
            <a:ext cx="830412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免疫特点</a:t>
            </a:r>
            <a:endParaRPr b="1" lang="en-US" sz="40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菌免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细胞免疫和超敏反应共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核菌素试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uberculin te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--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,PP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ngzhe</cp:lastModifiedBy>
  <dcterms:modified xsi:type="dcterms:W3CDTF">2015-08-26T05:59:43Z</dcterms:modified>
  <cp:revision>2</cp:revision>
  <dc:subject/>
  <dc:title>第27章</dc:title>
</cp:coreProperties>
</file>