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ED91-0A76-4116-8921-EC389FCECC3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人群中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感染非常普遍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-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已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MV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抗体。初次感染多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，通常为隐性感染，一般无临床症状。通过人体的分泌物传播，如唾液、鼻涕、奶、尿、粪便、精液、宫颈分泌物。单独的病毒传染性并不是很强，传播需要密切接触。通常通过性传播，也可经产道、输血、器官移植传播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成人感染疱疹尽管比较痛苦，但一般不致命。在新生儿中却不是如此。新生儿疱疹通常由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HV-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。新生儿疱疹一般比较严重，口唇部感染的死亡率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中枢神经系统感染后死亡率约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病毒可以通过胎盘屏障感染胎儿，但更多的是在出生时经母亲产道感染。孕妇若感染了疱疹病毒，即使无症状也应告诉医生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F2A8-E458-4ADD-92A7-BC7DC02F74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A1F0-9C47-4C5D-9B18-D29F1138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DCAF-B94E-413B-9766-A0293957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9DA47-D0AC-4FFE-95B4-8F736B3E1A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F88F1-9760-4033-8209-2033DFFB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E2853-1C0C-437F-9CEC-16BE40EC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A50-FBA8-44DF-BD42-A4E0FAB9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A61D-1EED-425A-9138-BC20461A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9453-AA19-434B-8A11-7E8B5AFE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01E3-C028-4B2E-9A6F-9E54EE4B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EC4E-43B9-4740-BD00-501EE5F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9E71-9C07-49A1-8A81-6F6DA144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1ECB-D804-4C77-BDCC-411A42B585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微软雅黑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640"/>
              <a:ext cx="9115560" cy="1809000"/>
              <a:chOff x="28440" y="5048640"/>
              <a:chExt cx="9115560" cy="180900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640"/>
                <a:ext cx="9115560" cy="18090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64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微软雅黑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6"/>
          <p:cNvSpPr/>
          <p:nvPr/>
        </p:nvSpPr>
        <p:spPr>
          <a:xfrm>
            <a:off x="-1285920" y="3643200"/>
            <a:ext cx="793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方正姚体"/>
                <a:ea typeface="方正姚体"/>
              </a:rPr>
              <a:t>Herpesviridae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468360" y="2714760"/>
            <a:ext cx="53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第</a:t>
            </a:r>
            <a:r>
              <a:rPr b="0" lang="en-US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32</a:t>
            </a:r>
            <a:r>
              <a:rPr b="0" lang="zh-CN" sz="4400" spc="-1" strike="noStrike">
                <a:solidFill>
                  <a:srgbClr val="ffff00"/>
                </a:solidFill>
                <a:latin typeface="方正姚体"/>
                <a:ea typeface="方正姚体"/>
              </a:rPr>
              <a:t>章  疱疹病毒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20"/>
          <p:cNvSpPr/>
          <p:nvPr/>
        </p:nvSpPr>
        <p:spPr>
          <a:xfrm>
            <a:off x="2816640" y="5000760"/>
            <a:ext cx="29545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北京大学医学部病原生物学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邹清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4" descr="24-10_Varicella-zoster_0_L"/>
          <p:cNvPicPr/>
          <p:nvPr/>
        </p:nvPicPr>
        <p:blipFill>
          <a:blip r:embed="rId1"/>
          <a:stretch/>
        </p:blipFill>
        <p:spPr>
          <a:xfrm>
            <a:off x="1116000" y="189000"/>
            <a:ext cx="6781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492360" y="5589720"/>
            <a:ext cx="2374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儿童水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16405" t="17204" r="14844" b="10751"/>
          <a:stretch/>
        </p:blipFill>
        <p:spPr>
          <a:xfrm>
            <a:off x="4788000" y="765000"/>
            <a:ext cx="3556080" cy="460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24-09_Chickenpox_L"/>
          <p:cNvPicPr/>
          <p:nvPr/>
        </p:nvPicPr>
        <p:blipFill>
          <a:blip r:embed="rId2"/>
          <a:srcRect l="2769" t="1637" r="2769" b="5011"/>
          <a:stretch/>
        </p:blipFill>
        <p:spPr>
          <a:xfrm>
            <a:off x="1116000" y="692280"/>
            <a:ext cx="3321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286080" y="5072040"/>
            <a:ext cx="338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腰部带状疱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5" descr="带状疱疹3"/>
          <p:cNvPicPr/>
          <p:nvPr/>
        </p:nvPicPr>
        <p:blipFill>
          <a:blip r:embed="rId1"/>
          <a:srcRect l="15824" t="0" r="15155" b="19480"/>
          <a:stretch/>
        </p:blipFill>
        <p:spPr>
          <a:xfrm>
            <a:off x="395280" y="1268280"/>
            <a:ext cx="4057560" cy="356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8163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8440" y="1214280"/>
            <a:ext cx="70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免疫性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患水痘后机体可产生持久的特异性细胞免疫和体液免疫，极少再发水痘；但不能阻止潜伏病毒被激活而发生带状疱疹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微生物学检查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的临床症状典型，一般不需做微生物学诊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VZ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活疫苗预防水痘感染和传播有良好效果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治疗可用阿昔洛韦、阿糖腺苷和高剂量干扰素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28440" y="2928960"/>
            <a:ext cx="34700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态结构与疱疹病毒相似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侵犯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55" name="Picture 4" descr="200305220013_11087"/>
          <p:cNvPicPr/>
          <p:nvPr/>
        </p:nvPicPr>
        <p:blipFill>
          <a:blip r:embed="rId1"/>
          <a:srcRect l="15923" t="0" r="21592" b="10755"/>
          <a:stretch/>
        </p:blipFill>
        <p:spPr>
          <a:xfrm>
            <a:off x="5072040" y="3071880"/>
            <a:ext cx="3532320" cy="2824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1071720" y="1285920"/>
            <a:ext cx="71215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pstein-Barr 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EB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9720" y="1856880"/>
            <a:ext cx="720108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通过唾液传播，经常在共用水杯或接吻时（“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kissing disease”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传染性单核细胞增多症的常用名称）；偶见经输血传染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口咽部上皮细胞内增殖，然后感染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入血循环可造成全身性感染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长期潜伏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是体液和细胞免疫“内战”的结果。细胞毒性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杀死了感染的</a:t>
            </a:r>
            <a:r>
              <a:rPr b="1" lang="en-US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细胞。 </a:t>
            </a:r>
            <a:endParaRPr b="1" lang="en-US" sz="22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所致疾病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7200" y="192852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非洲儿童淋巴瘤（即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rkit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淋巴瘤）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鼻咽癌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62" name="Picture 4" descr="24-13_EBV-Diseases_3_U"/>
          <p:cNvPicPr/>
          <p:nvPr/>
        </p:nvPicPr>
        <p:blipFill>
          <a:blip r:embed="rId1"/>
          <a:srcRect l="1377" t="495" r="11432" b="22992"/>
          <a:stretch/>
        </p:blipFill>
        <p:spPr>
          <a:xfrm>
            <a:off x="6588000" y="3645000"/>
            <a:ext cx="1871640" cy="244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24-13_EBV-Diseases_4_U"/>
          <p:cNvPicPr/>
          <p:nvPr/>
        </p:nvPicPr>
        <p:blipFill>
          <a:blip r:embed="rId2"/>
          <a:srcRect l="1253" t="1631" r="1253" b="12869"/>
          <a:stretch/>
        </p:blipFill>
        <p:spPr>
          <a:xfrm>
            <a:off x="4356000" y="3716280"/>
            <a:ext cx="1876680" cy="2376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24-13_EBV-Diseases_5_U"/>
          <p:cNvPicPr/>
          <p:nvPr/>
        </p:nvPicPr>
        <p:blipFill>
          <a:blip r:embed="rId3"/>
          <a:srcRect l="1228" t="1642" r="2522" b="18497"/>
          <a:stretch/>
        </p:blipFill>
        <p:spPr>
          <a:xfrm>
            <a:off x="1835280" y="4005360"/>
            <a:ext cx="2089080" cy="2031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2243160" y="60930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性单核细胞增多症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982760" y="6093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症状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7049520" y="6093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伯基特淋巴瘤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5520" y="99972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28480" y="2071800"/>
            <a:ext cx="6800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离培养困难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用核酸杂交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方法检测细胞内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及其表达产物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诊断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异性抗体的检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5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920" y="2071800"/>
            <a:ext cx="68515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注意减少由唾液、飞沫、血制品传播病毒的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国用基因工程方法构建的同时表达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V 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BsA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疫苗，重点使用在鼻咽癌高发区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p320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膜蛋白疫苗，正在英国大学生患者中作小规模接种，以期观察该疫苗是否能降低传染性单核细胞增多症的发病率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42600" y="2356920"/>
            <a:ext cx="52563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的细胞肿大，并具有巨大的核内包涵体，故名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典型的疱疹病毒形态，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构也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感染的宿主范围和细胞范围均狭窄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高度的种属特异性，人巨细胞病毒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只能感染人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核内包涵体呈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猫头鹰眼”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73" name="Picture 6" descr="24-14_Cytomegalovirus_L"/>
          <p:cNvPicPr/>
          <p:nvPr/>
        </p:nvPicPr>
        <p:blipFill>
          <a:blip r:embed="rId1"/>
          <a:srcRect l="40404" t="0" r="23828" b="56130"/>
          <a:stretch/>
        </p:blipFill>
        <p:spPr>
          <a:xfrm>
            <a:off x="6000840" y="3071880"/>
            <a:ext cx="2952720" cy="2808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643040" y="1000080"/>
            <a:ext cx="597708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巨细胞病毒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ytomegalovirus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CMV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1285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疱疹病毒的共同特点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71680" y="2857680"/>
            <a:ext cx="46796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颗粒呈球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因组为双股线性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ff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包膜，包膜上有小刺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5" descr="hsv-3bc"/>
          <p:cNvPicPr/>
          <p:nvPr/>
        </p:nvPicPr>
        <p:blipFill>
          <a:blip r:embed="rId1"/>
          <a:srcRect l="0" t="2618" r="0" b="4768"/>
          <a:stretch/>
        </p:blipFill>
        <p:spPr>
          <a:xfrm>
            <a:off x="5076720" y="2781360"/>
            <a:ext cx="3814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28800" y="2071800"/>
            <a:ext cx="755316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先天性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胎盘感染，可致巨细胞包涵体病，先天畸形，甚至流产或死胎 。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围产期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产道或哺乳感染，症状轻微或无临床症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儿童及成人感染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密切接触、性接触及输血感染，引起单核细胞增多症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细胞转化和可能致癌作用：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宫颈癌，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Kaposi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肉瘤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2286000" y="1071720"/>
            <a:ext cx="4537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CM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常见感染类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微生物学检查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1360" y="1857240"/>
            <a:ext cx="7429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学检查：尿标本经离心后取沉渣涂片镜检，观察巨大细胞及细胞核内包涵体。  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分离：病人分泌物接种人胚成纤维细胞，观察细胞病变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检测：应用特异性单克隆抗体直接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晚期结构抗原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可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性感染作早期快速诊断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检测：核酸杂交及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CR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病毒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血清学检测：应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ELIS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检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CMV IgM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9720" y="928800"/>
            <a:ext cx="72738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2357280"/>
            <a:ext cx="7772400" cy="33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断传播途径，减少传播机会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丙氧鸟苷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成，治疗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间质性肺炎、视网膜炎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鳞甲酸：抑制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合酶活性，减轻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IDS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人和移植受者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M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染症状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：有减毒活疫苗问世，但尚未大范围使用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小 结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9720" y="2500200"/>
            <a:ext cx="792972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纯疱疹病毒、水痘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状疱疹病毒的潜伏感染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B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的致病性及所致疾病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巨细胞病毒的感染类型</a:t>
            </a:r>
            <a:endParaRPr b="1" lang="en-US" sz="2800" spc="-1" strike="noStrike">
              <a:solidFill>
                <a:srgbClr val="8ac8de"/>
              </a:solidFill>
              <a:latin typeface="微软雅黑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4643280" y="3286080"/>
            <a:ext cx="414360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型疱疹病毒形态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双股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有包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buClr>
                <a:srgbClr val="ff33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个血清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12" descr="hsvimg01z"/>
          <p:cNvPicPr/>
          <p:nvPr/>
        </p:nvPicPr>
        <p:blipFill>
          <a:blip r:embed="rId1"/>
          <a:stretch/>
        </p:blipFill>
        <p:spPr>
          <a:xfrm>
            <a:off x="1285920" y="2928960"/>
            <a:ext cx="3105000" cy="3244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00040" y="1000080"/>
            <a:ext cx="8496360" cy="14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单纯疱疹病毒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Herpes Simplex Virus, HSV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86080" y="1071720"/>
            <a:ext cx="316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原发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57120" y="1928880"/>
            <a:ext cx="842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龈口炎、疱疹性角膜结膜炎、疱疹性脑炎、皮肤疱疹性湿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4000" y="4221000"/>
            <a:ext cx="403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引起生殖器疱疹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8" descr="疱疹性齿龈炎"/>
          <p:cNvPicPr/>
          <p:nvPr/>
        </p:nvPicPr>
        <p:blipFill>
          <a:blip r:embed="rId1"/>
          <a:stretch/>
        </p:blipFill>
        <p:spPr>
          <a:xfrm>
            <a:off x="611280" y="2492280"/>
            <a:ext cx="2592360" cy="1470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24-06_OralHerpes_L"/>
          <p:cNvPicPr/>
          <p:nvPr/>
        </p:nvPicPr>
        <p:blipFill>
          <a:blip r:embed="rId2"/>
          <a:srcRect l="1064" t="960" r="1064" b="5507"/>
          <a:stretch/>
        </p:blipFill>
        <p:spPr>
          <a:xfrm>
            <a:off x="3492360" y="2492280"/>
            <a:ext cx="2087640" cy="147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24-07_GenitalHerpes_L"/>
          <p:cNvPicPr/>
          <p:nvPr/>
        </p:nvPicPr>
        <p:blipFill>
          <a:blip r:embed="rId3"/>
          <a:srcRect l="1061" t="2069" r="1061" b="5665"/>
          <a:stretch/>
        </p:blipFill>
        <p:spPr>
          <a:xfrm>
            <a:off x="3276720" y="4724280"/>
            <a:ext cx="2592360" cy="171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唇疱疹"/>
          <p:cNvPicPr/>
          <p:nvPr/>
        </p:nvPicPr>
        <p:blipFill>
          <a:blip r:embed="rId4"/>
          <a:srcRect l="0" t="0" r="36685" b="44216"/>
          <a:stretch/>
        </p:blipFill>
        <p:spPr>
          <a:xfrm>
            <a:off x="5867280" y="2492280"/>
            <a:ext cx="24480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643120" y="1571760"/>
            <a:ext cx="374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潜伏与复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28800" y="2428920"/>
            <a:ext cx="446544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三叉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潜伏在</a:t>
            </a:r>
            <a:r>
              <a:rPr b="1" lang="zh-CN" sz="2600" spc="-1" strike="noStrike">
                <a:solidFill>
                  <a:srgbClr val="ff3300"/>
                </a:solidFill>
                <a:latin typeface="微软雅黑"/>
                <a:ea typeface="微软雅黑"/>
              </a:rPr>
              <a:t>骶神经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体受到紫外线、发热、创伤、使用肾上腺素等影响后，约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病人会复发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535640" y="1989000"/>
            <a:ext cx="356544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Picture 7" descr="latency"/>
          <p:cNvPicPr/>
          <p:nvPr/>
        </p:nvPicPr>
        <p:blipFill>
          <a:blip r:embed="rId1"/>
          <a:stretch/>
        </p:blipFill>
        <p:spPr>
          <a:xfrm>
            <a:off x="5148360" y="1928880"/>
            <a:ext cx="3995640" cy="209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24-08a_OcularHerpes_L"/>
          <p:cNvPicPr/>
          <p:nvPr/>
        </p:nvPicPr>
        <p:blipFill>
          <a:blip r:embed="rId2"/>
          <a:srcRect l="1061" t="2110" r="1061" b="14726"/>
          <a:stretch/>
        </p:blipFill>
        <p:spPr>
          <a:xfrm>
            <a:off x="5857920" y="4357800"/>
            <a:ext cx="259236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1928880" y="1214280"/>
            <a:ext cx="3456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  <a:ea typeface="微软雅黑"/>
              </a:rPr>
              <a:t>先天性感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eczma"/>
          <p:cNvPicPr/>
          <p:nvPr/>
        </p:nvPicPr>
        <p:blipFill>
          <a:blip r:embed="rId1"/>
          <a:stretch/>
        </p:blipFill>
        <p:spPr>
          <a:xfrm>
            <a:off x="5435640" y="1773360"/>
            <a:ext cx="2903400" cy="217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755640" y="2060640"/>
            <a:ext cx="432108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分娩时均可通过产道感染新生儿，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-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见。引起新生儿疱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儿疱疹一般比较严重，口唇部感染的死亡率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中枢神经系统感染后死亡率约为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胚胎期感染可引起先天畸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8" descr="新生儿疱疹"/>
          <p:cNvPicPr/>
          <p:nvPr/>
        </p:nvPicPr>
        <p:blipFill>
          <a:blip r:embed="rId2"/>
          <a:srcRect l="0" t="0" r="11518" b="20092"/>
          <a:stretch/>
        </p:blipFill>
        <p:spPr>
          <a:xfrm>
            <a:off x="5364000" y="4221000"/>
            <a:ext cx="302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2738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5880" y="1714320"/>
            <a:ext cx="7488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避免同患者接触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剖宫产预防新生儿感染，给新生儿注射丙种球蛋白可作为应急预防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致癌可能性，减毒活疫苗和死疫苗不宜用于人体，包膜糖蛋白（提纯的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G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亚单位疫苗尚在研制中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治疗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用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 gC gD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克隆抗体制成滴眼液，用于治疗疱疹性角膜炎，取得显著疗效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阿昔洛韦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对疱疹病毒有抑制作用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71360" y="2500200"/>
            <a:ext cx="7056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性状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SV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有一个血清型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一般实验动物和鸡胚中均不生长，只在猴或人成纤维细胞中增殖，病变缓慢。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产生核内嗜酸性包涵体和形成多核巨细胞</a:t>
            </a:r>
            <a:endParaRPr b="1" lang="en-US" sz="2400" spc="-1" strike="noStrike">
              <a:solidFill>
                <a:srgbClr val="8ac8de"/>
              </a:solidFill>
              <a:latin typeface="微软雅黑"/>
            </a:endParaRPr>
          </a:p>
        </p:txBody>
      </p:sp>
      <p:pic>
        <p:nvPicPr>
          <p:cNvPr id="140" name="Picture 4" descr="多核巨细胞"/>
          <p:cNvPicPr/>
          <p:nvPr/>
        </p:nvPicPr>
        <p:blipFill>
          <a:blip r:embed="rId1"/>
          <a:stretch/>
        </p:blipFill>
        <p:spPr>
          <a:xfrm>
            <a:off x="2643120" y="4500720"/>
            <a:ext cx="3721320" cy="18572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87280" y="1071720"/>
            <a:ext cx="8856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–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Varicella–zosterVirus VZV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00080" y="1643040"/>
            <a:ext cx="69850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染源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急性期患者，带状疱疹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传播途径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呼吸道飞沫传播或接触传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易感人群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痘多见于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~9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的儿童，好发于冬春季，高度传染；带状疱疹只见于患过水痘的成年人和老年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00080" y="4000680"/>
            <a:ext cx="6985080" cy="167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微软雅黑"/>
                <a:ea typeface="微软雅黑"/>
              </a:rPr>
              <a:t>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水痘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疹向心性分布，躯干比面部和四肢多，消退后不留疤痕，病情一般较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带状疱疹：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皮肤上沿感觉神经的通路发生串联水疱，形似带状，多见于胸部、腹部和面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714840" y="928800"/>
            <a:ext cx="2519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致病性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7:39:58Z</dcterms:modified>
  <cp:revision>86</cp:revision>
  <dc:subject/>
  <dc:title>内科护理学</dc:title>
</cp:coreProperties>
</file>