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2296-9DBD-4F71-8778-0617A3AEA1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B426E-12A8-420B-9440-4FD2C623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0026-E0F8-4DC4-8F82-BD5A3CE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47CA-7557-4EDC-961B-9CE0C23E9A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4725-A08A-4F74-8523-8518C038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6B11-25D2-4417-9313-1E883B52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A9EE-7CED-41AE-97D8-CFE2463F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0752-CD09-4E7A-BD5B-88D3ED45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C193-98B6-4342-8997-5CFCF7D6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05D0-E048-4829-AF85-2828D9EB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B83A-798A-449E-96BC-B9703259D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AC4A-2533-44B3-8B54-A6E8D7BB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EE54-BA3D-4FB9-871F-87990AE6117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25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19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生物学性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基本结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439560" y="192564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ore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核酸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→ 基因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enome  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决定病毒遗传、变异和复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7286760" y="2000160"/>
            <a:ext cx="1523880" cy="1143000"/>
          </a:xfrm>
          <a:custGeom>
            <a:avLst/>
            <a:gdLst/>
            <a:ahLst/>
            <a:rect l="l" t="t" r="r" b="b"/>
            <a:pathLst>
              <a:path w="1054" h="707">
                <a:moveTo>
                  <a:pt x="221" y="116"/>
                </a:moveTo>
                <a:cubicBezTo>
                  <a:pt x="168" y="135"/>
                  <a:pt x="112" y="135"/>
                  <a:pt x="59" y="154"/>
                </a:cubicBezTo>
                <a:cubicBezTo>
                  <a:pt x="0" y="211"/>
                  <a:pt x="13" y="179"/>
                  <a:pt x="34" y="291"/>
                </a:cubicBezTo>
                <a:cubicBezTo>
                  <a:pt x="54" y="395"/>
                  <a:pt x="57" y="426"/>
                  <a:pt x="134" y="492"/>
                </a:cubicBezTo>
                <a:cubicBezTo>
                  <a:pt x="152" y="507"/>
                  <a:pt x="163" y="531"/>
                  <a:pt x="184" y="542"/>
                </a:cubicBezTo>
                <a:cubicBezTo>
                  <a:pt x="198" y="550"/>
                  <a:pt x="363" y="590"/>
                  <a:pt x="372" y="592"/>
                </a:cubicBezTo>
                <a:cubicBezTo>
                  <a:pt x="393" y="588"/>
                  <a:pt x="415" y="588"/>
                  <a:pt x="434" y="579"/>
                </a:cubicBezTo>
                <a:cubicBezTo>
                  <a:pt x="470" y="561"/>
                  <a:pt x="509" y="467"/>
                  <a:pt x="522" y="429"/>
                </a:cubicBezTo>
                <a:cubicBezTo>
                  <a:pt x="512" y="319"/>
                  <a:pt x="528" y="214"/>
                  <a:pt x="422" y="154"/>
                </a:cubicBezTo>
                <a:cubicBezTo>
                  <a:pt x="405" y="144"/>
                  <a:pt x="349" y="133"/>
                  <a:pt x="334" y="129"/>
                </a:cubicBezTo>
                <a:cubicBezTo>
                  <a:pt x="288" y="133"/>
                  <a:pt x="242" y="134"/>
                  <a:pt x="196" y="141"/>
                </a:cubicBezTo>
                <a:cubicBezTo>
                  <a:pt x="183" y="143"/>
                  <a:pt x="168" y="145"/>
                  <a:pt x="159" y="154"/>
                </a:cubicBezTo>
                <a:cubicBezTo>
                  <a:pt x="138" y="175"/>
                  <a:pt x="109" y="229"/>
                  <a:pt x="109" y="229"/>
                </a:cubicBezTo>
                <a:cubicBezTo>
                  <a:pt x="94" y="288"/>
                  <a:pt x="103" y="433"/>
                  <a:pt x="171" y="467"/>
                </a:cubicBezTo>
                <a:cubicBezTo>
                  <a:pt x="215" y="489"/>
                  <a:pt x="309" y="517"/>
                  <a:pt x="309" y="517"/>
                </a:cubicBezTo>
                <a:cubicBezTo>
                  <a:pt x="380" y="513"/>
                  <a:pt x="451" y="511"/>
                  <a:pt x="522" y="504"/>
                </a:cubicBezTo>
                <a:cubicBezTo>
                  <a:pt x="535" y="503"/>
                  <a:pt x="551" y="501"/>
                  <a:pt x="560" y="492"/>
                </a:cubicBezTo>
                <a:cubicBezTo>
                  <a:pt x="569" y="483"/>
                  <a:pt x="566" y="466"/>
                  <a:pt x="572" y="454"/>
                </a:cubicBezTo>
                <a:cubicBezTo>
                  <a:pt x="595" y="408"/>
                  <a:pt x="610" y="381"/>
                  <a:pt x="622" y="329"/>
                </a:cubicBezTo>
                <a:cubicBezTo>
                  <a:pt x="614" y="267"/>
                  <a:pt x="617" y="204"/>
                  <a:pt x="560" y="166"/>
                </a:cubicBezTo>
                <a:cubicBezTo>
                  <a:pt x="553" y="161"/>
                  <a:pt x="474" y="142"/>
                  <a:pt x="472" y="141"/>
                </a:cubicBezTo>
                <a:cubicBezTo>
                  <a:pt x="401" y="145"/>
                  <a:pt x="330" y="147"/>
                  <a:pt x="259" y="154"/>
                </a:cubicBezTo>
                <a:cubicBezTo>
                  <a:pt x="246" y="155"/>
                  <a:pt x="229" y="156"/>
                  <a:pt x="221" y="166"/>
                </a:cubicBezTo>
                <a:cubicBezTo>
                  <a:pt x="210" y="179"/>
                  <a:pt x="213" y="199"/>
                  <a:pt x="209" y="216"/>
                </a:cubicBezTo>
                <a:cubicBezTo>
                  <a:pt x="212" y="244"/>
                  <a:pt x="220" y="400"/>
                  <a:pt x="259" y="429"/>
                </a:cubicBezTo>
                <a:cubicBezTo>
                  <a:pt x="280" y="444"/>
                  <a:pt x="412" y="483"/>
                  <a:pt x="447" y="492"/>
                </a:cubicBezTo>
                <a:cubicBezTo>
                  <a:pt x="480" y="500"/>
                  <a:pt x="514" y="509"/>
                  <a:pt x="547" y="517"/>
                </a:cubicBezTo>
                <a:cubicBezTo>
                  <a:pt x="564" y="521"/>
                  <a:pt x="597" y="529"/>
                  <a:pt x="597" y="529"/>
                </a:cubicBezTo>
                <a:cubicBezTo>
                  <a:pt x="643" y="523"/>
                  <a:pt x="698" y="533"/>
                  <a:pt x="735" y="504"/>
                </a:cubicBezTo>
                <a:cubicBezTo>
                  <a:pt x="747" y="495"/>
                  <a:pt x="749" y="478"/>
                  <a:pt x="760" y="467"/>
                </a:cubicBezTo>
                <a:cubicBezTo>
                  <a:pt x="771" y="456"/>
                  <a:pt x="785" y="450"/>
                  <a:pt x="797" y="442"/>
                </a:cubicBezTo>
                <a:cubicBezTo>
                  <a:pt x="801" y="429"/>
                  <a:pt x="804" y="416"/>
                  <a:pt x="810" y="404"/>
                </a:cubicBezTo>
                <a:cubicBezTo>
                  <a:pt x="817" y="390"/>
                  <a:pt x="835" y="381"/>
                  <a:pt x="835" y="366"/>
                </a:cubicBezTo>
                <a:cubicBezTo>
                  <a:pt x="835" y="340"/>
                  <a:pt x="818" y="316"/>
                  <a:pt x="810" y="291"/>
                </a:cubicBezTo>
                <a:cubicBezTo>
                  <a:pt x="802" y="266"/>
                  <a:pt x="804" y="235"/>
                  <a:pt x="785" y="216"/>
                </a:cubicBezTo>
                <a:cubicBezTo>
                  <a:pt x="731" y="161"/>
                  <a:pt x="657" y="140"/>
                  <a:pt x="585" y="129"/>
                </a:cubicBezTo>
                <a:cubicBezTo>
                  <a:pt x="476" y="141"/>
                  <a:pt x="465" y="134"/>
                  <a:pt x="397" y="204"/>
                </a:cubicBezTo>
                <a:cubicBezTo>
                  <a:pt x="372" y="274"/>
                  <a:pt x="372" y="369"/>
                  <a:pt x="422" y="429"/>
                </a:cubicBezTo>
                <a:cubicBezTo>
                  <a:pt x="443" y="454"/>
                  <a:pt x="474" y="469"/>
                  <a:pt x="497" y="492"/>
                </a:cubicBezTo>
                <a:cubicBezTo>
                  <a:pt x="604" y="484"/>
                  <a:pt x="680" y="513"/>
                  <a:pt x="735" y="429"/>
                </a:cubicBezTo>
                <a:cubicBezTo>
                  <a:pt x="776" y="301"/>
                  <a:pt x="711" y="492"/>
                  <a:pt x="772" y="354"/>
                </a:cubicBezTo>
                <a:cubicBezTo>
                  <a:pt x="783" y="330"/>
                  <a:pt x="797" y="279"/>
                  <a:pt x="797" y="279"/>
                </a:cubicBezTo>
                <a:cubicBezTo>
                  <a:pt x="790" y="237"/>
                  <a:pt x="785" y="136"/>
                  <a:pt x="747" y="104"/>
                </a:cubicBezTo>
                <a:cubicBezTo>
                  <a:pt x="734" y="93"/>
                  <a:pt x="713" y="96"/>
                  <a:pt x="697" y="91"/>
                </a:cubicBezTo>
                <a:cubicBezTo>
                  <a:pt x="647" y="76"/>
                  <a:pt x="599" y="64"/>
                  <a:pt x="547" y="53"/>
                </a:cubicBezTo>
                <a:cubicBezTo>
                  <a:pt x="478" y="62"/>
                  <a:pt x="434" y="69"/>
                  <a:pt x="372" y="91"/>
                </a:cubicBezTo>
                <a:cubicBezTo>
                  <a:pt x="355" y="116"/>
                  <a:pt x="332" y="137"/>
                  <a:pt x="322" y="166"/>
                </a:cubicBezTo>
                <a:cubicBezTo>
                  <a:pt x="314" y="191"/>
                  <a:pt x="297" y="241"/>
                  <a:pt x="297" y="241"/>
                </a:cubicBezTo>
                <a:cubicBezTo>
                  <a:pt x="307" y="353"/>
                  <a:pt x="291" y="439"/>
                  <a:pt x="397" y="492"/>
                </a:cubicBezTo>
                <a:cubicBezTo>
                  <a:pt x="450" y="570"/>
                  <a:pt x="384" y="492"/>
                  <a:pt x="497" y="542"/>
                </a:cubicBezTo>
                <a:cubicBezTo>
                  <a:pt x="513" y="549"/>
                  <a:pt x="520" y="569"/>
                  <a:pt x="535" y="579"/>
                </a:cubicBezTo>
                <a:cubicBezTo>
                  <a:pt x="549" y="588"/>
                  <a:pt x="611" y="601"/>
                  <a:pt x="622" y="604"/>
                </a:cubicBezTo>
                <a:cubicBezTo>
                  <a:pt x="692" y="587"/>
                  <a:pt x="761" y="594"/>
                  <a:pt x="823" y="554"/>
                </a:cubicBezTo>
                <a:cubicBezTo>
                  <a:pt x="850" y="500"/>
                  <a:pt x="876" y="442"/>
                  <a:pt x="910" y="392"/>
                </a:cubicBezTo>
                <a:cubicBezTo>
                  <a:pt x="898" y="276"/>
                  <a:pt x="891" y="208"/>
                  <a:pt x="810" y="129"/>
                </a:cubicBezTo>
                <a:cubicBezTo>
                  <a:pt x="803" y="130"/>
                  <a:pt x="725" y="142"/>
                  <a:pt x="710" y="154"/>
                </a:cubicBezTo>
                <a:cubicBezTo>
                  <a:pt x="678" y="180"/>
                  <a:pt x="660" y="266"/>
                  <a:pt x="660" y="266"/>
                </a:cubicBezTo>
                <a:cubicBezTo>
                  <a:pt x="676" y="402"/>
                  <a:pt x="696" y="553"/>
                  <a:pt x="848" y="592"/>
                </a:cubicBezTo>
                <a:cubicBezTo>
                  <a:pt x="849" y="592"/>
                  <a:pt x="960" y="579"/>
                  <a:pt x="973" y="567"/>
                </a:cubicBezTo>
                <a:cubicBezTo>
                  <a:pt x="994" y="546"/>
                  <a:pt x="1023" y="492"/>
                  <a:pt x="1023" y="492"/>
                </a:cubicBezTo>
                <a:cubicBezTo>
                  <a:pt x="1054" y="393"/>
                  <a:pt x="1043" y="302"/>
                  <a:pt x="1010" y="204"/>
                </a:cubicBezTo>
                <a:cubicBezTo>
                  <a:pt x="999" y="172"/>
                  <a:pt x="999" y="155"/>
                  <a:pt x="973" y="129"/>
                </a:cubicBezTo>
                <a:cubicBezTo>
                  <a:pt x="962" y="118"/>
                  <a:pt x="946" y="114"/>
                  <a:pt x="935" y="104"/>
                </a:cubicBezTo>
                <a:cubicBezTo>
                  <a:pt x="913" y="85"/>
                  <a:pt x="901" y="50"/>
                  <a:pt x="873" y="41"/>
                </a:cubicBezTo>
                <a:cubicBezTo>
                  <a:pt x="848" y="33"/>
                  <a:pt x="797" y="16"/>
                  <a:pt x="797" y="16"/>
                </a:cubicBezTo>
                <a:cubicBezTo>
                  <a:pt x="679" y="25"/>
                  <a:pt x="593" y="30"/>
                  <a:pt x="484" y="66"/>
                </a:cubicBezTo>
                <a:cubicBezTo>
                  <a:pt x="438" y="81"/>
                  <a:pt x="456" y="75"/>
                  <a:pt x="409" y="91"/>
                </a:cubicBezTo>
                <a:cubicBezTo>
                  <a:pt x="397" y="95"/>
                  <a:pt x="372" y="104"/>
                  <a:pt x="372" y="104"/>
                </a:cubicBezTo>
                <a:cubicBezTo>
                  <a:pt x="302" y="56"/>
                  <a:pt x="240" y="67"/>
                  <a:pt x="159" y="78"/>
                </a:cubicBezTo>
                <a:cubicBezTo>
                  <a:pt x="103" y="136"/>
                  <a:pt x="99" y="214"/>
                  <a:pt x="184" y="241"/>
                </a:cubicBezTo>
                <a:cubicBezTo>
                  <a:pt x="330" y="228"/>
                  <a:pt x="309" y="244"/>
                  <a:pt x="397" y="166"/>
                </a:cubicBezTo>
                <a:cubicBezTo>
                  <a:pt x="423" y="143"/>
                  <a:pt x="472" y="91"/>
                  <a:pt x="472" y="91"/>
                </a:cubicBezTo>
                <a:cubicBezTo>
                  <a:pt x="476" y="78"/>
                  <a:pt x="489" y="65"/>
                  <a:pt x="484" y="53"/>
                </a:cubicBezTo>
                <a:cubicBezTo>
                  <a:pt x="463" y="0"/>
                  <a:pt x="307" y="58"/>
                  <a:pt x="284" y="66"/>
                </a:cubicBezTo>
                <a:cubicBezTo>
                  <a:pt x="259" y="74"/>
                  <a:pt x="209" y="91"/>
                  <a:pt x="209" y="91"/>
                </a:cubicBezTo>
                <a:cubicBezTo>
                  <a:pt x="191" y="118"/>
                  <a:pt x="162" y="138"/>
                  <a:pt x="146" y="166"/>
                </a:cubicBezTo>
                <a:cubicBezTo>
                  <a:pt x="137" y="181"/>
                  <a:pt x="139" y="200"/>
                  <a:pt x="134" y="216"/>
                </a:cubicBezTo>
                <a:cubicBezTo>
                  <a:pt x="127" y="241"/>
                  <a:pt x="109" y="291"/>
                  <a:pt x="109" y="291"/>
                </a:cubicBezTo>
                <a:cubicBezTo>
                  <a:pt x="117" y="362"/>
                  <a:pt x="109" y="489"/>
                  <a:pt x="146" y="554"/>
                </a:cubicBezTo>
                <a:cubicBezTo>
                  <a:pt x="155" y="570"/>
                  <a:pt x="172" y="578"/>
                  <a:pt x="184" y="592"/>
                </a:cubicBezTo>
                <a:cubicBezTo>
                  <a:pt x="194" y="603"/>
                  <a:pt x="197" y="620"/>
                  <a:pt x="209" y="629"/>
                </a:cubicBezTo>
                <a:cubicBezTo>
                  <a:pt x="246" y="658"/>
                  <a:pt x="301" y="648"/>
                  <a:pt x="347" y="654"/>
                </a:cubicBezTo>
                <a:cubicBezTo>
                  <a:pt x="497" y="707"/>
                  <a:pt x="594" y="698"/>
                  <a:pt x="672" y="579"/>
                </a:cubicBezTo>
                <a:cubicBezTo>
                  <a:pt x="648" y="480"/>
                  <a:pt x="606" y="519"/>
                  <a:pt x="497" y="529"/>
                </a:cubicBezTo>
                <a:cubicBezTo>
                  <a:pt x="489" y="542"/>
                  <a:pt x="479" y="553"/>
                  <a:pt x="472" y="567"/>
                </a:cubicBezTo>
                <a:cubicBezTo>
                  <a:pt x="419" y="671"/>
                  <a:pt x="548" y="659"/>
                  <a:pt x="610" y="667"/>
                </a:cubicBezTo>
                <a:cubicBezTo>
                  <a:pt x="684" y="657"/>
                  <a:pt x="736" y="658"/>
                  <a:pt x="797" y="617"/>
                </a:cubicBezTo>
                <a:cubicBezTo>
                  <a:pt x="812" y="573"/>
                  <a:pt x="800" y="588"/>
                  <a:pt x="823" y="567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Box 97"/>
          <p:cNvSpPr/>
          <p:nvPr/>
        </p:nvSpPr>
        <p:spPr>
          <a:xfrm>
            <a:off x="571680" y="3286080"/>
            <a:ext cx="671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其中单链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病毒根据病毒复制过程中核酸能否作为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m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，分为正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和负链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宋体"/>
              </a:rPr>
              <a:t>RN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Box 98"/>
          <p:cNvSpPr/>
          <p:nvPr/>
        </p:nvSpPr>
        <p:spPr>
          <a:xfrm>
            <a:off x="500040" y="4670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壳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omer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(capsid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护、介导病毒感染、抗原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7419960" y="4786200"/>
            <a:ext cx="1295280" cy="1219320"/>
            <a:chOff x="7419960" y="4786200"/>
            <a:chExt cx="1295280" cy="1219320"/>
          </a:xfrm>
        </p:grpSpPr>
        <p:sp>
          <p:nvSpPr>
            <p:cNvPr id="235" name="Oval 5"/>
            <p:cNvSpPr/>
            <p:nvPr/>
          </p:nvSpPr>
          <p:spPr>
            <a:xfrm>
              <a:off x="8608680" y="53211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Oval 6"/>
            <p:cNvSpPr/>
            <p:nvPr/>
          </p:nvSpPr>
          <p:spPr>
            <a:xfrm>
              <a:off x="8572320" y="545328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Oval 7"/>
            <p:cNvSpPr/>
            <p:nvPr/>
          </p:nvSpPr>
          <p:spPr>
            <a:xfrm>
              <a:off x="8508600" y="5576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Oval 8"/>
            <p:cNvSpPr/>
            <p:nvPr/>
          </p:nvSpPr>
          <p:spPr>
            <a:xfrm>
              <a:off x="8451720" y="56908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8380080" y="58150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8265960" y="588204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815940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804816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79358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Oval 14"/>
            <p:cNvSpPr/>
            <p:nvPr/>
          </p:nvSpPr>
          <p:spPr>
            <a:xfrm>
              <a:off x="7815240" y="58802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Oval 15"/>
            <p:cNvSpPr/>
            <p:nvPr/>
          </p:nvSpPr>
          <p:spPr>
            <a:xfrm>
              <a:off x="7701120" y="58672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Oval 16"/>
            <p:cNvSpPr/>
            <p:nvPr/>
          </p:nvSpPr>
          <p:spPr>
            <a:xfrm>
              <a:off x="7627680" y="576720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Oval 17"/>
            <p:cNvSpPr/>
            <p:nvPr/>
          </p:nvSpPr>
          <p:spPr>
            <a:xfrm>
              <a:off x="7558200" y="56512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Oval 18"/>
            <p:cNvSpPr/>
            <p:nvPr/>
          </p:nvSpPr>
          <p:spPr>
            <a:xfrm>
              <a:off x="7486560" y="554688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Oval 19"/>
            <p:cNvSpPr/>
            <p:nvPr/>
          </p:nvSpPr>
          <p:spPr>
            <a:xfrm>
              <a:off x="7429680" y="541476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Oval 20"/>
            <p:cNvSpPr/>
            <p:nvPr/>
          </p:nvSpPr>
          <p:spPr>
            <a:xfrm>
              <a:off x="7493040" y="5172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Oval 21"/>
            <p:cNvSpPr/>
            <p:nvPr/>
          </p:nvSpPr>
          <p:spPr>
            <a:xfrm>
              <a:off x="7549920" y="504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Oval 22"/>
            <p:cNvSpPr/>
            <p:nvPr/>
          </p:nvSpPr>
          <p:spPr>
            <a:xfrm>
              <a:off x="7621200" y="49334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Oval 23"/>
            <p:cNvSpPr/>
            <p:nvPr/>
          </p:nvSpPr>
          <p:spPr>
            <a:xfrm>
              <a:off x="7705440" y="481932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Oval 24"/>
            <p:cNvSpPr/>
            <p:nvPr/>
          </p:nvSpPr>
          <p:spPr>
            <a:xfrm>
              <a:off x="78120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Oval 25"/>
            <p:cNvSpPr/>
            <p:nvPr/>
          </p:nvSpPr>
          <p:spPr>
            <a:xfrm>
              <a:off x="791640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Oval 26"/>
            <p:cNvSpPr/>
            <p:nvPr/>
          </p:nvSpPr>
          <p:spPr>
            <a:xfrm>
              <a:off x="80229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Oval 27"/>
            <p:cNvSpPr/>
            <p:nvPr/>
          </p:nvSpPr>
          <p:spPr>
            <a:xfrm>
              <a:off x="8245080" y="4793760"/>
              <a:ext cx="10800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Oval 28"/>
            <p:cNvSpPr/>
            <p:nvPr/>
          </p:nvSpPr>
          <p:spPr>
            <a:xfrm>
              <a:off x="8345160" y="486864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Oval 29"/>
            <p:cNvSpPr/>
            <p:nvPr/>
          </p:nvSpPr>
          <p:spPr>
            <a:xfrm>
              <a:off x="8416800" y="4951440"/>
              <a:ext cx="106560" cy="1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Oval 30"/>
            <p:cNvSpPr/>
            <p:nvPr/>
          </p:nvSpPr>
          <p:spPr>
            <a:xfrm>
              <a:off x="8486640" y="5073480"/>
              <a:ext cx="10764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Oval 31"/>
            <p:cNvSpPr/>
            <p:nvPr/>
          </p:nvSpPr>
          <p:spPr>
            <a:xfrm>
              <a:off x="8558280" y="519768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7419960" y="528012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8132760" y="4786200"/>
              <a:ext cx="106560" cy="123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衣壳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92160" y="1839960"/>
            <a:ext cx="497988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包裹在病毒核酸外的蛋白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壳粒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Capsomere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是基本结构单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衣壳主要有</a:t>
            </a:r>
            <a:r>
              <a:rPr b="1" lang="en-US" sz="20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种对称形式：螺旋对 称、二十面体对称和复合对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有免疫原性和抗原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裸病毒体衣壳蛋白能与易感细胞膜上的受体特异结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Verdana"/>
                <a:ea typeface="宋体"/>
              </a:rPr>
              <a:t>保护核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7" name="Picture 4" descr="icosahydral"/>
          <p:cNvPicPr/>
          <p:nvPr/>
        </p:nvPicPr>
        <p:blipFill>
          <a:blip r:embed="rId1"/>
          <a:srcRect l="0" t="4449" r="0" b="6654"/>
          <a:stretch/>
        </p:blipFill>
        <p:spPr>
          <a:xfrm>
            <a:off x="2500200" y="392904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0680" y="5127480"/>
            <a:ext cx="233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二十面体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Polyhedr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139840" y="5661000"/>
            <a:ext cx="38268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0" name="Picture 7" descr="helical structure"/>
          <p:cNvPicPr/>
          <p:nvPr/>
        </p:nvPicPr>
        <p:blipFill>
          <a:blip r:embed="rId2"/>
          <a:srcRect l="10012" t="3339" r="10557" b="4644"/>
          <a:stretch/>
        </p:blipFill>
        <p:spPr>
          <a:xfrm>
            <a:off x="5276880" y="5214960"/>
            <a:ext cx="874800" cy="1125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3">
            <a:lum contrast="6000"/>
          </a:blip>
          <a:srcRect l="30583" t="21307" r="22363" b="44076"/>
          <a:stretch/>
        </p:blipFill>
        <p:spPr>
          <a:xfrm>
            <a:off x="6300720" y="5445000"/>
            <a:ext cx="576360" cy="8445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9"/>
          <p:cNvSpPr/>
          <p:nvPr/>
        </p:nvSpPr>
        <p:spPr>
          <a:xfrm flipH="1">
            <a:off x="7066800" y="5357880"/>
            <a:ext cx="185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螺旋对称病毒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lica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10"/>
          <p:cNvSpPr/>
          <p:nvPr/>
        </p:nvSpPr>
        <p:spPr>
          <a:xfrm flipH="1">
            <a:off x="6849720" y="5877000"/>
            <a:ext cx="27000" cy="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1" descr="Untitled-4"/>
          <p:cNvPicPr/>
          <p:nvPr/>
        </p:nvPicPr>
        <p:blipFill>
          <a:blip r:embed="rId4"/>
          <a:srcRect l="27027" t="5403" r="28593" b="2704"/>
          <a:stretch/>
        </p:blipFill>
        <p:spPr>
          <a:xfrm>
            <a:off x="6929280" y="1401840"/>
            <a:ext cx="2060640" cy="3598920"/>
          </a:xfrm>
          <a:prstGeom prst="rect">
            <a:avLst/>
          </a:prstGeom>
          <a:ln w="0">
            <a:noFill/>
          </a:ln>
        </p:spPr>
      </p:pic>
      <p:sp>
        <p:nvSpPr>
          <p:cNvPr id="275" name="Line 12"/>
          <p:cNvSpPr/>
          <p:nvPr/>
        </p:nvSpPr>
        <p:spPr>
          <a:xfrm>
            <a:off x="7215120" y="2565360"/>
            <a:ext cx="392040" cy="1800"/>
          </a:xfrm>
          <a:prstGeom prst="line">
            <a:avLst/>
          </a:prstGeom>
          <a:ln w="572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5113080" y="1844640"/>
            <a:ext cx="210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华文新魏"/>
              </a:rPr>
              <a:t>复合对称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Complex viruses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90033"/>
                </a:solidFill>
                <a:latin typeface="Arial"/>
                <a:ea typeface="黑体"/>
              </a:rPr>
              <a:t>（</a:t>
            </a:r>
            <a:r>
              <a:rPr b="0" lang="en-US" sz="2000" spc="-1" strike="noStrike">
                <a:solidFill>
                  <a:srgbClr val="990033"/>
                </a:solidFill>
                <a:latin typeface="Arial"/>
                <a:ea typeface="黑体"/>
              </a:rPr>
              <a:t>Head-tail virus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包膜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85840" y="1980720"/>
            <a:ext cx="621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包裹在病毒核衣壳外，由宿主细胞的脂质双层膜和病毒的（糖）蛋白刺突构成的脂蛋白外膜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从宿主细胞“出芽”获得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对脂溶剂、干、热、酸敏感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刺突蛋白有免疫原性，可用于区分病毒的种、型、亚型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表面蛋白可与宿主细胞膜受体结合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92aa2"/>
                </a:solidFill>
                <a:latin typeface="Verdana"/>
                <a:ea typeface="宋体"/>
              </a:rPr>
              <a:t>可保护病毒核衣壳，与病毒感染性、致病性、免疫性有关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2" descr="13-07a_HelicalCapsid_U2"/>
          <p:cNvPicPr/>
          <p:nvPr/>
        </p:nvPicPr>
        <p:blipFill>
          <a:blip r:embed="rId1"/>
          <a:srcRect l="839" t="3080" r="49390" b="12398"/>
          <a:stretch/>
        </p:blipFill>
        <p:spPr>
          <a:xfrm>
            <a:off x="5942160" y="2060640"/>
            <a:ext cx="3058920" cy="2852640"/>
          </a:xfrm>
          <a:prstGeom prst="rect">
            <a:avLst/>
          </a:prstGeom>
          <a:ln w="0">
            <a:noFill/>
          </a:ln>
        </p:spPr>
      </p:pic>
      <p:sp>
        <p:nvSpPr>
          <p:cNvPr id="281" name="Line 3"/>
          <p:cNvSpPr/>
          <p:nvPr/>
        </p:nvSpPr>
        <p:spPr>
          <a:xfrm flipV="1">
            <a:off x="6373800" y="3573360"/>
            <a:ext cx="144360" cy="194328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 flipH="1" flipV="1">
            <a:off x="6878160" y="3716280"/>
            <a:ext cx="1079640" cy="1728720"/>
          </a:xfrm>
          <a:prstGeom prst="line">
            <a:avLst/>
          </a:prstGeom>
          <a:ln w="22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5813280" y="535788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刺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7456320" y="528624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黑体"/>
              </a:rPr>
              <a:t>包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流感病毒结构示意图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Picture 20" descr=""/>
          <p:cNvPicPr/>
          <p:nvPr/>
        </p:nvPicPr>
        <p:blipFill>
          <a:blip r:embed="rId1"/>
          <a:stretch/>
        </p:blipFill>
        <p:spPr>
          <a:xfrm>
            <a:off x="324000" y="1962000"/>
            <a:ext cx="859284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复制与复制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285840" y="1909800"/>
            <a:ext cx="861048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病毒在细胞内由病毒基因组引导合成病毒核酸、蛋白质及其它病毒结构成分，在宿主细胞质内或核内装配成熟，释放到细胞外的增殖方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复制周期 </a:t>
            </a:r>
            <a:r>
              <a:rPr b="1" lang="en-US" sz="2800" spc="-1" strike="noStrike">
                <a:solidFill>
                  <a:srgbClr val="1d1496"/>
                </a:solidFill>
                <a:latin typeface="Arial"/>
                <a:ea typeface="宋体"/>
              </a:rPr>
              <a:t>(replication cyc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从病毒体侵入细胞到子代病毒体生成释放，称为一个复制周期，包括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吸附、穿入、脱壳、生物合成和装配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4260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增殖周期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2068920" y="2071800"/>
            <a:ext cx="5552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吸附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sorp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感染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穿入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enetratio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病毒进入到细胞内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脱壳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coat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标志病毒进入隐蔽期的开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物合成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iosynthesi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：核酸的复制，蛋白质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组装、成熟释放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semble, mature and relea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95" name="Object 3"/>
          <p:cNvGraphicFramePr/>
          <p:nvPr/>
        </p:nvGraphicFramePr>
        <p:xfrm>
          <a:off x="1768320" y="2425680"/>
          <a:ext cx="5232600" cy="392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425680"/>
                    <a:ext cx="5232600" cy="3924360"/>
                  </a:xfrm>
                  <a:prstGeom prst="rect">
                    <a:avLst/>
                  </a:prstGeom>
                  <a:ln w="93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97" name="Group 4"/>
          <p:cNvGrpSpPr/>
          <p:nvPr/>
        </p:nvGrpSpPr>
        <p:grpSpPr>
          <a:xfrm>
            <a:off x="1643040" y="928800"/>
            <a:ext cx="5886360" cy="1383120"/>
            <a:chOff x="1643040" y="928800"/>
            <a:chExt cx="5886360" cy="1383120"/>
          </a:xfrm>
        </p:grpSpPr>
        <p:sp>
          <p:nvSpPr>
            <p:cNvPr id="298" name="Rectangle 5"/>
            <p:cNvSpPr/>
            <p:nvPr/>
          </p:nvSpPr>
          <p:spPr>
            <a:xfrm>
              <a:off x="5243400" y="1529280"/>
              <a:ext cx="69732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6"/>
            <p:cNvSpPr/>
            <p:nvPr/>
          </p:nvSpPr>
          <p:spPr>
            <a:xfrm>
              <a:off x="2754360" y="15282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D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0" name="Object 7"/>
            <p:cNvGraphicFramePr/>
            <p:nvPr/>
          </p:nvGraphicFramePr>
          <p:xfrm>
            <a:off x="2244600" y="1239840"/>
            <a:ext cx="1167840" cy="933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4460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Text Box 8"/>
            <p:cNvSpPr/>
            <p:nvPr/>
          </p:nvSpPr>
          <p:spPr>
            <a:xfrm>
              <a:off x="1643040" y="1500480"/>
              <a:ext cx="7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Line 9"/>
            <p:cNvSpPr/>
            <p:nvPr/>
          </p:nvSpPr>
          <p:spPr>
            <a:xfrm>
              <a:off x="3639240" y="1703160"/>
              <a:ext cx="8366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0"/>
            <p:cNvSpPr/>
            <p:nvPr/>
          </p:nvSpPr>
          <p:spPr>
            <a:xfrm>
              <a:off x="5271120" y="15282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  <a:ea typeface="黑体"/>
                </a:rPr>
                <a:t>RNA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1"/>
            <p:cNvSpPr/>
            <p:nvPr/>
          </p:nvSpPr>
          <p:spPr>
            <a:xfrm>
              <a:off x="364212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06" name="Object 12"/>
            <p:cNvGraphicFramePr/>
            <p:nvPr/>
          </p:nvGraphicFramePr>
          <p:xfrm>
            <a:off x="4546080" y="1239840"/>
            <a:ext cx="1167840" cy="933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546080" y="1239840"/>
                      <a:ext cx="1167840" cy="9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8" name="Line 13"/>
            <p:cNvSpPr/>
            <p:nvPr/>
          </p:nvSpPr>
          <p:spPr>
            <a:xfrm>
              <a:off x="6010560" y="1703160"/>
              <a:ext cx="696960" cy="0"/>
            </a:xfrm>
            <a:prstGeom prst="line">
              <a:avLst/>
            </a:prstGeom>
            <a:ln w="5724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4"/>
            <p:cNvSpPr/>
            <p:nvPr/>
          </p:nvSpPr>
          <p:spPr>
            <a:xfrm>
              <a:off x="6891480" y="1529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0033"/>
                  </a:solidFill>
                  <a:latin typeface="黑体"/>
                  <a:ea typeface="黑体"/>
                </a:rPr>
                <a:t>蛋白质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5929200" y="12855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翻译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 flipH="1">
              <a:off x="3639240" y="1876680"/>
              <a:ext cx="766800" cy="0"/>
            </a:xfrm>
            <a:prstGeom prst="line">
              <a:avLst/>
            </a:prstGeom>
            <a:ln w="57240">
              <a:solidFill>
                <a:srgbClr val="ddb5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3706560" y="19130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逆转录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Text Box 18"/>
            <p:cNvSpPr/>
            <p:nvPr/>
          </p:nvSpPr>
          <p:spPr>
            <a:xfrm>
              <a:off x="4714560" y="928800"/>
              <a:ext cx="90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99669b"/>
                  </a:solidFill>
                  <a:latin typeface="黑体"/>
                  <a:ea typeface="黑体"/>
                </a:rPr>
                <a:t>复制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4" name="TextBox 21"/>
          <p:cNvSpPr/>
          <p:nvPr/>
        </p:nvSpPr>
        <p:spPr>
          <a:xfrm>
            <a:off x="437760" y="705240"/>
            <a:ext cx="606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各种类型病毒转录翻译示意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60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异常增殖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980720"/>
            <a:ext cx="861084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顿挫感染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abortive infection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某些病毒感染非容纳细胞后，因宿主细胞不能为病毒复制提供全部必需物质，故不能产生完整的病毒体，或产生的病毒成分不能正常组装，这种感染称为顿挫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缺陷病毒（</a:t>
            </a:r>
            <a:r>
              <a:rPr b="1" lang="en-US" sz="2800" spc="-1" strike="noStrike">
                <a:solidFill>
                  <a:srgbClr val="99669b"/>
                </a:solidFill>
                <a:latin typeface="Verdana"/>
                <a:ea typeface="宋体"/>
              </a:rPr>
              <a:t>defective virus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基因组不完整的病毒体，称为缺陷病毒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defective virus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缺陷病毒本身不能复制，但却能干扰同种成熟病毒体进入细胞或在细胞内增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干扰现象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971520" y="1930320"/>
            <a:ext cx="1087560" cy="11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种病毒感染同一细胞或机体时，常常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种病毒抑制另一种病毒的复制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757240" y="3371760"/>
            <a:ext cx="3243600" cy="1263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 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1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  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毒株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424400" y="5027760"/>
            <a:ext cx="33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毒间的干扰现象可终止感染，使机体康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合理使用疫苗，避免干扰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理化因素对病毒的影响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3335400" y="1785960"/>
            <a:ext cx="276984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灭活（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宋体"/>
              </a:rPr>
              <a:t>disinfection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病毒在体内受到物理、化学因素作用后失去感染性，称为灭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一、物理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温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酸碱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射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二、化学因素的影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脂溶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化学消毒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其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和病毒体的定义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249984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us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是体积微小，结构简单，必须生长在活细胞中，借助电子显微镜才能观察到的非细胞型微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体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(vir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宋体"/>
              </a:rPr>
              <a:t>结构完整的、成熟的具有感染性的病毒颗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57120" y="2286000"/>
            <a:ext cx="8229600" cy="34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效波长范围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80n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理：使同一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链上相邻的两个胸腺嘧啶共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结合而形成二聚体，干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复制与转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用范围：空气及物体表面的消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357200" y="92880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紫外线灭活病毒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000080" y="22860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氧化剂：过氧化氢、过氧乙酸、高锰酸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金属盐类：硝酸银、红汞、硫柳汞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酚类：石炭酸、来苏、洗必泰等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醇类：浓度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乙醇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200000"/>
              </a:lnSpc>
              <a:buClr>
                <a:srgbClr val="1d14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烷化剂：杀菌力强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甲醛、环氧乙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428840" y="1000080"/>
            <a:ext cx="650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化学消毒剂种类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38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Arial"/>
                <a:ea typeface="华文新魏"/>
              </a:rPr>
              <a:t>病毒的分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8584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宿主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动物病毒、植物病毒、真菌病毒、细菌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入侵部位、传播途径及所致疾病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：呼吸道、肠道、肝炎、虫媒、嗜神经、经皮肤粘膜传播及肿瘤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按</a:t>
            </a:r>
            <a:r>
              <a:rPr b="1" lang="zh-CN" sz="2400" spc="-1" strike="noStrike">
                <a:solidFill>
                  <a:srgbClr val="fe230c"/>
                </a:solidFill>
                <a:latin typeface="Arial"/>
                <a:ea typeface="楷体_GB2312"/>
              </a:rPr>
              <a:t>核酸类型和包膜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分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双股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有或无包膜、复合对称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 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病毒     双股 、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正股、有或无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692aa2"/>
                </a:solidFill>
                <a:latin typeface="Arial"/>
                <a:ea typeface="楷体_GB2312"/>
              </a:rPr>
              <a:t>单负股、有包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亚病毒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68120" y="2000160"/>
          <a:ext cx="8832960" cy="3946680"/>
        </p:xfrm>
        <a:graphic>
          <a:graphicData uri="http://schemas.openxmlformats.org/drawingml/2006/table">
            <a:tbl>
              <a:tblPr/>
              <a:tblGrid>
                <a:gridCol w="1536840"/>
                <a:gridCol w="1150920"/>
                <a:gridCol w="1792440"/>
                <a:gridCol w="1803240"/>
                <a:gridCol w="2549520"/>
              </a:tblGrid>
              <a:tr h="64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亚病毒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核酸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类病毒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viroid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植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具高度二级结构抗降解，在细胞核或叶绿体内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卫星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satellite virus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单股环状负链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、动植物、真菌、细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在细胞质中复制，需辅助病毒，卫星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RNAs-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朊蛋白或朊病毒或朊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ion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蛋白酶抗性蛋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感染人和动物，引起大脑海绵样病变，疯牛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细胞朊蛋白同源异构体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1982</a:t>
                      </a: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年由</a:t>
                      </a:r>
                      <a:r>
                        <a:rPr b="1" lang="en-US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prusiner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692aa2"/>
                          </a:solidFill>
                          <a:latin typeface="Arial"/>
                          <a:ea typeface="黑体"/>
                        </a:rPr>
                        <a:t>发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9680" y="10713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3840" y="2214720"/>
            <a:ext cx="861084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有哪些基本特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体由哪些结构和化学物质组成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衣壳有何生物学作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包膜及刺突有何生物学意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以何种方式增殖？病毒的增殖方式与细菌有何不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的复制周期可分为哪些阶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基本特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85840" y="22856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是一种非细胞型微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个体微小，可通过除菌滤器，电子显微镜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结构简单，由蛋白质和核酸组成，只有一种核酸（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或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），无完整的细胞结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在活细胞内存活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以复制方式繁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对抗生素不敏感，干扰素可抑制病毒增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其它微生物的区别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428760" y="2071800"/>
          <a:ext cx="8304120" cy="43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3041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680" y="12855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与人类的关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56760" y="2643120"/>
            <a:ext cx="8610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传染性强。如流感、病毒性肝炎、艾滋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死率高，或后遗症严重。如狂犬病、脊髓灰质炎、乙型脑炎、出血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持续感染。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B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HCV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与肿瘤的形成、自身免疫性疾病发生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结构简单，还是基因工程中重要的载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病毒的大小与形态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2214360"/>
            <a:ext cx="861084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研究病毒形态方法有：电子显微镜技术、超速离心技术、分级超过滤技术、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线晶体衍射技术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病毒大小差异悬殊。一般在</a:t>
            </a:r>
            <a:r>
              <a:rPr b="1" lang="en-US" sz="2800" spc="-1" strike="noStrike">
                <a:solidFill>
                  <a:srgbClr val="692aa2"/>
                </a:solidFill>
                <a:latin typeface="Verdana"/>
                <a:ea typeface="宋体"/>
              </a:rPr>
              <a:t>20~250nm</a:t>
            </a: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形态具有多样性。多数为球形和近似球形，少数为子弹形、砖块形。噬菌体为蝌蚪形。植物病毒多数为杆状。多数病毒形态较固定，有些具有多形性。如流感病毒可球形、丝状、杆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409680" y="1057320"/>
            <a:ext cx="6019560" cy="5638680"/>
          </a:xfrm>
          <a:prstGeom prst="ellipse">
            <a:avLst/>
          </a:prstGeom>
          <a:solidFill>
            <a:srgbClr val="ffffcc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262240" y="1089000"/>
            <a:ext cx="2133720" cy="18288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678040" y="1244520"/>
            <a:ext cx="1295640" cy="129564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4624560" y="2809800"/>
            <a:ext cx="990360" cy="763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1119240" y="2809800"/>
            <a:ext cx="533520" cy="228600"/>
          </a:xfrm>
          <a:prstGeom prst="hexagon">
            <a:avLst>
              <a:gd name="adj" fmla="val 58346"/>
              <a:gd name="vf" fmla="val 115470"/>
            </a:avLst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576440" y="2886120"/>
            <a:ext cx="3049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1042920" y="4029120"/>
            <a:ext cx="685800" cy="609480"/>
          </a:xfrm>
          <a:prstGeom prst="hexagon">
            <a:avLst>
              <a:gd name="adj" fmla="val 28131"/>
              <a:gd name="vf" fmla="val 115470"/>
            </a:avLst>
          </a:prstGeom>
          <a:solidFill>
            <a:srgbClr val="ff33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033640" y="5095800"/>
            <a:ext cx="457200" cy="304920"/>
          </a:xfrm>
          <a:prstGeom prst="hexagon">
            <a:avLst>
              <a:gd name="adj" fmla="val 37485"/>
              <a:gd name="vf" fmla="val 115470"/>
            </a:avLst>
          </a:prstGeom>
          <a:solidFill>
            <a:srgbClr val="ff66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Oval 12"/>
          <p:cNvSpPr/>
          <p:nvPr/>
        </p:nvSpPr>
        <p:spPr>
          <a:xfrm>
            <a:off x="3176640" y="5553000"/>
            <a:ext cx="380880" cy="381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548240" y="5095800"/>
            <a:ext cx="228600" cy="1526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5005440" y="3800520"/>
            <a:ext cx="685800" cy="6858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490840" y="4105440"/>
            <a:ext cx="1676520" cy="76176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433440" y="3648240"/>
            <a:ext cx="22860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786120" y="3648240"/>
            <a:ext cx="2514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2643120" y="3286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葡萄球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00nm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1308240" y="2901960"/>
            <a:ext cx="60120" cy="20520"/>
          </a:xfrm>
          <a:custGeom>
            <a:avLst/>
            <a:gdLst>
              <a:gd name="textAreaLeft" fmla="*/ 0 w 60120"/>
              <a:gd name="textAreaRight" fmla="*/ 60480 w 601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38" h="13">
                <a:moveTo>
                  <a:pt x="0" y="0"/>
                </a:moveTo>
                <a:cubicBezTo>
                  <a:pt x="13" y="4"/>
                  <a:pt x="38" y="13"/>
                  <a:pt x="38" y="13"/>
                </a:cubicBezTo>
                <a:cubicBezTo>
                  <a:pt x="38" y="13"/>
                  <a:pt x="13" y="4"/>
                  <a:pt x="0" y="0"/>
                </a:cubicBez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1368360" y="2901960"/>
            <a:ext cx="138240" cy="41400"/>
          </a:xfrm>
          <a:custGeom>
            <a:avLst/>
            <a:gdLst>
              <a:gd name="textAreaLeft" fmla="*/ 0 w 138240"/>
              <a:gd name="textAreaRight" fmla="*/ 138240 w 1382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87" h="26">
                <a:moveTo>
                  <a:pt x="0" y="0"/>
                </a:moveTo>
                <a:cubicBezTo>
                  <a:pt x="3" y="1"/>
                  <a:pt x="72" y="26"/>
                  <a:pt x="75" y="25"/>
                </a:cubicBezTo>
                <a:cubicBezTo>
                  <a:pt x="84" y="23"/>
                  <a:pt x="83" y="8"/>
                  <a:pt x="87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216080" y="4221000"/>
            <a:ext cx="260280" cy="271800"/>
          </a:xfrm>
          <a:custGeom>
            <a:avLst/>
            <a:gdLst>
              <a:gd name="textAreaLeft" fmla="*/ 0 w 260280"/>
              <a:gd name="textAreaRight" fmla="*/ 260640 w 260280"/>
              <a:gd name="textAreaTop" fmla="*/ 0 h 271800"/>
              <a:gd name="textAreaBottom" fmla="*/ 272160 h 271800"/>
            </a:gdLst>
            <a:ahLst/>
            <a:rect l="textAreaLeft" t="textAreaTop" r="textAreaRight" b="textAreaBottom"/>
            <a:pathLst>
              <a:path w="164" h="171">
                <a:moveTo>
                  <a:pt x="45" y="33"/>
                </a:moveTo>
                <a:cubicBezTo>
                  <a:pt x="25" y="96"/>
                  <a:pt x="37" y="126"/>
                  <a:pt x="83" y="171"/>
                </a:cubicBezTo>
                <a:cubicBezTo>
                  <a:pt x="84" y="171"/>
                  <a:pt x="157" y="148"/>
                  <a:pt x="158" y="146"/>
                </a:cubicBezTo>
                <a:cubicBezTo>
                  <a:pt x="164" y="134"/>
                  <a:pt x="150" y="121"/>
                  <a:pt x="146" y="109"/>
                </a:cubicBezTo>
                <a:cubicBezTo>
                  <a:pt x="79" y="153"/>
                  <a:pt x="121" y="138"/>
                  <a:pt x="121" y="84"/>
                </a:cubicBezTo>
                <a:cubicBezTo>
                  <a:pt x="121" y="71"/>
                  <a:pt x="112" y="59"/>
                  <a:pt x="108" y="46"/>
                </a:cubicBezTo>
                <a:cubicBezTo>
                  <a:pt x="90" y="103"/>
                  <a:pt x="78" y="107"/>
                  <a:pt x="20" y="121"/>
                </a:cubicBezTo>
                <a:cubicBezTo>
                  <a:pt x="0" y="61"/>
                  <a:pt x="13" y="53"/>
                  <a:pt x="70" y="33"/>
                </a:cubicBezTo>
                <a:cubicBezTo>
                  <a:pt x="74" y="50"/>
                  <a:pt x="69" y="74"/>
                  <a:pt x="83" y="84"/>
                </a:cubicBezTo>
                <a:cubicBezTo>
                  <a:pt x="95" y="93"/>
                  <a:pt x="154" y="49"/>
                  <a:pt x="158" y="46"/>
                </a:cubicBezTo>
                <a:cubicBezTo>
                  <a:pt x="143" y="0"/>
                  <a:pt x="159" y="8"/>
                  <a:pt x="121" y="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2122560" y="5227560"/>
            <a:ext cx="218880" cy="60480"/>
          </a:xfrm>
          <a:custGeom>
            <a:avLst/>
            <a:gdLst>
              <a:gd name="textAreaLeft" fmla="*/ 0 w 218880"/>
              <a:gd name="textAreaRight" fmla="*/ 219240 w 2188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8" h="38">
                <a:moveTo>
                  <a:pt x="0" y="13"/>
                </a:moveTo>
                <a:cubicBezTo>
                  <a:pt x="13" y="17"/>
                  <a:pt x="25" y="26"/>
                  <a:pt x="38" y="26"/>
                </a:cubicBezTo>
                <a:cubicBezTo>
                  <a:pt x="55" y="26"/>
                  <a:pt x="71" y="11"/>
                  <a:pt x="88" y="13"/>
                </a:cubicBezTo>
                <a:cubicBezTo>
                  <a:pt x="103" y="15"/>
                  <a:pt x="113" y="30"/>
                  <a:pt x="126" y="38"/>
                </a:cubicBezTo>
                <a:cubicBezTo>
                  <a:pt x="130" y="25"/>
                  <a:pt x="138" y="0"/>
                  <a:pt x="13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3"/>
          <p:cNvSpPr/>
          <p:nvPr/>
        </p:nvSpPr>
        <p:spPr>
          <a:xfrm>
            <a:off x="3252960" y="5629320"/>
            <a:ext cx="228600" cy="22860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3295800" y="5745240"/>
            <a:ext cx="139680" cy="20520"/>
          </a:xfrm>
          <a:custGeom>
            <a:avLst/>
            <a:gdLst>
              <a:gd name="textAreaLeft" fmla="*/ 0 w 139680"/>
              <a:gd name="textAreaRight" fmla="*/ 140040 w 1396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" h="13">
                <a:moveTo>
                  <a:pt x="0" y="0"/>
                </a:moveTo>
                <a:cubicBezTo>
                  <a:pt x="13" y="4"/>
                  <a:pt x="25" y="13"/>
                  <a:pt x="38" y="13"/>
                </a:cubicBezTo>
                <a:cubicBezTo>
                  <a:pt x="55" y="13"/>
                  <a:pt x="88" y="0"/>
                  <a:pt x="88" y="0"/>
                </a:cubicBezTo>
              </a:path>
            </a:pathLst>
          </a:custGeom>
          <a:noFill/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35400" y="5726160"/>
            <a:ext cx="42840" cy="119160"/>
          </a:xfrm>
          <a:custGeom>
            <a:avLst/>
            <a:gdLst>
              <a:gd name="textAreaLeft" fmla="*/ 0 w 42840"/>
              <a:gd name="textAreaRight" fmla="*/ 43200 w 42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27" h="75">
                <a:moveTo>
                  <a:pt x="13" y="0"/>
                </a:moveTo>
                <a:cubicBezTo>
                  <a:pt x="17" y="12"/>
                  <a:pt x="27" y="24"/>
                  <a:pt x="25" y="37"/>
                </a:cubicBezTo>
                <a:cubicBezTo>
                  <a:pt x="22" y="52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5203800" y="3976560"/>
            <a:ext cx="338040" cy="368280"/>
          </a:xfrm>
          <a:custGeom>
            <a:avLst/>
            <a:gdLst>
              <a:gd name="textAreaLeft" fmla="*/ 0 w 338040"/>
              <a:gd name="textAreaRight" fmla="*/ 338400 w 338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213" h="232">
                <a:moveTo>
                  <a:pt x="75" y="62"/>
                </a:moveTo>
                <a:cubicBezTo>
                  <a:pt x="63" y="58"/>
                  <a:pt x="50" y="44"/>
                  <a:pt x="38" y="50"/>
                </a:cubicBezTo>
                <a:cubicBezTo>
                  <a:pt x="26" y="56"/>
                  <a:pt x="31" y="75"/>
                  <a:pt x="25" y="87"/>
                </a:cubicBezTo>
                <a:cubicBezTo>
                  <a:pt x="18" y="101"/>
                  <a:pt x="8" y="112"/>
                  <a:pt x="0" y="125"/>
                </a:cubicBezTo>
                <a:cubicBezTo>
                  <a:pt x="8" y="137"/>
                  <a:pt x="11" y="158"/>
                  <a:pt x="25" y="162"/>
                </a:cubicBezTo>
                <a:cubicBezTo>
                  <a:pt x="94" y="179"/>
                  <a:pt x="99" y="152"/>
                  <a:pt x="125" y="112"/>
                </a:cubicBezTo>
                <a:cubicBezTo>
                  <a:pt x="109" y="62"/>
                  <a:pt x="88" y="41"/>
                  <a:pt x="38" y="25"/>
                </a:cubicBezTo>
                <a:cubicBezTo>
                  <a:pt x="88" y="59"/>
                  <a:pt x="142" y="73"/>
                  <a:pt x="201" y="87"/>
                </a:cubicBezTo>
                <a:cubicBezTo>
                  <a:pt x="197" y="120"/>
                  <a:pt x="197" y="155"/>
                  <a:pt x="188" y="187"/>
                </a:cubicBezTo>
                <a:cubicBezTo>
                  <a:pt x="184" y="202"/>
                  <a:pt x="178" y="222"/>
                  <a:pt x="163" y="225"/>
                </a:cubicBezTo>
                <a:cubicBezTo>
                  <a:pt x="130" y="232"/>
                  <a:pt x="96" y="216"/>
                  <a:pt x="63" y="212"/>
                </a:cubicBezTo>
                <a:cubicBezTo>
                  <a:pt x="108" y="146"/>
                  <a:pt x="129" y="149"/>
                  <a:pt x="213" y="137"/>
                </a:cubicBezTo>
                <a:cubicBezTo>
                  <a:pt x="201" y="60"/>
                  <a:pt x="213" y="41"/>
                  <a:pt x="150" y="0"/>
                </a:cubicBezTo>
                <a:cubicBezTo>
                  <a:pt x="139" y="17"/>
                  <a:pt x="103" y="109"/>
                  <a:pt x="75" y="100"/>
                </a:cubicBezTo>
                <a:cubicBezTo>
                  <a:pt x="63" y="96"/>
                  <a:pt x="75" y="75"/>
                  <a:pt x="75" y="6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2490840" y="425772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牛痘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00×2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1119240" y="2962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1195560" y="4638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2033640" y="540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481560" y="578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4700520" y="5172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5691240" y="3952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4853160" y="2886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4410000" y="1951200"/>
            <a:ext cx="1447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立克次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45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6"/>
          <p:cNvSpPr/>
          <p:nvPr/>
        </p:nvSpPr>
        <p:spPr>
          <a:xfrm flipH="1">
            <a:off x="4167360" y="2048040"/>
            <a:ext cx="3045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2143080" y="1971720"/>
            <a:ext cx="1109880" cy="331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38"/>
          <p:cNvSpPr/>
          <p:nvPr/>
        </p:nvSpPr>
        <p:spPr>
          <a:xfrm>
            <a:off x="1143000" y="1843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衣原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390n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39"/>
          <p:cNvSpPr/>
          <p:nvPr/>
        </p:nvSpPr>
        <p:spPr>
          <a:xfrm>
            <a:off x="5691240" y="1344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A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大肠杆菌噬菌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65 nm×95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0"/>
          <p:cNvSpPr/>
          <p:nvPr/>
        </p:nvSpPr>
        <p:spPr>
          <a:xfrm>
            <a:off x="6286680" y="202896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B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腺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7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41"/>
          <p:cNvSpPr/>
          <p:nvPr/>
        </p:nvSpPr>
        <p:spPr>
          <a:xfrm>
            <a:off x="6519960" y="2743200"/>
            <a:ext cx="2481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C</a:t>
            </a: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、脊髓灰质炎病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1d1496"/>
                </a:solidFill>
                <a:latin typeface="Times New Roman"/>
                <a:ea typeface="宋体"/>
              </a:rPr>
              <a:t>(30nm )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6553080" y="3457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D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乙脑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4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553080" y="4243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E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蛋白分子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1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641016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F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流感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( 100nm 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5981760" y="581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G</a:t>
            </a:r>
            <a:r>
              <a:rPr b="1" lang="zh-CN" sz="2000" spc="-1" strike="noStrike">
                <a:solidFill>
                  <a:srgbClr val="1d1496"/>
                </a:solidFill>
                <a:latin typeface="Times New Roman"/>
                <a:ea typeface="宋体"/>
              </a:rPr>
              <a:t>、烟草花叶病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9056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病毒的</a:t>
            </a:r>
            <a:r>
              <a:rPr b="0" lang="zh-CN" sz="4800" spc="-1" strike="noStrike">
                <a:solidFill>
                  <a:srgbClr val="1d1496"/>
                </a:solidFill>
                <a:latin typeface="Verdana"/>
                <a:ea typeface="华文新魏"/>
              </a:rPr>
              <a:t>化学成分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843280" y="168588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核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915160" y="2333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结构蛋白质（衣壳、刺突、基质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979960" y="476712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脂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890960" y="6078600"/>
            <a:ext cx="13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76280" y="39178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  <a:ea typeface="黑体"/>
              </a:rPr>
              <a:t>非结构蛋白（酶、抑制细胞生物合成的蛋白等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8"/>
          <p:cNvSpPr/>
          <p:nvPr/>
        </p:nvSpPr>
        <p:spPr>
          <a:xfrm>
            <a:off x="3228840" y="3125880"/>
            <a:ext cx="2310120" cy="25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3389400" y="3270240"/>
            <a:ext cx="1989000" cy="22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 rot="5400000">
            <a:off x="3590640" y="3808440"/>
            <a:ext cx="1584360" cy="1155600"/>
          </a:xfrm>
          <a:prstGeom prst="hexagon">
            <a:avLst>
              <a:gd name="adj" fmla="val 34276"/>
              <a:gd name="vf" fmla="val 115470"/>
            </a:avLst>
          </a:prstGeom>
          <a:solidFill>
            <a:srgbClr val="ffdebd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4383000" y="290988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62880" y="2989440"/>
            <a:ext cx="73440" cy="203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 flipH="1">
            <a:off x="4723920" y="2993040"/>
            <a:ext cx="91440" cy="1958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630960" y="3135960"/>
            <a:ext cx="91440" cy="1972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>
            <a:off x="5033520" y="3142080"/>
            <a:ext cx="113760" cy="1850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270760" y="3463560"/>
            <a:ext cx="154800" cy="116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>
            <a:off x="3350880" y="3420360"/>
            <a:ext cx="142200" cy="129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4448160" y="5646600"/>
            <a:ext cx="0" cy="216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 flipH="1">
            <a:off x="5454720" y="3821400"/>
            <a:ext cx="189720" cy="102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5476680" y="4693680"/>
            <a:ext cx="179640" cy="306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V="1">
            <a:off x="5510520" y="4294800"/>
            <a:ext cx="220320" cy="4176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Line 22"/>
          <p:cNvSpPr/>
          <p:nvPr/>
        </p:nvSpPr>
        <p:spPr>
          <a:xfrm>
            <a:off x="3211560" y="3687480"/>
            <a:ext cx="1620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3101400" y="4040280"/>
            <a:ext cx="188640" cy="450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 flipV="1">
            <a:off x="3036240" y="4407480"/>
            <a:ext cx="191160" cy="313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Line 25"/>
          <p:cNvSpPr/>
          <p:nvPr/>
        </p:nvSpPr>
        <p:spPr>
          <a:xfrm flipV="1">
            <a:off x="3112920" y="4732200"/>
            <a:ext cx="165600" cy="1000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Line 26"/>
          <p:cNvSpPr/>
          <p:nvPr/>
        </p:nvSpPr>
        <p:spPr>
          <a:xfrm>
            <a:off x="5352840" y="5032080"/>
            <a:ext cx="149760" cy="626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>
            <a:off x="5217120" y="5238720"/>
            <a:ext cx="134280" cy="166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28"/>
          <p:cNvSpPr/>
          <p:nvPr/>
        </p:nvSpPr>
        <p:spPr>
          <a:xfrm flipV="1">
            <a:off x="3242880" y="5092920"/>
            <a:ext cx="162360" cy="1004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Line 29"/>
          <p:cNvSpPr/>
          <p:nvPr/>
        </p:nvSpPr>
        <p:spPr>
          <a:xfrm flipV="1">
            <a:off x="3445560" y="5311440"/>
            <a:ext cx="139320" cy="16524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Line 30"/>
          <p:cNvSpPr/>
          <p:nvPr/>
        </p:nvSpPr>
        <p:spPr>
          <a:xfrm flipH="1">
            <a:off x="4035240" y="5601240"/>
            <a:ext cx="54000" cy="20880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Line 31"/>
          <p:cNvSpPr/>
          <p:nvPr/>
        </p:nvSpPr>
        <p:spPr>
          <a:xfrm>
            <a:off x="4719960" y="5587560"/>
            <a:ext cx="99360" cy="18972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Line 32"/>
          <p:cNvSpPr/>
          <p:nvPr/>
        </p:nvSpPr>
        <p:spPr>
          <a:xfrm>
            <a:off x="4975920" y="5441040"/>
            <a:ext cx="98640" cy="1936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Line 33"/>
          <p:cNvSpPr/>
          <p:nvPr/>
        </p:nvSpPr>
        <p:spPr>
          <a:xfrm flipH="1">
            <a:off x="3717000" y="5482800"/>
            <a:ext cx="111600" cy="186480"/>
          </a:xfrm>
          <a:prstGeom prst="line">
            <a:avLst/>
          </a:prstGeom>
          <a:ln w="104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4032360" y="3906720"/>
            <a:ext cx="693360" cy="921960"/>
            <a:chOff x="4032360" y="3906720"/>
            <a:chExt cx="693360" cy="921960"/>
          </a:xfrm>
        </p:grpSpPr>
        <p:sp>
          <p:nvSpPr>
            <p:cNvPr id="201" name="Freeform 35"/>
            <p:cNvSpPr/>
            <p:nvPr/>
          </p:nvSpPr>
          <p:spPr>
            <a:xfrm>
              <a:off x="4106520" y="3909960"/>
              <a:ext cx="542160" cy="15048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4032360" y="4161240"/>
              <a:ext cx="644040" cy="1656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37"/>
            <p:cNvSpPr/>
            <p:nvPr/>
          </p:nvSpPr>
          <p:spPr>
            <a:xfrm>
              <a:off x="4047480" y="4411800"/>
              <a:ext cx="678240" cy="180000"/>
            </a:xfrm>
            <a:custGeom>
              <a:avLst/>
              <a:gdLst>
                <a:gd name="textAreaLeft" fmla="*/ 0 w 678240"/>
                <a:gd name="textAreaRight" fmla="*/ 678600 w 678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38"/>
            <p:cNvSpPr/>
            <p:nvPr/>
          </p:nvSpPr>
          <p:spPr>
            <a:xfrm>
              <a:off x="4132800" y="4662360"/>
              <a:ext cx="543600" cy="166320"/>
            </a:xfrm>
            <a:custGeom>
              <a:avLst/>
              <a:gdLst>
                <a:gd name="textAreaLeft" fmla="*/ 0 w 543600"/>
                <a:gd name="textAreaRight" fmla="*/ 543960 w 5436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39"/>
            <p:cNvSpPr/>
            <p:nvPr/>
          </p:nvSpPr>
          <p:spPr>
            <a:xfrm>
              <a:off x="4064760" y="3906720"/>
              <a:ext cx="449280" cy="32004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40"/>
            <p:cNvSpPr/>
            <p:nvPr/>
          </p:nvSpPr>
          <p:spPr>
            <a:xfrm>
              <a:off x="4126320" y="4123080"/>
              <a:ext cx="508320" cy="37332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41"/>
            <p:cNvSpPr/>
            <p:nvPr/>
          </p:nvSpPr>
          <p:spPr>
            <a:xfrm>
              <a:off x="4126320" y="441036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4102200" y="3951360"/>
            <a:ext cx="691560" cy="921960"/>
            <a:chOff x="4102200" y="3951360"/>
            <a:chExt cx="691560" cy="921960"/>
          </a:xfrm>
        </p:grpSpPr>
        <p:sp>
          <p:nvSpPr>
            <p:cNvPr id="209" name="Freeform 43"/>
            <p:cNvSpPr/>
            <p:nvPr/>
          </p:nvSpPr>
          <p:spPr>
            <a:xfrm>
              <a:off x="4176000" y="3954600"/>
              <a:ext cx="540720" cy="15048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6" h="101">
                  <a:moveTo>
                    <a:pt x="86" y="1"/>
                  </a:moveTo>
                  <a:cubicBezTo>
                    <a:pt x="43" y="26"/>
                    <a:pt x="0" y="51"/>
                    <a:pt x="12" y="68"/>
                  </a:cubicBezTo>
                  <a:cubicBezTo>
                    <a:pt x="25" y="84"/>
                    <a:pt x="99" y="101"/>
                    <a:pt x="160" y="101"/>
                  </a:cubicBezTo>
                  <a:cubicBezTo>
                    <a:pt x="222" y="101"/>
                    <a:pt x="358" y="85"/>
                    <a:pt x="382" y="68"/>
                  </a:cubicBezTo>
                  <a:cubicBezTo>
                    <a:pt x="406" y="51"/>
                    <a:pt x="319" y="14"/>
                    <a:pt x="303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44"/>
            <p:cNvSpPr/>
            <p:nvPr/>
          </p:nvSpPr>
          <p:spPr>
            <a:xfrm>
              <a:off x="4102200" y="4205880"/>
              <a:ext cx="642600" cy="1656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81" h="111">
                  <a:moveTo>
                    <a:pt x="28" y="30"/>
                  </a:moveTo>
                  <a:cubicBezTo>
                    <a:pt x="28" y="36"/>
                    <a:pt x="0" y="55"/>
                    <a:pt x="31" y="67"/>
                  </a:cubicBezTo>
                  <a:cubicBezTo>
                    <a:pt x="62" y="79"/>
                    <a:pt x="148" y="94"/>
                    <a:pt x="216" y="100"/>
                  </a:cubicBezTo>
                  <a:cubicBezTo>
                    <a:pt x="284" y="105"/>
                    <a:pt x="395" y="111"/>
                    <a:pt x="438" y="100"/>
                  </a:cubicBezTo>
                  <a:cubicBezTo>
                    <a:pt x="481" y="89"/>
                    <a:pt x="475" y="50"/>
                    <a:pt x="475" y="33"/>
                  </a:cubicBezTo>
                  <a:cubicBezTo>
                    <a:pt x="475" y="17"/>
                    <a:pt x="444" y="6"/>
                    <a:pt x="438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45"/>
            <p:cNvSpPr/>
            <p:nvPr/>
          </p:nvSpPr>
          <p:spPr>
            <a:xfrm>
              <a:off x="4117320" y="4456440"/>
              <a:ext cx="676440" cy="18000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658" h="172">
                  <a:moveTo>
                    <a:pt x="74" y="48"/>
                  </a:moveTo>
                  <a:cubicBezTo>
                    <a:pt x="42" y="88"/>
                    <a:pt x="0" y="125"/>
                    <a:pt x="26" y="144"/>
                  </a:cubicBezTo>
                  <a:cubicBezTo>
                    <a:pt x="52" y="163"/>
                    <a:pt x="166" y="156"/>
                    <a:pt x="232" y="160"/>
                  </a:cubicBezTo>
                  <a:cubicBezTo>
                    <a:pt x="298" y="164"/>
                    <a:pt x="362" y="172"/>
                    <a:pt x="424" y="169"/>
                  </a:cubicBezTo>
                  <a:cubicBezTo>
                    <a:pt x="486" y="166"/>
                    <a:pt x="564" y="164"/>
                    <a:pt x="602" y="144"/>
                  </a:cubicBezTo>
                  <a:cubicBezTo>
                    <a:pt x="640" y="124"/>
                    <a:pt x="658" y="72"/>
                    <a:pt x="650" y="48"/>
                  </a:cubicBezTo>
                  <a:cubicBezTo>
                    <a:pt x="642" y="24"/>
                    <a:pt x="570" y="8"/>
                    <a:pt x="554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46"/>
            <p:cNvSpPr/>
            <p:nvPr/>
          </p:nvSpPr>
          <p:spPr>
            <a:xfrm>
              <a:off x="4202280" y="4707000"/>
              <a:ext cx="542160" cy="166320"/>
            </a:xfrm>
            <a:custGeom>
              <a:avLst/>
              <a:gdLst>
                <a:gd name="textAreaLeft" fmla="*/ 0 w 542160"/>
                <a:gd name="textAreaRight" fmla="*/ 542520 w 5421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526" h="160">
                  <a:moveTo>
                    <a:pt x="38" y="0"/>
                  </a:moveTo>
                  <a:cubicBezTo>
                    <a:pt x="32" y="13"/>
                    <a:pt x="2" y="56"/>
                    <a:pt x="1" y="78"/>
                  </a:cubicBezTo>
                  <a:cubicBezTo>
                    <a:pt x="0" y="100"/>
                    <a:pt x="15" y="122"/>
                    <a:pt x="29" y="133"/>
                  </a:cubicBezTo>
                  <a:cubicBezTo>
                    <a:pt x="43" y="144"/>
                    <a:pt x="52" y="140"/>
                    <a:pt x="86" y="144"/>
                  </a:cubicBezTo>
                  <a:cubicBezTo>
                    <a:pt x="120" y="148"/>
                    <a:pt x="198" y="160"/>
                    <a:pt x="230" y="160"/>
                  </a:cubicBezTo>
                  <a:cubicBezTo>
                    <a:pt x="262" y="160"/>
                    <a:pt x="254" y="147"/>
                    <a:pt x="278" y="144"/>
                  </a:cubicBezTo>
                  <a:cubicBezTo>
                    <a:pt x="302" y="141"/>
                    <a:pt x="334" y="152"/>
                    <a:pt x="374" y="144"/>
                  </a:cubicBezTo>
                  <a:cubicBezTo>
                    <a:pt x="414" y="136"/>
                    <a:pt x="510" y="120"/>
                    <a:pt x="518" y="96"/>
                  </a:cubicBezTo>
                  <a:cubicBezTo>
                    <a:pt x="526" y="72"/>
                    <a:pt x="438" y="16"/>
                    <a:pt x="422" y="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47"/>
            <p:cNvSpPr/>
            <p:nvPr/>
          </p:nvSpPr>
          <p:spPr>
            <a:xfrm>
              <a:off x="4134600" y="3951360"/>
              <a:ext cx="446760" cy="320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320040"/>
                <a:gd name="textAreaBottom" fmla="*/ 320040 h 320040"/>
              </a:gdLst>
              <a:ahLst/>
              <a:rect l="textAreaLeft" t="textAreaTop" r="textAreaRight" b="textAreaBottom"/>
              <a:pathLst>
                <a:path w="334" h="214">
                  <a:moveTo>
                    <a:pt x="334" y="8"/>
                  </a:moveTo>
                  <a:cubicBezTo>
                    <a:pt x="302" y="4"/>
                    <a:pt x="270" y="0"/>
                    <a:pt x="238" y="8"/>
                  </a:cubicBezTo>
                  <a:cubicBezTo>
                    <a:pt x="206" y="16"/>
                    <a:pt x="166" y="43"/>
                    <a:pt x="142" y="56"/>
                  </a:cubicBezTo>
                  <a:cubicBezTo>
                    <a:pt x="118" y="69"/>
                    <a:pt x="107" y="75"/>
                    <a:pt x="94" y="86"/>
                  </a:cubicBezTo>
                  <a:cubicBezTo>
                    <a:pt x="81" y="97"/>
                    <a:pt x="79" y="102"/>
                    <a:pt x="64" y="122"/>
                  </a:cubicBezTo>
                  <a:cubicBezTo>
                    <a:pt x="49" y="142"/>
                    <a:pt x="8" y="198"/>
                    <a:pt x="4" y="206"/>
                  </a:cubicBezTo>
                  <a:cubicBezTo>
                    <a:pt x="0" y="214"/>
                    <a:pt x="33" y="177"/>
                    <a:pt x="40" y="17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48"/>
            <p:cNvSpPr/>
            <p:nvPr/>
          </p:nvSpPr>
          <p:spPr>
            <a:xfrm>
              <a:off x="4196160" y="4167720"/>
              <a:ext cx="506880" cy="37332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378" h="248">
                  <a:moveTo>
                    <a:pt x="378" y="32"/>
                  </a:moveTo>
                  <a:cubicBezTo>
                    <a:pt x="371" y="28"/>
                    <a:pt x="351" y="12"/>
                    <a:pt x="336" y="8"/>
                  </a:cubicBezTo>
                  <a:cubicBezTo>
                    <a:pt x="321" y="4"/>
                    <a:pt x="312" y="8"/>
                    <a:pt x="288" y="8"/>
                  </a:cubicBezTo>
                  <a:cubicBezTo>
                    <a:pt x="264" y="8"/>
                    <a:pt x="224" y="0"/>
                    <a:pt x="192" y="8"/>
                  </a:cubicBezTo>
                  <a:cubicBezTo>
                    <a:pt x="160" y="16"/>
                    <a:pt x="120" y="40"/>
                    <a:pt x="96" y="56"/>
                  </a:cubicBezTo>
                  <a:cubicBezTo>
                    <a:pt x="72" y="72"/>
                    <a:pt x="64" y="72"/>
                    <a:pt x="48" y="104"/>
                  </a:cubicBezTo>
                  <a:cubicBezTo>
                    <a:pt x="32" y="136"/>
                    <a:pt x="8" y="224"/>
                    <a:pt x="0" y="248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49"/>
            <p:cNvSpPr/>
            <p:nvPr/>
          </p:nvSpPr>
          <p:spPr>
            <a:xfrm>
              <a:off x="4196160" y="4455000"/>
              <a:ext cx="514440" cy="298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298800"/>
                <a:gd name="textAreaBottom" fmla="*/ 299160 h 298800"/>
              </a:gdLst>
              <a:ahLst/>
              <a:rect l="textAreaLeft" t="textAreaTop" r="textAreaRight" b="textAreaBottom"/>
              <a:pathLst>
                <a:path w="384" h="200">
                  <a:moveTo>
                    <a:pt x="384" y="8"/>
                  </a:moveTo>
                  <a:cubicBezTo>
                    <a:pt x="372" y="8"/>
                    <a:pt x="360" y="8"/>
                    <a:pt x="336" y="8"/>
                  </a:cubicBezTo>
                  <a:cubicBezTo>
                    <a:pt x="312" y="8"/>
                    <a:pt x="272" y="8"/>
                    <a:pt x="240" y="8"/>
                  </a:cubicBezTo>
                  <a:cubicBezTo>
                    <a:pt x="208" y="8"/>
                    <a:pt x="168" y="0"/>
                    <a:pt x="144" y="8"/>
                  </a:cubicBezTo>
                  <a:cubicBezTo>
                    <a:pt x="120" y="16"/>
                    <a:pt x="112" y="40"/>
                    <a:pt x="96" y="56"/>
                  </a:cubicBezTo>
                  <a:cubicBezTo>
                    <a:pt x="80" y="72"/>
                    <a:pt x="64" y="80"/>
                    <a:pt x="48" y="104"/>
                  </a:cubicBezTo>
                  <a:cubicBezTo>
                    <a:pt x="32" y="128"/>
                    <a:pt x="8" y="184"/>
                    <a:pt x="0" y="200"/>
                  </a:cubicBezTo>
                </a:path>
              </a:pathLst>
            </a:custGeom>
            <a:noFill/>
            <a:ln w="572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6" name="Oval 50"/>
          <p:cNvSpPr/>
          <p:nvPr/>
        </p:nvSpPr>
        <p:spPr>
          <a:xfrm>
            <a:off x="3967200" y="3989520"/>
            <a:ext cx="146160" cy="1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51"/>
          <p:cNvSpPr/>
          <p:nvPr/>
        </p:nvSpPr>
        <p:spPr>
          <a:xfrm flipH="1" flipV="1">
            <a:off x="2651040" y="3846240"/>
            <a:ext cx="1346400" cy="23004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52"/>
          <p:cNvSpPr/>
          <p:nvPr/>
        </p:nvSpPr>
        <p:spPr>
          <a:xfrm>
            <a:off x="3419640" y="2262240"/>
            <a:ext cx="1215720" cy="17827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53"/>
          <p:cNvSpPr/>
          <p:nvPr/>
        </p:nvSpPr>
        <p:spPr>
          <a:xfrm flipH="1">
            <a:off x="5594040" y="2909880"/>
            <a:ext cx="320760" cy="1368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54"/>
          <p:cNvSpPr/>
          <p:nvPr/>
        </p:nvSpPr>
        <p:spPr>
          <a:xfrm flipH="1">
            <a:off x="4956120" y="2981160"/>
            <a:ext cx="959040" cy="10828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55"/>
          <p:cNvSpPr/>
          <p:nvPr/>
        </p:nvSpPr>
        <p:spPr>
          <a:xfrm flipH="1">
            <a:off x="4635000" y="2981160"/>
            <a:ext cx="1279800" cy="578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56"/>
          <p:cNvSpPr/>
          <p:nvPr/>
        </p:nvSpPr>
        <p:spPr>
          <a:xfrm>
            <a:off x="2203560" y="2984400"/>
            <a:ext cx="14580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57"/>
          <p:cNvSpPr/>
          <p:nvPr/>
        </p:nvSpPr>
        <p:spPr>
          <a:xfrm>
            <a:off x="1949400" y="290988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Oval 58"/>
          <p:cNvSpPr/>
          <p:nvPr/>
        </p:nvSpPr>
        <p:spPr>
          <a:xfrm>
            <a:off x="1820880" y="3321000"/>
            <a:ext cx="146160" cy="16668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59"/>
          <p:cNvSpPr/>
          <p:nvPr/>
        </p:nvSpPr>
        <p:spPr>
          <a:xfrm>
            <a:off x="2266920" y="3125880"/>
            <a:ext cx="384120" cy="7207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60"/>
          <p:cNvSpPr/>
          <p:nvPr/>
        </p:nvSpPr>
        <p:spPr>
          <a:xfrm flipH="1" flipV="1">
            <a:off x="5340240" y="4854600"/>
            <a:ext cx="641520" cy="216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61"/>
          <p:cNvSpPr/>
          <p:nvPr/>
        </p:nvSpPr>
        <p:spPr>
          <a:xfrm flipH="1" flipV="1">
            <a:off x="4443120" y="5862600"/>
            <a:ext cx="384120" cy="432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mingzhe</cp:lastModifiedBy>
  <cp:lastPrinted>1899-12-30T00:00:00Z</cp:lastPrinted>
  <dcterms:modified xsi:type="dcterms:W3CDTF">2015-08-26T05:41:20Z</dcterms:modified>
  <cp:revision>3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