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4648C-7ADF-494E-BF78-1913291F27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9F25-270C-4F70-A7EF-4E85F685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AFF55-9C4A-4B65-8E0E-3EF2D7D4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9820-CD6F-46FF-87AB-51374FCD2B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2233C-4CDB-4029-BF4C-F1855DFC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6664-80F2-4ABF-8F3F-B008E7D9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6A96-B59B-40CB-977C-FB1C2DFB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F6548-E51F-49E8-8FA7-F9601CE5A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A3EF-A6B4-4B67-94AD-D8F25A68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E4DE-01AF-4A7D-8CCC-AF1F7B5F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E4204-0C23-4868-BCE4-D1E89421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CFC8-82C4-4375-BF4F-4748D788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9DD7-21F0-46A4-AC7C-9860CAB4BA6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细菌与病毒感染的实验室检查与防治原则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653200" y="492912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5280" y="1773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化学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包膜与细胞膜融合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20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脱壳（金刚烷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型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核酸合成（阿昔洛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疱疹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前体蛋白裂解（英地那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I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断病毒释放（达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流感病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3640" y="1844280"/>
            <a:ext cx="633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扰素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interferon,IF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广谱抗病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病毒基因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天然药物（中草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331640" y="2708280"/>
            <a:ext cx="71341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菌与病毒感染的实验室检查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菌药物的临床应用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细菌与病毒感染的实验室检查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41160" y="1864800"/>
            <a:ext cx="803412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标本采集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菌操作，避免污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适宜的采集时间和采集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早期和使用抗生素之前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事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冷藏速送（奈瑟菌除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及时检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详细登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涂片镜检（形态、染色有特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（选择、鉴别培养基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实验（诊断血清查未知抗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（指导临床用药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实验（细菌毒力和致病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力检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9640" y="2092320"/>
            <a:ext cx="7794720" cy="24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原菌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玻片凝集、协同凝集、酶免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技术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原菌及其结构成分检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镜检（光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电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颗粒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离培养与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F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ID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物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80920" y="1865160"/>
            <a:ext cx="7723440" cy="42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培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原代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倍体细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代细胞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胚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制备（流感病毒）、病毒分离、科学研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病毒体及其结构成分检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2200" y="2092320"/>
            <a:ext cx="80834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体结构成分检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抗原（特异性抗体查抗原；酶免疫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荧光免疫技术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核酸（核酸分子杂交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细菌与病毒感染的防治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2492280"/>
            <a:ext cx="86043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菌药物作用机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细胞壁合成（青霉素类、头孢类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损伤细胞膜（多黏菌素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蛋白质合成（氯霉素、链霉素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抑制核酸合成（磺胺类、吡哌酸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矩形 5"/>
          <p:cNvSpPr/>
          <p:nvPr/>
        </p:nvSpPr>
        <p:spPr>
          <a:xfrm>
            <a:off x="3385800" y="177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细菌感染的药物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2050920" y="1989000"/>
            <a:ext cx="46818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应用抗菌药物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理选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剂量适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替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合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47:05Z</dcterms:modified>
  <cp:revision>103</cp:revision>
  <dc:subject/>
  <dc:title>内科护理学</dc:title>
</cp:coreProperties>
</file>