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5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9402-BC6A-4FC0-8D50-877DF7978B1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3B09-94F8-40C3-99FE-5EB40255902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5DC5-1137-4417-BF71-9AF6E18A85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C8EB-24C1-446E-8D0D-3F71B94F36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0758-BCA4-4DEB-AB97-32B32B73CC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D837-BED0-4800-A12E-265B4823F82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093E-B0C9-4A22-8337-E6274BE71E2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05FC-A938-46FB-AF41-207E6F4528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1F0F-2E1F-46E0-A7DD-96E98825BE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C416-4BE2-40F4-90C9-6EFC332CACD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B23B-9122-4E83-8224-D3F9BE3CCE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0E2E-669F-4D02-A967-60CDC19AC3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1C58-CF56-469C-88CC-3D8CD91558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033F-FA1D-4E5B-9D56-EAC47CB5968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8770-B1EC-48A6-9646-431A8D6F27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2738-0F88-45E0-8147-F885525098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8FAA-E9A6-43C8-BCB9-2D9C60F10A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F52-8FC2-482D-991A-70F3D831D0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F72B-4926-43B8-B129-661BCAA9B1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ACE2-DCF6-4A19-A0D2-4FD0236C27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69A6-C73D-4033-AE33-718AD55B22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6DFB-237D-4C2B-A11C-A42F1E5B407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E97F-61B8-4E0C-89BD-413DF09A3B0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550A-38F6-46A7-8F3E-D69B7A1966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1B00-AE87-446A-B53A-64024E8714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A324-C626-4F82-8BD5-3905886E6F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1E79-79B3-4180-9238-821241AC00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4850-4757-4F80-BEAA-6F3E44F452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F7BF-212A-46B0-A02D-554E4D606A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14C4-3A36-42CD-B3A1-2734B30A14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D084-9517-4C75-9B47-3BD400625E9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8315-49FB-40B1-9686-80F85C30C6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3151-C2A7-42CE-AEE6-4DCADB988C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07EA-75B9-4BF0-B97E-C9F8A57238D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207C-9466-4291-B5E1-B3941AD21C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DD85-4219-4FE4-9E18-87230D92B41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D997-EFE1-4EFA-9B20-F38104C1C53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9F69-A8AE-4FAD-A2CC-6DD0CB4966D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D5A8-FF3B-4BFA-8F4B-4466B9F4D2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926E-EAA8-4624-8257-8EA78941986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3C13-235F-4BED-8D2C-1F838D920BD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03FB-9962-4B99-B237-A84C333423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6357-398A-463F-B9A5-D25154F5DD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4413-D89F-4BA8-93BD-7BC409DE5B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A1F-9EEC-49A5-8FDB-11D30AB114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351B-1E58-453C-B22A-C6DB6CDBDE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B3CC-80BB-4457-8898-6BBD5A7662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76F-7DBF-4798-AC04-E60E0DBC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08D-B060-4A9A-A402-C16265F3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4C1-9DA2-46CC-94DD-FCAA17F8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5F4-3B4A-45A0-A48F-B5308157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7C59-52FA-4607-87A7-28F60E34A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4995-EFB5-4B0F-A315-A4FFFBB6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23E4-8066-4AD7-ABE7-FC21C492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74FB-6E76-4F62-8420-A257CA01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165A-FB89-40BB-A83E-1BBA6928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A3CA-6B76-4A6F-8874-511A4314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2E2C-8F2D-4905-A4FB-362CA523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37B-8E1C-4A2E-8A2C-F20F9CF5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D08C-C39A-4372-909F-0EA4B05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3BF1-FDE9-416E-9894-D762B60E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4455-B655-4F6A-9574-1514B903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8196-8E32-4D4C-8970-58953BB5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2700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53640" y="155736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00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2700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53640" y="3889080"/>
            <a:ext cx="259668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73A8-3872-4B89-B3E8-3FE09757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324-B2AA-44C1-81CF-36399DEE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EA3-EC23-4074-9C54-A1E04476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31B7-C912-4AB6-9AF1-D428B0FD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259920"/>
            <a:ext cx="779292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3FA-96FD-44AD-957D-210ABF51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DB2-EED3-4967-9BB4-18F22079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0" y="388908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E4BC-8328-40D0-88FE-DD3AF1CF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0" y="1557360"/>
            <a:ext cx="39355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00000" y="3889080"/>
            <a:ext cx="806472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49A-93EF-4FA5-AA29-1047CE86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0" y="476280"/>
            <a:ext cx="8542080" cy="1052280"/>
            <a:chOff x="0" y="47628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290520" y="5842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673200" y="5842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414360" y="10065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784080" y="10065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0" y="9334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635040" y="4762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315720" y="12668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469D-DFC5-458B-812A-89EB793E59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050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2051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2052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2053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2054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2055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2056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2057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2058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2059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71F0-1969-4DB1-940C-1274D7214C7F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41D7-CD55-41F1-9C8A-E108F3F61A6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20640"/>
            <a:ext cx="7678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第三十五章   </a:t>
            </a:r>
            <a:br>
              <a:rPr sz="5400"/>
            </a:br>
            <a:r>
              <a:rPr b="1" lang="zh-CN" sz="5400" spc="-1" strike="noStrike">
                <a:solidFill>
                  <a:srgbClr val="080910"/>
                </a:solidFill>
                <a:latin typeface="Times New Roman"/>
              </a:rPr>
              <a:t>其他原核细胞型微生物</a:t>
            </a:r>
            <a:r>
              <a:rPr b="0" lang="zh-CN" sz="5400" spc="-1" strike="noStrike">
                <a:solidFill>
                  <a:srgbClr val="080910"/>
                </a:solidFill>
                <a:latin typeface="Times New Roman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3370680" y="42148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B93F-8397-4527-AB61-BF6C11F8B0D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4537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68360" y="2205000"/>
            <a:ext cx="835164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免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主要，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Ig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免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患者血清中可产生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g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冷凝集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冷凝集素与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型血红细胞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发生凝集，在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7℃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条件下凝集消失，故称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冷凝集试验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可用于肺炎支原体感染的辅助诊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6BFC-B92B-470E-B9D1-A21F0B73E9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475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二节 衣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衣原体是一类严格细胞内寄生，有独特发育周期，能通过细菌滤器的原核细胞型微生物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80E0-FAD6-4E1D-A3F4-C795A55719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475920"/>
            <a:ext cx="49453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共同特征</a:t>
            </a:r>
            <a:r>
              <a:rPr b="0" lang="zh-CN" sz="4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革兰阴性，具有类似革兰阴性菌的细胞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严格细胞内寄生，有独特的发育周期，行二分裂方式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有核糖体和较复杂的酶类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缺乏代谢所需的能量，需宿主细胞提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19A5-F7F0-4DDC-A183-497BEE8DFCD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发育周期与形态染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在宿主细胞内繁殖有独特发育周期，呈现两种形态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原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lementary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E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始体（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initial body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也称网状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28"/>
          <p:cNvSpPr/>
          <p:nvPr/>
        </p:nvSpPr>
        <p:spPr>
          <a:xfrm>
            <a:off x="1187280" y="620640"/>
            <a:ext cx="46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一、生物学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533520"/>
            <a:ext cx="9143640" cy="5409720"/>
            <a:chOff x="0" y="533520"/>
            <a:chExt cx="9143640" cy="5409720"/>
          </a:xfrm>
        </p:grpSpPr>
        <p:grpSp>
          <p:nvGrpSpPr>
            <p:cNvPr id="150" name="Group 3"/>
            <p:cNvGrpSpPr/>
            <p:nvPr/>
          </p:nvGrpSpPr>
          <p:grpSpPr>
            <a:xfrm>
              <a:off x="8280" y="538560"/>
              <a:ext cx="9125280" cy="5398560"/>
              <a:chOff x="8280" y="538560"/>
              <a:chExt cx="9125280" cy="5398560"/>
            </a:xfrm>
          </p:grpSpPr>
          <p:grpSp>
            <p:nvGrpSpPr>
              <p:cNvPr id="151" name="Group 4"/>
              <p:cNvGrpSpPr/>
              <p:nvPr/>
            </p:nvGrpSpPr>
            <p:grpSpPr>
              <a:xfrm>
                <a:off x="8280" y="538560"/>
                <a:ext cx="4892400" cy="853920"/>
                <a:chOff x="8280" y="538560"/>
                <a:chExt cx="4892400" cy="853920"/>
              </a:xfrm>
            </p:grpSpPr>
            <p:sp>
              <p:nvSpPr>
                <p:cNvPr id="152" name="Rectangle 5"/>
                <p:cNvSpPr/>
                <p:nvPr/>
              </p:nvSpPr>
              <p:spPr>
                <a:xfrm>
                  <a:off x="133920" y="538560"/>
                  <a:ext cx="46411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原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Rectangle 6"/>
                <p:cNvSpPr/>
                <p:nvPr/>
              </p:nvSpPr>
              <p:spPr>
                <a:xfrm>
                  <a:off x="8280" y="538560"/>
                  <a:ext cx="48924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4" name="Group 7"/>
              <p:cNvGrpSpPr/>
              <p:nvPr/>
            </p:nvGrpSpPr>
            <p:grpSpPr>
              <a:xfrm>
                <a:off x="4901040" y="538560"/>
                <a:ext cx="4232520" cy="853920"/>
                <a:chOff x="4901040" y="538560"/>
                <a:chExt cx="4232520" cy="853920"/>
              </a:xfrm>
            </p:grpSpPr>
            <p:sp>
              <p:nvSpPr>
                <p:cNvPr id="155" name="Rectangle 8"/>
                <p:cNvSpPr/>
                <p:nvPr/>
              </p:nvSpPr>
              <p:spPr>
                <a:xfrm>
                  <a:off x="5026680" y="538560"/>
                  <a:ext cx="3980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0000"/>
                      </a:solidFill>
                      <a:latin typeface="Times New Roman"/>
                    </a:rPr>
                    <a:t>始体</a:t>
                  </a:r>
                  <a:endParaRPr b="0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80910"/>
                      </a:solidFill>
                      <a:latin typeface="Times New Roman"/>
                    </a:rPr>
                    <a:t>网状体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Rectangle 9"/>
                <p:cNvSpPr/>
                <p:nvPr/>
              </p:nvSpPr>
              <p:spPr>
                <a:xfrm>
                  <a:off x="4901040" y="538560"/>
                  <a:ext cx="4232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7" name="Group 10"/>
              <p:cNvGrpSpPr/>
              <p:nvPr/>
            </p:nvGrpSpPr>
            <p:grpSpPr>
              <a:xfrm>
                <a:off x="8280" y="1392840"/>
                <a:ext cx="4892400" cy="444240"/>
                <a:chOff x="8280" y="1392840"/>
                <a:chExt cx="4892400" cy="444240"/>
              </a:xfrm>
            </p:grpSpPr>
            <p:sp>
              <p:nvSpPr>
                <p:cNvPr id="158" name="Rectangle 11"/>
                <p:cNvSpPr/>
                <p:nvPr/>
              </p:nvSpPr>
              <p:spPr>
                <a:xfrm>
                  <a:off x="133920" y="1392840"/>
                  <a:ext cx="46411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小而致密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2~0.4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9" name="Rectangle 12"/>
                <p:cNvSpPr/>
                <p:nvPr/>
              </p:nvSpPr>
              <p:spPr>
                <a:xfrm>
                  <a:off x="8280" y="1392840"/>
                  <a:ext cx="489240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0" name="Group 13"/>
              <p:cNvGrpSpPr/>
              <p:nvPr/>
            </p:nvGrpSpPr>
            <p:grpSpPr>
              <a:xfrm>
                <a:off x="4901040" y="1392840"/>
                <a:ext cx="4232520" cy="444240"/>
                <a:chOff x="4901040" y="1392840"/>
                <a:chExt cx="4232520" cy="444240"/>
              </a:xfrm>
            </p:grpSpPr>
            <p:sp>
              <p:nvSpPr>
                <p:cNvPr id="161" name="Rectangle 14"/>
                <p:cNvSpPr/>
                <p:nvPr/>
              </p:nvSpPr>
              <p:spPr>
                <a:xfrm>
                  <a:off x="5026680" y="1392840"/>
                  <a:ext cx="3980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大而疏松，直径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0.5~1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Symbol"/>
                      <a:ea typeface="Symbol"/>
                    </a:rPr>
                    <a:t>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</a:t>
                  </a:r>
                  <a:r>
                    <a:rPr b="0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" name="Rectangle 15"/>
                <p:cNvSpPr/>
                <p:nvPr/>
              </p:nvSpPr>
              <p:spPr>
                <a:xfrm>
                  <a:off x="4901040" y="1392840"/>
                  <a:ext cx="4232520" cy="44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3" name="Group 16"/>
              <p:cNvGrpSpPr/>
              <p:nvPr/>
            </p:nvGrpSpPr>
            <p:grpSpPr>
              <a:xfrm>
                <a:off x="8280" y="1837440"/>
                <a:ext cx="4892400" cy="682560"/>
                <a:chOff x="8280" y="1837440"/>
                <a:chExt cx="4892400" cy="682560"/>
              </a:xfrm>
            </p:grpSpPr>
            <p:sp>
              <p:nvSpPr>
                <p:cNvPr id="164" name="Rectangle 17"/>
                <p:cNvSpPr/>
                <p:nvPr/>
              </p:nvSpPr>
              <p:spPr>
                <a:xfrm>
                  <a:off x="133920" y="18374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球形、椭圆形或梨形</a:t>
                  </a:r>
                  <a:r>
                    <a:rPr b="0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，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5" name="Rectangle 18"/>
                <p:cNvSpPr/>
                <p:nvPr/>
              </p:nvSpPr>
              <p:spPr>
                <a:xfrm>
                  <a:off x="8280" y="18374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9"/>
              <p:cNvGrpSpPr/>
              <p:nvPr/>
            </p:nvGrpSpPr>
            <p:grpSpPr>
              <a:xfrm>
                <a:off x="4901040" y="1837440"/>
                <a:ext cx="4232520" cy="682560"/>
                <a:chOff x="4901040" y="1837440"/>
                <a:chExt cx="4232520" cy="682560"/>
              </a:xfrm>
            </p:grpSpPr>
            <p:sp>
              <p:nvSpPr>
                <p:cNvPr id="167" name="Rectangle 20"/>
                <p:cNvSpPr/>
                <p:nvPr/>
              </p:nvSpPr>
              <p:spPr>
                <a:xfrm>
                  <a:off x="5026680" y="18374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圆形或椭圆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8" name="Rectangle 21"/>
                <p:cNvSpPr/>
                <p:nvPr/>
              </p:nvSpPr>
              <p:spPr>
                <a:xfrm>
                  <a:off x="4901040" y="18374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9" name="Group 22"/>
              <p:cNvGrpSpPr/>
              <p:nvPr/>
            </p:nvGrpSpPr>
            <p:grpSpPr>
              <a:xfrm>
                <a:off x="8280" y="2520720"/>
                <a:ext cx="4892400" cy="682920"/>
                <a:chOff x="8280" y="2520720"/>
                <a:chExt cx="4892400" cy="682920"/>
              </a:xfrm>
            </p:grpSpPr>
            <p:sp>
              <p:nvSpPr>
                <p:cNvPr id="170" name="Rectangle 23"/>
                <p:cNvSpPr/>
                <p:nvPr/>
              </p:nvSpPr>
              <p:spPr>
                <a:xfrm>
                  <a:off x="133920" y="25207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有致密的类核结构，有胞壁，发育成熟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4"/>
                <p:cNvSpPr/>
                <p:nvPr/>
              </p:nvSpPr>
              <p:spPr>
                <a:xfrm>
                  <a:off x="8280" y="25207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25"/>
              <p:cNvGrpSpPr/>
              <p:nvPr/>
            </p:nvGrpSpPr>
            <p:grpSpPr>
              <a:xfrm>
                <a:off x="4901040" y="2520720"/>
                <a:ext cx="4232520" cy="682920"/>
                <a:chOff x="4901040" y="2520720"/>
                <a:chExt cx="4232520" cy="682920"/>
              </a:xfrm>
            </p:grpSpPr>
            <p:sp>
              <p:nvSpPr>
                <p:cNvPr id="173" name="Rectangle 26"/>
                <p:cNvSpPr/>
                <p:nvPr/>
              </p:nvSpPr>
              <p:spPr>
                <a:xfrm>
                  <a:off x="5026680" y="25207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电子致密度较低，无胞壁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4" name="Rectangle 27"/>
                <p:cNvSpPr/>
                <p:nvPr/>
              </p:nvSpPr>
              <p:spPr>
                <a:xfrm>
                  <a:off x="4901040" y="25207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5" name="Group 28"/>
              <p:cNvGrpSpPr/>
              <p:nvPr/>
            </p:nvGrpSpPr>
            <p:grpSpPr>
              <a:xfrm>
                <a:off x="8280" y="3204360"/>
                <a:ext cx="4892400" cy="682560"/>
                <a:chOff x="8280" y="3204360"/>
                <a:chExt cx="4892400" cy="682560"/>
              </a:xfrm>
            </p:grpSpPr>
            <p:sp>
              <p:nvSpPr>
                <p:cNvPr id="176" name="Rectangle 29"/>
                <p:cNvSpPr/>
                <p:nvPr/>
              </p:nvSpPr>
              <p:spPr>
                <a:xfrm>
                  <a:off x="133920" y="32043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Giemsa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紫色，</a:t>
                  </a: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红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30"/>
                <p:cNvSpPr/>
                <p:nvPr/>
              </p:nvSpPr>
              <p:spPr>
                <a:xfrm>
                  <a:off x="8280" y="32043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Group 31"/>
              <p:cNvGrpSpPr/>
              <p:nvPr/>
            </p:nvGrpSpPr>
            <p:grpSpPr>
              <a:xfrm>
                <a:off x="4901040" y="3204360"/>
                <a:ext cx="4232520" cy="682560"/>
                <a:chOff x="4901040" y="3204360"/>
                <a:chExt cx="4232520" cy="6825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5026680" y="32043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80910"/>
                      </a:solidFill>
                      <a:latin typeface="Times New Roman"/>
                    </a:rPr>
                    <a:t>Macchiavello  </a:t>
                  </a: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蓝色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33"/>
                <p:cNvSpPr/>
                <p:nvPr/>
              </p:nvSpPr>
              <p:spPr>
                <a:xfrm>
                  <a:off x="4901040" y="32043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1" name="Group 34"/>
              <p:cNvGrpSpPr/>
              <p:nvPr/>
            </p:nvGrpSpPr>
            <p:grpSpPr>
              <a:xfrm>
                <a:off x="8280" y="3887640"/>
                <a:ext cx="4892400" cy="682560"/>
                <a:chOff x="8280" y="3887640"/>
                <a:chExt cx="4892400" cy="682560"/>
              </a:xfrm>
            </p:grpSpPr>
            <p:sp>
              <p:nvSpPr>
                <p:cNvPr id="182" name="Rectangle 35"/>
                <p:cNvSpPr/>
                <p:nvPr/>
              </p:nvSpPr>
              <p:spPr>
                <a:xfrm>
                  <a:off x="133920" y="388764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高度感染性（有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Rectangle 36"/>
                <p:cNvSpPr/>
                <p:nvPr/>
              </p:nvSpPr>
              <p:spPr>
                <a:xfrm>
                  <a:off x="8280" y="388764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4901040" y="3887640"/>
                <a:ext cx="4232520" cy="682560"/>
                <a:chOff x="4901040" y="3887640"/>
                <a:chExt cx="4232520" cy="682560"/>
              </a:xfrm>
            </p:grpSpPr>
            <p:sp>
              <p:nvSpPr>
                <p:cNvPr id="185" name="Rectangle 38"/>
                <p:cNvSpPr/>
                <p:nvPr/>
              </p:nvSpPr>
              <p:spPr>
                <a:xfrm>
                  <a:off x="5026680" y="388764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感染性（无毒性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Rectangle 39"/>
                <p:cNvSpPr/>
                <p:nvPr/>
              </p:nvSpPr>
              <p:spPr>
                <a:xfrm>
                  <a:off x="4901040" y="388764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7" name="Group 40"/>
              <p:cNvGrpSpPr/>
              <p:nvPr/>
            </p:nvGrpSpPr>
            <p:grpSpPr>
              <a:xfrm>
                <a:off x="8280" y="4570920"/>
                <a:ext cx="4892400" cy="682920"/>
                <a:chOff x="8280" y="4570920"/>
                <a:chExt cx="4892400" cy="682920"/>
              </a:xfrm>
            </p:grpSpPr>
            <p:sp>
              <p:nvSpPr>
                <p:cNvPr id="188" name="Rectangle 41"/>
                <p:cNvSpPr/>
                <p:nvPr/>
              </p:nvSpPr>
              <p:spPr>
                <a:xfrm>
                  <a:off x="133920" y="4570920"/>
                  <a:ext cx="46411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无繁殖能力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9" name="Rectangle 42"/>
                <p:cNvSpPr/>
                <p:nvPr/>
              </p:nvSpPr>
              <p:spPr>
                <a:xfrm>
                  <a:off x="8280" y="4570920"/>
                  <a:ext cx="489240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0" name="Group 43"/>
              <p:cNvGrpSpPr/>
              <p:nvPr/>
            </p:nvGrpSpPr>
            <p:grpSpPr>
              <a:xfrm>
                <a:off x="4901040" y="4570920"/>
                <a:ext cx="4232520" cy="682920"/>
                <a:chOff x="4901040" y="4570920"/>
                <a:chExt cx="4232520" cy="682920"/>
              </a:xfrm>
            </p:grpSpPr>
            <p:sp>
              <p:nvSpPr>
                <p:cNvPr id="191" name="Rectangle 44"/>
                <p:cNvSpPr/>
                <p:nvPr/>
              </p:nvSpPr>
              <p:spPr>
                <a:xfrm>
                  <a:off x="5026680" y="4570920"/>
                  <a:ext cx="3980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以二分裂方式繁殖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2" name="Rectangle 45"/>
                <p:cNvSpPr/>
                <p:nvPr/>
              </p:nvSpPr>
              <p:spPr>
                <a:xfrm>
                  <a:off x="4901040" y="4570920"/>
                  <a:ext cx="4232520" cy="68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3" name="Group 46"/>
              <p:cNvGrpSpPr/>
              <p:nvPr/>
            </p:nvGrpSpPr>
            <p:grpSpPr>
              <a:xfrm>
                <a:off x="8280" y="5254560"/>
                <a:ext cx="4892400" cy="682560"/>
                <a:chOff x="8280" y="5254560"/>
                <a:chExt cx="4892400" cy="682560"/>
              </a:xfrm>
            </p:grpSpPr>
            <p:sp>
              <p:nvSpPr>
                <p:cNvPr id="194" name="Rectangle 47"/>
                <p:cNvSpPr/>
                <p:nvPr/>
              </p:nvSpPr>
              <p:spPr>
                <a:xfrm>
                  <a:off x="133920" y="5254560"/>
                  <a:ext cx="46411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强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5" name="Rectangle 48"/>
                <p:cNvSpPr/>
                <p:nvPr/>
              </p:nvSpPr>
              <p:spPr>
                <a:xfrm>
                  <a:off x="8280" y="5254560"/>
                  <a:ext cx="489240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6" name="Group 49"/>
              <p:cNvGrpSpPr/>
              <p:nvPr/>
            </p:nvGrpSpPr>
            <p:grpSpPr>
              <a:xfrm>
                <a:off x="4901040" y="5254560"/>
                <a:ext cx="4232520" cy="682560"/>
                <a:chOff x="4901040" y="5254560"/>
                <a:chExt cx="4232520" cy="682560"/>
              </a:xfrm>
            </p:grpSpPr>
            <p:sp>
              <p:nvSpPr>
                <p:cNvPr id="197" name="Rectangle 50"/>
                <p:cNvSpPr/>
                <p:nvPr/>
              </p:nvSpPr>
              <p:spPr>
                <a:xfrm>
                  <a:off x="5026680" y="5254560"/>
                  <a:ext cx="3980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80910"/>
                      </a:solidFill>
                      <a:latin typeface="Times New Roman"/>
                    </a:rPr>
                    <a:t>胞外稳定性弱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8" name="Rectangle 51"/>
                <p:cNvSpPr/>
                <p:nvPr/>
              </p:nvSpPr>
              <p:spPr>
                <a:xfrm>
                  <a:off x="4901040" y="5254560"/>
                  <a:ext cx="4232520" cy="682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99" name="Rectangle 52"/>
            <p:cNvSpPr/>
            <p:nvPr/>
          </p:nvSpPr>
          <p:spPr>
            <a:xfrm>
              <a:off x="0" y="533520"/>
              <a:ext cx="9143640" cy="54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0" name="Line 53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54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55"/>
          <p:cNvSpPr/>
          <p:nvPr/>
        </p:nvSpPr>
        <p:spPr>
          <a:xfrm>
            <a:off x="228600" y="5791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56"/>
          <p:cNvSpPr/>
          <p:nvPr/>
        </p:nvSpPr>
        <p:spPr>
          <a:xfrm>
            <a:off x="179280" y="3933720"/>
            <a:ext cx="338472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5076720" y="3933720"/>
            <a:ext cx="2664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2FAA-1B37-48A2-A021-9F100DAFCCD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Group 2"/>
          <p:cNvGrpSpPr/>
          <p:nvPr/>
        </p:nvGrpSpPr>
        <p:grpSpPr>
          <a:xfrm>
            <a:off x="755640" y="1268280"/>
            <a:ext cx="8208720" cy="5328720"/>
            <a:chOff x="755640" y="1268280"/>
            <a:chExt cx="8208720" cy="5328720"/>
          </a:xfrm>
        </p:grpSpPr>
        <p:sp>
          <p:nvSpPr>
            <p:cNvPr id="207" name="Text Box 3"/>
            <p:cNvSpPr/>
            <p:nvPr/>
          </p:nvSpPr>
          <p:spPr>
            <a:xfrm>
              <a:off x="5928120" y="2471760"/>
              <a:ext cx="418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08" name="Picture 4" descr="衣原体周期1"/>
            <p:cNvPicPr/>
            <p:nvPr/>
          </p:nvPicPr>
          <p:blipFill>
            <a:blip r:embed="rId1"/>
            <a:srcRect l="13058" t="13058" r="6699" b="13058"/>
            <a:stretch/>
          </p:blipFill>
          <p:spPr>
            <a:xfrm>
              <a:off x="755640" y="1617840"/>
              <a:ext cx="1985040" cy="1576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Group 5"/>
            <p:cNvGrpSpPr/>
            <p:nvPr/>
          </p:nvGrpSpPr>
          <p:grpSpPr>
            <a:xfrm>
              <a:off x="2740680" y="1491120"/>
              <a:ext cx="2793240" cy="1566720"/>
              <a:chOff x="2740680" y="1491120"/>
              <a:chExt cx="2793240" cy="1566720"/>
            </a:xfrm>
          </p:grpSpPr>
          <p:pic>
            <p:nvPicPr>
              <p:cNvPr id="210" name="Picture 6" descr="衣原体周期2"/>
              <p:cNvPicPr/>
              <p:nvPr/>
            </p:nvPicPr>
            <p:blipFill>
              <a:blip r:embed="rId2"/>
              <a:srcRect l="11393" t="11189" r="7684" b="12782"/>
              <a:stretch/>
            </p:blipFill>
            <p:spPr>
              <a:xfrm>
                <a:off x="3549240" y="1491120"/>
                <a:ext cx="1984680" cy="15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Line 7"/>
              <p:cNvSpPr/>
              <p:nvPr/>
            </p:nvSpPr>
            <p:spPr>
              <a:xfrm>
                <a:off x="2740680" y="225144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6122880" y="4722840"/>
              <a:ext cx="2131920" cy="1874160"/>
              <a:chOff x="6122880" y="4722840"/>
              <a:chExt cx="2131920" cy="1874160"/>
            </a:xfrm>
          </p:grpSpPr>
          <p:pic>
            <p:nvPicPr>
              <p:cNvPr id="213" name="Picture 9" descr="衣原体周期4"/>
              <p:cNvPicPr/>
              <p:nvPr/>
            </p:nvPicPr>
            <p:blipFill>
              <a:blip r:embed="rId3"/>
              <a:srcRect l="13891" t="7971" r="7154" b="8520"/>
              <a:stretch/>
            </p:blipFill>
            <p:spPr>
              <a:xfrm>
                <a:off x="6122880" y="5033880"/>
                <a:ext cx="2131920" cy="156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Line 10"/>
              <p:cNvSpPr/>
              <p:nvPr/>
            </p:nvSpPr>
            <p:spPr>
              <a:xfrm>
                <a:off x="7666560" y="4722840"/>
                <a:ext cx="0" cy="28368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1"/>
            <p:cNvGrpSpPr/>
            <p:nvPr/>
          </p:nvGrpSpPr>
          <p:grpSpPr>
            <a:xfrm>
              <a:off x="3255480" y="4849560"/>
              <a:ext cx="2792880" cy="1612080"/>
              <a:chOff x="3255480" y="4849560"/>
              <a:chExt cx="2792880" cy="1612080"/>
            </a:xfrm>
          </p:grpSpPr>
          <p:pic>
            <p:nvPicPr>
              <p:cNvPr id="216" name="Picture 12" descr="衣原体周期6"/>
              <p:cNvPicPr/>
              <p:nvPr/>
            </p:nvPicPr>
            <p:blipFill>
              <a:blip r:embed="rId4"/>
              <a:srcRect l="15615" t="13131" r="6128" b="9363"/>
              <a:stretch/>
            </p:blipFill>
            <p:spPr>
              <a:xfrm>
                <a:off x="3255480" y="4849560"/>
                <a:ext cx="1984680" cy="161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Line 13"/>
              <p:cNvSpPr/>
              <p:nvPr/>
            </p:nvSpPr>
            <p:spPr>
              <a:xfrm flipH="1">
                <a:off x="5313600" y="5736600"/>
                <a:ext cx="73476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 flipV="1">
              <a:off x="1564200" y="3201840"/>
              <a:ext cx="0" cy="316440"/>
            </a:xfrm>
            <a:prstGeom prst="line">
              <a:avLst/>
            </a:prstGeom>
            <a:ln w="57240">
              <a:solidFill>
                <a:srgbClr val="f2470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9" name="Group 15"/>
            <p:cNvGrpSpPr/>
            <p:nvPr/>
          </p:nvGrpSpPr>
          <p:grpSpPr>
            <a:xfrm>
              <a:off x="5608080" y="1268280"/>
              <a:ext cx="3087720" cy="1363320"/>
              <a:chOff x="5608080" y="1268280"/>
              <a:chExt cx="3087720" cy="1363320"/>
            </a:xfrm>
          </p:grpSpPr>
          <p:sp>
            <p:nvSpPr>
              <p:cNvPr id="220" name="Line 16"/>
              <p:cNvSpPr/>
              <p:nvPr/>
            </p:nvSpPr>
            <p:spPr>
              <a:xfrm>
                <a:off x="5608080" y="2006640"/>
                <a:ext cx="7351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1" name="Group 17"/>
              <p:cNvGrpSpPr/>
              <p:nvPr/>
            </p:nvGrpSpPr>
            <p:grpSpPr>
              <a:xfrm>
                <a:off x="6416640" y="1268280"/>
                <a:ext cx="2279160" cy="1363320"/>
                <a:chOff x="6416640" y="1268280"/>
                <a:chExt cx="2279160" cy="1363320"/>
              </a:xfrm>
            </p:grpSpPr>
            <p:pic>
              <p:nvPicPr>
                <p:cNvPr id="222" name="Picture 18" descr="衣原体周期3"/>
                <p:cNvPicPr/>
                <p:nvPr/>
              </p:nvPicPr>
              <p:blipFill>
                <a:blip r:embed="rId5"/>
                <a:srcRect l="9751" t="13201" r="5089" b="12822"/>
                <a:stretch/>
              </p:blipFill>
              <p:spPr>
                <a:xfrm>
                  <a:off x="6416640" y="1268280"/>
                  <a:ext cx="2279160" cy="136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3" name="Oval 19"/>
                <p:cNvSpPr/>
                <p:nvPr/>
              </p:nvSpPr>
              <p:spPr>
                <a:xfrm>
                  <a:off x="7383240" y="2043000"/>
                  <a:ext cx="69120" cy="51480"/>
                </a:xfrm>
                <a:prstGeom prst="ellipse">
                  <a:avLst/>
                </a:prstGeom>
                <a:solidFill>
                  <a:srgbClr val="f8a176"/>
                </a:solidFill>
                <a:ln w="3240">
                  <a:solidFill>
                    <a:srgbClr val="f8a1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24" name="Group 20"/>
            <p:cNvGrpSpPr/>
            <p:nvPr/>
          </p:nvGrpSpPr>
          <p:grpSpPr>
            <a:xfrm>
              <a:off x="7005240" y="2631600"/>
              <a:ext cx="1959120" cy="2058840"/>
              <a:chOff x="7005240" y="2631600"/>
              <a:chExt cx="1959120" cy="2058840"/>
            </a:xfrm>
          </p:grpSpPr>
          <p:grpSp>
            <p:nvGrpSpPr>
              <p:cNvPr id="225" name="Group 21"/>
              <p:cNvGrpSpPr/>
              <p:nvPr/>
            </p:nvGrpSpPr>
            <p:grpSpPr>
              <a:xfrm>
                <a:off x="7005240" y="2948040"/>
                <a:ext cx="1959120" cy="1742400"/>
                <a:chOff x="7005240" y="2948040"/>
                <a:chExt cx="1959120" cy="1742400"/>
              </a:xfrm>
            </p:grpSpPr>
            <p:pic>
              <p:nvPicPr>
                <p:cNvPr id="226" name="Picture 22" descr="衣原体周期3"/>
                <p:cNvPicPr/>
                <p:nvPr/>
              </p:nvPicPr>
              <p:blipFill>
                <a:blip r:embed="rId6"/>
                <a:srcRect l="10839" t="8056" r="7110" b="7550"/>
                <a:stretch/>
              </p:blipFill>
              <p:spPr>
                <a:xfrm>
                  <a:off x="7005240" y="2948040"/>
                  <a:ext cx="1959120" cy="174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Oval 23"/>
                <p:cNvSpPr/>
                <p:nvPr/>
              </p:nvSpPr>
              <p:spPr>
                <a:xfrm rot="7395600">
                  <a:off x="7817400" y="3894120"/>
                  <a:ext cx="63360" cy="135000"/>
                </a:xfrm>
                <a:prstGeom prst="ellipse">
                  <a:avLst/>
                </a:prstGeom>
                <a:solidFill>
                  <a:srgbClr val="d5cac3"/>
                </a:solidFill>
                <a:ln w="64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8" name="Line 24"/>
              <p:cNvSpPr/>
              <p:nvPr/>
            </p:nvSpPr>
            <p:spPr>
              <a:xfrm>
                <a:off x="7072560" y="2631600"/>
                <a:ext cx="0" cy="3164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9" name="Group 25"/>
            <p:cNvGrpSpPr/>
            <p:nvPr/>
          </p:nvGrpSpPr>
          <p:grpSpPr>
            <a:xfrm>
              <a:off x="755640" y="4976640"/>
              <a:ext cx="2058480" cy="1266840"/>
              <a:chOff x="755640" y="4976640"/>
              <a:chExt cx="2058480" cy="1266840"/>
            </a:xfrm>
          </p:grpSpPr>
          <p:sp>
            <p:nvSpPr>
              <p:cNvPr id="230" name="Line 26"/>
              <p:cNvSpPr/>
              <p:nvPr/>
            </p:nvSpPr>
            <p:spPr>
              <a:xfrm flipH="1">
                <a:off x="2208600" y="5519520"/>
                <a:ext cx="605520" cy="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1" name="Group 27"/>
              <p:cNvGrpSpPr/>
              <p:nvPr/>
            </p:nvGrpSpPr>
            <p:grpSpPr>
              <a:xfrm>
                <a:off x="755640" y="4976640"/>
                <a:ext cx="1452960" cy="1266840"/>
                <a:chOff x="755640" y="4976640"/>
                <a:chExt cx="1452960" cy="1266840"/>
              </a:xfrm>
            </p:grpSpPr>
            <p:sp>
              <p:nvSpPr>
                <p:cNvPr id="232" name="Freeform 28"/>
                <p:cNvSpPr/>
                <p:nvPr/>
              </p:nvSpPr>
              <p:spPr>
                <a:xfrm>
                  <a:off x="997560" y="5377680"/>
                  <a:ext cx="1211040" cy="865800"/>
                </a:xfrm>
                <a:prstGeom prst="pie">
                  <a:avLst/>
                </a:prstGeom>
                <a:solidFill>
                  <a:srgbClr val="ffcc99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Oval 29"/>
                <p:cNvSpPr/>
                <p:nvPr/>
              </p:nvSpPr>
              <p:spPr>
                <a:xfrm>
                  <a:off x="900720" y="5310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234" name="Group 30"/>
                <p:cNvGrpSpPr/>
                <p:nvPr/>
              </p:nvGrpSpPr>
              <p:grpSpPr>
                <a:xfrm>
                  <a:off x="1887840" y="5870880"/>
                  <a:ext cx="247680" cy="306000"/>
                  <a:chOff x="1887840" y="5870880"/>
                  <a:chExt cx="247680" cy="306000"/>
                </a:xfrm>
              </p:grpSpPr>
              <p:sp>
                <p:nvSpPr>
                  <p:cNvPr id="235" name="Freeform 31"/>
                  <p:cNvSpPr/>
                  <p:nvPr/>
                </p:nvSpPr>
                <p:spPr>
                  <a:xfrm>
                    <a:off x="1887840" y="5870880"/>
                    <a:ext cx="247680" cy="306000"/>
                  </a:xfrm>
                  <a:prstGeom prst="pie">
                    <a:avLst/>
                  </a:prstGeom>
                  <a:solidFill>
                    <a:srgbClr val="cc9900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AutoShape 32"/>
                  <p:cNvSpPr/>
                  <p:nvPr/>
                </p:nvSpPr>
                <p:spPr>
                  <a:xfrm>
                    <a:off x="1988280" y="594864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AutoShape 33"/>
                  <p:cNvSpPr/>
                  <p:nvPr/>
                </p:nvSpPr>
                <p:spPr>
                  <a:xfrm>
                    <a:off x="2042640" y="597276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8" name="AutoShape 34"/>
                  <p:cNvSpPr/>
                  <p:nvPr/>
                </p:nvSpPr>
                <p:spPr>
                  <a:xfrm>
                    <a:off x="1949760" y="60408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AutoShape 35"/>
                  <p:cNvSpPr/>
                  <p:nvPr/>
                </p:nvSpPr>
                <p:spPr>
                  <a:xfrm>
                    <a:off x="2011680" y="6075000"/>
                    <a:ext cx="30960" cy="33840"/>
                  </a:xfrm>
                  <a:prstGeom prst="flowChartConnector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40" name="Oval 36"/>
                <p:cNvSpPr/>
                <p:nvPr/>
              </p:nvSpPr>
              <p:spPr>
                <a:xfrm rot="321000">
                  <a:off x="1207440" y="5157360"/>
                  <a:ext cx="110520" cy="27828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Oval 37"/>
                <p:cNvSpPr/>
                <p:nvPr/>
              </p:nvSpPr>
              <p:spPr>
                <a:xfrm>
                  <a:off x="7556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Oval 38"/>
                <p:cNvSpPr/>
                <p:nvPr/>
              </p:nvSpPr>
              <p:spPr>
                <a:xfrm>
                  <a:off x="97344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Oval 39"/>
                <p:cNvSpPr/>
                <p:nvPr/>
              </p:nvSpPr>
              <p:spPr>
                <a:xfrm>
                  <a:off x="1118520" y="5776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Oval 40"/>
                <p:cNvSpPr/>
                <p:nvPr/>
              </p:nvSpPr>
              <p:spPr>
                <a:xfrm>
                  <a:off x="148176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Oval 41"/>
                <p:cNvSpPr/>
                <p:nvPr/>
              </p:nvSpPr>
              <p:spPr>
                <a:xfrm>
                  <a:off x="14094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Oval 42"/>
                <p:cNvSpPr/>
                <p:nvPr/>
              </p:nvSpPr>
              <p:spPr>
                <a:xfrm>
                  <a:off x="133668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Oval 43"/>
                <p:cNvSpPr/>
                <p:nvPr/>
              </p:nvSpPr>
              <p:spPr>
                <a:xfrm>
                  <a:off x="828000" y="5576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Oval 44"/>
                <p:cNvSpPr/>
                <p:nvPr/>
              </p:nvSpPr>
              <p:spPr>
                <a:xfrm>
                  <a:off x="1046160" y="5510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Oval 45"/>
                <p:cNvSpPr/>
                <p:nvPr/>
              </p:nvSpPr>
              <p:spPr>
                <a:xfrm>
                  <a:off x="1336680" y="52437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Oval 46"/>
                <p:cNvSpPr/>
                <p:nvPr/>
              </p:nvSpPr>
              <p:spPr>
                <a:xfrm>
                  <a:off x="900720" y="510984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Oval 47"/>
                <p:cNvSpPr/>
                <p:nvPr/>
              </p:nvSpPr>
              <p:spPr>
                <a:xfrm>
                  <a:off x="1627200" y="58431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Oval 48"/>
                <p:cNvSpPr/>
                <p:nvPr/>
              </p:nvSpPr>
              <p:spPr>
                <a:xfrm>
                  <a:off x="1263960" y="504288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Oval 49"/>
                <p:cNvSpPr/>
                <p:nvPr/>
              </p:nvSpPr>
              <p:spPr>
                <a:xfrm>
                  <a:off x="1627200" y="57099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Oval 50"/>
                <p:cNvSpPr/>
                <p:nvPr/>
              </p:nvSpPr>
              <p:spPr>
                <a:xfrm>
                  <a:off x="997560" y="54126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Oval 51"/>
                <p:cNvSpPr/>
                <p:nvPr/>
              </p:nvSpPr>
              <p:spPr>
                <a:xfrm>
                  <a:off x="1046160" y="56433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Oval 52"/>
                <p:cNvSpPr/>
                <p:nvPr/>
              </p:nvSpPr>
              <p:spPr>
                <a:xfrm>
                  <a:off x="1046160" y="517608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Oval 53"/>
                <p:cNvSpPr/>
                <p:nvPr/>
              </p:nvSpPr>
              <p:spPr>
                <a:xfrm>
                  <a:off x="1191240" y="544356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Oval 54"/>
                <p:cNvSpPr/>
                <p:nvPr/>
              </p:nvSpPr>
              <p:spPr>
                <a:xfrm>
                  <a:off x="1384920" y="582300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Oval 55"/>
                <p:cNvSpPr/>
                <p:nvPr/>
              </p:nvSpPr>
              <p:spPr>
                <a:xfrm>
                  <a:off x="104616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Oval 56"/>
                <p:cNvSpPr/>
                <p:nvPr/>
              </p:nvSpPr>
              <p:spPr>
                <a:xfrm rot="19273800">
                  <a:off x="1255680" y="5522760"/>
                  <a:ext cx="110520" cy="27864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Oval 57"/>
                <p:cNvSpPr/>
                <p:nvPr/>
              </p:nvSpPr>
              <p:spPr>
                <a:xfrm rot="18296400">
                  <a:off x="1525680" y="5602680"/>
                  <a:ext cx="120240" cy="258120"/>
                </a:xfrm>
                <a:prstGeom prst="ellipse">
                  <a:avLst/>
                </a:prstGeom>
                <a:solidFill>
                  <a:srgbClr val="ffcccc"/>
                </a:solidFill>
                <a:ln w="19080">
                  <a:solidFill>
                    <a:srgbClr val="00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Oval 58"/>
                <p:cNvSpPr/>
                <p:nvPr/>
              </p:nvSpPr>
              <p:spPr>
                <a:xfrm>
                  <a:off x="755640" y="5247720"/>
                  <a:ext cx="145080" cy="13392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Oval 59"/>
                <p:cNvSpPr/>
                <p:nvPr/>
              </p:nvSpPr>
              <p:spPr>
                <a:xfrm>
                  <a:off x="123984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Oval 60"/>
                <p:cNvSpPr/>
                <p:nvPr/>
              </p:nvSpPr>
              <p:spPr>
                <a:xfrm>
                  <a:off x="852480" y="4976640"/>
                  <a:ext cx="145080" cy="1332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65" name="Group 61"/>
            <p:cNvGrpSpPr/>
            <p:nvPr/>
          </p:nvGrpSpPr>
          <p:grpSpPr>
            <a:xfrm>
              <a:off x="1190520" y="3709080"/>
              <a:ext cx="373320" cy="1139760"/>
              <a:chOff x="1190520" y="3709080"/>
              <a:chExt cx="373320" cy="1139760"/>
            </a:xfrm>
          </p:grpSpPr>
          <p:sp>
            <p:nvSpPr>
              <p:cNvPr id="266" name="Line 62"/>
              <p:cNvSpPr/>
              <p:nvPr/>
            </p:nvSpPr>
            <p:spPr>
              <a:xfrm flipV="1">
                <a:off x="1461600" y="4302000"/>
                <a:ext cx="0" cy="546840"/>
              </a:xfrm>
              <a:prstGeom prst="line">
                <a:avLst/>
              </a:prstGeom>
              <a:ln w="57240">
                <a:solidFill>
                  <a:srgbClr val="f2470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67" name="Group 63"/>
              <p:cNvGrpSpPr/>
              <p:nvPr/>
            </p:nvGrpSpPr>
            <p:grpSpPr>
              <a:xfrm>
                <a:off x="1190520" y="3709080"/>
                <a:ext cx="373320" cy="491760"/>
                <a:chOff x="1190520" y="3709080"/>
                <a:chExt cx="373320" cy="491760"/>
              </a:xfrm>
            </p:grpSpPr>
            <p:sp>
              <p:nvSpPr>
                <p:cNvPr id="268" name="Oval 64"/>
                <p:cNvSpPr/>
                <p:nvPr/>
              </p:nvSpPr>
              <p:spPr>
                <a:xfrm>
                  <a:off x="1190520" y="38062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Oval 65"/>
                <p:cNvSpPr/>
                <p:nvPr/>
              </p:nvSpPr>
              <p:spPr>
                <a:xfrm>
                  <a:off x="1231920" y="4053240"/>
                  <a:ext cx="12420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Oval 66"/>
                <p:cNvSpPr/>
                <p:nvPr/>
              </p:nvSpPr>
              <p:spPr>
                <a:xfrm>
                  <a:off x="1439640" y="390348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Oval 67"/>
                <p:cNvSpPr/>
                <p:nvPr/>
              </p:nvSpPr>
              <p:spPr>
                <a:xfrm>
                  <a:off x="1439640" y="4098240"/>
                  <a:ext cx="124200" cy="1026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Oval 68"/>
                <p:cNvSpPr/>
                <p:nvPr/>
              </p:nvSpPr>
              <p:spPr>
                <a:xfrm>
                  <a:off x="1315080" y="3709080"/>
                  <a:ext cx="124560" cy="10296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73" name="Text Box 69"/>
          <p:cNvSpPr/>
          <p:nvPr/>
        </p:nvSpPr>
        <p:spPr>
          <a:xfrm>
            <a:off x="2268360" y="62064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衣原体发育周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8F4-022D-4A83-B7F5-932C7BAE58B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点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06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严格细胞内寄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可在鸡胚、小鼠中生长，细胞中繁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9C84-5245-47CB-BCF7-5AADC3A7DB8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和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原体的属特异性抗原为胞壁脂多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和型特异性抗原多位于主要外膜蛋白上，可区分衣原体的种和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人致病的衣原体包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分三个变种：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沙眼生物变种、性病淋巴肉芽肿亚种（</a:t>
            </a:r>
            <a:r>
              <a:rPr b="1" i="1" lang="en-US" sz="2800" spc="-1" strike="noStrike">
                <a:solidFill>
                  <a:srgbClr val="660033"/>
                </a:solidFill>
                <a:latin typeface="Times New Roman"/>
              </a:rPr>
              <a:t>LGV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）、鼠生物变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肺炎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鹦鹉热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兽类嗜衣原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4C33-E4F1-4A29-901C-90905DFD9A3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2920" y="134100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07640" y="2349000"/>
            <a:ext cx="45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热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对消毒剂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耐低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生素敏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3550-49AF-4145-A6E6-BE9BF61C04D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4582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一）致病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内毒素样物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抑制细胞代谢，破坏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主要外膜蛋白与吸附、侵入及阻止吞噬体和溶酶体融合有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二）所致疾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人类衣原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沙眼、包涵体结膜炎、泌尿生殖道感染、性病淋巴肉芽肿、呼吸道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7B4E-85ED-4F74-994F-7C486FC006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910"/>
                </a:solidFill>
                <a:latin typeface="Times New Roman"/>
              </a:rPr>
              <a:t>第一节 支原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没有细胞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高度多形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通过滤菌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能在无生命培养基中繁殖的最小原核细胞型微生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1B08-3361-4370-AF77-6FD5099F8C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99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沙眼变种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血清型引起沙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，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手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眼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眼结膜上皮细胞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增殖，包涵体→局部炎症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早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流泪、有粘液脓性分泌物、结膜充血及滤泡增生→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结膜瘢痕、眼睑内翻、倒睫以及角膜血管翳引起的角膜损害→影响视力或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致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042920" y="47628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、沙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BE45-3E70-49FE-91DC-018BE6A27D5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沙眼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1" name="Picture 3" descr="沙眼"/>
          <p:cNvPicPr/>
          <p:nvPr/>
        </p:nvPicPr>
        <p:blipFill>
          <a:blip r:embed="rId1"/>
          <a:stretch/>
        </p:blipFill>
        <p:spPr>
          <a:xfrm>
            <a:off x="1042920" y="1363680"/>
            <a:ext cx="6805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、包涵体结膜炎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(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成人、婴儿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沙眼生物变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等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婴儿由产道，成人由手眼传染，表现为滤泡性结膜炎，无沙眼后期症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泌尿生殖道感染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型与引起包涵体结膜炎的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性接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是非淋球菌性泌尿生殖道感染的主要病原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9C64-034A-4C21-8F39-560D31A067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74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性病淋巴肉芽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性病淋巴肉芽肿生物变种 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G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染源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途径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：性接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侵犯淋巴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男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腹股沟淋巴结→化脓性淋巴结炎和慢性淋巴肉芽肿→瘘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        </a:t>
            </a:r>
            <a:r>
              <a:rPr b="1" i="1" lang="zh-CN" sz="2800" spc="-1" strike="noStrike">
                <a:solidFill>
                  <a:srgbClr val="000099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→会阴、肛门和直肠→肠皮肤瘘管，会阴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肛门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直肠狭窄和梗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、呼吸道感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由鹦鹉热嗜衣原体和肺炎嗜衣原体所引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D1D-D0F4-4747-8704-7B7995B8F6C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0920" y="1413000"/>
            <a:ext cx="7792920" cy="85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免疫性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0920" y="2394000"/>
            <a:ext cx="8064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抗体持续时间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免疫力不强，易再受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ED2B-BD7B-4B25-9F8A-A4AD2719F52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注意个人卫生，不用公共毛巾、脸盆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无特异预防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可选用磺胺、红霉素、诺氟沙星等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2B8C-AA97-4049-AB0D-5C81199047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立克次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一类体积微小、严格细胞内寄生，以节肢动物为储存宿主或传播媒介的原核细胞型微生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975E-722A-43DA-9E08-8772ABED588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ward Rickett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属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柯克斯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立克次体目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东方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埃立克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巴通体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4" descr="立克次2"/>
          <p:cNvPicPr/>
          <p:nvPr/>
        </p:nvPicPr>
        <p:blipFill>
          <a:blip r:embed="rId1"/>
          <a:srcRect l="0" t="0" r="9042" b="0"/>
          <a:stretch/>
        </p:blipFill>
        <p:spPr>
          <a:xfrm>
            <a:off x="6172200" y="2852640"/>
            <a:ext cx="2971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77E8-D7CE-4F24-ACB5-D222361256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共同特点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专性细胞内寄生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、二分裂繁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存在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10000"/>
                </a:solidFill>
                <a:latin typeface="Times New Roman"/>
              </a:rPr>
              <a:t>RNA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两种核酸类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有典型的细胞壁，形态多样，多呈球杆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小介于细菌与病毒之间，普通光学显微镜下可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可成为寄生宿主、储存宿主、传播媒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对多种抗生素敏感，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磺胺可刺激其增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86C2-2DBC-4B5B-A72B-F17B9ABE31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04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多形态性，以短杆状为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革兰染色阴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7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姬姆萨染色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紫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933640" cy="23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341B-8BBC-480D-B304-34123841F5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、生物学性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0643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形态与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多形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特殊结构：荚膜（肽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方法：</a:t>
            </a:r>
            <a:r>
              <a:rPr b="1" lang="en-US" sz="2800" spc="-1" strike="noStrike">
                <a:solidFill>
                  <a:srgbClr val="080910"/>
                </a:solidFill>
                <a:latin typeface="Times New Roman"/>
              </a:rPr>
              <a:t>Giemsa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染色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淡紫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某些致病性的支原体具有一种特殊的顶端结    构，能使支原体黏附在宿主上皮细胞表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支原体1"/>
          <p:cNvPicPr/>
          <p:nvPr/>
        </p:nvPicPr>
        <p:blipFill>
          <a:blip r:embed="rId1"/>
          <a:stretch/>
        </p:blipFill>
        <p:spPr>
          <a:xfrm>
            <a:off x="6300720" y="4645080"/>
            <a:ext cx="284328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5BAF-6327-4359-A2D0-F76A93642B7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921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二）培养特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活细胞内无性二分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ahoma"/>
              </a:rPr>
              <a:t>动物接种、鸡胚接种、细胞培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E418-A9B3-46C1-9A7F-A20E4CF62DC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425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抗原构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群特异性可溶性抗原（细胞壁脂多糖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变形杆菌某些菌株（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X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的菌体抗原有共同的抗原成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外斐试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用这类变形杆菌代替相应的立克次体抗原进行非特异性凝集反应，检测人类或动物血清中有无相应的抗体。辅助诊断立克次体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特异性抗原（外膜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耐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E23E-0EAB-4E08-87AB-529F4B55BC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99640" y="1557360"/>
            <a:ext cx="74170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传播媒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感染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节肢动物如人虱、鼠蚤、蜱或螨的叮咬而传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116000" y="620640"/>
            <a:ext cx="5630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F6A-01BB-4BC3-A511-58695EACAAA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22100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致病机制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040840" y="134460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物质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023560" y="203364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机制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678920" y="27957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（淋巴组织小血管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4484160" y="40910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身小血管内皮细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153400" y="546264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高热、头痛、皮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6735960" y="3405240"/>
            <a:ext cx="9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6273360" y="4776840"/>
            <a:ext cx="18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菌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3844800" y="5996160"/>
            <a:ext cx="18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1"/>
          <p:cNvSpPr/>
          <p:nvPr/>
        </p:nvSpPr>
        <p:spPr>
          <a:xfrm>
            <a:off x="5162400" y="3252960"/>
            <a:ext cx="0" cy="99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5162400" y="4548240"/>
            <a:ext cx="0" cy="990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3"/>
          <p:cNvSpPr/>
          <p:nvPr/>
        </p:nvSpPr>
        <p:spPr>
          <a:xfrm>
            <a:off x="5162400" y="2490840"/>
            <a:ext cx="0" cy="4572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4597200" y="134784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毒素、 磷脂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4515840" y="2033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节肢动物叮咬或粪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"/>
          <p:cNvSpPr/>
          <p:nvPr/>
        </p:nvSpPr>
        <p:spPr>
          <a:xfrm>
            <a:off x="2042640" y="5996160"/>
            <a:ext cx="1247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理部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Line 17"/>
          <p:cNvSpPr/>
          <p:nvPr/>
        </p:nvSpPr>
        <p:spPr>
          <a:xfrm>
            <a:off x="3562200" y="188136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18"/>
          <p:cNvSpPr/>
          <p:nvPr/>
        </p:nvSpPr>
        <p:spPr>
          <a:xfrm>
            <a:off x="3571920" y="599616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7C8A-840E-4A2A-AAD3-52615501ECF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0" y="228600"/>
            <a:ext cx="914400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种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染源    媒介昆虫     主要临床表现            免疫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        人体虱       发热、头痛、皮疹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流行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珍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                      神经系统、心血管系统损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斑疹伤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立克次体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鼠等       鼠蚤          发热、头痛、皮疹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地方性</a:t>
            </a: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斑疹伤寒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鼠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恙虫病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克次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鼠等      恙螨          局部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</a:rPr>
              <a:t>黑色焦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持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恙虫热）                                               发热、头痛、皮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脏损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贝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柯克斯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家畜      蜱               发热、头痛             一定程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）                             （动物间）    心内膜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通过接触消化道呼吸道传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主要病原性</a:t>
            </a:r>
            <a:r>
              <a:rPr b="1" lang="zh-CN" sz="3200" spc="-1" strike="noStrike">
                <a:solidFill>
                  <a:srgbClr val="010000"/>
                </a:solidFill>
                <a:latin typeface="宋体"/>
              </a:rPr>
              <a:t>立克次体及所致疾病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414F-721C-42DA-A2F9-F92FB5C2B3B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424980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普氏立克次体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2120" y="1267920"/>
            <a:ext cx="7913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流行性斑疹伤寒传播方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4"/>
          <p:cNvSpPr/>
          <p:nvPr/>
        </p:nvSpPr>
        <p:spPr>
          <a:xfrm flipV="1">
            <a:off x="378000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Line 5"/>
          <p:cNvSpPr/>
          <p:nvPr/>
        </p:nvSpPr>
        <p:spPr>
          <a:xfrm>
            <a:off x="5435640" y="249228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6"/>
          <p:cNvSpPr/>
          <p:nvPr/>
        </p:nvSpPr>
        <p:spPr>
          <a:xfrm flipH="1">
            <a:off x="5435640" y="3860640"/>
            <a:ext cx="457200" cy="45720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7"/>
          <p:cNvSpPr/>
          <p:nvPr/>
        </p:nvSpPr>
        <p:spPr>
          <a:xfrm flipH="1" flipV="1">
            <a:off x="3780000" y="3789360"/>
            <a:ext cx="457200" cy="533520"/>
          </a:xfrm>
          <a:prstGeom prst="line">
            <a:avLst/>
          </a:prstGeom>
          <a:ln w="7632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8" descr="阴虱"/>
          <p:cNvPicPr/>
          <p:nvPr/>
        </p:nvPicPr>
        <p:blipFill>
          <a:blip r:embed="rId1"/>
          <a:stretch/>
        </p:blipFill>
        <p:spPr>
          <a:xfrm>
            <a:off x="324000" y="1125360"/>
            <a:ext cx="2952720" cy="2248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666"/>
          <p:cNvPicPr/>
          <p:nvPr/>
        </p:nvPicPr>
        <p:blipFill>
          <a:blip r:embed="rId2"/>
          <a:stretch/>
        </p:blipFill>
        <p:spPr>
          <a:xfrm>
            <a:off x="250920" y="3645000"/>
            <a:ext cx="2952720" cy="2232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444"/>
          <p:cNvPicPr/>
          <p:nvPr/>
        </p:nvPicPr>
        <p:blipFill>
          <a:blip r:embed="rId3"/>
          <a:stretch/>
        </p:blipFill>
        <p:spPr>
          <a:xfrm>
            <a:off x="6372360" y="1052640"/>
            <a:ext cx="2771640" cy="2232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555"/>
          <p:cNvPicPr/>
          <p:nvPr/>
        </p:nvPicPr>
        <p:blipFill>
          <a:blip r:embed="rId4"/>
          <a:stretch/>
        </p:blipFill>
        <p:spPr>
          <a:xfrm>
            <a:off x="6400800" y="3500280"/>
            <a:ext cx="274320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4A43-CBA1-4355-9F6C-69F38137CC9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59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10000"/>
                </a:solidFill>
                <a:uFillTx/>
                <a:latin typeface="Times New Roman"/>
              </a:rPr>
              <a:t>斑疹伤寒立克次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10000"/>
                </a:solidFill>
                <a:latin typeface="Times New Roman"/>
              </a:rPr>
              <a:t>地方性斑疹伤寒（鼠型斑疹伤寒）传播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蚤      鼠虱      鼠蚤          人         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鼠                             人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4"/>
          <p:cNvSpPr/>
          <p:nvPr/>
        </p:nvSpPr>
        <p:spPr>
          <a:xfrm flipV="1">
            <a:off x="3276720" y="2971440"/>
            <a:ext cx="761760" cy="7621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4648320" y="2895480"/>
            <a:ext cx="838080" cy="8384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6"/>
          <p:cNvSpPr/>
          <p:nvPr/>
        </p:nvSpPr>
        <p:spPr>
          <a:xfrm flipH="1">
            <a:off x="4724280" y="4343400"/>
            <a:ext cx="1067040" cy="106668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7"/>
          <p:cNvSpPr/>
          <p:nvPr/>
        </p:nvSpPr>
        <p:spPr>
          <a:xfrm flipH="1" flipV="1">
            <a:off x="3058920" y="4365360"/>
            <a:ext cx="990360" cy="1143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8"/>
          <p:cNvSpPr/>
          <p:nvPr/>
        </p:nvSpPr>
        <p:spPr>
          <a:xfrm>
            <a:off x="4495680" y="3124080"/>
            <a:ext cx="0" cy="6858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9"/>
          <p:cNvSpPr/>
          <p:nvPr/>
        </p:nvSpPr>
        <p:spPr>
          <a:xfrm flipV="1">
            <a:off x="4267080" y="3124080"/>
            <a:ext cx="0" cy="6098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Line 11"/>
          <p:cNvSpPr/>
          <p:nvPr/>
        </p:nvSpPr>
        <p:spPr>
          <a:xfrm flipV="1">
            <a:off x="4419720" y="4343400"/>
            <a:ext cx="0" cy="9144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6012000" y="4076640"/>
            <a:ext cx="838080" cy="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Line 13"/>
          <p:cNvSpPr/>
          <p:nvPr/>
        </p:nvSpPr>
        <p:spPr>
          <a:xfrm flipV="1">
            <a:off x="7093080" y="2997360"/>
            <a:ext cx="54612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4"/>
          <p:cNvSpPr/>
          <p:nvPr/>
        </p:nvSpPr>
        <p:spPr>
          <a:xfrm flipH="1" flipV="1">
            <a:off x="7235640" y="4436640"/>
            <a:ext cx="431640" cy="86364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Line 15"/>
          <p:cNvSpPr/>
          <p:nvPr/>
        </p:nvSpPr>
        <p:spPr>
          <a:xfrm flipH="1">
            <a:off x="8101080" y="4365720"/>
            <a:ext cx="417600" cy="93492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028000" y="2997360"/>
            <a:ext cx="431640" cy="792000"/>
          </a:xfrm>
          <a:prstGeom prst="line">
            <a:avLst/>
          </a:prstGeom>
          <a:ln w="38160">
            <a:solidFill>
              <a:srgbClr val="f247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7" descr="鼠蚤2"/>
          <p:cNvPicPr/>
          <p:nvPr/>
        </p:nvPicPr>
        <p:blipFill>
          <a:blip r:embed="rId1"/>
          <a:stretch/>
        </p:blipFill>
        <p:spPr>
          <a:xfrm>
            <a:off x="0" y="4249800"/>
            <a:ext cx="295272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5BDF-D662-4EA3-A260-7B17B1FB678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2504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099880"/>
            <a:ext cx="790740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以细胞免疫为主，体液免疫为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000"/>
                </a:solidFill>
                <a:latin typeface="Times New Roman"/>
              </a:rPr>
              <a:t>病后可获得较强免疫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B2F5-74D2-44BB-B6AA-49B1113B86A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49532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三、微生物学检查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143000" y="216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标本采集：急性期血液和双份血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1212840" y="3124080"/>
            <a:ext cx="645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分离培养：首先接种豚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238400" y="4191120"/>
            <a:ext cx="556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血清学试验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斐反应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Object 6" descr=""/>
          <p:cNvPicPr/>
          <p:nvPr/>
        </p:nvPicPr>
        <p:blipFill>
          <a:blip r:embed="rId1"/>
          <a:stretch/>
        </p:blipFill>
        <p:spPr>
          <a:xfrm>
            <a:off x="6553080" y="3886200"/>
            <a:ext cx="1627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5795-9561-47CB-9B18-BC51BFA706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90720" y="475920"/>
            <a:ext cx="815328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、防治原则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361800" y="4267080"/>
            <a:ext cx="1219320" cy="99072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85840" y="2133720"/>
            <a:ext cx="1218960" cy="990360"/>
          </a:xfrm>
          <a:prstGeom prst="wedgeRectCallout">
            <a:avLst>
              <a:gd name="adj1" fmla="val 111458"/>
              <a:gd name="adj2" fmla="val 8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20840" y="2309760"/>
            <a:ext cx="16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438120" y="4495680"/>
            <a:ext cx="16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4760280" y="4508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氯霉素、四环素，禁用磺胺类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" name="Group 8"/>
          <p:cNvGrpSpPr/>
          <p:nvPr/>
        </p:nvGrpSpPr>
        <p:grpSpPr>
          <a:xfrm>
            <a:off x="4223880" y="2060640"/>
            <a:ext cx="3212640" cy="1758600"/>
            <a:chOff x="4223880" y="2060640"/>
            <a:chExt cx="3212640" cy="1758600"/>
          </a:xfrm>
        </p:grpSpPr>
        <p:sp>
          <p:nvSpPr>
            <p:cNvPr id="396" name="Rectangle 9"/>
            <p:cNvSpPr/>
            <p:nvPr/>
          </p:nvSpPr>
          <p:spPr>
            <a:xfrm>
              <a:off x="4535640" y="2060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控制和消灭中间宿主及储存宿主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10"/>
            <p:cNvSpPr/>
            <p:nvPr/>
          </p:nvSpPr>
          <p:spPr>
            <a:xfrm>
              <a:off x="5091480" y="267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特异性：鼠肺疫苗（全细胞灭活疫苗）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Rectangle 11"/>
            <p:cNvSpPr/>
            <p:nvPr/>
          </p:nvSpPr>
          <p:spPr>
            <a:xfrm>
              <a:off x="5740200" y="3298680"/>
              <a:ext cx="16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斑疹伤寒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12"/>
            <p:cNvSpPr/>
            <p:nvPr/>
          </p:nvSpPr>
          <p:spPr>
            <a:xfrm>
              <a:off x="4223880" y="3584520"/>
              <a:ext cx="160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05EA-31F4-4996-9B28-344E8A018AF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6697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二）培养特性与生化反应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营养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较一般细菌高，需加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%~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动物血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繁殖方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分裂为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生长速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缓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体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3~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后出现菌落</a:t>
            </a:r>
            <a:r>
              <a:rPr b="1" lang="zh-CN" sz="2800" spc="-1" strike="noStrike">
                <a:solidFill>
                  <a:srgbClr val="080910"/>
                </a:solidFill>
                <a:latin typeface="Times New Roman"/>
              </a:rPr>
              <a:t>典型的菌落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荷包蛋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菌落特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低倍显微镜观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支原体菌落5"/>
          <p:cNvPicPr/>
          <p:nvPr/>
        </p:nvPicPr>
        <p:blipFill>
          <a:blip r:embed="rId1"/>
          <a:srcRect l="8959" t="0" r="0" b="18642"/>
          <a:stretch/>
        </p:blipFill>
        <p:spPr>
          <a:xfrm>
            <a:off x="5435640" y="4405320"/>
            <a:ext cx="34210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3B0A-D686-49C7-8286-0CA9C2396ED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四节   螺旋体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一类细长、柔软、螺旋状、运动活泼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原核细胞型微生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于细菌与原虫之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性状如细菌，例如有细胞壁、原始核质，以二分裂方式繁殖和对抗生素等药物敏感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525D-36FF-48FD-94FE-AE7893E6AB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致病性螺旋体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钩端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多个细密规则的螺旋 末端弯曲     问号形钩端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密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密规则的螺旋两端尖直    梅毒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梅毒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疏螺旋体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稀疏不规则螺旋   伯氏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莱姆病  回归热螺旋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回归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6445-5064-4F4B-AD9A-B6014D23753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600" y="1905120"/>
            <a:ext cx="7161120" cy="137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一  、  钩端螺旋体属</a:t>
            </a:r>
            <a:br>
              <a:rPr sz="4800"/>
            </a:b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Leptospir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1332000" y="4149720"/>
            <a:ext cx="711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898C-B868-4A82-BC13-4DB9EF76950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468360" y="1700280"/>
            <a:ext cx="81532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i="1" lang="zh-CN" sz="3600" spc="-1" strike="noStrike">
                <a:solidFill>
                  <a:srgbClr val="000099"/>
                </a:solidFill>
                <a:latin typeface="Times New Roman"/>
              </a:rPr>
              <a:t>、形态和结构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螺旋细密、规则，一端或两端呈钩状，常使菌体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结构：外膜、内鞭毛和柱形原生质体，运动活泼（旋转）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90440" indent="-19044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镀银染色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11280" y="333360"/>
            <a:ext cx="54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2" name="Picture 4" descr="m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708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钩体形态1"/>
          <p:cNvPicPr/>
          <p:nvPr/>
        </p:nvPicPr>
        <p:blipFill>
          <a:blip r:embed="rId2"/>
          <a:stretch/>
        </p:blipFill>
        <p:spPr>
          <a:xfrm>
            <a:off x="6877080" y="4653000"/>
            <a:ext cx="226692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7A4D-557B-40F1-9DB7-42761F63ED9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培养特性与生化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抗原构造与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钩体抵抗力弱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℃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即死亡，对青霉素敏感，但在湿土或水中可存活数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1041-EEFE-4C58-A507-52974B27D7C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二）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致病物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黏附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毒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血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FDF4-0438-4C78-AD34-140842B702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99640" y="1268280"/>
            <a:ext cx="770436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所致疾病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----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钩端螺旋体病（钩体病）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29840" y="220500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储存宿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鼠类（南方）与猪（北方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接触传播  接触疫水或土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症状：畏寒发热、头痛身痛、周身乏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三体征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眼结膜充血、腓肠肌压痛、表浅淋巴结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FC3A-6112-4286-BB9C-4B3B7D4E9FB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68360" y="155736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900000" y="2060640"/>
            <a:ext cx="74678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依赖特异性体液免疫，病后可获得抗同型钩体的持久免疫力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06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BBC1-5B19-444F-8188-733CAE7A3DF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imes New Roman"/>
              </a:rPr>
              <a:t>二  梅毒螺旋体</a:t>
            </a:r>
            <a:endParaRPr b="0" lang="en-US" sz="5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485520" y="3759120"/>
            <a:ext cx="31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i="1" lang="en-US" sz="3200" spc="-1" strike="noStrike">
                <a:solidFill>
                  <a:srgbClr val="000099"/>
                </a:solidFill>
                <a:latin typeface="Tahoma"/>
              </a:rPr>
              <a:t>T. pallidum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FBC8-86CB-4C91-805D-71CA358B3E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2"/>
          <p:cNvSpPr/>
          <p:nvPr/>
        </p:nvSpPr>
        <p:spPr>
          <a:xfrm>
            <a:off x="533520" y="1916280"/>
            <a:ext cx="83818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~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致密而规则的螺旋，两端尖直，运动活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nta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镀银染色法→染成</a:t>
            </a:r>
            <a:r>
              <a:rPr b="1" lang="zh-CN" sz="2800" spc="-1" strike="noStrike">
                <a:solidFill>
                  <a:srgbClr val="663300"/>
                </a:solidFill>
                <a:latin typeface="Times New Roman"/>
              </a:rPr>
              <a:t>棕褐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685800" y="14842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形态与染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1476360" y="549360"/>
            <a:ext cx="51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一）生物学性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5" descr=""/>
          <p:cNvPicPr/>
          <p:nvPr/>
        </p:nvPicPr>
        <p:blipFill>
          <a:blip r:embed="rId1"/>
          <a:stretch/>
        </p:blipFill>
        <p:spPr>
          <a:xfrm>
            <a:off x="5364000" y="4336920"/>
            <a:ext cx="3614760" cy="25210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6"/>
          <p:cNvSpPr/>
          <p:nvPr/>
        </p:nvSpPr>
        <p:spPr>
          <a:xfrm>
            <a:off x="826920" y="328464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培养特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1341720" y="4008600"/>
            <a:ext cx="299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能在无生命培养基上生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CF7E-4CB5-4EA2-9A2F-BD49F8BFC07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923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四）抵抗力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000" y="3716280"/>
            <a:ext cx="828036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细菌弱，易被消毒剂灭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、有机溶剂及作用于胆固醇的物质可破坏细胞膜而使支原体死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青霉素、头孢菌素等不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干扰蛋白质合成的抗生素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9640" y="476280"/>
            <a:ext cx="7793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三）抗原构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539640" y="1628640"/>
            <a:ext cx="820908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支原体抗原主要由细胞膜上的蛋白质和糖脂组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各种支原体均有型特异性抗原，很少有交叉反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29C5-41CA-49D0-BCF3-102C57E6E6B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23888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抵抗力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梅毒螺旋体抵抗力极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钟死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常用化学消毒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青霉素、四环素、红霉素及砷制剂敏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610D-3F2B-4C35-8A16-58F1CA22039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（二）致病性与免疫性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致病物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样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明质酸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57200" y="55627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8E9D-CA1D-46BC-ADD6-00C7D790B95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187280" y="2349360"/>
            <a:ext cx="6913800" cy="34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是梅毒的唯一传染源 ，有先天性和获得性两种 。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获得性            性接触传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先天性            母体→胎盘→胎儿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1042920" y="155736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所致疾病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---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梅毒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31FC-6F44-486F-9FDD-E3369FE3D22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611280" y="1484280"/>
            <a:ext cx="373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获得性梅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3033720"/>
            <a:ext cx="7543800" cy="28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：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极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感染性强，破坏性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晚期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梅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感染性小，破坏性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8160" y="2940120"/>
            <a:ext cx="1204200" cy="1701720"/>
          </a:xfrm>
          <a:prstGeom prst="rect">
            <a:avLst/>
          </a:prstGeom>
          <a:solidFill>
            <a:srgbClr val="ccffff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早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808F-7822-4F8E-9DE5-2E89434CF17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Ⅰ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期 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826920" y="206064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局部出现无痛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硬下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丘疹、硬结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痛性溃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多见于外生殖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后，常自愈，渗出液中有大量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6A6A-F765-4D39-812B-97B32A3F436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Ⅱ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期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24000" y="1916280"/>
            <a:ext cx="36576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身皮肤黏膜常有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梅毒疹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全身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淋巴结肿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累及骨、关节、眼及其他脏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在梅毒疹和淋巴结中，存在有大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Object 4"/>
          <p:cNvGraphicFramePr/>
          <p:nvPr/>
        </p:nvGraphicFramePr>
        <p:xfrm>
          <a:off x="5248440" y="1557360"/>
          <a:ext cx="299376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1557360"/>
                    <a:ext cx="299376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2809-10CD-41B3-85A6-C28733186B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Ⅲ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期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梅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459" name="Picture 3" descr="梅毒3期"/>
          <p:cNvPicPr/>
          <p:nvPr/>
        </p:nvPicPr>
        <p:blipFill>
          <a:blip r:embed="rId1"/>
          <a:stretch/>
        </p:blipFill>
        <p:spPr>
          <a:xfrm>
            <a:off x="5796000" y="2276640"/>
            <a:ext cx="3046320" cy="280800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4"/>
          <p:cNvSpPr/>
          <p:nvPr/>
        </p:nvSpPr>
        <p:spPr>
          <a:xfrm>
            <a:off x="395280" y="1700280"/>
            <a:ext cx="417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除有皮肤黏膜溃疡坏死病灶外，还可波及全身组织和器官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后引起心血管及中枢神经系统病变，此期病灶中不易找到梅毒螺旋体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3CB6-053D-47AD-8C4D-F5000CBE6C3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1258920" y="1341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免疫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187280" y="220500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性免疫（有菌免疫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免疫比体液免疫重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6DD3-D289-4C16-8853-38733F188B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971640" y="6922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三）微生物学检查法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24000" y="1484280"/>
            <a:ext cx="8640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病原学检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硬下疳渗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期梅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梅毒疹渗出液或局部淋巴结抽出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直接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免疫荧光法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ELIS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镀银染色镜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Tahoma"/>
                <a:ea typeface="宋体"/>
              </a:rPr>
              <a:t>血清学检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非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螺旋体抗原试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BDFC-71D6-45DE-9F97-A0DC08BE600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1258920" y="6922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（四）防治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636480" y="1557360"/>
            <a:ext cx="850752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性卫生教育和严格社会管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梅毒确诊后，宜用青霉素等药物及早予以彻底治疗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可治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梅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晚期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梅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宋体"/>
              </a:rPr>
              <a:t>延长生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3443-6B81-454F-8CCC-E072B7BA932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二、致病性与免疫性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99"/>
                </a:solidFill>
                <a:latin typeface="Times New Roman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性支原体一般通过其顶端结构紧密黏附在宿主细胞表面，很少侵入血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取宿主细胞膜的胆固醇与脂质作为营养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有毒的代谢产物，如神经毒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脲脲原体可通过黏附在精子表面而影响精子运动，引起不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解尿素产生大量氨，既具有细胞毒作用，也可促使结石的形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F96B-25FC-4079-82F0-D4E740E35DD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Times New Roman"/>
              </a:rPr>
              <a:t>（二）主要病原性支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、肺炎支原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原发性非典型性肺炎（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primary atypical pneumonia</a:t>
            </a: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8091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支原体肺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91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病理性变化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间质性肺炎</a:t>
            </a:r>
            <a:r>
              <a:rPr b="1" lang="zh-CN" sz="3200" spc="-1" strike="noStrike">
                <a:solidFill>
                  <a:srgbClr val="080910"/>
                </a:solidFill>
                <a:latin typeface="宋体"/>
              </a:rPr>
              <a:t>为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A494-0344-42F7-B40B-6C50CCE455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00000" y="1557360"/>
            <a:ext cx="806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占非细菌性肺炎的二分之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飞沫传播，夏末秋初为好发季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症状较轻，发热、咳嗽、有时有呼吸道外并发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910"/>
                </a:solidFill>
                <a:latin typeface="Times New Roman"/>
              </a:rPr>
              <a:t>婴幼儿病情较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D57A-9E73-4023-901D-BF05F077021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9640" y="1267920"/>
            <a:ext cx="793764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溶脲脲原体   也称解脲脲原体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0920" y="2781360"/>
            <a:ext cx="8281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垂直传播、性传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淋球菌性尿道炎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GU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尿路结石、盆腔炎、阴道炎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然流产、死胎、先天缺陷、不孕（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12:43:51Z</dcterms:created>
  <dc:creator>guoxk</dc:creator>
  <dc:description/>
  <dc:language>en-US</dc:language>
  <cp:lastModifiedBy>正版用户</cp:lastModifiedBy>
  <dcterms:modified xsi:type="dcterms:W3CDTF">2014-05-26T01:43:47Z</dcterms:modified>
  <cp:revision>96</cp:revision>
  <dc:subject/>
  <dc:title>支原体(mycoplasma) </dc:title>
</cp:coreProperties>
</file>