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69AF99-D018-40C1-BE16-2DBDB5A9D61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BB2E1E-B40E-4123-A1F6-4B5666BD2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C1CA5F-BA51-4AB3-BE9C-F25587923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3D4FBF-4ECC-408B-9800-453D2882083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7FEBD8-138A-4D17-9D31-14A53AA26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130FC6-8BF3-4A41-A4B9-8B72BACD7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20331D-23BA-46F6-AFE9-7AFDA655E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C6164A-FD81-4F14-BFD3-57B54B310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34EB46-5C3E-4582-9666-523746CB8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07135F-DEA4-4F47-890E-A758145C2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B05442-A845-4C2A-BC59-6C1C70B63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9D0A54-07C7-45F9-850C-2304B05F7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>
              <a:gd name="textAreaLeft" fmla="*/ 0 w 9156960"/>
              <a:gd name="textAreaRight" fmla="*/ 9156960 w 915696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CC6F4-F236-4CA8-B036-1A70E58C7E0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5600"/>
                  <a:gd name="textAreaBottom" fmla="*/ 346320 h 34560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000"/>
                  <a:gd name="textAreaBottom" fmla="*/ 360720 h 36000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000" y="2349360"/>
            <a:ext cx="8280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局部麻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常用局部麻醉药：普鲁卡因、利多卡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常用方法：表面麻醉、局部浸润麻醉、区域阻滞、神经及神经丛阻滞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：局麻药毒性反应、过敏反应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椎管内麻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蛛网膜下隙阻滞：简称腰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硬脊膜外腔阻滞：全脊髓麻醉是硬膜外麻醉最危险的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全身麻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可分为吸入麻醉和静脉麻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：包括呼吸道梗阻、通气不足、低氧血症、低血压或高血压、心律失常、高热、抽搐和惊厥、苏醒延迟或不醒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5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在全身麻醉下行右肺上叶肺癌根治术，术中顺利，安返病房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①该患者此时应采取何种体位？②为何采取这种体位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恐惧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焦虑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对手术室环境陌生、缺乏对手术和麻醉的了解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局麻药毒副作用，高血压，低血压，心律失常，心搏骤停，呼吸道梗阻，呼吸抑制，头痛，恶性、呕吐，尿潴留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有受伤的危险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患者麻醉后未完全清醒或感觉未完全恢复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纠正或改善病理生理状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肠道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前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前给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使患者在麻醉前情绪稳定，充分配合麻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提高患者的痛阈，缓解原发疾病或麻醉前有创操作引起的疼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抑制呼吸道腺体的分泌功能，减少唾液分泌，以防误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消除因手术或麻醉产生的不良反射，特别是迷走神经反射，以维持血流动力学的稳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期间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局部麻醉并发症的预防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毒性反应：限量用药、麻醉前用药、缓慢注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过敏反应：预防过敏反应的关键是麻醉前询问药物过敏史和进行药物过敏试验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期间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蛛网膜下隙阻滞并发症的预防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低血压、心率减慢：应加快输液速度，增加血容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抑制：谨慎用药，吸氧，维持循环，必要时行气管插管、人工呼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恶心、呕吐：吸氧、升压、暂停手术以减少对迷走神经的刺激，必要时甲氧氯普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m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静脉注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期间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硬膜外麻醉并发症观察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全脊髓麻醉：维持呼吸及维持循环功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导管折断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穿刺针或导管误入血管：注药前必须回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硬膜外间隙血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复述局部麻醉、蛛网膜下隙阻滞、硬脊膜外阻滞、全身麻醉的概念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列举麻醉前常用药物及其目的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复述各种麻醉主要并发症的预防和处理措施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比较不同麻醉方式的特点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阐述局部麻醉、蛛网膜下隙阻滞、硬脊膜外阻滞、全身麻醉主要并发症的原因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评估麻醉患者并为其制订护理计划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期间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全身麻醉并发症的观察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4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华文新魏"/>
              </a:rPr>
              <a:t>反流与误吸</a:t>
            </a:r>
            <a:endParaRPr b="0" lang="en-US" sz="20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4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华文新魏"/>
              </a:rPr>
              <a:t>呼吸道梗阻</a:t>
            </a:r>
            <a:endParaRPr b="0" lang="en-US" sz="20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4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华文新魏"/>
              </a:rPr>
              <a:t>通气量不足</a:t>
            </a:r>
            <a:endParaRPr b="0" lang="en-US" sz="20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4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华文新魏"/>
              </a:rPr>
              <a:t>低氧血症</a:t>
            </a:r>
            <a:endParaRPr b="0" lang="en-US" sz="20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4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华文新魏"/>
              </a:rPr>
              <a:t>高血压</a:t>
            </a:r>
            <a:endParaRPr b="0" lang="en-US" sz="20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4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华文新魏"/>
              </a:rPr>
              <a:t>低血压</a:t>
            </a:r>
            <a:endParaRPr b="0" lang="en-US" sz="20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4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华文新魏"/>
              </a:rPr>
              <a:t>心律失常</a:t>
            </a:r>
            <a:endParaRPr b="0" lang="en-US" sz="20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4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华文新魏"/>
              </a:rPr>
              <a:t>高热、抽搐和惊厥</a:t>
            </a:r>
            <a:endParaRPr b="0" lang="en-US" sz="2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局麻后护理：一般无须特殊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椎管内麻醉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吸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：腰麻后去枕平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8h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后并发症观察和护理：头痛、尿潴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全身麻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保持呼吸道通畅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维持循环功能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维持正常体温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防止意外损伤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明确麻醉苏醒情况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麻醉前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医师一般在麻醉前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天访视患者，了解患者情况，解答患者问题，缓解患者焦虑、恐惧的心理，具体准备内容包括患者准备；麻醉设备、用品及药物的准备：麻醉设备及用品准备、局麻药过敏试验、麻醉前用药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局部麻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方法  常用药物包括酯类和酰胺类局麻药，麻醉方法包括表面麻醉、局部浸润麻醉、区域阻滞和神经阻滞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前应做好心理和生理准备。麻醉期间注意对局麻药毒性反应和过敏反应等并发症的观察和护理。麻醉后一般无需特殊处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椎管内麻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方法  包括蛛网膜下隙阻滞（简称腰麻）和硬膜外腔阻滞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前做好心理和生理准备。麻醉期间注意对血压下降、心率缓慢、呼吸抑制、恶心、呕吐、全脊髓麻醉、局麻药毒性反应等并发症的观察和护理。麻醉后注意病情观察，吸氧，蛛网膜下腔阻滞后去枕平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，硬膜外阻滞后垫枕平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。注意对头痛、尿潴留、硬膜外血肿等并发症的观察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全身麻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类型 按给药途径的不同，可分为吸入麻醉和静脉麻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前注意观察患者的心理变化，麻醉后注意观察有无上呼吸道和下呼吸道梗阻、通气量不足、高血压、低血压、低氧血症、心律失常、心搏停止、高热、抽搐和惊厥、苏醒延迟或不醒、意外损伤等并发症，一旦发生，需立即通知医师，并协助处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麻醉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nesthesi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指用药物或其他方法，使患者的整个机体或机体的一部分暂时失去感觉，以达到手术时无痛的目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5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2400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因咳嗽，痰中带血丝于当地医院就诊。患者自述咳嗽、咳痰，晨起痰多，黄绿色，有慢性支气管炎病史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，否认结核病史，吸烟史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包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日。胸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示右肺上叶后段周围型结节，直径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c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局部侵犯壁层胸膜，明确诊断为右肺癌，拟在全身麻醉下行右肺上叶肺癌根治术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该患者麻醉前护理评估的内容有哪些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目前临床常用美国麻醉医师协会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American Society of Anesthesiologists, AS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的病情分级方法判断患者对手术和麻醉的耐受力（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-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表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5-1   ASA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情分级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*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如系急症，在每级数字前标“急”或“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250920" y="1700280"/>
          <a:ext cx="8713800" cy="4389480"/>
        </p:xfrm>
        <a:graphic>
          <a:graphicData uri="http://schemas.openxmlformats.org/drawingml/2006/table">
            <a:tbl>
              <a:tblPr/>
              <a:tblGrid>
                <a:gridCol w="1482480"/>
                <a:gridCol w="4281480"/>
                <a:gridCol w="2949840"/>
              </a:tblGrid>
              <a:tr h="731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病情分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健康状况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对麻醉及手术的耐受力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3657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第</a:t>
                      </a:r>
                      <a:r>
                        <a:rPr b="0" lang="en-US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1</a:t>
                      </a: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第</a:t>
                      </a:r>
                      <a:r>
                        <a:rPr b="0" lang="en-US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2</a:t>
                      </a: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第</a:t>
                      </a:r>
                      <a:r>
                        <a:rPr b="0" lang="en-US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3</a:t>
                      </a: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第</a:t>
                      </a:r>
                      <a:r>
                        <a:rPr b="0" lang="en-US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4</a:t>
                      </a: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 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第</a:t>
                      </a:r>
                      <a:r>
                        <a:rPr b="0" lang="en-US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5</a:t>
                      </a: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正常健康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有轻度系统性疾病（包括＞</a:t>
                      </a:r>
                      <a:r>
                        <a:rPr b="0" lang="en-US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70</a:t>
                      </a: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岁者或新生儿）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有严重系统性疾病，日常活动受限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有严重系统性疾病，且经常面临威胁生命的危险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不论手术与否，生命均难以维持</a:t>
                      </a:r>
                      <a:r>
                        <a:rPr b="0" lang="en-US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24</a:t>
                      </a: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小时的濒死患者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耐受性良好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耐受性良好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耐受力减弱，须充分术前准备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即使充分术前准备风险性也很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非常危险，不宜行择期手术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包括血、尿、便常规、出凝血时间、血清电解质、肝肾功能、血糖、胸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、心电图检查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麻醉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既往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及手术史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药史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包括精神、情绪状态、人格类型，了解患者对疾病、手术方式、麻醉方式的认识程度。对术前准备、护理配合和术后康复知识的了解程度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微软用户</cp:lastModifiedBy>
  <dcterms:modified xsi:type="dcterms:W3CDTF">2015-08-11T03:32:45Z</dcterms:modified>
  <cp:revision>96</cp:revision>
  <dc:subject/>
  <dc:title>内科护理学</dc:title>
</cp:coreProperties>
</file>