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068E8-D732-46D4-A394-EBBD9C17F5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A671F-44FE-430B-A4F5-F26BA34F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B5079-6707-49CF-AE62-80A70C1A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250E5-1811-4C20-9A59-6438352F3E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443F5-0387-4251-BDA8-27B9F3D6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65117-23C1-4E0C-9444-F9B21789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7DBA1-6DC8-4668-B1F1-87D41FD3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0370F-768E-4DC9-BFDE-64AB4CFD3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79E72-19BD-41DF-84FE-7E903895C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37CED-AA5B-4236-A582-60DB8B3C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CDB6F-07C2-45FD-B908-62B26013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0C12C-FB84-4F61-866A-CBC1176C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4E23-AD10-41B7-988A-9FD61E39AE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2276640"/>
            <a:ext cx="8135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肺段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中央型小细胞未分化肺癌，给予紫杉醇与顺铂联合术前化疗。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应如何进行呼吸道护理？②全肺切除术后胸腔引流管有哪些护理要点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肺部感染、急性肺水肿、肺不张、心律失常、支气管胸膜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，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采取合适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后胸腔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发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患者手术前后呼吸道管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不同术式术后体位摆放方法和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肺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是一种常见的恶性肿瘤，其发病率和死亡率均有逐年上升的趋势。目前认为长期大量吸烟是肺癌重要致病因素，另外还与职业致癌因素、人体免疫状态、代谢状态、遗传等因素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因生长部位和病理类型不同，临床表现和进展速度有所区别。一般早期可出现刺激性干咳、血痰、胸闷、气促、发热、胸痛等症状，晚期压迫临近器官或发生转移时可出现相应部位的症状与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结合放射治疗、化学治疗、免疫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进行呼吸训练，改善肺泡通气和换气功能，术后根据手术术式给予合适体位，进行呼吸功能锻炼，预防肺水肿和肺部感染并发症的出现。全肺切除术患者注意避免过度侧卧，胸腔引流管钳闭，酌情放液，控制补液的速度和量。为早期发现、早期治疗，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吸烟男性患者尤其应做好普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起源于支气管黏膜上皮，也称支气管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咳嗽少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多月，半个月来伴声音嘶哑。双侧颈后可触及多个可活动淋巴结。患病后无发热。吸烟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7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 8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P 135/85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：左肺门处块状阴影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肺癌，特别是周围型肺癌往往无任何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纵隔，压迫食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处转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、脑、肝脏、骨骼和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上淋巴结是肺癌转移的常见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20:56Z</dcterms:modified>
  <cp:revision>90</cp:revision>
  <dc:subject/>
  <dc:title>内科护理学</dc:title>
</cp:coreProperties>
</file>