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02B46-1A21-43F8-B549-46A7926F77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2CEEC-B9C4-4B03-89F0-91200511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DB29F-1058-4CE3-B8D3-BFD91749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3C87D-AA20-4B77-825F-52E90A3EE6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CD8C8-A7EB-49E3-B251-1C44E760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454C1-D32A-4113-B133-F778E83D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75505-F110-416A-847F-36BE8545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5481F-1D20-4971-A972-E4E14A23E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A3D01-D2DC-457D-9765-0EDD310ED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B35BD-436C-49A6-ADAC-D9E79F67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06D86-3390-42F5-8839-E1043CFF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48B1E-D3EA-44A4-B8C1-8E67947C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26A3-A09D-485F-8B0D-4E809541051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34936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包括精神、情绪状态、人格类型，了解患者对疾病、手术方式、麻醉方式的认识程度。对术前准备、护理配合和术后康复知识的了解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局麻药：普鲁卡因、利多卡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方法：表面麻醉、局部浸润麻醉、区域阻滞、神经及神经丛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局麻药毒性反应、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蛛网膜下腔阻滞：简称腰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脊膜外腔阻滞：全脊髓麻醉是硬膜外麻醉最危险的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分为吸入麻醉和静脉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包括呼吸道梗阻、通气不足、低氧血症、低血压或高血压、心律失常、高热、抽搐和惊厥、苏醒延迟或不醒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对手术室环境陌生、缺乏对手术和麻醉的了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局麻药毒副作用，高血压，低血压，心律失常，心搏骤停，呼吸道梗阻，呼吸抑制，头痛，恶性、呕吐，尿潴留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理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的准备：成人择期手术在麻醉前应禁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禁饮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h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普鲁卡因使用前应常规作皮肤过敏试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设备及用品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麻醉方法，准备好麻醉用具、抢救器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或减轻患者的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抑制呼吸道腺体的分泌功能，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神经应激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提高患者的痛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或减少麻醉药的不良反应和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规观察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毒性反应：限量用药、麻醉前用药、缓慢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过敏反应：预防过敏反应的关键是麻醉前询问药物过敏史和进行药物过敏试验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麻并发症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血压、心率减慢：应加快输液速度，增加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抑制：谨慎用药，吸氧，维持循环，必要时行气管插管、人工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：吸氧、升压、暂停手术以减少对迷走神经的刺激，必要时甲氧氯普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复述麻醉、全身麻醉、吸入麻醉、静脉麻醉、局部麻醉、椎管内麻醉、蛛网膜下腔阻滞、基础麻醉、复合麻醉的概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复述麻醉前药物的种类及使用目的；麻醉中或麻醉后常见并发症和应急处理的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麻醉并发症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脊髓麻醉：维持呼吸及维持循环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折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刺针或导管误入血管：注药前必须回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间隙血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麻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呼吸道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通气量不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氧血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血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搏停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后护理：一般无须特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：腰麻后去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后并发症观察和护理：头痛、尿潴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循环功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意外损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热、抽搐和惊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明确麻醉苏醒进展情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医师一般在麻醉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访视患者，了解患者情况，解答患者问题，缓解患者焦虑、恐惧的心理，具体准备内容包括患者准备；麻醉设备、用品及药物的准备：麻醉设备及用品准备、局麻药过敏试验、麻醉前用药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  简便易行、安全有效、对重要器官功能干扰轻微、并发症较少，并可保持患者意识清醒，适用于表浅、局限的手术。包括：表面麻醉、局部浸润麻醉、区域阻滞和神经及神经丛阻滞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应注意心理护理，麻醉后注意有无毒性反应和过敏反应等并发症，会判断并且能够采取护理措施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型 包括蛛网膜下腔阻滞（简称腰麻）、硬膜外腔阻滞及腰麻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腔联合阻滞麻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做好心理护理，术后注意观察有无低血压、呼吸抑制、恶心、呕吐、头痛、尿潴留、全脊髓麻醉、导管折断、穿刺针或导管误入血、硬膜外间隙血肿等并发症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型 按给药途径的不同，可分为吸入麻醉和静脉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注意观察患者的心理变化，麻醉后注意观察有无上呼吸道和下呼吸道梗阻、通气量不足、高血压、低血压、低氧血症、心律失常、心搏停止、高热、抽搐和惊厥、苏醒延迟或不醒、意外损伤等并发症，一旦发生，需立即通知医师，并协助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连硬外麻醉下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腹股沟疝修补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术后患者返回病房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后，出现剧烈背痛，同时伴右下肢肌无力，排尿困难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发生了什么情况？目前主要的护理诊断有哪些？发生该并发症的原因有哪些？该如何处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硬膜外麻醉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，出现剧烈背痛，且出现右下肢肌无力，排尿困难，应考虑为麻醉过程损伤血管导致硬膜外血肿，引起的脊髓压迫症状和体征。主要护理诊断包括疼痛（与硬膜外间隙血肿导致脊髓受压有关）、尿潴留（与脊髓受压有关）。应急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明确确诊断并定位，同时尽早行硬膜外穿刺抽出血液，必要时切开椎板，清除血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比较不同麻醉方式的特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阐明引起不同麻醉并发症的主要原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。拟在全麻下行乳腺癌改良根治术，以下术前给药中，为减少术中呼吸道分泌物的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地西泮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异丙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阿托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吗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苯巴比妥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拟在全麻下接受肝叶切除术，为了预防术中发生误吸，术前最重要的措施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放置胃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禁食禁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进食易消化食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用阿托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用止吐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无吸烟史和肺部疾病史，全麻下行肠道手术。术后回病房麻醉未清醒，呼吸时出现鼾声，此时首先应采取的措施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增加观察次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气管插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环甲膜穿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托起患者下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吸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关于蛛网膜下腔麻醉后头痛的叙述正确的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术中失血多引起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需要再次手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常发生在第一次抬头或起床活动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侧卧时减轻，平卧时加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一般持续时间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以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女性，剖宫产术后，为预防发生头痛，应采取的措施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保持环境安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保持输液通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垫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h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去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h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早期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全脊髓麻醉的主要危险是可引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低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剧烈头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麻醉作用持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呼吸心搏骤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损伤脊髓导致截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麻醉前必须做皮肤过敏试验的麻醉药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普鲁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丁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利多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依替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罗哌卡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局麻下行腹壁肿块切除术，术中出现不安、呼吸和心率增快、血压升高、肌肉震颤，该患者可能出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过敏反应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毒性反应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过度紧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出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呼吸抑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相关知识，为麻醉前患者实施健康指导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麻醉期间及麻醉恢复期患者实施监护，并识别麻醉并发症，协同医师进行处理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麻醉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nesthesia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用药物或其他方法使患者完全或部分失去感觉，达到手术时无痛的目的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因右下腹持续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入院，入院诊断为急性阑尾炎，拟急诊进行阑尾切除术。既往无手术史及麻醉史，无药物过敏史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前确诊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风湿性心脏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平素可从事体力劳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7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20/8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急性病容，心尖区可闻及舒张中晚期杂音，肺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右下腹局部明显压痛、反跳痛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BC 18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b 110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T 3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血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C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窦性心动过速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对该患者麻醉前应评估哪些内容？需要做哪些术前准备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及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临床常用美国麻醉医师协会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merican Society of Anesthesiologists, AS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的病情分级方法判断患者对手术和麻醉的耐受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AS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分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*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系急症，在每级数字前标“急”或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50920" y="1700280"/>
          <a:ext cx="8713800" cy="4389480"/>
        </p:xfrm>
        <a:graphic>
          <a:graphicData uri="http://schemas.openxmlformats.org/drawingml/2006/table">
            <a:tbl>
              <a:tblPr/>
              <a:tblGrid>
                <a:gridCol w="1512720"/>
                <a:gridCol w="4251240"/>
                <a:gridCol w="294984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病情分级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*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健康状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对麻醉及手术的耐受力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轻度系统性疾病（包括＞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岁者或新生儿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严重系统性疾病，日常活动受限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严重系统性疾病，且经常面临威胁生命的危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不论手术与否，生命均难以维持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小时的濒死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力减弱，须充分术前准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即使充分术前准备风险性也很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非常危险，不宜行择期手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麻醉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及手术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09:11Z</dcterms:modified>
  <cp:revision>91</cp:revision>
  <dc:subject/>
  <dc:title>内科护理学</dc:title>
</cp:coreProperties>
</file>