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5E05-B844-43CF-8052-E978D4AC61B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4325-1CEF-4BE8-B397-D5EEC68AB8D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71A4-4949-44C0-A64E-069722C0C08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72E1-F46B-4501-8C76-0E7F1F09F6A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3E0D-6B61-456B-A510-D437E90F8C0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05D0-667F-4C47-8000-861AFE5531F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E5AB-6A06-4CC5-9D0B-0635D012009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AF1C-921C-4799-A8FA-CA1F574D74D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CA2F-6C8E-4F4B-95A2-BC36804A7DC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B5BD-CC36-4201-B1ED-473A7C3375E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98D4-9AC8-4054-9758-94F83AFB28F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1F97-92DB-44E2-B750-6FCE274708A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2B58-B61B-499E-9A6A-F96FC5E25F3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DCA9-6A2F-4100-AB32-706F158F2FA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A7C8-A0CB-4D9D-8735-11992018DCB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A305-30D0-4276-B07B-AFE20C9CE4E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3CAC0-B2F5-4932-B2F0-FA9CC0C807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67D8A-8E0F-4F7E-A18A-94167185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911D1-6999-40DC-80A3-91B92B3A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5E05B-8549-41B6-B768-D9022D5572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728CB-5AE1-44C9-BE3D-09F6315E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6E3C2-4A79-4513-A5ED-D111A20D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65EA2-1767-479D-8E20-1266A6C3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FF538-BE80-43C8-A971-7BA9E8439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5CAF4-540D-4165-9595-8E0D09221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0BA14-A40A-4F4C-B054-7A0CD1CA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52254-47D3-4098-A558-28E16CA5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77BF2-5485-48D6-ACB4-D6282895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C0E5-B9D4-4AA4-997D-55A69E41C8C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磁共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电子发射型计算机断层显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学检查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纵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内超声引导针吸活检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积液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胸壁针吸细胞学或组织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污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段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中央型鳞癌，给予紫杉醇与顺铂联合术前化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应如何进行呼吸道护理？全肺切除术后胸腔引流管有哪些护理要点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与恐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手术、肿瘤压迫周围及组织浸润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、肺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心律失常、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：腹式呼吸、有效咳嗽、胸管相关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营养状况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肺癌临床表现和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常见的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确运用护理程序评估肺癌患者，进行护理诊断，制订护理计划，提供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采取合适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肺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出院后数星期内，仍需进行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化疗或放疗注意事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良好的营养状况及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认为长期大量吸烟是肺癌重要致病因素，另外还与职业致癌因素、人体免疫状态、代谢状态、遗传等因素相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刺激性咳嗽、痰中带血、胸痛、发热、气促是主要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对肺癌主要采取以外科手术为主的综合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应以呼吸道的管理为重点，术后应注意引流管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刺激性干咳，偶有少量咯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，近日出现胸痛入院。诊断为右上肺叶肺癌。昨日在全麻下行右肺上叶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患者目前可能出现的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是什么？目前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因右上肺叶肺癌行肺叶切除术，今日为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可能出现疼痛（与开胸手术有关）、肺不张（与胸膜腔完整性破坏有关）、潜在并发症（出血）等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应严密观察病情，包括生命体征、引流等情况，及时发现出血等并发症；做好呼吸道护理，鼓励患者咳嗽、深呼吸，保持呼吸道通畅；缓解疼痛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诊断肺癌最常见的检查手段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细胞学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早期肺癌的综合治疗中主要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免疫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关于胸部手术后护理，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生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避免深呼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常规供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协助排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数起源于支气管黏膜上皮，也称支气管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的常见的转移途径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蔓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脱落细胞种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淋巴转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蔓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最常见的症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量多、色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中偶带血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痛、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消瘦乏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声音嘶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中心型肺癌诊断率最高的检查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腔积液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纵隔镜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转移灶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经胸壁穿刺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化疗较敏感的肺癌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腺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小细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大细胞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腺混合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手术后的护理重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营养支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呼吸道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循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镇静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肺切除术后患者输液过程中突然出现呼吸困难，气促咳嗽，咳粉红色泡沫痰，提示患者发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不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内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栓塞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A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D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   7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.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转移方式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低热、咳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痰中带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痰量不多，白色泡沫状，无胸痛，无发热。曾服止咳糖浆和麦迪霉素等药，症状未减轻。既往有慢性支气管炎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无肿瘤家族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双侧颈后可触及多个可活动之淋巴结，右上肺可闻及支气管肺泡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右上肺云雾状阴影，边缘不整齐，形状不规则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此类患者的护理评估主要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咳嗽：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闷和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入纵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远处转移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：锁骨上淋巴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8:22Z</dcterms:modified>
  <cp:revision>86</cp:revision>
  <dc:subject/>
  <dc:title>内科护理学</dc:title>
</cp:coreProperties>
</file>