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0.xml.rels" ContentType="application/vnd.openxmlformats-package.relationships+xml"/>
  <Override PartName="/ppt/notesSlides/notesSlide7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EC4B1-752F-4633-BE31-3756B478861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E6519-0C3E-4809-BDDA-46E7238FDD0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B8612-ABA7-42F1-948D-AF6860B74A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3AF1D-68D0-4F59-B389-962D99C40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89D75-4ED7-4371-9F18-A161FD61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0399E-5E57-49E9-AD8C-974ECFD7FD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FF00D-1154-46E9-AF3E-C52B1E521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66F7C-9349-4B7E-945A-69B16897F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3C2CC-2C73-4581-B1E6-E00452137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D4DCE-78C2-4DBE-A6C1-C28D27138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75FBB-5C59-4DE6-9932-A6161A8C8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847C0-4869-456F-8972-732FF72AF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75611-A1FD-41DF-A8EE-B4A825F6C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403AE-9792-4C0E-9D4C-55C489643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4B293-A3E1-4CEB-B40A-35D8AC0EC92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心脏疾病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家族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适应证和禁忌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动脉导管结扎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动脉导管直视闭合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动脉直视闭合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封堵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该患者诊断为动脉导管未闭，完善术前准备后在全麻下行动脉导管结扎术，术后给予吸氧、补液、预防感染等治疗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有感染的危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脏疾病引起肺充血和机体免疫力低下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缺氧、手术、麻醉、应用呼吸机、体外循环、术后伤口疼痛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血压、喉返神经损伤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休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呼吸道管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包纵隔引流管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喉返神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孕期保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房间隔缺损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trial septal defect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S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左、右心房之间的间隔先天性发育不全导致的左、右心房之间形成异常通路，是常见的小儿先天性心脏病之一，占先天性心脏病发病率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~10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孔缺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继发孔缺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劳力性气促、乏力、心悸等症状，易出现呼吸道感染和右心衰竭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原发孔缺损心脏明显增大，心前区隆起。继发孔缺损可出现发绀、杵状指（趾）。心前区有抬举冲动感，少数可触及震颤。肺动脉瓣区可闻及Ⅱ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~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Ⅲ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级吹风样收缩期杂音，伴第二心音亢进和固定分裂；分流量大者心尖部可闻及柔和的舒张期杂音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房间隔缺损、室间隔缺损、法洛四联症、冠状动脉粥样硬化性心脏病等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先天性心脏病、后天性心脏病的护理要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各种先天性心脏病的临床表现、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各种后天性心脏病的临床表现、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护理程序为先天性心脏病和后天性心脏病患者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手术治疗为主，适宜手术年龄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~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并发艾森曼格综合征者禁忌手术。可在体外循环下直接缝合或修补缺损；也可通过介入性心导管术，应用双面蘑菇伞关闭缺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手术切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活动无耐力 与氧的供需失调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：急性左心衰竭、心律失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参见本节动脉导管未闭相关内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左心衰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监测动态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输液管路通畅，发现异常时及时用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室间隔缺损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ventricular septal defect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VS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指室间隔在胎儿期因发育不全导致的左、右心室之间形成异常交通，在心室水平产生左向右的血液分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反复发生呼吸道感染，并可出现充血性心力衰竭、喂养困难和发育迟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劳累后气促、心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前区常有轻度隆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骨左缘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~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间可闻及Ⅲ级以上粗糙响亮的收缩期杂音，向四周传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部分患者可触及收缩期震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并严重肺动脉高压者，可出现中央性发绀及杵状指（趾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适应证和禁忌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方法：全麻低温体外循环下行心内直视修补术，导管伞堵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长发育迟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先天性心脏病引起缺氧、疲乏、心功能减退、营养摄入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输出量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心脏疾病、心功能减退、血容量不足、心律失常、水电解质失衡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氧、手术、麻醉、应用呼吸机、体外循环、术后伤口疼痛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、心律失常、急性左心衰竭、急性心脏压塞、肾功能不全、脑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措施参见本节动脉导管未闭相关内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并发症的预防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左心衰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先天性心脏病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法洛四联症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etralogy of Fallot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OF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右室漏斗部或圆锥动脉干发育不全引起的一种心脏畸形，主要包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种解剖畸形，即肺动脉狭窄、室间隔缺损、主动脉骑跨和右心室肥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发绀、喜爱蹲踞和缺氧发作是法洛四联症的主要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生长发育迟缓，口唇、指（趾）甲床发绀，杵状指（趾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骨左缘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~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可闻及Ⅱ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~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Ⅲ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级喷射性收缩期杂音，肺动脉瓣区第二心音减弱或消失，严重肺动脉狭窄者可听不到杂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手术治疗为主，包括姑息手术和矫治手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发绀和呼吸困难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缺氧、手术、麻醉、体外循环和术后伤口疼痛等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灌注肺、低心排血量综合征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饮水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休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纠正缺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灌注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心排血量综合征：①密切观察患者生命体征、外周循环及尿量等；②遵医嘱给予强心、利尿药物，并注意保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后天性心脏病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后天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后天性心脏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quired heart diseas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出生后由于各种原因导致的心脏疾病，包括后天性心脏瓣膜病、冠状动脉粥样硬化性心脏病、慢性缩窄性心包炎、心脏黏液瘤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itral steno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关闭不全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itral regurgit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狭窄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ortic steno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关闭不全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ortic regurgit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先天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先天性心脏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ongenital heart diseas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H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简称先心病，是胎儿心脏及大血管在母体内发育异常所造成的先天畸形，是小儿最常见的心脏病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左向右分流型（潜伏发绀型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右向左分流型（发绀型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无分流型（无发绀型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前出现劳累性呼吸困难，尤以上楼时明显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前感冒后出现咳嗽、咳脓痰，劳累性呼吸困难加重，不能平卧。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有风湿性关节炎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格检查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10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20/8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二尖瓣面容，颈静脉怒张。双肺呼吸音粗，闻及湿啰音。心尖部扪及舒张期震颤。心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mi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心律不齐，心尖部可闻及舒张期中度隆隆样杂音。双下肢轻度凹陷性水肿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电图：心房颤动，左心房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两肺淤血，可见双心房影，肺动脉段突出。左心房明显扩大，右心室轻度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声心动图：二尖瓣斑点状钙化，瓣叶活动差，二尖瓣口狭窄，左心房、右心室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问题：如何对该患者进行护理评估？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：劳力性呼吸困难、咳嗽、咯血、端坐呼吸和夜间阵发性呼吸困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：二尖瓣面容，颈静脉怒张、肝大、腹水和双下肢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：病变轻、心脏功能代偿良好者可无明显症状。病变重或历时较久者可出现乏力、心悸和劳累后气促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：心尖波动增强，并向左下移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主动脉瓣轻度狭窄者可无明显症状。中度和重度狭窄者可出现乏力、眩晕或昏厥、心绞痛、劳累后气促、端坐呼吸、急性肺水肿等症状，还可并发感染性心内膜炎或猝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胸骨右缘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可扪及收缩期震颤。主动脉瓣区有粗糙喷射性收缩期杂音，向颈部传导，主动脉瓣区第二心音延迟并减弱。重度狭窄者可出现脉搏细小、血压偏低和脉压小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症状：轻度关闭不全患者，心脏功能代偿良好者无明显症状；重度关闭不全者常发生心绞痛、气促、阵发性呼吸困难、端坐呼吸或急性肺水肿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体征：心界向左下方增大，心尖部可见抬举性搏动。重度关闭不全者出现周围血管征，包括颈动脉搏动明显，水冲脉，股动脉枪击音，口唇、甲床毛细血管搏动等征象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及性别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风湿病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：适用于无症状或心功能Ⅰ级的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：①经皮穿刺球囊导管二尖瓣交界扩张分离术，适用于单纯隔膜型或隔膜增厚型二尖瓣狭窄；②体外循环直视下行二尖瓣交界切开及瓣膜成形术，无法成形修复者，则需切除瓣膜，行二尖瓣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：主要为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：分为二尖瓣修复成形术和二尖瓣替换术两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动脉导管未闭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atent ductus arteriou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D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常见的小儿先天性心脏病之一，占先天性心脏病发病率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2%~15%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：无症状的轻、中度狭窄者无手术指征可进行内科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：无症状的重度狭窄者、出现心绞痛、昏厥或心力衰竭者均应尽早进行手术治疗，常用的手术方式包括主动脉瓣切开术与主动脉瓣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出现心绞痛、左心衰竭或心脏逐渐扩大，可在数年内病情恶化或猝死，应尽早施行主动脉瓣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诊断为风湿性心脏病、二尖瓣狭窄，入院后给予强心、利尿、抗感染等治疗，完善术前准备后于入院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在体外循环下行二尖瓣置换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术后可能出现哪些并发症？应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如何为该患者进行健康宣教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心输出量减少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缺氧、手术、麻醉、应用呼吸机、体外循环、术后切口疼痛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、动脉栓塞、急性心脏压塞、肾功能不全、感染、脑功能障碍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限制患者活动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循环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呼吸道管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心功能和维持有效循环血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观察、预防与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栓塞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肾功能不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脑功能障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指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抗凝用药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婚姻与妊娠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自我保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冠状动脉粥样硬化性心脏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therosclerotic coronary artery diseas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简称冠心病，由于冠状动脉粥样硬化使管腔狭窄或阻塞，引起冠状动脉供血不足，导致心肌缺血、缺氧或坏死的一种心脏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因反复发作性心前区闷痛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入院。患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来爬楼、体力劳动时即出现胸闷、胸骨后压榨样疼痛，向左肩部放射，含服硝酸甘油后缓解。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前无明显诱因出现胸骨后剧烈疼痛，服用硝酸甘油后不缓解，并出现恶心、呕吐，遂入院治疗。吸烟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格检查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.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7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90/65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心尖部第一心音减弱，可闻及“奔马律”和收缩期杂音。心电图：下壁心肌梗死。超声心动图：左心室下壁局限性运动减弱，二尖瓣后叶后角部分腱索断裂，中度反流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冠状动脉和左心室造影：右冠状动脉近段钙化，中段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梗阻，经侧支循环梗阻远端显影。左心室造影后基底段运动减弱，二尖瓣中度反流，左心房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绞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肌梗死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感冒去医院就诊，肺部听诊时发现心脏杂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格检查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8.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90/5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胸骨左缘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间触及细震颤，胸骨左缘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间闻及连续性机器样杂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电图：左心室肥大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：肺动脉段略凸起，肺门血管影增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声心动图：可见管型未闭动脉导管，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.2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直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7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冠状动脉造影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、性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吸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脂异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糖尿病和糖耐量异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药物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介入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：常用手术方式为冠状动脉旁路移植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oronary artery bypass graf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AB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诊断为下壁心肌梗死、二尖瓣关闭不全，完善术前准备后在体外循环下行二尖瓣成形和冠状动脉搭桥术。术后给予呼吸机辅助呼吸、强心、利尿、扩血管、调节水电酸碱平衡、预防感染等治疗。术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痊愈出院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护理要点有哪些？②如何对该患者进行健康宣教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肌缺血坏死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肌氧的供需失调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有心排血量减少的危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术后低心排血量综合征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：出血、肾衰竭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心脏负担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监测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心排血量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功能锻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肾衰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、控制体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倡导健康生活方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指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自我保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心脏病与胎儿发育的宫内环境因素、母体情况和遗传因素有关；后天性心脏瓣膜病主要由风湿热所致；冠状动脉粥样硬化性心脏病与高脂血症、高血压、吸烟、糖尿病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心脏病可出现心悸、气促、乏力、喂养困难、肺部感染等，严重者可出现心力衰竭；后天性心脏瓣膜病可出现心悸、乏力、劳累后气促急性肺水肿等，严重者可出现心力衰竭；冠状动脉粥样硬化性心脏病表现为胸闷、胸骨后疼痛，严重者发生心力衰竭，甚至猝死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心脏病以手术治疗为主；后天性心脏瓣膜病包括非手术治疗和手术治疗，手术方法有瓣膜修复成形术和瓣膜置换术；冠状动脉粥样硬化性心脏病包括药物治疗、介入治疗和手术治疗，常用手术方式为冠状动脉旁路移植术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注患者的心理反应；做好伤口及引流护理；改善呼吸、循环功能；做好并发症的观察、预防和处理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细、分流量小者，临床可无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粗、分流量大者，可出现心悸、气促、咳嗽、乏力、多汗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自幼口唇和四肢末梢发绀，发育较差，于当地医院就诊时发现心脏杂音。平时体力较差，喜蹲踞，有数次晕厥发作史，发作持续数分钟至数十分钟不等，平卧休息后缓解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.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9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00/75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神志清楚，发育较差，口唇发绀，手指、足趾呈杵状，心前区稍隆起，心尖搏动点位于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锁骨中线内侧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，胸骨左缘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可闻及收缩期杂音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入院后经系统检查诊断为法洛四联症，完善术前准备后在体外循环下行法洛四联症根治术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该患者术后可出现哪种并发症？应如何预防和护理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病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法洛四联症患儿，由于肺动脉发育差、体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肺侧支多、术后输液过多等因素，术后可出现灌注肺。由于术前肺血减少和左心室发育不全，术后可出现低心排血量综合征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灌注肺：表现为急性进行性呼吸困难、发绀、血痰和难以纠正的低氧血症。主要护理措施包括：①采用呼气末正压通气方式辅助通气；②密切监测呼吸机的各项参数，注意气道压力变化；③及时清理呼吸道分泌物，保持呼吸道通畅；④严格限制输液量，监测血浆胶体渗透压，术后急性渗出期，根据血浆胶体渗透压的变化，遵医嘱及时补充血浆及清蛋白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心排血量综合征：表现为低血压、心率快、少尿、多汗、末梢循环差、四肢湿冷等。主要护理措施包括：①密切观察患者生命体征、外周循环及尿量等；②遵医嘱给予强心、利尿药物，并注意保暖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先天性心脏病中发病率最高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动脉导管未闭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房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室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法洛四联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动脉狭窄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动脉导管未闭术后护理措施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加快输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监测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患儿安静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法洛四联症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动脉狭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室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动脉骑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房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右心室肥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风湿性瓣膜病最常累及的瓣膜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二尖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三尖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动脉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动脉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动脉瓣和肺动脉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冠状动脉粥样硬化性心脏病的危险因素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脂血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吸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糖尿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风湿热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心绞痛临床表现的描述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骨后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向左肩、左臂放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含服硝酸甘油后疼痛不缓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含服硝酸甘油后疼痛缓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C    2. A    3. D    4. A    5. E    6. 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脏杂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围血管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26:40Z</dcterms:modified>
  <cp:revision>90</cp:revision>
  <dc:subject/>
  <dc:title>内科护理学</dc:title>
</cp:coreProperties>
</file>