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4A7C-58E4-41A6-8B85-FF5A3FE3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9704-E026-42CC-B7A1-D9904380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C1B2D-185C-4B73-8321-8EB6F08B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29860-5499-48E3-9C03-ECC13653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2DF12-47BF-4FD7-8FA8-81095C2F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D09DD-50E3-4E9A-8CA9-B91CEB22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73C73-B8A6-475A-B9BB-A84D196A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AF323-1CD6-4D03-BDCC-C9FACD4D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156A9-A8E8-423C-B9C5-3AA4EBA0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C0C83-03AC-4F1E-A5F7-39D3B2FA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353B4-1909-4ED4-9C7D-C2A4DDB9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0C496-C53B-419E-863F-85354A4A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628E-C405-474E-8BDE-CEAA7C8D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BFAA8-2E46-4DAA-81BC-ED237E5F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A322B-BBFB-44E9-AECB-0FA88D14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8BE72-C02F-43D0-9079-8773E34E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76D43-13F5-4EC6-ACA1-EFA15AF5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9ACC0-B739-4AF9-B939-315ADC58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739BD-CFEC-4D6C-8A21-B57C4FE8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D5F1E-00A2-4CA1-B592-69CC054F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9C2E6-748E-42A3-A68F-6B91D206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6284C-9789-4F57-BACB-0DB9B35C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91767-A04B-45CF-8970-05FFE883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2C6D-FCF2-4B66-8DB0-E5653F81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3A727-4EE7-4706-BCB3-1A37D985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B807A-60F2-46B5-B60E-13DE1CC9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25855-8B71-4B4C-954B-A486CD31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AFED7-DE55-4870-B4CA-B9FDC524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EF2FE-6884-4771-AF6B-22979AC2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A5B47-6E5D-4A2C-ADF4-8B9DFE96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B5D13-AA86-430D-87FC-F85412B4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0B535-DAFF-4E70-A8DB-82DC9656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EEEAC-3329-498B-B03B-7684437E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0A528-17CA-498D-83B2-0A3EFB79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59AD-6E4C-4C0F-A154-6B96B0BF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7E949-81E7-4552-90E6-44BFFDC5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6F586-A9DB-43D8-9993-C5C30374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93D35-50C1-4841-9CBB-B445D68F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B5D91-D758-40BA-9016-D787072A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12706-A5F7-4A9E-A56B-7A347AA1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A0A10-3E59-4E9A-99C6-DE3444F1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049C0-88A1-4F34-8BA6-9597B54E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D4BBC-55A2-49B6-B3A4-E007F479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53A30-B9D7-4C6B-B54D-DDD3C209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526F8-1B7B-4F35-ACC4-3FD5FA21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E7D6-4474-47F0-81A8-DB31C0C9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A7525-3393-4961-9DF1-7CB91A71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E9A32-FA19-43DB-81B1-5A0A6D41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329C3-BCEC-4A24-A276-C438CC93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0A87F-C724-404B-BAB3-A2B30C83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37695-DE4E-4E86-A254-06D3E026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43BFDB-F4D6-411F-A28E-531210C65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F69590-1948-46F2-8326-76A1DED1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738006-1CF3-4EF5-8BDA-A5228F39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1B3878-8B8A-4DE9-8508-4CEC6F80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6EB577-E6C6-4A56-8528-94DE7978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0C7E-28AE-4038-9B6C-AC16D04A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1A7FEB-80A9-4EF1-A98B-E06CD06C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106DE8-01EF-459F-A4F6-57EC832E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CFBAE7-F83F-4151-AD35-3C23D49B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AF4876-6177-4BF4-9EF7-5DC6E50A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9932D5-9A74-456F-86CC-BFFD827C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8E743F-6D52-4CE6-A661-F1EA4F8D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CA54CE-5CF1-4A6D-B7DC-0E057D57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D90C7B-7AFB-4D40-A186-E2D6CFF6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AB9AC5-BA92-4B93-A8CE-2E7001D0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28C844-85CB-4923-810A-EC410EE8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FD3A-DF80-4925-8DBA-D002F6F5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01F7AA-DA6A-4207-A61A-DB703E79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C2BE26-5883-446D-8354-1091F23B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D750D6-D033-402F-AA8C-55A34234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815842-617D-4CF5-A622-26BC551E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16A3D8-2BA4-4B94-8931-5E993F52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85F37F-BA87-410A-A45F-B5F83FA6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470639-E4D6-45BC-92E5-E2A10BEE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E68328-8743-41F9-BA19-378B01BB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037822-C60A-4E67-B60A-3C1AEED8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63C8-3C67-4A26-B3F5-7D6AEC3F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0388-93F7-45DB-8F0C-982D0D4D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E886-4F91-47EC-8B18-D7B4A63C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1308-C296-4DD9-B6BA-2BC3A4A2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C686-4121-4582-AA8D-D43F2025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8AAF-8571-4FB4-A4C9-552EB57F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D8B7-8122-4C1D-898D-0FCBEBF8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841D-0D65-4322-88FF-AC4256FE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FE82-EBF8-49C9-A131-05769FA75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36F0D-361E-4585-A8DB-91E002BD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CDDD7-B512-4013-8795-9A9EC412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2831F-AFF9-4F3B-90DD-8D241D47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FCA0E-6B66-42DF-8ADC-EF46B8A1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1F141-8C2F-4206-9E53-8CBDBB74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27BF-0237-4933-A02D-1098320B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22785-D167-4903-ABB5-96464DBE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548B4-B921-4600-94C4-837AF6DE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B813F-7DFA-4DCC-ADEE-E1D86EED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7189D-CC71-42E1-9760-972E3C7D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F6D0A-E8C1-49D3-8380-85305410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20E92-6259-45B1-B583-AAFB5ADF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A6D18-EC39-4EA9-AE8F-7BEDD679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41BDF-7CC6-44D6-87F5-AA6F7C63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1BB6D-C792-4711-BE0E-0F40EDE2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868A6-7659-4357-9069-FC1A54A0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9EB-D690-412D-A88B-7EEC1A8C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2EB54-B361-4B8C-982A-63656904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3E1DA-8919-4743-9CA1-050B369D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6967F-7C27-4B32-9455-28235FB8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F16AB-AFBF-48F6-B4E6-E9FDC750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1B529-6000-4E7A-8A07-368E27B5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94245-69DC-42D4-8FE8-19C89673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AEC38-B938-47B1-A8B3-61207FF2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9A178-CBF3-4897-8BBF-EDC3CF06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05D35-2C5A-4FDA-9206-BA71EC6B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4F066-3CF7-415C-BCBC-71BE8A0F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7980-D861-4DFB-90EC-4BF2021D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3F4AC-8A14-4205-9C6B-C2001E63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EA213-7539-4223-B1DA-FD25225D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D627E-9F60-43ED-942D-36119E32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52C5F-29D3-469D-B3D8-8A25756A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46CCD-299C-4CBF-99E6-469F233A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B8506-B5FD-406C-B696-DDEAAACB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CB823-F5AC-4789-936E-783F05FA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A5B55-855A-4CCC-842E-535D4C65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F9071-2229-431A-B33C-CED0CCBA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152EE-444A-4C5B-AFCD-F6D3B6A6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7F77-A1C2-4905-98A9-D4DA8193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28775-DF30-4B83-B5D7-BD8DF582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02EF2-D192-4202-B1DA-A246926F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D85A8-6178-4A98-90AF-487AFFAB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BF6C1-9FFC-41A1-89A8-B148AC31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A6E4B-5FB9-4E5C-BAD2-44E071FC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EC360-B8B7-4EA1-BBE2-EB86D482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27F5B-859E-40DF-800E-EFD13DED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C76DA-3871-4BD7-B4D4-4E211299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B047C-1C1B-42AC-AA80-30EEF7E1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9977E-E5A0-4485-B831-76333976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677D-AB7C-4032-83CB-9EE05FC6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BFFE5-7F70-4D4F-8795-EA94B290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C0C02-AF70-4E83-B6E4-B4729D95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0BAC4-040F-420F-BD3B-192AD80C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D788D-E14E-4AEF-8A70-DD461573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7A450-E6EB-4AEB-BFC1-6F380012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13038-5C9D-464B-8361-12BC3B84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E33A0-2A74-4D33-BAA0-0DA36E8D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578C1-ED13-43A5-8705-D67FA9C3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ACE08-C6D0-41B7-BEBF-274CA932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103BB-7AB5-4A02-AB12-42C1684A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1BD6-4271-4A73-9493-F3E104B5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51669-F2C1-4E15-BEFE-6403947E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006C2-29B4-407B-BAB4-14D5D102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615AF-72B2-4DB9-A712-1B085510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E32DF-8836-4494-859E-1EBC238E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E884B-A6B5-4EE3-8677-5E5D16F2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9C214-3A61-4B46-BCB8-D96E4709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AEA6D-497C-47C9-903E-3A1D56E7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20BC2-9F5D-49B1-B9A9-5DE1582B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79E7A-9C05-4A52-80A9-7AED2D7E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E0547-073D-4E7F-922F-B642B1A3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A617-3725-4127-9A98-8FB9997F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3922F-0253-4326-B185-FEB4F844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206CC-DFEC-4B58-8422-0051AF48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2DD84-8DF4-4B5E-B642-DEC47B4E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89295-F0E7-438D-B510-1DD656D6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B8BF5-5727-4464-B0DC-5A6AEC4F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52690-AD48-464C-BF2F-288E63EA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73E49-EE98-4E5C-903F-5867FF41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7F6A5-2714-4778-BE24-F857AEBB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F73D4-4F27-4B98-A4A3-76EDB6D7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44665-AC58-4CFD-825D-768CCE7A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5D56-801F-4F2B-8ED1-0E26467CE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CEA8-1C55-4F89-922E-A2BE0A0EB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A321-A4C9-4D4A-BF87-F9A6D8817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CD95-B793-4653-AF82-2F3E6E568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DF9D-2726-4965-9463-E0C4557AB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583F-0FA2-49CE-89D2-D1C469DD7BFA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C2F5-F231-49DE-AB0D-1463A0AD1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7331-1A2D-407F-9386-9A3C50EAD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0432-536B-43EA-8E38-02474EE47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1F5F-C6BC-4BA4-92C0-6A7F439DE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2F88-E15B-4156-A4C1-C92791263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F567-BD6D-489B-B952-FDCDA313B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8959-9182-4E35-B308-EC8E3FC30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C171-A456-4DB6-9C25-139D676A2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389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六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生物氧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763640" y="2492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Biological Oxidatio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9911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、催化生物氧化的酶包括氧化酶类和脱氢酶类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氧化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酶类的辅基常含有金属离子如铁或铜，催化代谢物脱氢氧化，氧分子接受氢生成水。如抗坏血酸氧化酶、细胞色素氧化酶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脱氢酶类的催化作用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A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P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辅基或辅酶，催化代谢物脱氢。根据是否需要氧作为直接受氢体，可将脱氢酶分为需氧脱氢酶和不需氧脱氢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7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其他酶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上述酶类外，体内还有加单氧酶、加双氧酶、过氧化氢酶、过氧化物酶、超氧化物歧化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SOD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参与氧化还原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3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五、生物氧化过程中有机酸脱羧基产生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类及蛋白质在体内代谢过程中产生不同的有机酸，有机酸在酶的催化下，脱羧基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根据脱去的羧基在有机酸的位置，分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α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和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β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种。又根据脱羧反应是否伴有脱氢，分为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单纯脱羧和氧化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仿宋"/>
                <a:ea typeface="仿宋"/>
              </a:rPr>
              <a:t>第二节  线粒体内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40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呼吸链包含多种成分，并按一定顺序排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呼吸链的主要成分及其作用机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主要功能是接受从代谢物上脱下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，然后传递给呼吸链另一组分黄素蛋白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递氢体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无名"/>
          <p:cNvPicPr/>
          <p:nvPr/>
        </p:nvPicPr>
        <p:blipFill>
          <a:blip r:embed="rId1"/>
          <a:stretch/>
        </p:blipFill>
        <p:spPr>
          <a:xfrm>
            <a:off x="1042920" y="1916280"/>
            <a:ext cx="7161120" cy="4194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69228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=H: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;      R=H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Picture 3" descr="NAD(P)-NAD(P)H`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黄素酶或黄素蛋白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613" name="Line 4"/>
          <p:cNvSpPr/>
          <p:nvPr/>
        </p:nvSpPr>
        <p:spPr>
          <a:xfrm flipV="1">
            <a:off x="1547640" y="4292280"/>
            <a:ext cx="576360" cy="576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2987280" y="2133720"/>
            <a:ext cx="360360" cy="64764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铁硫蛋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e-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结构及递电子机制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26480" cy="4194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610452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Ⓢ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示无机硫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学    习     重     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物氧化的概念及意义；了解生物氧化的特点及主要酶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呼吸链的主要组成成分，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呼吸链的电子传递顺序；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粒体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转运进入线粒体的机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磷酸化的概念、偶联部位；了解氧化磷酸化机制及影响因素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体内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主要方式及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生理功用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了解不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途径、主要场所及主要氧化体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泛醌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又称辅酶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结构与递氢机制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 flipH="1" flipV="1">
            <a:off x="6659640" y="3284640"/>
            <a:ext cx="79200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6732720" y="5950080"/>
            <a:ext cx="792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氧化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651640" y="270828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H</a:t>
            </a:r>
            <a:r>
              <a:rPr b="0" lang="en-US" sz="1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还原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yt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细胞色素是一类以铁铁卟啉为辅基的催化电子传递的酶类，根据它们吸收光谱不同而分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呼吸链中的细胞色素有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很难分开，组成一复合体，统称为细胞色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传递电子的顺序：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→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→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 → 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传递电子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2953440"/>
            <a:ext cx="68328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3+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+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-      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4356000" y="3933720"/>
            <a:ext cx="1511280" cy="216000"/>
          </a:xfrm>
          <a:prstGeom prst="leftRightArrow">
            <a:avLst>
              <a:gd name="adj1" fmla="val 50000"/>
              <a:gd name="adj2" fmla="val 1392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体               递电子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       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e-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AD                        Cyt-F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UQ(CoQ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呼吸链中大部分组成成分形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蛋白复合体，只有少数游离存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380880" y="2225520"/>
          <a:ext cx="8382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5520"/>
                    <a:ext cx="8382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535480" y="5877000"/>
            <a:ext cx="3225240" cy="368280"/>
          </a:xfrm>
          <a:prstGeom prst="rect">
            <a:avLst/>
          </a:prstGeom>
          <a:solidFill>
            <a:srgbClr val="dc5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泛醌 和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yt c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均不包含在上述四种复合体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呼吸链各复合体在线粒体内膜中的位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3" descr="6-1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呼吸链组分按氧化还原电位由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低到高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排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540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目前普遍认为呼吸链的传递顺序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67564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和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两条重要的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1. NADH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氧化呼吸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ADH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Ⅰ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琥珀酸氧化呼吸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琥珀酸 →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Ⅱ 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一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最常见的一条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3" name="Picture 3" descr="NAD氧化呼吸链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也叫琥珀酸氧化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5" name="Picture 3" descr="FAD氧化呼吸链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物氧化是物质在体内氧化分解的过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两条呼吸链传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传递机制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9912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糖代谢与呼吸链联系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生物氧化过程中有部分能量用于生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3" name="Organization Chart 3"/>
          <p:cNvGrpSpPr/>
          <p:nvPr/>
        </p:nvGrpSpPr>
        <p:grpSpPr>
          <a:xfrm>
            <a:off x="0" y="1916280"/>
            <a:ext cx="8747640" cy="4192560"/>
            <a:chOff x="0" y="1916280"/>
            <a:chExt cx="8747640" cy="4192560"/>
          </a:xfrm>
        </p:grpSpPr>
        <p:cxnSp>
          <p:nvCxnSpPr>
            <p:cNvPr id="654" name="_s1028"/>
            <p:cNvCxnSpPr>
              <a:stCxn id="655" idx="0"/>
              <a:endCxn id="656" idx="2"/>
            </p:cNvCxnSpPr>
            <p:nvPr/>
          </p:nvCxnSpPr>
          <p:spPr>
            <a:xfrm flipV="1" rot="16200000">
              <a:off x="5131080" y="2833920"/>
              <a:ext cx="839160" cy="23562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657" name="_s1029"/>
            <p:cNvCxnSpPr>
              <a:stCxn id="658" idx="0"/>
              <a:endCxn id="656" idx="2"/>
            </p:cNvCxnSpPr>
            <p:nvPr/>
          </p:nvCxnSpPr>
          <p:spPr>
            <a:xfrm flipH="1" flipV="1" rot="5400000">
              <a:off x="2776320" y="2834640"/>
              <a:ext cx="839160" cy="23551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656" name="_s1030"/>
            <p:cNvSpPr/>
            <p:nvPr/>
          </p:nvSpPr>
          <p:spPr>
            <a:xfrm>
              <a:off x="2354400" y="191628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两种形式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_s1031"/>
            <p:cNvSpPr/>
            <p:nvPr/>
          </p:nvSpPr>
          <p:spPr>
            <a:xfrm>
              <a:off x="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底物水平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_s1032"/>
            <p:cNvSpPr/>
            <p:nvPr/>
          </p:nvSpPr>
          <p:spPr>
            <a:xfrm>
              <a:off x="471024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氧化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底物水平磷酸化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substrate level phosphorylation)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底物分子内部能量重新分布，生成高能键，使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磷酸化生成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1979640" y="3789360"/>
            <a:ext cx="6948360" cy="259236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水解时释放的能量大于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21KJ/mo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的磷酸酯键，称为高能键。常表示为 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48640" cy="5418360"/>
          </a:xfrm>
          <a:prstGeom prst="rect">
            <a:avLst/>
          </a:prstGeom>
          <a:ln w="0">
            <a:noFill/>
          </a:ln>
        </p:spPr>
      </p:pic>
      <p:sp>
        <p:nvSpPr>
          <p:cNvPr id="663" name="Oval 3"/>
          <p:cNvSpPr/>
          <p:nvPr/>
        </p:nvSpPr>
        <p:spPr>
          <a:xfrm>
            <a:off x="0" y="1341360"/>
            <a:ext cx="1042920" cy="410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 flipV="1">
            <a:off x="971640" y="1557000"/>
            <a:ext cx="792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1116000" y="3357720"/>
            <a:ext cx="719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971640" y="4724280"/>
            <a:ext cx="936360" cy="649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磷酸化 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oxidative phosphorylation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在呼吸链电子传递过程中偶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磷酸化，生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又称为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偶联磷酸化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1042920" y="4076640"/>
          <a:ext cx="74898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076640"/>
                    <a:ext cx="7489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链1"/>
          <p:cNvPicPr/>
          <p:nvPr/>
        </p:nvPicPr>
        <p:blipFill>
          <a:blip r:embed="rId1"/>
          <a:stretch/>
        </p:blipFill>
        <p:spPr>
          <a:xfrm>
            <a:off x="684360" y="836640"/>
            <a:ext cx="8135640" cy="33130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3"/>
          <p:cNvGrpSpPr/>
          <p:nvPr/>
        </p:nvGrpSpPr>
        <p:grpSpPr>
          <a:xfrm>
            <a:off x="755640" y="4365720"/>
            <a:ext cx="2286000" cy="779760"/>
            <a:chOff x="755640" y="4365720"/>
            <a:chExt cx="2286000" cy="779760"/>
          </a:xfrm>
        </p:grpSpPr>
        <p:sp>
          <p:nvSpPr>
            <p:cNvPr id="673" name="Line 4"/>
            <p:cNvSpPr/>
            <p:nvPr/>
          </p:nvSpPr>
          <p:spPr>
            <a:xfrm>
              <a:off x="3041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755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 flipH="1">
              <a:off x="7556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>
              <a:off x="25844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1365120" y="47466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  <a:ea typeface="GungsuhChe"/>
                </a:rPr>
                <a:t>ATP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8" name="Group 9"/>
          <p:cNvGrpSpPr/>
          <p:nvPr/>
        </p:nvGrpSpPr>
        <p:grpSpPr>
          <a:xfrm>
            <a:off x="3203280" y="4508640"/>
            <a:ext cx="3429360" cy="452880"/>
            <a:chOff x="3203280" y="4508640"/>
            <a:chExt cx="3429360" cy="452880"/>
          </a:xfrm>
        </p:grpSpPr>
        <p:sp>
          <p:nvSpPr>
            <p:cNvPr id="679" name="Line 10"/>
            <p:cNvSpPr/>
            <p:nvPr/>
          </p:nvSpPr>
          <p:spPr>
            <a:xfrm>
              <a:off x="6632640" y="4508640"/>
              <a:ext cx="0" cy="268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3203280" y="4627800"/>
              <a:ext cx="609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6099120" y="4627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4482360" y="4562640"/>
              <a:ext cx="79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6781680" y="4365720"/>
            <a:ext cx="2361960" cy="499680"/>
            <a:chOff x="6781680" y="4365720"/>
            <a:chExt cx="2361960" cy="499680"/>
          </a:xfrm>
        </p:grpSpPr>
        <p:sp>
          <p:nvSpPr>
            <p:cNvPr id="684" name="Line 15"/>
            <p:cNvSpPr/>
            <p:nvPr/>
          </p:nvSpPr>
          <p:spPr>
            <a:xfrm>
              <a:off x="678168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914364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67816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87004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8" name="Rectangle 19"/>
            <p:cNvSpPr/>
            <p:nvPr/>
          </p:nvSpPr>
          <p:spPr>
            <a:xfrm>
              <a:off x="7180200" y="446652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   </a:t>
              </a: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9" name="Rectangle 20"/>
          <p:cNvSpPr/>
          <p:nvPr/>
        </p:nvSpPr>
        <p:spPr>
          <a:xfrm>
            <a:off x="4067280" y="5445000"/>
            <a:ext cx="36576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氧化磷酸化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氧化磷酸化及偶联部位示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呼吸链产生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是指物质氧化时，每消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摩尔氧原子所消耗的无机磷的摩尔数（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），即生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实验所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分别为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为电子供体）和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琥珀酸为电子供体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折中数据，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琥珀酸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6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生物氧化由酶催化逐步进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086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肪及蛋白质等营养物质在体内氧化及体外燃烧虽然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终产物都是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，释放的总能量也完全相等，氧化反应类型也相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二者在条件、能量释放等方面却大不相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氧化磷酸化的机制示意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化学渗透学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5" name="Picture 3" descr="无标题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2133720"/>
            <a:ext cx="7343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影响氧化磷酸化作用的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是调节氧化磷酸化的主要因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甲状腺素能使机体耗氧和产热均增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氧化磷酸化抑制剂：主要有呼吸链阻断剂和解偶     联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10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调节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9" name="Diagram 3"/>
          <p:cNvGrpSpPr/>
          <p:nvPr/>
        </p:nvGrpSpPr>
        <p:grpSpPr>
          <a:xfrm>
            <a:off x="536400" y="1805760"/>
            <a:ext cx="8092440" cy="4324320"/>
            <a:chOff x="536400" y="1805760"/>
            <a:chExt cx="8092440" cy="4324320"/>
          </a:xfrm>
        </p:grpSpPr>
        <p:sp>
          <p:nvSpPr>
            <p:cNvPr id="700" name="_s2052"/>
            <p:cNvSpPr/>
            <p:nvPr/>
          </p:nvSpPr>
          <p:spPr>
            <a:xfrm flipV="1">
              <a:off x="3233160" y="1805040"/>
              <a:ext cx="2698920" cy="1441800"/>
            </a:xfrm>
            <a:custGeom>
              <a:avLst/>
              <a:gdLst>
                <a:gd name="textAreaLeft" fmla="*/ 968400 w 2698920"/>
                <a:gd name="textAreaRight" fmla="*/ 1730520 w 2698920"/>
                <a:gd name="textAreaTop" fmla="*/ 517320 h 1441800"/>
                <a:gd name="textAreaBottom" fmla="*/ 92448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D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_s2053"/>
            <p:cNvSpPr/>
            <p:nvPr/>
          </p:nvSpPr>
          <p:spPr>
            <a:xfrm flipV="1">
              <a:off x="1884960" y="3247920"/>
              <a:ext cx="5395680" cy="1440000"/>
            </a:xfrm>
            <a:custGeom>
              <a:avLst/>
              <a:gdLst>
                <a:gd name="textAreaLeft" fmla="*/ 1186560 w 5395680"/>
                <a:gd name="textAreaRight" fmla="*/ 4209120 w 5395680"/>
                <a:gd name="textAreaTop" fmla="*/ 316440 h 1440000"/>
                <a:gd name="textAreaBottom" fmla="*/ 1123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_s2054"/>
            <p:cNvSpPr/>
            <p:nvPr/>
          </p:nvSpPr>
          <p:spPr>
            <a:xfrm flipV="1">
              <a:off x="536400" y="4687560"/>
              <a:ext cx="8092440" cy="1441800"/>
            </a:xfrm>
            <a:custGeom>
              <a:avLst/>
              <a:gdLst>
                <a:gd name="textAreaLeft" fmla="*/ 1404720 w 8092440"/>
                <a:gd name="textAreaRight" fmla="*/ 6687720 w 8092440"/>
                <a:gd name="textAreaTop" fmla="*/ 250200 h 1441800"/>
                <a:gd name="textAreaBottom" fmla="*/ 119160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氧化磷酸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化速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3" name="Rectangle 8"/>
          <p:cNvSpPr/>
          <p:nvPr/>
        </p:nvSpPr>
        <p:spPr>
          <a:xfrm>
            <a:off x="527832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448632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AutoShape 10"/>
          <p:cNvSpPr/>
          <p:nvPr/>
        </p:nvSpPr>
        <p:spPr>
          <a:xfrm>
            <a:off x="5724360" y="5589720"/>
            <a:ext cx="71640" cy="360360"/>
          </a:xfrm>
          <a:prstGeom prst="upArrow">
            <a:avLst>
              <a:gd name="adj1" fmla="val 50000"/>
              <a:gd name="adj2" fmla="val 125754"/>
            </a:avLst>
          </a:prstGeom>
          <a:solidFill>
            <a:srgbClr val="dc5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59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甲状腺素调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7" name="Organization Chart 3"/>
          <p:cNvGrpSpPr/>
          <p:nvPr/>
        </p:nvGrpSpPr>
        <p:grpSpPr>
          <a:xfrm>
            <a:off x="2627280" y="1989000"/>
            <a:ext cx="4194000" cy="4192920"/>
            <a:chOff x="2627280" y="1989000"/>
            <a:chExt cx="4194000" cy="4192920"/>
          </a:xfrm>
        </p:grpSpPr>
        <p:cxnSp>
          <p:nvCxnSpPr>
            <p:cNvPr id="708" name="_s3076"/>
            <p:cNvCxnSpPr>
              <a:stCxn id="709" idx="0"/>
              <a:endCxn id="710" idx="2"/>
            </p:cNvCxnSpPr>
            <p:nvPr/>
          </p:nvCxnSpPr>
          <p:spPr>
            <a:xfrm flipV="1" rot="16200000">
              <a:off x="4868640" y="3520080"/>
              <a:ext cx="839160" cy="11300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711" name="_s3077"/>
            <p:cNvCxnSpPr>
              <a:stCxn id="712" idx="0"/>
              <a:endCxn id="710" idx="2"/>
            </p:cNvCxnSpPr>
            <p:nvPr/>
          </p:nvCxnSpPr>
          <p:spPr>
            <a:xfrm flipH="1" flipV="1" rot="5400000">
              <a:off x="3739680" y="3520440"/>
              <a:ext cx="839160" cy="112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710" name="_s3078"/>
            <p:cNvSpPr/>
            <p:nvPr/>
          </p:nvSpPr>
          <p:spPr>
            <a:xfrm>
              <a:off x="3755880" y="198900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甲状腺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_s3079"/>
            <p:cNvSpPr/>
            <p:nvPr/>
          </p:nvSpPr>
          <p:spPr>
            <a:xfrm>
              <a:off x="262728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Na+,K+–ATP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_s3080"/>
            <p:cNvSpPr/>
            <p:nvPr/>
          </p:nvSpPr>
          <p:spPr>
            <a:xfrm>
              <a:off x="488556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解偶联蛋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基因表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3" name="Text Box 10"/>
          <p:cNvSpPr/>
          <p:nvPr/>
        </p:nvSpPr>
        <p:spPr>
          <a:xfrm>
            <a:off x="226836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活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1116000" y="4941720"/>
            <a:ext cx="71280" cy="792360"/>
          </a:xfrm>
          <a:prstGeom prst="upArrow">
            <a:avLst>
              <a:gd name="adj1" fmla="val 50000"/>
              <a:gd name="adj2" fmla="val 2779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7164360" y="4797360"/>
            <a:ext cx="71640" cy="863640"/>
          </a:xfrm>
          <a:prstGeom prst="upArrow">
            <a:avLst>
              <a:gd name="adj1" fmla="val 50000"/>
              <a:gd name="adj2" fmla="val 3013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940360" y="40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332000" y="4869000"/>
            <a:ext cx="21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5"/>
          <p:cNvSpPr/>
          <p:nvPr/>
        </p:nvSpPr>
        <p:spPr>
          <a:xfrm flipH="1">
            <a:off x="1834920" y="5373720"/>
            <a:ext cx="649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197964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分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7"/>
          <p:cNvSpPr/>
          <p:nvPr/>
        </p:nvSpPr>
        <p:spPr>
          <a:xfrm>
            <a:off x="7380360" y="5445000"/>
            <a:ext cx="5763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8028000" y="40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量释放热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745164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造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4" name="Picture 3" descr="链1"/>
          <p:cNvPicPr/>
          <p:nvPr/>
        </p:nvPicPr>
        <p:blipFill>
          <a:blip r:embed="rId1"/>
          <a:stretch/>
        </p:blipFill>
        <p:spPr>
          <a:xfrm>
            <a:off x="1116000" y="2924280"/>
            <a:ext cx="7128000" cy="2305080"/>
          </a:xfrm>
          <a:prstGeom prst="rect">
            <a:avLst/>
          </a:prstGeom>
          <a:ln w="0">
            <a:noFill/>
          </a:ln>
        </p:spPr>
      </p:pic>
      <p:sp>
        <p:nvSpPr>
          <p:cNvPr id="725" name="Line 4"/>
          <p:cNvSpPr/>
          <p:nvPr/>
        </p:nvSpPr>
        <p:spPr>
          <a:xfrm flipH="1">
            <a:off x="4716000" y="2781360"/>
            <a:ext cx="71640" cy="1701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24000" y="620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426560" y="1773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抗霉素</a:t>
            </a:r>
            <a:r>
              <a:rPr b="1" lang="en-US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二巯基丙醇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740720" y="2565360"/>
            <a:ext cx="0" cy="2133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7020000" y="1773360"/>
            <a:ext cx="1573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O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N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N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3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及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H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2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S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4859280" y="35002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7812000" y="33577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843280" y="3933720"/>
            <a:ext cx="73080" cy="165600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12400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鱼藤酮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粉蝶霉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2987640" y="501336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635280" y="5229360"/>
            <a:ext cx="5184720" cy="5205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楷体"/>
              </a:rPr>
              <a:t>各种呼吸链抑制剂的阻断位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四、细胞质中生成的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通过穿梭进入线粒体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苹果酸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冬氨酸穿梭主要存在于心肌和肝组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8" name="Picture 4" descr="图6-1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α-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磷酸甘油穿梭主要存在于骨骼肌和脑组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0" name="Picture 3" descr="7-9"/>
          <p:cNvPicPr/>
          <p:nvPr/>
        </p:nvPicPr>
        <p:blipFill>
          <a:blip r:embed="rId1"/>
          <a:srcRect l="2360" t="0" r="3542" b="0"/>
          <a:stretch/>
        </p:blipFill>
        <p:spPr>
          <a:xfrm>
            <a:off x="301680" y="1197000"/>
            <a:ext cx="8540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重要生理功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机体各种生理、生化活动的主要供能物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转变成其他三磷酸核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763640" y="3573360"/>
            <a:ext cx="6318360" cy="3550680"/>
            <a:chOff x="1763640" y="3573360"/>
            <a:chExt cx="6318360" cy="3550680"/>
          </a:xfrm>
        </p:grpSpPr>
        <p:sp>
          <p:nvSpPr>
            <p:cNvPr id="744" name="Rectangle 5"/>
            <p:cNvSpPr/>
            <p:nvPr/>
          </p:nvSpPr>
          <p:spPr>
            <a:xfrm>
              <a:off x="1763640" y="3573360"/>
              <a:ext cx="63183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核苷二磷酸激酶的作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UDP          ADP + U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CDP          ADP + C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GDP          ADP + G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45" name="Group 6"/>
            <p:cNvGrpSpPr/>
            <p:nvPr/>
          </p:nvGrpSpPr>
          <p:grpSpPr>
            <a:xfrm>
              <a:off x="3708360" y="4870440"/>
              <a:ext cx="792000" cy="72720"/>
              <a:chOff x="3708360" y="4870440"/>
              <a:chExt cx="792000" cy="72720"/>
            </a:xfrm>
          </p:grpSpPr>
          <p:sp>
            <p:nvSpPr>
              <p:cNvPr id="746" name="Line 7"/>
              <p:cNvSpPr/>
              <p:nvPr/>
            </p:nvSpPr>
            <p:spPr>
              <a:xfrm>
                <a:off x="3708360" y="487044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7" name="Line 8"/>
              <p:cNvSpPr/>
              <p:nvPr/>
            </p:nvSpPr>
            <p:spPr>
              <a:xfrm flipH="1">
                <a:off x="3708360" y="4943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9"/>
            <p:cNvGrpSpPr/>
            <p:nvPr/>
          </p:nvGrpSpPr>
          <p:grpSpPr>
            <a:xfrm>
              <a:off x="3708360" y="5518080"/>
              <a:ext cx="792000" cy="73080"/>
              <a:chOff x="3708360" y="5518080"/>
              <a:chExt cx="792000" cy="73080"/>
            </a:xfrm>
          </p:grpSpPr>
          <p:sp>
            <p:nvSpPr>
              <p:cNvPr id="749" name="Line 10"/>
              <p:cNvSpPr/>
              <p:nvPr/>
            </p:nvSpPr>
            <p:spPr>
              <a:xfrm>
                <a:off x="3708360" y="551808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0" name="Line 11"/>
              <p:cNvSpPr/>
              <p:nvPr/>
            </p:nvSpPr>
            <p:spPr>
              <a:xfrm flipH="1">
                <a:off x="3708360" y="5591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2"/>
            <p:cNvGrpSpPr/>
            <p:nvPr/>
          </p:nvGrpSpPr>
          <p:grpSpPr>
            <a:xfrm>
              <a:off x="3708360" y="6165720"/>
              <a:ext cx="792000" cy="73080"/>
              <a:chOff x="3708360" y="6165720"/>
              <a:chExt cx="792000" cy="73080"/>
            </a:xfrm>
          </p:grpSpPr>
          <p:sp>
            <p:nvSpPr>
              <p:cNvPr id="752" name="Line 13"/>
              <p:cNvSpPr/>
              <p:nvPr/>
            </p:nvSpPr>
            <p:spPr>
              <a:xfrm>
                <a:off x="3708360" y="616572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H="1">
                <a:off x="3708360" y="623880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（三）磷酸肌酸是肌肉和脑组织中能量的一种储存形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5" name="Picture 3" descr="肌酸激酶"/>
          <p:cNvPicPr/>
          <p:nvPr/>
        </p:nvPicPr>
        <p:blipFill>
          <a:blip r:embed="rId1"/>
          <a:stretch/>
        </p:blipFill>
        <p:spPr>
          <a:xfrm>
            <a:off x="395280" y="184464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8" dur="2000" fill="hold"/>
                                        <p:tgtEl>
                                          <p:spTgt spid="7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627280" y="1905120"/>
            <a:ext cx="3889440" cy="35398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的生成和利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578880" y="4653000"/>
            <a:ext cx="2263680" cy="971640"/>
            <a:chOff x="578880" y="4653000"/>
            <a:chExt cx="2263680" cy="971640"/>
          </a:xfrm>
        </p:grpSpPr>
        <p:sp>
          <p:nvSpPr>
            <p:cNvPr id="759" name="Text Box 5"/>
            <p:cNvSpPr/>
            <p:nvPr/>
          </p:nvSpPr>
          <p:spPr>
            <a:xfrm>
              <a:off x="578880" y="4653000"/>
              <a:ext cx="2118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66"/>
                  </a:solidFill>
                  <a:latin typeface="Times New Roman"/>
                  <a:ea typeface="华文中宋"/>
                </a:rPr>
                <a:t>         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氧化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底物水平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AutoShape 6"/>
            <p:cNvSpPr/>
            <p:nvPr/>
          </p:nvSpPr>
          <p:spPr>
            <a:xfrm>
              <a:off x="2770560" y="4878360"/>
              <a:ext cx="72000" cy="533520"/>
            </a:xfrm>
            <a:custGeom>
              <a:avLst/>
              <a:gdLst>
                <a:gd name="textAreaLeft" fmla="*/ 0 w 72000"/>
                <a:gd name="textAreaRight" fmla="*/ 25920 w 720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46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61" name="AutoShape 7"/>
          <p:cNvSpPr/>
          <p:nvPr/>
        </p:nvSpPr>
        <p:spPr>
          <a:xfrm>
            <a:off x="6084720" y="1268280"/>
            <a:ext cx="3059280" cy="511344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肌肉收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物质主动转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合成代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生物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维持体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体内外物质氧化比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1680" y="1905120"/>
          <a:ext cx="8540640" cy="443844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比项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物氧化（体内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体外氧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条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温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剧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过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酶促反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步完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能量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瞬间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成方式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有机酸脱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碳和氧结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需要水参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需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节  线粒体外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场所：微粒体和过氧化物酶体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氧化过程中不伴有偶联磷酸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38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微粒体氧化体系主要为加单氧酶系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催化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一个氧原子加到作用物分子上，另一个氧原子被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还原成水，因此该酶又称为混合功能氧化酶或者羟化酶。反应需要细胞色素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450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D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参加。其反应式如下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7870680" cy="936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4"/>
          <p:cNvSpPr/>
          <p:nvPr/>
        </p:nvSpPr>
        <p:spPr>
          <a:xfrm>
            <a:off x="3924360" y="522936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二、过氧化物酶体氧化体系氧化过程产生活性氧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-108000" y="1268280"/>
            <a:ext cx="8748720" cy="5589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过氧化物酶体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一种特殊的细胞器，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于动物组织的肝脏、肾脏、中性粒细胞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肠黏膜细胞中。过氧化物酶体中含多种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化酶，能氧化氨基酸、脂肪酸等多种底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活性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active oxygen species,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O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9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的原因   氧分子必须接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电子才能完全还原，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O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再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成水。如果电子供给不足， 就会产生不稳定的活性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2" name="Picture 4" descr="活性氧的生成"/>
          <p:cNvPicPr/>
          <p:nvPr/>
        </p:nvPicPr>
        <p:blipFill>
          <a:blip r:embed="rId1"/>
          <a:stretch/>
        </p:blipFill>
        <p:spPr>
          <a:xfrm>
            <a:off x="684360" y="4076640"/>
            <a:ext cx="7632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的损伤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生物大分子有氧化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1403280" y="2852640"/>
            <a:ext cx="2808360" cy="1081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细胞膜不饱和脂肪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3851280" y="4508640"/>
            <a:ext cx="2016000" cy="865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蛋白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5796000" y="2924280"/>
            <a:ext cx="1440000" cy="100944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核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4067280" y="2565360"/>
            <a:ext cx="2017440" cy="223200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活性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Line 8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Line 9"/>
          <p:cNvSpPr/>
          <p:nvPr/>
        </p:nvSpPr>
        <p:spPr>
          <a:xfrm flipV="1">
            <a:off x="7164360" y="2924280"/>
            <a:ext cx="43200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4572000" y="5300640"/>
            <a:ext cx="863640" cy="433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755640" y="4508640"/>
            <a:ext cx="1800360" cy="14414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导致细胞肿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12"/>
          <p:cNvSpPr/>
          <p:nvPr/>
        </p:nvSpPr>
        <p:spPr>
          <a:xfrm>
            <a:off x="5435640" y="566100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机体免疫力下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7524720" y="1197000"/>
            <a:ext cx="1368360" cy="2448000"/>
          </a:xfrm>
          <a:prstGeom prst="triangle">
            <a:avLst>
              <a:gd name="adj" fmla="val 48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诱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肿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粥样硬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机体有清除活性氧的能力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氧化物歧化酶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O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788" name="Line 5"/>
          <p:cNvSpPr/>
          <p:nvPr/>
        </p:nvSpPr>
        <p:spPr>
          <a:xfrm>
            <a:off x="4284720" y="3645000"/>
            <a:ext cx="24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2700360" y="4724280"/>
            <a:ext cx="367200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Picture 7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20163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过氧化氢酶和过氧化物酶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6624720" cy="137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9128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761080" cy="93528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6"/>
          <p:cNvSpPr/>
          <p:nvPr/>
        </p:nvSpPr>
        <p:spPr>
          <a:xfrm>
            <a:off x="250920" y="3284640"/>
            <a:ext cx="8893080" cy="936360"/>
          </a:xfrm>
          <a:prstGeom prst="flowChartTerminator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氧化物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能催化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解生成水，并放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氧原子直接氧化酚类和胺类等有毒物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9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谷胱甘肽过氧化物酶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利用还原型谷胱甘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GS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使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或其他过氧化物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OO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还原，对组织细胞具有保护作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54064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呼吸链有哪些组成成分？它们在体内的传递电子的顺序有几种？相同的传递顺序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叙述氧化磷酸化概念、偶联部位及影响因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会根据脱氢酶的辅酶判断，脱下的氢会进入哪条呼吸链并会计算产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1" name="Picture 3" descr="MC900434471[1]"/>
          <p:cNvPicPr/>
          <p:nvPr/>
        </p:nvPicPr>
        <p:blipFill>
          <a:blip r:embed="rId1"/>
          <a:stretch/>
        </p:blipFill>
        <p:spPr>
          <a:xfrm>
            <a:off x="4859280" y="285264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MC900428903[1]"/>
          <p:cNvPicPr/>
          <p:nvPr/>
        </p:nvPicPr>
        <p:blipFill>
          <a:blip r:embed="rId2"/>
          <a:stretch/>
        </p:blipFill>
        <p:spPr>
          <a:xfrm>
            <a:off x="611280" y="765000"/>
            <a:ext cx="435600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、生物氧化反应的类型有脱电子、脱氢、加氧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脱电子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分子上脱去一个电子，从而使其原子或离子的正价增加而被氧化，脱去的电子由受电子体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接受而被还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8893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反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分子中脱去一对氢，由受氢体接受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一对氢原子是由一对质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 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和一对电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组成，故脱氢反应也包括脱电子反应。脱氢反应的另一种类型是“加水脱氢”。作用物先与水结合，然后脱去两个氢原子，结果是作用物分子上加了一个氧原子。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750000011175871"/>
                                  </p:iterate>
                                  <p:childTnLst>
                                    <p:set>
                                      <p:cBhvr>
                                        <p:cTn id="175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加氧反应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用物分子中直接加入氧原子或氧分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64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9:01:40Z</dcterms:created>
  <dc:creator>user</dc:creator>
  <dc:description/>
  <dc:language>en-US</dc:language>
  <cp:lastModifiedBy>ZhangLL</cp:lastModifiedBy>
  <dcterms:modified xsi:type="dcterms:W3CDTF">2014-12-04T06:27:25Z</dcterms:modified>
  <cp:revision>168</cp:revision>
  <dc:subject/>
  <dc:title>第六章  生物氧化</dc:title>
</cp:coreProperties>
</file>