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16.wmf" ContentType="image/x-wmf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2.wmf" ContentType="image/x-wmf"/>
  <Override PartName="/ppt/media/image8.png" ContentType="image/png"/>
  <Override PartName="/ppt/media/image38.png" ContentType="image/png"/>
  <Override PartName="/ppt/media/image41.wmf" ContentType="image/x-wmf"/>
  <Override PartName="/ppt/media/image30.png" ContentType="image/png"/>
  <Override PartName="/ppt/media/image31.jpeg" ContentType="image/jpeg"/>
  <Override PartName="/ppt/media/image3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5.wmf" ContentType="image/x-wmf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AFEB-C047-4EAA-820E-8335783A1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4863-6A0B-4932-84ED-5494DE66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1E573-13DF-4554-899D-7C0F8359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0F8D9-EA13-4594-BC3A-AEBB18D1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E32B2-5A0E-4485-87B3-947E15DF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B29FE-5AE3-4C19-A810-B6CAAE36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B8513C-9B45-47E8-A4A3-2DB5EF85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65F88-BBC4-448A-ACCE-38D8149B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FA82C-D8B3-4E5E-8CC1-4ED2A5A2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1FE1C-F948-43A9-8374-B0DDC084E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58EAD-F9BE-4ADE-B971-786AE70A1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0288D-E4C4-406F-90DA-788067404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F4B4-8100-444D-9D1A-A68F96996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99973-0ECB-425B-AFF1-D0E94CDF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B0B21-921F-448D-8703-6F3F9D7C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EDE45D-FECF-46BB-8F6E-A498D3F7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E7692-5250-4C20-BA31-D1F8244B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91670-0D97-41BA-B64F-A565D9DB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D5FADD-0752-4D68-A34E-AA603C53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220A1-82BF-430E-B0FB-E44FCAB2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3D7BE6-C0B8-4665-B88B-729BA031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3A191C-A3BC-4E85-B2A4-00198215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464911-D857-484F-8A57-A649862C6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1EE0-C513-442B-BF3E-20F043266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BFFD9-44B5-48D4-9DF7-3274C8B95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D4524-A506-41A2-ADB9-6F82D7240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FDA40-F129-461C-B92E-80D7C17F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08048-1755-4645-AEEC-C2FA75E4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440D0-B761-4854-82AE-23161145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29862-1B7F-473F-81F8-D01B4B22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40886-9EB2-42BE-89BB-83279045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EAD11-D35B-4C74-BA57-E9D8D14C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C29157-E53C-4B04-B973-5E64ABAA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AC57D-E110-40C5-B187-7B91F7DD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E769-8C03-40D0-AF92-77B3FCC7F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A37B4-382A-45EF-881F-E30CBF70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8ACA0-D67D-45F4-9DF0-7241D5EBB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41ABA-0CCF-49FB-95A1-4197EE8A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87AE8-EC12-4E27-93EF-53DB6B7CD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C4473-495C-4E7D-A32F-CFF09640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21EE3C-D42F-4B97-B022-3763065F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B9AE1-5793-47D2-941F-59C37382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A9B287-0992-4755-AD06-4EF72458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9EFD8E-9159-4436-BD06-EE487068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598905-AB3E-455A-AE57-06BD8A6C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F18A-5B6A-4315-B0DF-47225B96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5F92E8-60F0-4CB9-9553-FB1187D0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891698-93AF-4108-885C-7BFE7787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DD882C-732C-441F-91C2-90A986FD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D59CA-920F-4D98-A544-A0F6FAB21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0FBCDD-EA29-4CF4-8228-5AFCF6B84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34EFDE-068F-4E12-A3D6-867CC3147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1656BB-177E-48F9-B584-0ADE185F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1A74A4-FE18-46A6-8B97-799A7087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224C1D-AFBE-4A06-98F2-D2468A5D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BFD4EC-6D81-4698-9562-4F96C4DF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5D13-5B65-42F2-BFC6-AD938D04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53089E-A124-4C75-A9AC-0A7E016A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0E897D-BCB1-403F-9663-A0387356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65E018-0970-4807-82E2-9091B2DA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C431D4-E535-4BE7-BC6E-CD38C8C3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54B6FD-A1E5-433D-853F-9AA0BD16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B3EC6F-46FA-4713-9D20-6CA7EAF81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BD91ED-5308-4FC5-A740-FA8D4D590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EE2F97-32D3-463D-A83F-E484B2561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5681E3-00DD-4432-BAF9-F940354D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344AA4-9F64-4B93-8D52-C4044813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A29F-B9A2-47BA-B29E-E5932129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B56BB8-658B-4AA4-B046-A885FC48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274173-E8AD-476A-95E7-093579AA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66DE82-EFAE-4FF9-AFCA-584C6307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6E6AF9-CA69-40D7-BF4E-5DBDEB5B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E3B3BD-B673-454B-8112-44B86A32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F7A576-9C2C-47CE-B03B-EF9BE38F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3D4BCF-ADE4-4F4D-B5C8-A322E2CF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1ACDE6-8194-41E9-A1C9-23C17937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93FB56-F7F1-4966-8678-9AF30EDDA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56DC-8065-46D0-BCDE-B365D979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4802-4720-4911-AF32-FCF88639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92D7-E049-4328-8A09-ACA48D30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16ED-2F46-48A1-B371-3034A6D5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B8EC-F9BA-411C-8C7B-E59702D6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9B02-0EEA-43BA-BAFD-A7DC730D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7113-45A0-4E5A-AEC8-F4F82A07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8FAE-24E1-4988-A72A-A1A8899CC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48E2-95A4-426F-BC4A-83850D77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0DA3A-F6FC-4B9F-BF14-8AB93AB10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B9203-D88E-4DD9-86AB-2D6AF8F8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D50DD-32B4-41B6-A01B-030FA9D1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47BD6-F528-4B4B-BC65-985B3D7B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6F8B2-B441-4260-B107-8D9CDB29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DCF5-23DC-4914-BEBB-4F8D47A9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10FCF-957D-4036-90FD-FF4DA61C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A9BE1-3BDF-4F4F-B91D-BD3F1E4D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0526C-E9E3-4FD2-ABB0-FA4F7287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A8665-85EC-4386-B11C-C1C8CC41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F8E8C-F288-4A68-95BB-D37E9430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7F99A-F181-4D8A-B8F6-1206863DA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9D6A9-070B-4AD1-9AA4-589C42CF7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C1921-BA1A-4225-AB42-27D660CE1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E58AF-D182-4FD9-87D9-11560B1C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474E3-7142-4953-9616-7AF8A845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D8BA-D2E2-4692-9220-A414F5F1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BC9E1-1629-4752-813E-0688C04B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3E4C4-3F61-4FD7-ABA6-E799F1BC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88574-B3B4-40F9-97F9-580B4BC6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FEA47-33C5-4DDC-8155-93EE62F6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C41E8-31F0-4F44-B327-808A7D8E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1421D-80BE-4D07-B219-796B3F6F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6BEF2-3877-4986-AF7C-7AF56E88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B6EAD-A877-4768-A701-7F9DD2CE7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29EAB-0557-4549-B7A5-A681169FC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F3255-FB8B-4E96-8E41-03D2E5D77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F448-FE83-478C-9D39-F5C9BEAD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131DC-CC1B-4E99-9A48-5CA9D1E8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C8F5B-C69C-4804-93E9-2ECBB91C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93D5B-CE9D-425E-899E-A2F3B360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D823F-7ED7-41D0-8901-B809E95C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8BBE4-4E00-4481-858E-1BA91B88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6EDCD-FA84-4F0B-A496-D40769F6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3A73C-E399-4275-A09B-72B6651E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417C0-5BE5-4E33-982F-CDB9BB8A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51631-DA39-4D52-B56E-F8E13250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E0A12-4330-4F95-855C-51F110F73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23C3-6534-4BC7-8538-FBD135E3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2672E-3C6E-4FB1-A64A-3E9442930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20F0B-F115-4CB9-9E20-7513F39D0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14E05-AE5E-40C3-9BBC-D3680220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B16DD-9D95-42E9-9F4B-55FBC40B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F0EEB-F9C2-4256-931E-576A7FFD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E847A-ED3D-41B8-836D-58383047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CDB30-088E-42A2-A46B-AD1B3515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4B63C-1CC8-47D4-9210-E94C7EB4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ADAD3-55BD-4ED6-B890-CC811A93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F1684-B6BF-4DC5-89BB-E7A04F88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53B4-AD49-499F-93A1-630E8FE9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35088-D6B2-4D44-BE18-8B510CA2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5A8A7-B1BF-4AC0-B680-EC32B767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688EE-E367-4C43-9896-E5ADEB6F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E506B-C71B-4EC0-8EF6-351F000C0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075EC-73EC-40AF-B0C3-C9435246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9CA80-C70C-4A64-A6D2-C30D4936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39199-4D98-49EA-80A6-7854D19E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8FCA0-27C3-4F36-BF29-F6112840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134C2-9CEF-4B08-8019-062DC6A9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498CF-408C-4F17-A4E8-B11EC8AB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8C01-AD45-41D8-BE60-F7EE87BE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77DE3-A94A-4AD1-B392-6DC4CB88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4A13B-3483-4393-8932-9628483F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C6BAC-3AD3-4B96-81DB-C290A4F0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97CE1-43D3-4926-9AD5-920D2D52E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1E55C-80D3-421B-A730-66ECF5499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F691A-D1C1-4271-9E7F-3883255FC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87916-B9C6-4085-9CBF-65751777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7FD08-563E-4717-A68A-E34DAE9A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18B73-3515-43A1-97EA-924B461D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6A1F4-7998-476A-847A-6485CA72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ADDF-1BA0-430D-AC54-55D14714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E7286-A6FA-402D-B558-C3816225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4F456-3B93-4FDD-B19F-254FEC90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7224B-1C61-4877-9344-C8E07E41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0E226-7E7D-443F-B1E6-4CFF041E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399FF-9573-4153-B901-349DFF80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4E571-B53D-4E6A-9CBA-19EB35DD0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C6715-6ABE-4C1E-BC12-709D48825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812E02-CA6A-4D17-BBC6-8F49AD376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F56C0-44B9-4BC0-868C-915A1555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569DB2-5DC4-4693-8F91-60E7151D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890A-77F3-48F1-BFC5-7038017D0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BA17-D93B-4E83-8C8E-46B6B6C98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5E1D-2F92-4EE6-B7F9-4310FCD3C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072A-AFA9-4738-9F24-8E8861636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4DC4-BF0F-43D1-B120-74845EA7A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B9F1-216A-4065-A05D-07CF17A154B7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EAF9-4D11-4282-9B7A-BF8BB04E9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7FAE-D555-4FAB-9030-605183A60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677E-5C76-4519-9845-75380CB97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940D-6B35-4D9A-9732-432C8B952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D6F4-115C-4BE0-9F8F-C7CFCA495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375F-6629-4E9E-9D65-AC86FE1C4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5DBC-706A-4C83-9CD0-B0A67D432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AB9D-DC73-4414-B4A8-3F0BA772C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1413000"/>
            <a:ext cx="733896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六章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生物氧化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763640" y="249228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Biological Oxidation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599112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四、催化生物氧化的酶包括氧化酶类和脱氢酶类等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氧化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酶类的辅基常含有金属离子如铁或铜，催化代谢物脱氢氧化，氧分子接受氢生成水。如抗坏血酸氧化酶、细胞色素氧化酶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脱氢酶类的催化作用需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AD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P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为辅基或辅酶，催化代谢物脱氢。根据是否需要氧作为直接受氢体，可将脱氢酶分为需氧脱氢酶和不需氧脱氢酶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3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30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7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301680" y="98064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三）其他酶类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除上述酶类外，体内还有加单氧酶、加双氧酶、过氧化氢酶、过氧化物酶、超氧化物歧化酶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SOD)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等参与氧化还原反应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3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五、生物氧化过程中有机酸脱羧基产生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类及蛋白质在体内代谢过程中产生不同的有机酸，有机酸在酶的催化下，脱羧基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根据脱去的羧基在有机酸的位置，分为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α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和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β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两种。又根据脱羧反应是否伴有脱氢，分为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单纯脱羧和氧化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仿宋"/>
                <a:ea typeface="仿宋"/>
              </a:rPr>
              <a:t>第二节  线粒体内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2" name="Picture 3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54064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呼吸链包含多种成分，并按一定顺序排列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呼吸链的主要成分及其作用机制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：主要功能是接受从代谢物上脱下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+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，然后传递给呼吸链另一组分黄素蛋白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递氢体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8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无名"/>
          <p:cNvPicPr/>
          <p:nvPr/>
        </p:nvPicPr>
        <p:blipFill>
          <a:blip r:embed="rId1"/>
          <a:stretch/>
        </p:blipFill>
        <p:spPr>
          <a:xfrm>
            <a:off x="1042920" y="1916280"/>
            <a:ext cx="7161120" cy="419400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3"/>
          <p:cNvSpPr/>
          <p:nvPr/>
        </p:nvSpPr>
        <p:spPr>
          <a:xfrm>
            <a:off x="1042920" y="692280"/>
            <a:ext cx="7489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=H: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;      R=H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: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8" name="Picture 3" descr="NAD(P)-NAD(P)H`"/>
          <p:cNvPicPr/>
          <p:nvPr/>
        </p:nvPicPr>
        <p:blipFill>
          <a:blip r:embed="rId1"/>
          <a:stretch/>
        </p:blipFill>
        <p:spPr>
          <a:xfrm>
            <a:off x="468360" y="1773360"/>
            <a:ext cx="813600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黄素酶或黄素蛋白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F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301680" y="190512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2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  <p:sp>
        <p:nvSpPr>
          <p:cNvPr id="613" name="Line 4"/>
          <p:cNvSpPr/>
          <p:nvPr/>
        </p:nvSpPr>
        <p:spPr>
          <a:xfrm flipV="1">
            <a:off x="1547640" y="4292280"/>
            <a:ext cx="576360" cy="57636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4" name="Line 5"/>
          <p:cNvSpPr/>
          <p:nvPr/>
        </p:nvSpPr>
        <p:spPr>
          <a:xfrm flipH="1">
            <a:off x="2987280" y="2133720"/>
            <a:ext cx="360360" cy="64764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3.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铁硫蛋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e-S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结构及递电子机制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6" name="Picture 3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026480" cy="419400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4"/>
          <p:cNvSpPr/>
          <p:nvPr/>
        </p:nvSpPr>
        <p:spPr>
          <a:xfrm>
            <a:off x="6104520" y="4797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Ⓢ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表示无机硫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学    习     重     点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生物氧化的概念及意义；了解生物氧化的特点及主要酶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呼吸链的主要组成成分，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呼吸链的电子传递顺序；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线粒体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转运进入线粒体的机制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磷酸化的概念、偶联部位；了解氧化磷酸化机制及影响因素。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体内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主要方式及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生理功用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5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了解不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途径、主要场所及主要氧化体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泛醌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又称辅酶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</a:t>
            </a:r>
            <a:br>
              <a:rPr sz="2800"/>
            </a:b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结构与递氢机制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9" name="Picture 3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888000"/>
          </a:xfrm>
          <a:prstGeom prst="rect">
            <a:avLst/>
          </a:prstGeom>
          <a:ln w="0">
            <a:noFill/>
          </a:ln>
        </p:spPr>
      </p:pic>
      <p:sp>
        <p:nvSpPr>
          <p:cNvPr id="620" name="Line 4"/>
          <p:cNvSpPr/>
          <p:nvPr/>
        </p:nvSpPr>
        <p:spPr>
          <a:xfrm flipH="1" flipV="1">
            <a:off x="6659640" y="3284640"/>
            <a:ext cx="792000" cy="7128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1" name="Line 5"/>
          <p:cNvSpPr/>
          <p:nvPr/>
        </p:nvSpPr>
        <p:spPr>
          <a:xfrm flipH="1">
            <a:off x="6732720" y="5950080"/>
            <a:ext cx="792000" cy="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539640" y="2565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氧化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5651640" y="2708280"/>
            <a:ext cx="19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H</a:t>
            </a:r>
            <a:r>
              <a:rPr b="0" lang="en-US" sz="1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还原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5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yt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细胞色素是一类以铁铁卟啉为辅基的催化电子传递的酶类，根据它们吸收光谱不同而分类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在呼吸链中的细胞色素有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等。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很难分开，组成一复合体，统称为细胞色素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传递电子的顺序：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→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→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 → 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传递电子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155600" y="2953440"/>
            <a:ext cx="6832800" cy="20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3+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+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-             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2+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8" name="AutoShape 4"/>
          <p:cNvSpPr/>
          <p:nvPr/>
        </p:nvSpPr>
        <p:spPr>
          <a:xfrm>
            <a:off x="4356000" y="3933720"/>
            <a:ext cx="1511280" cy="216000"/>
          </a:xfrm>
          <a:prstGeom prst="leftRightArrow">
            <a:avLst>
              <a:gd name="adj1" fmla="val 50000"/>
              <a:gd name="adj2" fmla="val 13928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9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9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体               递电子体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                         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e-S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AD                        Cyt-Fe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UQ(CoQ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10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10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10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呼吸链中大部分组成成分形成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个蛋白复合体，只有少数游离存在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32" name="Object 3"/>
          <p:cNvGraphicFramePr/>
          <p:nvPr/>
        </p:nvGraphicFramePr>
        <p:xfrm>
          <a:off x="380880" y="2225520"/>
          <a:ext cx="8382240" cy="35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25520"/>
                    <a:ext cx="838224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Rectangle 4"/>
          <p:cNvSpPr/>
          <p:nvPr/>
        </p:nvSpPr>
        <p:spPr>
          <a:xfrm>
            <a:off x="2535480" y="5877000"/>
            <a:ext cx="3225240" cy="368280"/>
          </a:xfrm>
          <a:prstGeom prst="rect">
            <a:avLst/>
          </a:prstGeom>
          <a:solidFill>
            <a:srgbClr val="dc5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泛醌 和 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Cyt c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均不包含在上述四种复合体中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呼吸链各复合体在线粒体内膜中的位置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6" name="Picture 3" descr="6-1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呼吸链组分按氧化还原电位由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低到高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排列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540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目前普遍认为呼吸链的传递顺序为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39" name="Picture 4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8675640" cy="35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二、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和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两条重要的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1. NADH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氧化呼吸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NADH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Ⅰ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琥珀酸氧化呼吸链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琥珀酸 →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Ⅱ 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9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9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9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一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最常见的一条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3" name="Picture 3" descr="NAD氧化呼吸链"/>
          <p:cNvPicPr/>
          <p:nvPr/>
        </p:nvPicPr>
        <p:blipFill>
          <a:blip r:embed="rId1"/>
          <a:stretch/>
        </p:blipFill>
        <p:spPr>
          <a:xfrm>
            <a:off x="684360" y="1844640"/>
            <a:ext cx="784836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也叫琥珀酸氧化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5" name="Picture 3" descr="FAD氧化呼吸链"/>
          <p:cNvPicPr/>
          <p:nvPr/>
        </p:nvPicPr>
        <p:blipFill>
          <a:blip r:embed="rId1"/>
          <a:stretch/>
        </p:blipFill>
        <p:spPr>
          <a:xfrm>
            <a:off x="539640" y="2421000"/>
            <a:ext cx="813600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一节  概述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生物氧化是物质在体内氧化分解的过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1" name="Picture 4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828036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3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两条呼吸链传递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7" name="Picture 3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传递机制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9" name="Picture 3" descr=""/>
          <p:cNvPicPr/>
          <p:nvPr/>
        </p:nvPicPr>
        <p:blipFill>
          <a:blip r:embed="rId1"/>
          <a:stretch/>
        </p:blipFill>
        <p:spPr>
          <a:xfrm>
            <a:off x="684360" y="2120760"/>
            <a:ext cx="7991280" cy="404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糖代谢与呼吸链联系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1" name="Picture 3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842472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三、生物氧化过程中有部分能量用于生成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TP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53" name="Organization Chart 3"/>
          <p:cNvGrpSpPr/>
          <p:nvPr/>
        </p:nvGrpSpPr>
        <p:grpSpPr>
          <a:xfrm>
            <a:off x="0" y="1916280"/>
            <a:ext cx="8747640" cy="4192560"/>
            <a:chOff x="0" y="1916280"/>
            <a:chExt cx="8747640" cy="4192560"/>
          </a:xfrm>
        </p:grpSpPr>
        <p:cxnSp>
          <p:nvCxnSpPr>
            <p:cNvPr id="654" name="_s1028"/>
            <p:cNvCxnSpPr>
              <a:stCxn id="655" idx="0"/>
              <a:endCxn id="656" idx="2"/>
            </p:cNvCxnSpPr>
            <p:nvPr/>
          </p:nvCxnSpPr>
          <p:spPr>
            <a:xfrm flipV="1" rot="16200000">
              <a:off x="5131080" y="2833920"/>
              <a:ext cx="839160" cy="235620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657" name="_s1029"/>
            <p:cNvCxnSpPr>
              <a:stCxn id="658" idx="0"/>
              <a:endCxn id="656" idx="2"/>
            </p:cNvCxnSpPr>
            <p:nvPr/>
          </p:nvCxnSpPr>
          <p:spPr>
            <a:xfrm flipH="1" flipV="1" rot="5400000">
              <a:off x="2776320" y="2834640"/>
              <a:ext cx="839160" cy="23551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656" name="_s1030"/>
            <p:cNvSpPr/>
            <p:nvPr/>
          </p:nvSpPr>
          <p:spPr>
            <a:xfrm>
              <a:off x="2354400" y="191628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两种形式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8" name="_s1031"/>
            <p:cNvSpPr/>
            <p:nvPr/>
          </p:nvSpPr>
          <p:spPr>
            <a:xfrm>
              <a:off x="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底物水平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5" name="_s1032"/>
            <p:cNvSpPr/>
            <p:nvPr/>
          </p:nvSpPr>
          <p:spPr>
            <a:xfrm>
              <a:off x="471024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氧化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8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1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底物水平磷酸化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substrate level phosphorylation)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底物分子内部能量重新分布，生成高能键，使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磷酸化生成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的过程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1" name="AutoShape 4"/>
          <p:cNvSpPr/>
          <p:nvPr/>
        </p:nvSpPr>
        <p:spPr>
          <a:xfrm>
            <a:off x="1979640" y="3789360"/>
            <a:ext cx="6948360" cy="259236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水解时释放的能量大于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21KJ/mo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的磷酸酯键，称为高能键。常表示为 </a:t>
            </a:r>
            <a:r>
              <a:rPr b="1" lang="zh-CN" sz="2800" spc="-1" strike="noStrike">
                <a:solidFill>
                  <a:srgbClr val="007a77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9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748640" cy="5418360"/>
          </a:xfrm>
          <a:prstGeom prst="rect">
            <a:avLst/>
          </a:prstGeom>
          <a:ln w="0">
            <a:noFill/>
          </a:ln>
        </p:spPr>
      </p:pic>
      <p:sp>
        <p:nvSpPr>
          <p:cNvPr id="663" name="Oval 3"/>
          <p:cNvSpPr/>
          <p:nvPr/>
        </p:nvSpPr>
        <p:spPr>
          <a:xfrm>
            <a:off x="0" y="1341360"/>
            <a:ext cx="1042920" cy="4103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含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能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键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合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物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4" name="Line 4"/>
          <p:cNvSpPr/>
          <p:nvPr/>
        </p:nvSpPr>
        <p:spPr>
          <a:xfrm flipV="1">
            <a:off x="971640" y="1557000"/>
            <a:ext cx="792000" cy="647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5" name="Line 5"/>
          <p:cNvSpPr/>
          <p:nvPr/>
        </p:nvSpPr>
        <p:spPr>
          <a:xfrm>
            <a:off x="1116000" y="3357720"/>
            <a:ext cx="7192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6" name="Line 6"/>
          <p:cNvSpPr/>
          <p:nvPr/>
        </p:nvSpPr>
        <p:spPr>
          <a:xfrm>
            <a:off x="971640" y="4724280"/>
            <a:ext cx="936360" cy="649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磷酸化 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oxidative phosphorylation)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1680" y="1916280"/>
            <a:ext cx="88423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定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指在呼吸链电子传递过程中偶联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磷酸化，生成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又称为</a:t>
            </a: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偶联磷酸化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</a:rPr>
              <a:t>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669" name="Object 4"/>
          <p:cNvGraphicFramePr/>
          <p:nvPr/>
        </p:nvGraphicFramePr>
        <p:xfrm>
          <a:off x="1042920" y="4076640"/>
          <a:ext cx="748980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076640"/>
                    <a:ext cx="748980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20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10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2" descr="链1"/>
          <p:cNvPicPr/>
          <p:nvPr/>
        </p:nvPicPr>
        <p:blipFill>
          <a:blip r:embed="rId1"/>
          <a:stretch/>
        </p:blipFill>
        <p:spPr>
          <a:xfrm>
            <a:off x="684360" y="836640"/>
            <a:ext cx="8135640" cy="3313080"/>
          </a:xfrm>
          <a:prstGeom prst="rect">
            <a:avLst/>
          </a:prstGeom>
          <a:ln w="0">
            <a:noFill/>
          </a:ln>
        </p:spPr>
      </p:pic>
      <p:grpSp>
        <p:nvGrpSpPr>
          <p:cNvPr id="672" name="Group 3"/>
          <p:cNvGrpSpPr/>
          <p:nvPr/>
        </p:nvGrpSpPr>
        <p:grpSpPr>
          <a:xfrm>
            <a:off x="755640" y="4365720"/>
            <a:ext cx="2286000" cy="779760"/>
            <a:chOff x="755640" y="4365720"/>
            <a:chExt cx="2286000" cy="779760"/>
          </a:xfrm>
        </p:grpSpPr>
        <p:sp>
          <p:nvSpPr>
            <p:cNvPr id="673" name="Line 4"/>
            <p:cNvSpPr/>
            <p:nvPr/>
          </p:nvSpPr>
          <p:spPr>
            <a:xfrm>
              <a:off x="3041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4" name="Line 5"/>
            <p:cNvSpPr/>
            <p:nvPr/>
          </p:nvSpPr>
          <p:spPr>
            <a:xfrm>
              <a:off x="755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 flipH="1">
              <a:off x="7556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6" name="Line 7"/>
            <p:cNvSpPr/>
            <p:nvPr/>
          </p:nvSpPr>
          <p:spPr>
            <a:xfrm>
              <a:off x="25844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7" name="Text Box 8"/>
            <p:cNvSpPr/>
            <p:nvPr/>
          </p:nvSpPr>
          <p:spPr>
            <a:xfrm>
              <a:off x="1365120" y="4746600"/>
              <a:ext cx="10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  <a:ea typeface="GungsuhChe"/>
                </a:rPr>
                <a:t>ATP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78" name="Group 9"/>
          <p:cNvGrpSpPr/>
          <p:nvPr/>
        </p:nvGrpSpPr>
        <p:grpSpPr>
          <a:xfrm>
            <a:off x="3203280" y="4508640"/>
            <a:ext cx="3429360" cy="452880"/>
            <a:chOff x="3203280" y="4508640"/>
            <a:chExt cx="3429360" cy="452880"/>
          </a:xfrm>
        </p:grpSpPr>
        <p:sp>
          <p:nvSpPr>
            <p:cNvPr id="679" name="Line 10"/>
            <p:cNvSpPr/>
            <p:nvPr/>
          </p:nvSpPr>
          <p:spPr>
            <a:xfrm>
              <a:off x="6632640" y="4508640"/>
              <a:ext cx="0" cy="2685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H="1">
              <a:off x="3203280" y="4627800"/>
              <a:ext cx="6094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>
              <a:off x="6099120" y="4627800"/>
              <a:ext cx="53352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2" name="Rectangle 13"/>
            <p:cNvSpPr/>
            <p:nvPr/>
          </p:nvSpPr>
          <p:spPr>
            <a:xfrm>
              <a:off x="4482360" y="4562640"/>
              <a:ext cx="79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83" name="Group 14"/>
          <p:cNvGrpSpPr/>
          <p:nvPr/>
        </p:nvGrpSpPr>
        <p:grpSpPr>
          <a:xfrm>
            <a:off x="6781680" y="4365720"/>
            <a:ext cx="2361960" cy="499680"/>
            <a:chOff x="6781680" y="4365720"/>
            <a:chExt cx="2361960" cy="499680"/>
          </a:xfrm>
        </p:grpSpPr>
        <p:sp>
          <p:nvSpPr>
            <p:cNvPr id="684" name="Line 15"/>
            <p:cNvSpPr/>
            <p:nvPr/>
          </p:nvSpPr>
          <p:spPr>
            <a:xfrm>
              <a:off x="678168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5" name="Line 16"/>
            <p:cNvSpPr/>
            <p:nvPr/>
          </p:nvSpPr>
          <p:spPr>
            <a:xfrm>
              <a:off x="914364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6" name="Line 17"/>
            <p:cNvSpPr/>
            <p:nvPr/>
          </p:nvSpPr>
          <p:spPr>
            <a:xfrm flipH="1">
              <a:off x="67816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7" name="Line 18"/>
            <p:cNvSpPr/>
            <p:nvPr/>
          </p:nvSpPr>
          <p:spPr>
            <a:xfrm>
              <a:off x="87004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8" name="Rectangle 19"/>
            <p:cNvSpPr/>
            <p:nvPr/>
          </p:nvSpPr>
          <p:spPr>
            <a:xfrm>
              <a:off x="7180200" y="446652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   </a:t>
              </a: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89" name="Rectangle 20"/>
          <p:cNvSpPr/>
          <p:nvPr/>
        </p:nvSpPr>
        <p:spPr>
          <a:xfrm>
            <a:off x="4067280" y="5445000"/>
            <a:ext cx="3657600" cy="609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楷体"/>
                <a:ea typeface="华文楷体"/>
              </a:rPr>
              <a:t>氧化磷酸化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9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氧化磷酸化及偶联部位示意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1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关于呼吸链产生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数目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比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是指物质氧化时，每消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摩尔氧原子所消耗的无机磷的摩尔数（或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），即生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很多实验所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分别为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2~3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为电子供体）和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~2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琥珀酸为电子供体）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折中数据，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；琥珀酸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1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6" dur="20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二、生物氧化由酶催化逐步进行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905120"/>
            <a:ext cx="808668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肪及蛋白质等营养物质在体内氧化及体外燃烧虽然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终产物都是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，释放的总能量也完全相等，氧化反应类型也相同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但二者在条件、能量释放等方面却大不相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3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氧化磷酸化的机制示意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化学渗透学说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5" name="Picture 3" descr="无标题"/>
          <p:cNvPicPr/>
          <p:nvPr/>
        </p:nvPicPr>
        <p:blipFill>
          <a:blip r:embed="rId1">
            <a:grayscl/>
          </a:blip>
          <a:stretch/>
        </p:blipFill>
        <p:spPr>
          <a:xfrm>
            <a:off x="684360" y="2133720"/>
            <a:ext cx="7343640" cy="39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8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影响氧化磷酸化作用的因素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＊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是调节氧化磷酸化的主要因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甲状腺素能使机体耗氧和产热均增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氧化磷酸化抑制剂：主要有呼吸链阻断剂和解偶     联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5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5" dur="10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100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调节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99" name="Diagram 3"/>
          <p:cNvGrpSpPr/>
          <p:nvPr/>
        </p:nvGrpSpPr>
        <p:grpSpPr>
          <a:xfrm>
            <a:off x="536400" y="1805760"/>
            <a:ext cx="8092440" cy="4324320"/>
            <a:chOff x="536400" y="1805760"/>
            <a:chExt cx="8092440" cy="4324320"/>
          </a:xfrm>
        </p:grpSpPr>
        <p:sp>
          <p:nvSpPr>
            <p:cNvPr id="700" name="_s2052"/>
            <p:cNvSpPr/>
            <p:nvPr/>
          </p:nvSpPr>
          <p:spPr>
            <a:xfrm flipV="1">
              <a:off x="3233160" y="1805040"/>
              <a:ext cx="2698920" cy="1441800"/>
            </a:xfrm>
            <a:custGeom>
              <a:avLst/>
              <a:gdLst>
                <a:gd name="textAreaLeft" fmla="*/ 968400 w 2698920"/>
                <a:gd name="textAreaRight" fmla="*/ 1730520 w 2698920"/>
                <a:gd name="textAreaTop" fmla="*/ 517320 h 1441800"/>
                <a:gd name="textAreaBottom" fmla="*/ 92448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ADP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1" name="_s2053"/>
            <p:cNvSpPr/>
            <p:nvPr/>
          </p:nvSpPr>
          <p:spPr>
            <a:xfrm flipV="1">
              <a:off x="1884960" y="3247920"/>
              <a:ext cx="5395680" cy="1440000"/>
            </a:xfrm>
            <a:custGeom>
              <a:avLst/>
              <a:gdLst>
                <a:gd name="textAreaLeft" fmla="*/ 1186560 w 5395680"/>
                <a:gd name="textAreaRight" fmla="*/ 4209120 w 5395680"/>
                <a:gd name="textAreaTop" fmla="*/ 316440 h 1440000"/>
                <a:gd name="textAreaBottom" fmla="*/ 1123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7a77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2" name="_s2054"/>
            <p:cNvSpPr/>
            <p:nvPr/>
          </p:nvSpPr>
          <p:spPr>
            <a:xfrm flipV="1">
              <a:off x="536400" y="4687560"/>
              <a:ext cx="8092440" cy="1441800"/>
            </a:xfrm>
            <a:custGeom>
              <a:avLst/>
              <a:gdLst>
                <a:gd name="textAreaLeft" fmla="*/ 1404720 w 8092440"/>
                <a:gd name="textAreaRight" fmla="*/ 6687720 w 8092440"/>
                <a:gd name="textAreaTop" fmla="*/ 250200 h 1441800"/>
                <a:gd name="textAreaBottom" fmla="*/ 119160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氧化磷酸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化速度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03" name="Rectangle 8"/>
          <p:cNvSpPr/>
          <p:nvPr/>
        </p:nvSpPr>
        <p:spPr>
          <a:xfrm>
            <a:off x="5278320" y="378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↓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448632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5" name="AutoShape 10"/>
          <p:cNvSpPr/>
          <p:nvPr/>
        </p:nvSpPr>
        <p:spPr>
          <a:xfrm>
            <a:off x="5724360" y="5589720"/>
            <a:ext cx="71640" cy="360360"/>
          </a:xfrm>
          <a:prstGeom prst="upArrow">
            <a:avLst>
              <a:gd name="adj1" fmla="val 50000"/>
              <a:gd name="adj2" fmla="val 125754"/>
            </a:avLst>
          </a:prstGeom>
          <a:solidFill>
            <a:srgbClr val="dc5900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59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dc5900"/>
                </a:solidFill>
                <a:latin typeface="Arial"/>
              </a:rPr>
              <a:t>甲状腺素调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07" name="Organization Chart 3"/>
          <p:cNvGrpSpPr/>
          <p:nvPr/>
        </p:nvGrpSpPr>
        <p:grpSpPr>
          <a:xfrm>
            <a:off x="2627280" y="1989000"/>
            <a:ext cx="4194000" cy="4192920"/>
            <a:chOff x="2627280" y="1989000"/>
            <a:chExt cx="4194000" cy="4192920"/>
          </a:xfrm>
        </p:grpSpPr>
        <p:cxnSp>
          <p:nvCxnSpPr>
            <p:cNvPr id="708" name="_s3076"/>
            <p:cNvCxnSpPr>
              <a:stCxn id="709" idx="0"/>
              <a:endCxn id="710" idx="2"/>
            </p:cNvCxnSpPr>
            <p:nvPr/>
          </p:nvCxnSpPr>
          <p:spPr>
            <a:xfrm flipV="1" rot="16200000">
              <a:off x="4868640" y="3520080"/>
              <a:ext cx="839160" cy="113004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711" name="_s3077"/>
            <p:cNvCxnSpPr>
              <a:stCxn id="712" idx="0"/>
              <a:endCxn id="710" idx="2"/>
            </p:cNvCxnSpPr>
            <p:nvPr/>
          </p:nvCxnSpPr>
          <p:spPr>
            <a:xfrm flipH="1" flipV="1" rot="5400000">
              <a:off x="3739680" y="3520440"/>
              <a:ext cx="839160" cy="11293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710" name="_s3078"/>
            <p:cNvSpPr/>
            <p:nvPr/>
          </p:nvSpPr>
          <p:spPr>
            <a:xfrm>
              <a:off x="3755880" y="198900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甲状腺素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2" name="_s3079"/>
            <p:cNvSpPr/>
            <p:nvPr/>
          </p:nvSpPr>
          <p:spPr>
            <a:xfrm>
              <a:off x="262728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Na+,K+–ATP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酶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9" name="_s3080"/>
            <p:cNvSpPr/>
            <p:nvPr/>
          </p:nvSpPr>
          <p:spPr>
            <a:xfrm>
              <a:off x="488556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解偶联蛋白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基因表达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13" name="Text Box 10"/>
          <p:cNvSpPr/>
          <p:nvPr/>
        </p:nvSpPr>
        <p:spPr>
          <a:xfrm>
            <a:off x="2268360" y="4076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活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4" name="AutoShape 11"/>
          <p:cNvSpPr/>
          <p:nvPr/>
        </p:nvSpPr>
        <p:spPr>
          <a:xfrm>
            <a:off x="1116000" y="4941720"/>
            <a:ext cx="71280" cy="792360"/>
          </a:xfrm>
          <a:prstGeom prst="upArrow">
            <a:avLst>
              <a:gd name="adj1" fmla="val 50000"/>
              <a:gd name="adj2" fmla="val 27790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5" name="AutoShape 12"/>
          <p:cNvSpPr/>
          <p:nvPr/>
        </p:nvSpPr>
        <p:spPr>
          <a:xfrm>
            <a:off x="7164360" y="4797360"/>
            <a:ext cx="71640" cy="863640"/>
          </a:xfrm>
          <a:prstGeom prst="upArrow">
            <a:avLst>
              <a:gd name="adj1" fmla="val 50000"/>
              <a:gd name="adj2" fmla="val 30138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6" name="Text Box 13"/>
          <p:cNvSpPr/>
          <p:nvPr/>
        </p:nvSpPr>
        <p:spPr>
          <a:xfrm>
            <a:off x="5940360" y="4005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使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7" name="Text Box 14"/>
          <p:cNvSpPr/>
          <p:nvPr/>
        </p:nvSpPr>
        <p:spPr>
          <a:xfrm>
            <a:off x="1332000" y="4869000"/>
            <a:ext cx="215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8" name="Line 15"/>
          <p:cNvSpPr/>
          <p:nvPr/>
        </p:nvSpPr>
        <p:spPr>
          <a:xfrm flipH="1">
            <a:off x="1834920" y="5373720"/>
            <a:ext cx="6490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9" name="Text Box 16"/>
          <p:cNvSpPr/>
          <p:nvPr/>
        </p:nvSpPr>
        <p:spPr>
          <a:xfrm>
            <a:off x="1979640" y="4581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分解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0" name="Line 17"/>
          <p:cNvSpPr/>
          <p:nvPr/>
        </p:nvSpPr>
        <p:spPr>
          <a:xfrm>
            <a:off x="7380360" y="5445000"/>
            <a:ext cx="57636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1" name="Text Box 18"/>
          <p:cNvSpPr/>
          <p:nvPr/>
        </p:nvSpPr>
        <p:spPr>
          <a:xfrm>
            <a:off x="8028000" y="40053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大量释放热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2" name="Text Box 19"/>
          <p:cNvSpPr/>
          <p:nvPr/>
        </p:nvSpPr>
        <p:spPr>
          <a:xfrm>
            <a:off x="7451640" y="465300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造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9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4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9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9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9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9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1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24" name="Picture 3" descr="链1"/>
          <p:cNvPicPr/>
          <p:nvPr/>
        </p:nvPicPr>
        <p:blipFill>
          <a:blip r:embed="rId1"/>
          <a:stretch/>
        </p:blipFill>
        <p:spPr>
          <a:xfrm>
            <a:off x="1116000" y="2924280"/>
            <a:ext cx="7128000" cy="2305080"/>
          </a:xfrm>
          <a:prstGeom prst="rect">
            <a:avLst/>
          </a:prstGeom>
          <a:ln w="0">
            <a:noFill/>
          </a:ln>
        </p:spPr>
      </p:pic>
      <p:sp>
        <p:nvSpPr>
          <p:cNvPr id="725" name="Line 4"/>
          <p:cNvSpPr/>
          <p:nvPr/>
        </p:nvSpPr>
        <p:spPr>
          <a:xfrm flipH="1">
            <a:off x="4716000" y="2781360"/>
            <a:ext cx="71640" cy="1701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324000" y="62064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4426560" y="177336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抗霉素</a:t>
            </a:r>
            <a:r>
              <a:rPr b="1" lang="en-US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A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二巯基丙醇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8" name="Line 7"/>
          <p:cNvSpPr/>
          <p:nvPr/>
        </p:nvSpPr>
        <p:spPr>
          <a:xfrm>
            <a:off x="7740720" y="2565360"/>
            <a:ext cx="0" cy="2133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7020000" y="1773360"/>
            <a:ext cx="15732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O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N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N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3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及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H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2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S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0" name="Oval 9"/>
          <p:cNvSpPr/>
          <p:nvPr/>
        </p:nvSpPr>
        <p:spPr>
          <a:xfrm>
            <a:off x="4859280" y="350028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1" name="Oval 10"/>
          <p:cNvSpPr/>
          <p:nvPr/>
        </p:nvSpPr>
        <p:spPr>
          <a:xfrm>
            <a:off x="7812000" y="3357720"/>
            <a:ext cx="38124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2" name="Line 11"/>
          <p:cNvSpPr/>
          <p:nvPr/>
        </p:nvSpPr>
        <p:spPr>
          <a:xfrm flipV="1">
            <a:off x="2843280" y="3933720"/>
            <a:ext cx="73080" cy="165600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2124000" y="5445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鱼藤酮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粉蝶霉素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4" name="Oval 13"/>
          <p:cNvSpPr/>
          <p:nvPr/>
        </p:nvSpPr>
        <p:spPr>
          <a:xfrm>
            <a:off x="2987640" y="501336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5" name="Rectangle 14"/>
          <p:cNvSpPr/>
          <p:nvPr/>
        </p:nvSpPr>
        <p:spPr>
          <a:xfrm>
            <a:off x="3635280" y="5229360"/>
            <a:ext cx="5184720" cy="5205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华文楷体"/>
              </a:rPr>
              <a:t>各种呼吸链抑制剂的阻断位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四、细胞质中生成的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通过穿梭进入线粒体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一）苹果酸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天冬氨酸穿梭主要存在于心肌和肝组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38" name="Picture 4" descr="图6-11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9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9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α-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磷酸甘油穿梭主要存在于骨骼肌和脑组织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40" name="Picture 3" descr="7-9"/>
          <p:cNvPicPr/>
          <p:nvPr/>
        </p:nvPicPr>
        <p:blipFill>
          <a:blip r:embed="rId1"/>
          <a:srcRect l="2360" t="0" r="3542" b="0"/>
          <a:stretch/>
        </p:blipFill>
        <p:spPr>
          <a:xfrm>
            <a:off x="301680" y="1197000"/>
            <a:ext cx="854064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五、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有重要生理功能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机体各种生理、生化活动的主要供能物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二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转变成其他三磷酸核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43" name="Group 4"/>
          <p:cNvGrpSpPr/>
          <p:nvPr/>
        </p:nvGrpSpPr>
        <p:grpSpPr>
          <a:xfrm>
            <a:off x="1763640" y="3573360"/>
            <a:ext cx="6318360" cy="3550680"/>
            <a:chOff x="1763640" y="3573360"/>
            <a:chExt cx="6318360" cy="3550680"/>
          </a:xfrm>
        </p:grpSpPr>
        <p:sp>
          <p:nvSpPr>
            <p:cNvPr id="744" name="Rectangle 5"/>
            <p:cNvSpPr/>
            <p:nvPr/>
          </p:nvSpPr>
          <p:spPr>
            <a:xfrm>
              <a:off x="1763640" y="3573360"/>
              <a:ext cx="6318360" cy="35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</a:rPr>
                <a:t>       </a:t>
              </a:r>
              <a:r>
                <a:rPr b="1" lang="zh-CN" sz="2800" spc="-1" strike="noStrike">
                  <a:solidFill>
                    <a:srgbClr val="660066"/>
                  </a:solidFill>
                  <a:latin typeface="Times New Roman"/>
                </a:rPr>
                <a:t>核苷二磷酸激酶的作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UDP          ADP + U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CDP          ADP + C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GDP          ADP + G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745" name="Group 6"/>
            <p:cNvGrpSpPr/>
            <p:nvPr/>
          </p:nvGrpSpPr>
          <p:grpSpPr>
            <a:xfrm>
              <a:off x="3708360" y="4870440"/>
              <a:ext cx="792000" cy="72720"/>
              <a:chOff x="3708360" y="4870440"/>
              <a:chExt cx="792000" cy="72720"/>
            </a:xfrm>
          </p:grpSpPr>
          <p:sp>
            <p:nvSpPr>
              <p:cNvPr id="746" name="Line 7"/>
              <p:cNvSpPr/>
              <p:nvPr/>
            </p:nvSpPr>
            <p:spPr>
              <a:xfrm>
                <a:off x="3708360" y="487044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47" name="Line 8"/>
              <p:cNvSpPr/>
              <p:nvPr/>
            </p:nvSpPr>
            <p:spPr>
              <a:xfrm flipH="1">
                <a:off x="3708360" y="4943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48" name="Group 9"/>
            <p:cNvGrpSpPr/>
            <p:nvPr/>
          </p:nvGrpSpPr>
          <p:grpSpPr>
            <a:xfrm>
              <a:off x="3708360" y="5518080"/>
              <a:ext cx="792000" cy="73080"/>
              <a:chOff x="3708360" y="5518080"/>
              <a:chExt cx="792000" cy="73080"/>
            </a:xfrm>
          </p:grpSpPr>
          <p:sp>
            <p:nvSpPr>
              <p:cNvPr id="749" name="Line 10"/>
              <p:cNvSpPr/>
              <p:nvPr/>
            </p:nvSpPr>
            <p:spPr>
              <a:xfrm>
                <a:off x="3708360" y="551808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0" name="Line 11"/>
              <p:cNvSpPr/>
              <p:nvPr/>
            </p:nvSpPr>
            <p:spPr>
              <a:xfrm flipH="1">
                <a:off x="3708360" y="5591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12"/>
            <p:cNvGrpSpPr/>
            <p:nvPr/>
          </p:nvGrpSpPr>
          <p:grpSpPr>
            <a:xfrm>
              <a:off x="3708360" y="6165720"/>
              <a:ext cx="792000" cy="73080"/>
              <a:chOff x="3708360" y="6165720"/>
              <a:chExt cx="792000" cy="73080"/>
            </a:xfrm>
          </p:grpSpPr>
          <p:sp>
            <p:nvSpPr>
              <p:cNvPr id="752" name="Line 13"/>
              <p:cNvSpPr/>
              <p:nvPr/>
            </p:nvSpPr>
            <p:spPr>
              <a:xfrm>
                <a:off x="3708360" y="616572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3" name="Line 14"/>
              <p:cNvSpPr/>
              <p:nvPr/>
            </p:nvSpPr>
            <p:spPr>
              <a:xfrm flipH="1">
                <a:off x="3708360" y="623880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（三）磷酸肌酸是肌肉和脑组织中能量的一种储存形式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55" name="Picture 3" descr="肌酸激酶"/>
          <p:cNvPicPr/>
          <p:nvPr/>
        </p:nvPicPr>
        <p:blipFill>
          <a:blip r:embed="rId1"/>
          <a:stretch/>
        </p:blipFill>
        <p:spPr>
          <a:xfrm>
            <a:off x="395280" y="1844640"/>
            <a:ext cx="806436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9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8" dur="2000" fill="hold"/>
                                        <p:tgtEl>
                                          <p:spTgt spid="7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2627280" y="1905120"/>
            <a:ext cx="3889440" cy="353988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的生成和利用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58" name="Group 4"/>
          <p:cNvGrpSpPr/>
          <p:nvPr/>
        </p:nvGrpSpPr>
        <p:grpSpPr>
          <a:xfrm>
            <a:off x="578880" y="4653000"/>
            <a:ext cx="2263680" cy="971640"/>
            <a:chOff x="578880" y="4653000"/>
            <a:chExt cx="2263680" cy="971640"/>
          </a:xfrm>
        </p:grpSpPr>
        <p:sp>
          <p:nvSpPr>
            <p:cNvPr id="759" name="Text Box 5"/>
            <p:cNvSpPr/>
            <p:nvPr/>
          </p:nvSpPr>
          <p:spPr>
            <a:xfrm>
              <a:off x="578880" y="4653000"/>
              <a:ext cx="211896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66"/>
                  </a:solidFill>
                  <a:latin typeface="Times New Roman"/>
                  <a:ea typeface="华文中宋"/>
                </a:rPr>
                <a:t>         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氧化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底物水平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60" name="AutoShape 6"/>
            <p:cNvSpPr/>
            <p:nvPr/>
          </p:nvSpPr>
          <p:spPr>
            <a:xfrm>
              <a:off x="2770560" y="4878360"/>
              <a:ext cx="72000" cy="533520"/>
            </a:xfrm>
            <a:custGeom>
              <a:avLst/>
              <a:gdLst>
                <a:gd name="textAreaLeft" fmla="*/ 0 w 72000"/>
                <a:gd name="textAreaRight" fmla="*/ 25920 w 7200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646d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61" name="AutoShape 7"/>
          <p:cNvSpPr/>
          <p:nvPr/>
        </p:nvSpPr>
        <p:spPr>
          <a:xfrm>
            <a:off x="6084720" y="1268280"/>
            <a:ext cx="3059280" cy="5113440"/>
          </a:xfrm>
          <a:prstGeom prst="sun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肌肉收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物质主动转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合成代谢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生物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维持体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8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体内外物质氧化比较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301680" y="1905120"/>
          <a:ext cx="8540640" cy="443844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对比项目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物氧化（体内）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体外氧化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条件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温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剧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过程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酶促反应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一步完成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能量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瞬间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成方式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有机酸脱羧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碳和氧结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水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需要水参加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不需要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5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三节  线粒体外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场所：微粒体和过氧化物酶体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特点：氧化过程中不伴有偶联磷酸化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9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9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9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389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微粒体氧化体系主要为加单氧酶系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催化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的一个氧原子加到作用物分子上，另一个氧原子被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还原成水，因此该酶又称为混合功能氧化酶或者羟化酶。反应需要细胞色素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450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AD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参加。其反应式如下：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5" name="Picture 3" descr=""/>
          <p:cNvPicPr/>
          <p:nvPr/>
        </p:nvPicPr>
        <p:blipFill>
          <a:blip r:embed="rId1"/>
          <a:stretch/>
        </p:blipFill>
        <p:spPr>
          <a:xfrm>
            <a:off x="684360" y="4797360"/>
            <a:ext cx="7870680" cy="936720"/>
          </a:xfrm>
          <a:prstGeom prst="rect">
            <a:avLst/>
          </a:prstGeom>
          <a:ln w="0">
            <a:noFill/>
          </a:ln>
        </p:spPr>
      </p:pic>
      <p:sp>
        <p:nvSpPr>
          <p:cNvPr id="766" name="AutoShape 4"/>
          <p:cNvSpPr/>
          <p:nvPr/>
        </p:nvSpPr>
        <p:spPr>
          <a:xfrm>
            <a:off x="3924360" y="5229360"/>
            <a:ext cx="1511280" cy="215640"/>
          </a:xfrm>
          <a:prstGeom prst="rightArrow">
            <a:avLst>
              <a:gd name="adj1" fmla="val 50000"/>
              <a:gd name="adj2" fmla="val 17520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3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二、过氧化物酶体氧化体系氧化过程产生活性氧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9" name="AutoShape 4"/>
          <p:cNvSpPr/>
          <p:nvPr/>
        </p:nvSpPr>
        <p:spPr>
          <a:xfrm>
            <a:off x="-108000" y="1268280"/>
            <a:ext cx="8748720" cy="558972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过氧化物酶体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一种特殊的细胞器，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在于动物组织的肝脏、肾脏、中性粒细胞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小肠黏膜细胞中。过氧化物酶体中含多种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化酶，能氧化氨基酸、脂肪酸等多种底物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活性氧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eactive oxygen species,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OS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0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9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9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9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9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9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的原因   氧分子必须接受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个电子才能完全还原，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O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2–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再与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zh-CN" sz="3200" spc="-1" strike="noStrike" baseline="30000">
                <a:solidFill>
                  <a:srgbClr val="007a77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结合成水。如果电子供给不足， 就会产生不稳定的活性氧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种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72" name="Picture 4" descr="活性氧的生成"/>
          <p:cNvPicPr/>
          <p:nvPr/>
        </p:nvPicPr>
        <p:blipFill>
          <a:blip r:embed="rId1"/>
          <a:stretch/>
        </p:blipFill>
        <p:spPr>
          <a:xfrm>
            <a:off x="684360" y="4076640"/>
            <a:ext cx="76327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9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8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9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的损伤作用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对生物大分子有氧化作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5" name="AutoShape 4"/>
          <p:cNvSpPr/>
          <p:nvPr/>
        </p:nvSpPr>
        <p:spPr>
          <a:xfrm>
            <a:off x="1403280" y="2852640"/>
            <a:ext cx="2808360" cy="1081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细胞膜不饱和脂肪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6" name="AutoShape 5"/>
          <p:cNvSpPr/>
          <p:nvPr/>
        </p:nvSpPr>
        <p:spPr>
          <a:xfrm>
            <a:off x="3851280" y="4508640"/>
            <a:ext cx="2016000" cy="865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蛋白质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7" name="AutoShape 6"/>
          <p:cNvSpPr/>
          <p:nvPr/>
        </p:nvSpPr>
        <p:spPr>
          <a:xfrm>
            <a:off x="5796000" y="2924280"/>
            <a:ext cx="1440000" cy="100944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核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8" name="AutoShape 7"/>
          <p:cNvSpPr/>
          <p:nvPr/>
        </p:nvSpPr>
        <p:spPr>
          <a:xfrm>
            <a:off x="4067280" y="2565360"/>
            <a:ext cx="2017440" cy="2232000"/>
          </a:xfrm>
          <a:prstGeom prst="irregularSeal2">
            <a:avLst/>
          </a:prstGeom>
          <a:solidFill>
            <a:srgbClr val="ebf7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活性氧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9" name="Line 8"/>
          <p:cNvSpPr/>
          <p:nvPr/>
        </p:nvSpPr>
        <p:spPr>
          <a:xfrm flipH="1">
            <a:off x="2340000" y="3933720"/>
            <a:ext cx="503280" cy="5032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0" name="Line 9"/>
          <p:cNvSpPr/>
          <p:nvPr/>
        </p:nvSpPr>
        <p:spPr>
          <a:xfrm flipV="1">
            <a:off x="7164360" y="2924280"/>
            <a:ext cx="432000" cy="288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1" name="Line 10"/>
          <p:cNvSpPr/>
          <p:nvPr/>
        </p:nvSpPr>
        <p:spPr>
          <a:xfrm>
            <a:off x="4572000" y="5300640"/>
            <a:ext cx="863640" cy="433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2" name="Oval 11"/>
          <p:cNvSpPr/>
          <p:nvPr/>
        </p:nvSpPr>
        <p:spPr>
          <a:xfrm>
            <a:off x="755640" y="4508640"/>
            <a:ext cx="1800360" cy="144144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导致细胞肿胀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3" name="AutoShape 12"/>
          <p:cNvSpPr/>
          <p:nvPr/>
        </p:nvSpPr>
        <p:spPr>
          <a:xfrm>
            <a:off x="5435640" y="5661000"/>
            <a:ext cx="2160720" cy="792360"/>
          </a:xfrm>
          <a:prstGeom prst="roundRect">
            <a:avLst>
              <a:gd name="adj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机体免疫力下降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4" name="AutoShape 13"/>
          <p:cNvSpPr/>
          <p:nvPr/>
        </p:nvSpPr>
        <p:spPr>
          <a:xfrm>
            <a:off x="7524720" y="1197000"/>
            <a:ext cx="1368360" cy="2448000"/>
          </a:xfrm>
          <a:prstGeom prst="triangle">
            <a:avLst>
              <a:gd name="adj" fmla="val 4863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诱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肿瘤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动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粥样硬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3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8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7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7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2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机体有清除活性氧的能力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超氧化物歧化酶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OD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87" name="Picture 4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488360" cy="1225440"/>
          </a:xfrm>
          <a:prstGeom prst="rect">
            <a:avLst/>
          </a:prstGeom>
          <a:ln w="0">
            <a:noFill/>
          </a:ln>
        </p:spPr>
      </p:pic>
      <p:sp>
        <p:nvSpPr>
          <p:cNvPr id="788" name="Line 5"/>
          <p:cNvSpPr/>
          <p:nvPr/>
        </p:nvSpPr>
        <p:spPr>
          <a:xfrm>
            <a:off x="4284720" y="3645000"/>
            <a:ext cx="24480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9" name="Oval 6"/>
          <p:cNvSpPr/>
          <p:nvPr/>
        </p:nvSpPr>
        <p:spPr>
          <a:xfrm>
            <a:off x="2700360" y="4724280"/>
            <a:ext cx="3672000" cy="108108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90" name="Picture 7" descr=""/>
          <p:cNvPicPr/>
          <p:nvPr/>
        </p:nvPicPr>
        <p:blipFill>
          <a:blip r:embed="rId2"/>
          <a:stretch/>
        </p:blipFill>
        <p:spPr>
          <a:xfrm>
            <a:off x="3492360" y="4869000"/>
            <a:ext cx="201636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0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9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3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9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过氧化氢酶和过氧化物酶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1332000" y="1905120"/>
            <a:ext cx="6624720" cy="13795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4" descr=""/>
          <p:cNvPicPr/>
          <p:nvPr/>
        </p:nvPicPr>
        <p:blipFill>
          <a:blip r:embed="rId2"/>
          <a:stretch/>
        </p:blipFill>
        <p:spPr>
          <a:xfrm>
            <a:off x="1692360" y="4221000"/>
            <a:ext cx="6191280" cy="7207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5" descr=""/>
          <p:cNvPicPr/>
          <p:nvPr/>
        </p:nvPicPr>
        <p:blipFill>
          <a:blip r:embed="rId3"/>
          <a:stretch/>
        </p:blipFill>
        <p:spPr>
          <a:xfrm>
            <a:off x="1835280" y="4941720"/>
            <a:ext cx="5761080" cy="935280"/>
          </a:xfrm>
          <a:prstGeom prst="rect">
            <a:avLst/>
          </a:prstGeom>
          <a:ln w="0">
            <a:noFill/>
          </a:ln>
        </p:spPr>
      </p:pic>
      <p:sp>
        <p:nvSpPr>
          <p:cNvPr id="795" name="AutoShape 6"/>
          <p:cNvSpPr/>
          <p:nvPr/>
        </p:nvSpPr>
        <p:spPr>
          <a:xfrm>
            <a:off x="250920" y="3284640"/>
            <a:ext cx="8893080" cy="936360"/>
          </a:xfrm>
          <a:prstGeom prst="flowChartTerminator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过氧化物酶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能催化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分解生成水，并放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            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氧原子直接氧化酚类和胺类等有毒物质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9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9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9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谷胱甘肽过氧化物酶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利用还原型谷胱甘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GS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使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或其他过氧化物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OO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还原，对组织细胞具有保护作用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7" name="Picture 3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8540640" cy="25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思考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呼吸链有哪些组成成分？它们在体内的传递电子的顺序有几种？相同的传递顺序是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叙述氧化磷酸化概念、偶联部位及影响因素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学会根据脱氢酶的辅酶判断，脱下的氢会进入哪条呼吸链并会计算产生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7" dur="10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01" name="Picture 3" descr="MC900434471[1]"/>
          <p:cNvPicPr/>
          <p:nvPr/>
        </p:nvPicPr>
        <p:blipFill>
          <a:blip r:embed="rId1"/>
          <a:stretch/>
        </p:blipFill>
        <p:spPr>
          <a:xfrm>
            <a:off x="4859280" y="2852640"/>
            <a:ext cx="3384720" cy="216072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4" descr="MC900428903[1]"/>
          <p:cNvPicPr/>
          <p:nvPr/>
        </p:nvPicPr>
        <p:blipFill>
          <a:blip r:embed="rId2"/>
          <a:stretch/>
        </p:blipFill>
        <p:spPr>
          <a:xfrm>
            <a:off x="611280" y="765000"/>
            <a:ext cx="4356000" cy="25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三、生物氧化反应的类型有脱电子、脱氢、加氧等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脱电子反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分子上脱去一个电子，从而使其原子或离子的正价增加而被氧化，脱去的电子由受电子体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接受而被还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250920" y="4005360"/>
            <a:ext cx="889308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8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540640" cy="55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反应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分子中脱去一对氢，由受氢体接受氢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849780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8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540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因一对氢原子是由一对质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 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和一对电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组成，故脱氢反应也包括脱电子反应。脱氢反应的另一种类型是“加水脱氢”。作用物先与水结合，然后脱去两个氢原子，结果是作用物分子上加了一个氧原子。如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2" name="Picture 3" descr=""/>
          <p:cNvPicPr/>
          <p:nvPr/>
        </p:nvPicPr>
        <p:blipFill>
          <a:blip r:embed="rId1"/>
          <a:stretch/>
        </p:blipFill>
        <p:spPr>
          <a:xfrm>
            <a:off x="611280" y="3284640"/>
            <a:ext cx="799308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750000011175871"/>
                                  </p:iterate>
                                  <p:childTnLst>
                                    <p:set>
                                      <p:cBhvr>
                                        <p:cTn id="175" dur="3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（三）加氧反应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作用物分子中直接加入氧原子或氧分子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5" name="Picture 4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064720" cy="36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8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0T09:01:40Z</dcterms:created>
  <dc:creator>user</dc:creator>
  <dc:description/>
  <dc:language>en-US</dc:language>
  <cp:lastModifiedBy>ZhangLL</cp:lastModifiedBy>
  <dcterms:modified xsi:type="dcterms:W3CDTF">2014-12-04T06:27:25Z</dcterms:modified>
  <cp:revision>168</cp:revision>
  <dc:subject/>
  <dc:title>第六章  生物氧化</dc:title>
</cp:coreProperties>
</file>