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1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9.wmf" ContentType="image/x-wmf"/>
  <Override PartName="/ppt/media/image12.png" ContentType="image/png"/>
  <Override PartName="/ppt/media/image20.gif" ContentType="image/gif"/>
  <Override PartName="/ppt/media/image19.gif" ContentType="image/gif"/>
  <Override PartName="/ppt/media/image18.png" ContentType="image/png"/>
  <Override PartName="/ppt/media/image17.wmf" ContentType="image/x-wmf"/>
  <Override PartName="/ppt/media/image16.jpeg" ContentType="image/jpeg"/>
  <Override PartName="/ppt/media/image7.png" ContentType="image/png"/>
  <Override PartName="/ppt/media/image1.jpeg" ContentType="image/jpeg"/>
  <Override PartName="/ppt/media/image15.wmf" ContentType="image/x-wmf"/>
  <Override PartName="/ppt/media/image14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jpeg" ContentType="image/jpeg"/>
  <Override PartName="/ppt/media/image1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  <p:sldId id="291" r:id="rId44"/>
    <p:sldId id="292" r:id="rId45"/>
    <p:sldId id="293" r:id="rId46"/>
    <p:sldId id="294" r:id="rId47"/>
    <p:sldId id="295" r:id="rId48"/>
    <p:sldId id="296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slide" Target="slides/slide36.xml"/><Relationship Id="rId45" Type="http://schemas.openxmlformats.org/officeDocument/2006/relationships/slide" Target="slides/slide37.xml"/><Relationship Id="rId46" Type="http://schemas.openxmlformats.org/officeDocument/2006/relationships/slide" Target="slides/slide38.xml"/><Relationship Id="rId47" Type="http://schemas.openxmlformats.org/officeDocument/2006/relationships/slide" Target="slides/slide39.xml"/><Relationship Id="rId48" Type="http://schemas.openxmlformats.org/officeDocument/2006/relationships/slide" Target="slides/slide40.xml"/><Relationship Id="rId49" Type="http://schemas.openxmlformats.org/officeDocument/2006/relationships/slide" Target="slides/slide41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39784-375E-44FB-91DD-DDFEE380C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7CFAC-84E2-45D4-A496-C51B565F5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A274B-F3B1-4A78-80BA-369FD87BC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5D121-C29B-4259-9D57-7D47AC147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EFA43-DCBB-4CFA-B41F-4BF720BBD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F4EE3-B463-4BB8-B4A7-B5ABC133B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E066B-1C66-4B9F-9205-B9E5781D5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36406-739E-4DB9-AF20-75E054C13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DDE36-084E-4979-99EC-1A201CD03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65ED2-19A4-487A-B703-EEA28E240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2DB51-71D3-43B1-B0DC-1F0FE7F13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D54FE-22EC-45D5-A0F9-E2F291FFC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C99E3-DB28-4262-A29D-5A4302632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EF770-681D-4CD6-A47E-35F669FCD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265C1-9379-4E2E-9FD7-7F8A71044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13500-FBF4-4BB5-96DC-4D933D71E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4F707-32BD-4EDC-9967-B9061314E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C58B58-0982-4EBB-821E-38098907C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0E59EF-D561-4424-ADC5-4C040963F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0ED99B-1F49-45A2-A114-B68E1F9D2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492338-64E1-4CD4-9D09-934519ED2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C2F364-1F60-4799-B759-BB7828D0B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9888C-DEBE-4C9E-9A03-F8B3A2D13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9B4DC3-A4FC-4A52-9CE9-F9B819666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799346-5326-4B78-AE97-0034EC86B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468B58-8D1B-4B14-846F-680113E6A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D212B8-4A35-4CBC-9EC0-890060852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92112E-6602-41EC-A0F5-029003C02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A085F8-1B22-4BD1-ADE6-3F484287F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AC8DE2-F0D5-4DBF-AA8A-A25B96C55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CF25212-8D4D-4D3C-A36D-E1C91124F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F36A940-34B6-4E57-A43A-376FECC17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3882B8D-4C48-4DAC-8A1E-083F0891E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596AE-34FB-495E-A1C4-8C95E2D6A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F36B424-7286-4FBC-8D6E-D6E5F2FE1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122B4B2-D981-433A-8B67-F1D396D5F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88FB3CB-911E-4205-B302-912EA4FCF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D3B28AA-1DDA-44D9-909E-90ED377AD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CBFED56-0754-4235-8641-4035437A8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6120075-1114-4C35-AE62-1A63B3EBB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87AAE17-3115-477B-866A-2C9E6DB92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1B7B704-40B6-422E-86A3-0E590E5CE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7E12C68-94E3-4E1E-8702-0987746A5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6969F8-F0F7-41DC-8797-B32311DB6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F2EFD-A988-4C2D-927A-015174EB0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892DB5-53E3-44FB-B90A-637989E36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BE05CC-A2A8-4A3D-90F6-EBF0A6709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FF5060-982F-4094-A98C-27C09E108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75BCF1-E0F5-4FD3-9F76-0F0D04517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46E933-A66A-48A6-8DED-18F1C63BC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22A45D-89C7-4DD2-B869-570F8BCDB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DD18D1-F0B8-415A-ADE2-33148508F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8E86B5-3FCA-4F62-B96E-0F61A90B0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EC0151-FC01-4B76-9BC9-C5224525A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F81C2E-7B1D-4297-9C3A-EAAAC07F4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37908-9B76-41E0-8075-D758845F2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9F7932-7AD6-4E39-AA90-AA6168C5E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7C272E-F8B1-43F1-8111-CAAF2D4E4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2E4ED6-661E-41B8-BD67-54F002DEC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C8CB70-3CA2-4C70-872C-77AB09A64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C00284-877A-4687-B2CC-FDF2D1C64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287AC5-459F-49AD-AC3D-C7E0076B4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E9471E-8DF2-4012-A2B5-4A35FF6C8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AD0D6C-5F6F-4749-BEFF-DDC6279BB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6FA2C1-4FC0-4490-A6F8-FE4CA25D3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811289-5540-470F-93D5-C401307C2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40BD4-0BFA-4AEF-B008-09A91EC6E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0756A8-A1BF-410D-BC43-6315B24A6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162FCB-927E-404F-8616-E29BC40C7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42F115-27C6-42EC-B8F2-283E74B04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E95E5DB-3102-4B20-BA65-80B557FAE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526B8A8-FD3F-439D-A73A-D2DEE4175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D758D72-8D8A-4B19-91E1-1D1D3C970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4B0069C-ECEC-4859-89B7-FFA22FE7B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0B9C1D3-F52E-4DCF-A363-8E193AB3F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016BA8D-61B1-49C9-9C69-4055F0679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7E77AD4-E324-45C3-88A8-629899292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13EA5-52EA-404C-9630-CEED15FCA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4B929A5-4748-4269-84AB-EFDE757B4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6886332-BAFE-4738-B372-766401A26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E661B3C-6877-488E-92A3-D5AD62906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787C2DA-B61F-4506-A1E6-09C7C97E6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B76763C-1F8F-4488-A153-8FFB3F11D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FCCEC-7AA9-4C85-8F14-D7B2DDE17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9A1DB-CDEB-4D00-A2A7-7D778413DA43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E4AD0-2527-4B7F-BCD3-9364A4345337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矩形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圆角矩形 7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8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9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10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A9E21-4D3A-4B8B-97FF-C17807FB70E3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圆角矩形 6"/>
          <p:cNvGrpSpPr/>
          <p:nvPr/>
        </p:nvGrpSpPr>
        <p:grpSpPr>
          <a:xfrm>
            <a:off x="66600" y="66600"/>
            <a:ext cx="9016920" cy="6699240"/>
            <a:chOff x="66600" y="66600"/>
            <a:chExt cx="9016920" cy="6699240"/>
          </a:xfrm>
        </p:grpSpPr>
        <p:pic>
          <p:nvPicPr>
            <p:cNvPr id="129" name="圆角矩形 6" descr=""/>
            <p:cNvPicPr/>
            <p:nvPr/>
          </p:nvPicPr>
          <p:blipFill>
            <a:blip r:embed="rId3"/>
            <a:stretch/>
          </p:blipFill>
          <p:spPr>
            <a:xfrm>
              <a:off x="66600" y="66600"/>
              <a:ext cx="9016920" cy="669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矩形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8"/>
          <p:cNvSpPr/>
          <p:nvPr/>
        </p:nvSpPr>
        <p:spPr>
          <a:xfrm flipV="1">
            <a:off x="84240" y="1202400"/>
            <a:ext cx="9013680" cy="903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9"/>
          <p:cNvSpPr/>
          <p:nvPr/>
        </p:nvSpPr>
        <p:spPr>
          <a:xfrm>
            <a:off x="84240" y="1168560"/>
            <a:ext cx="9013680" cy="442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10"/>
          <p:cNvSpPr/>
          <p:nvPr/>
        </p:nvSpPr>
        <p:spPr>
          <a:xfrm>
            <a:off x="84240" y="1295280"/>
            <a:ext cx="901368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sldNum" idx="10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A059A-4C27-4EBF-8BE0-370D08C96584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十六章 骨骼与钙磷代谢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dt" idx="12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哈尔滨医科大学  袁丽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矩形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圆角矩形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矩形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圆角矩形 9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 type="sldNum" idx="15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1ABDC-4955-4C26-9B55-14DE13212EB1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矩形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圆角矩形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矩形 8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矩形 9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矩形 10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dt" idx="16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 type="ftr" idx="17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 type="sldNum" idx="18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35EF0-B324-4582-98DD-746ED7E875C3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7" name="圆角矩形 6"/>
          <p:cNvGrpSpPr/>
          <p:nvPr/>
        </p:nvGrpSpPr>
        <p:grpSpPr>
          <a:xfrm>
            <a:off x="66600" y="66600"/>
            <a:ext cx="9016920" cy="6699240"/>
            <a:chOff x="66600" y="66600"/>
            <a:chExt cx="9016920" cy="6699240"/>
          </a:xfrm>
        </p:grpSpPr>
        <p:pic>
          <p:nvPicPr>
            <p:cNvPr id="268" name="圆角矩形 6" descr=""/>
            <p:cNvPicPr/>
            <p:nvPr/>
          </p:nvPicPr>
          <p:blipFill>
            <a:blip r:embed="rId3"/>
            <a:stretch/>
          </p:blipFill>
          <p:spPr>
            <a:xfrm>
              <a:off x="66600" y="66600"/>
              <a:ext cx="9016920" cy="669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0" name="矩形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矩形 8"/>
          <p:cNvSpPr/>
          <p:nvPr/>
        </p:nvSpPr>
        <p:spPr>
          <a:xfrm flipV="1">
            <a:off x="84240" y="1202400"/>
            <a:ext cx="9013680" cy="903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矩形 9"/>
          <p:cNvSpPr/>
          <p:nvPr/>
        </p:nvSpPr>
        <p:spPr>
          <a:xfrm>
            <a:off x="84240" y="1168560"/>
            <a:ext cx="9013680" cy="442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矩形 10"/>
          <p:cNvSpPr/>
          <p:nvPr/>
        </p:nvSpPr>
        <p:spPr>
          <a:xfrm>
            <a:off x="84240" y="1295280"/>
            <a:ext cx="901368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 type="sldNum" idx="1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7F937-FFE6-4570-9492-77D3AD693C15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 type="ftr" idx="20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十六章 骨骼与钙磷代谢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 type="dt" idx="2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哈尔滨医科大学  袁丽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image" Target="../media/image18.png"/><Relationship Id="rId4" Type="http://schemas.openxmlformats.org/officeDocument/2006/relationships/slide" Target="slide1.xml"/><Relationship Id="rId5" Type="http://schemas.openxmlformats.org/officeDocument/2006/relationships/image" Target="../media/image19.gif"/><Relationship Id="rId6" Type="http://schemas.openxmlformats.org/officeDocument/2006/relationships/slideLayout" Target="../slideLayouts/slideLayout3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slide36.xml"/><Relationship Id="rId2" Type="http://schemas.openxmlformats.org/officeDocument/2006/relationships/image" Target="../media/image20.gif"/><Relationship Id="rId3" Type="http://schemas.openxmlformats.org/officeDocument/2006/relationships/slideLayout" Target="../slideLayouts/slideLayout37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Picture 1" descr="未标题-1"/>
          <p:cNvPicPr/>
          <p:nvPr/>
        </p:nvPicPr>
        <p:blipFill>
          <a:blip r:embed="rId1"/>
          <a:stretch/>
        </p:blipFill>
        <p:spPr>
          <a:xfrm>
            <a:off x="387360" y="3141720"/>
            <a:ext cx="2550960" cy="3279600"/>
          </a:xfrm>
          <a:prstGeom prst="rect">
            <a:avLst/>
          </a:prstGeom>
          <a:ln w="0">
            <a:noFill/>
          </a:ln>
        </p:spPr>
      </p:pic>
      <p:sp>
        <p:nvSpPr>
          <p:cNvPr id="316" name="TextBox 6"/>
          <p:cNvSpPr/>
          <p:nvPr/>
        </p:nvSpPr>
        <p:spPr>
          <a:xfrm>
            <a:off x="342000" y="1549440"/>
            <a:ext cx="854280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第十六章</a:t>
            </a:r>
            <a:r>
              <a:rPr b="0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0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骨骼与钙磷代谢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Bone and Calcium-phosphorus Metabol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5" name="Group 2"/>
          <p:cNvGrpSpPr/>
          <p:nvPr/>
        </p:nvGrpSpPr>
        <p:grpSpPr>
          <a:xfrm>
            <a:off x="1062000" y="1284120"/>
            <a:ext cx="7254720" cy="2226960"/>
            <a:chOff x="1062000" y="1284120"/>
            <a:chExt cx="7254720" cy="2226960"/>
          </a:xfrm>
        </p:grpSpPr>
        <p:sp>
          <p:nvSpPr>
            <p:cNvPr id="386" name="Text Box 3"/>
            <p:cNvSpPr/>
            <p:nvPr/>
          </p:nvSpPr>
          <p:spPr>
            <a:xfrm>
              <a:off x="1062000" y="1284120"/>
              <a:ext cx="7254720" cy="22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</a:rPr>
                <a:t>                   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[Na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楷体_GB2312"/>
                  <a:ea typeface="楷体_GB2312"/>
                </a:rPr>
                <a:t>+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]+[Ca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楷体_GB2312"/>
                  <a:ea typeface="楷体_GB2312"/>
                </a:rPr>
                <a:t>2+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]+[OH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楷体_GB2312"/>
                  <a:ea typeface="楷体_GB2312"/>
                </a:rPr>
                <a:t>-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心肌兴奋性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      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[K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楷体_GB2312"/>
                  <a:ea typeface="楷体_GB2312"/>
                </a:rPr>
                <a:t>+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]+[Mg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楷体_GB2312"/>
                  <a:ea typeface="楷体_GB2312"/>
                </a:rPr>
                <a:t>2+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]+[H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楷体_GB2312"/>
                  <a:ea typeface="楷体_GB2312"/>
                </a:rPr>
                <a:t>+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]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(1)[Ca</a:t>
              </a:r>
              <a:r>
                <a:rPr b="1" lang="en-US" sz="2800" spc="-1" strike="noStrike" baseline="30000">
                  <a:solidFill>
                    <a:srgbClr val="cc3300"/>
                  </a:solidFill>
                  <a:latin typeface="楷体_GB2312"/>
                  <a:ea typeface="楷体_GB2312"/>
                </a:rPr>
                <a:t>2+</a:t>
              </a:r>
              <a:r>
                <a:rPr b="1" lang="en-US" sz="28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]:</a:t>
              </a:r>
              <a:r>
                <a:rPr b="1" lang="zh-CN" sz="28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有利心肌收缩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和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[K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楷体_GB2312"/>
                  <a:ea typeface="楷体_GB2312"/>
                </a:rPr>
                <a:t>+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]</a:t>
              </a: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相拮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Line 4"/>
            <p:cNvSpPr/>
            <p:nvPr/>
          </p:nvSpPr>
          <p:spPr>
            <a:xfrm>
              <a:off x="3359160" y="2018880"/>
              <a:ext cx="3657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8" name="Group 5"/>
          <p:cNvGrpSpPr/>
          <p:nvPr/>
        </p:nvGrpSpPr>
        <p:grpSpPr>
          <a:xfrm>
            <a:off x="1042920" y="3573360"/>
            <a:ext cx="7238880" cy="2653560"/>
            <a:chOff x="1042920" y="3573360"/>
            <a:chExt cx="7238880" cy="2653560"/>
          </a:xfrm>
        </p:grpSpPr>
        <p:sp>
          <p:nvSpPr>
            <p:cNvPr id="389" name="Text Box 6"/>
            <p:cNvSpPr/>
            <p:nvPr/>
          </p:nvSpPr>
          <p:spPr>
            <a:xfrm>
              <a:off x="1042920" y="3573360"/>
              <a:ext cx="7238880" cy="265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         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[Na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楷体_GB2312"/>
                  <a:ea typeface="楷体_GB2312"/>
                </a:rPr>
                <a:t>+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]+ [K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楷体_GB2312"/>
                  <a:ea typeface="楷体_GB2312"/>
                </a:rPr>
                <a:t>+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肌肉兴奋性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楷体_GB2312"/>
                  <a:ea typeface="楷体_GB2312"/>
                </a:rPr>
                <a:t>            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[Ca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楷体_GB2312"/>
                  <a:ea typeface="楷体_GB2312"/>
                </a:rPr>
                <a:t>2+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]+[Mg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楷体_GB2312"/>
                  <a:ea typeface="楷体_GB2312"/>
                </a:rPr>
                <a:t>2+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]+[H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楷体_GB2312"/>
                  <a:ea typeface="楷体_GB2312"/>
                </a:rPr>
                <a:t>+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(2)[Ca</a:t>
              </a:r>
              <a:r>
                <a:rPr b="1" lang="en-US" sz="2800" spc="-1" strike="noStrike" baseline="30000">
                  <a:solidFill>
                    <a:srgbClr val="cc3300"/>
                  </a:solidFill>
                  <a:latin typeface="楷体_GB2312"/>
                  <a:ea typeface="楷体_GB2312"/>
                </a:rPr>
                <a:t>2+</a:t>
              </a:r>
              <a:r>
                <a:rPr b="1" lang="en-US" sz="28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]:</a:t>
              </a:r>
              <a:r>
                <a:rPr b="1" lang="zh-CN" sz="28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参与肌肉收缩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降低神经肌肉的兴奋性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</a:t>
              </a: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降低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:</a:t>
              </a: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抽搐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Line 7"/>
            <p:cNvSpPr/>
            <p:nvPr/>
          </p:nvSpPr>
          <p:spPr>
            <a:xfrm>
              <a:off x="3268440" y="4294080"/>
              <a:ext cx="3657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1" name="Rectangle 8"/>
          <p:cNvSpPr/>
          <p:nvPr/>
        </p:nvSpPr>
        <p:spPr>
          <a:xfrm>
            <a:off x="1222200" y="620640"/>
            <a:ext cx="515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．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维持神经、肌肉的兴奋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2"/>
          <p:cNvSpPr/>
          <p:nvPr/>
        </p:nvSpPr>
        <p:spPr>
          <a:xfrm>
            <a:off x="755640" y="836640"/>
            <a:ext cx="784872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第二信使作用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Ca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可调节酶活性、细胞分泌、递质合成、微管聚合、有丝分裂、肌肉收缩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其他：突触传递、血液凝固、细胞粘连、降低毛细血管和细胞膜的通透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3" name=""/>
          <p:cNvGraphicFramePr/>
          <p:nvPr/>
        </p:nvGraphicFramePr>
        <p:xfrm>
          <a:off x="539640" y="3213000"/>
          <a:ext cx="8064720" cy="3043440"/>
        </p:xfrm>
        <a:graphic>
          <a:graphicData uri="http://schemas.openxmlformats.org/drawingml/2006/table">
            <a:tbl>
              <a:tblPr/>
              <a:tblGrid>
                <a:gridCol w="2679840"/>
                <a:gridCol w="2416320"/>
                <a:gridCol w="2968560"/>
              </a:tblGrid>
              <a:tr h="360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底物蛋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磷酸化的结果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生理意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组蛋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失去对转录的阻遏作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加速转录，促进蛋白质的合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336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核中酸性蛋白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加速转录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加速转录，促进蛋白质的合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核蛋白体蛋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加速翻译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促进蛋白质的合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细胞膜蛋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膜蛋白构象及功能改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改变膜对水及离子的通透性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微管蛋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构象及功能改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影响细胞分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336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心肌肌原蛋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易与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</a:t>
                      </a:r>
                      <a:r>
                        <a:rPr b="1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结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加强心肌收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心肌肌浆网膜蛋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加速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</a:t>
                      </a:r>
                      <a:r>
                        <a:rPr b="1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摄入肌浆网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加强肌纤维舒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肾上腺素能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β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受体蛋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影响受体功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脱敏化及下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</a:tbl>
          </a:graphicData>
        </a:graphic>
      </p:graphicFrame>
      <p:sp>
        <p:nvSpPr>
          <p:cNvPr id="394" name="Rectangle 352"/>
          <p:cNvSpPr/>
          <p:nvPr/>
        </p:nvSpPr>
        <p:spPr>
          <a:xfrm>
            <a:off x="3453480" y="2701080"/>
            <a:ext cx="2225880" cy="36828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KA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对底物蛋白的磷酸化作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Text Box 3"/>
          <p:cNvSpPr/>
          <p:nvPr/>
        </p:nvSpPr>
        <p:spPr>
          <a:xfrm>
            <a:off x="1526760" y="1338840"/>
            <a:ext cx="1715400" cy="45972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一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钙的吸收与排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4"/>
          <p:cNvSpPr/>
          <p:nvPr/>
        </p:nvSpPr>
        <p:spPr>
          <a:xfrm>
            <a:off x="1540440" y="1878480"/>
            <a:ext cx="54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吸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5"/>
          <p:cNvSpPr/>
          <p:nvPr/>
        </p:nvSpPr>
        <p:spPr>
          <a:xfrm>
            <a:off x="3572640" y="2335680"/>
            <a:ext cx="344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部位：小肠上段（十二支肠和空肠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6"/>
          <p:cNvSpPr/>
          <p:nvPr/>
        </p:nvSpPr>
        <p:spPr>
          <a:xfrm>
            <a:off x="2903040" y="2869200"/>
            <a:ext cx="143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影响因素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7"/>
          <p:cNvSpPr/>
          <p:nvPr/>
        </p:nvSpPr>
        <p:spPr>
          <a:xfrm>
            <a:off x="3206880" y="1878480"/>
            <a:ext cx="234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钙的吸收与年龄成反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8"/>
          <p:cNvSpPr/>
          <p:nvPr/>
        </p:nvSpPr>
        <p:spPr>
          <a:xfrm>
            <a:off x="4502520" y="286920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it 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9"/>
          <p:cNvSpPr/>
          <p:nvPr/>
        </p:nvSpPr>
        <p:spPr>
          <a:xfrm>
            <a:off x="7085520" y="2851560"/>
            <a:ext cx="108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最重要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2" name="Group 10"/>
          <p:cNvGrpSpPr/>
          <p:nvPr/>
        </p:nvGrpSpPr>
        <p:grpSpPr>
          <a:xfrm>
            <a:off x="5394240" y="2869200"/>
            <a:ext cx="1371600" cy="459720"/>
            <a:chOff x="5394240" y="2869200"/>
            <a:chExt cx="1371600" cy="459720"/>
          </a:xfrm>
        </p:grpSpPr>
        <p:sp>
          <p:nvSpPr>
            <p:cNvPr id="403" name="Line 11"/>
            <p:cNvSpPr/>
            <p:nvPr/>
          </p:nvSpPr>
          <p:spPr>
            <a:xfrm>
              <a:off x="5394240" y="3098880"/>
              <a:ext cx="5335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Text Box 12"/>
            <p:cNvSpPr/>
            <p:nvPr/>
          </p:nvSpPr>
          <p:spPr>
            <a:xfrm>
              <a:off x="6111360" y="286920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吸收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Line 13"/>
            <p:cNvSpPr/>
            <p:nvPr/>
          </p:nvSpPr>
          <p:spPr>
            <a:xfrm flipV="1">
              <a:off x="6765840" y="2869920"/>
              <a:ext cx="0" cy="3812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6" name="Text Box 14"/>
          <p:cNvSpPr/>
          <p:nvPr/>
        </p:nvSpPr>
        <p:spPr>
          <a:xfrm>
            <a:off x="4789080" y="33264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酸性食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Group 15"/>
          <p:cNvGrpSpPr/>
          <p:nvPr/>
        </p:nvGrpSpPr>
        <p:grpSpPr>
          <a:xfrm>
            <a:off x="6012000" y="3428640"/>
            <a:ext cx="380880" cy="228960"/>
            <a:chOff x="6012000" y="3428640"/>
            <a:chExt cx="380880" cy="228960"/>
          </a:xfrm>
        </p:grpSpPr>
        <p:sp>
          <p:nvSpPr>
            <p:cNvPr id="408" name="Line 16"/>
            <p:cNvSpPr/>
            <p:nvPr/>
          </p:nvSpPr>
          <p:spPr>
            <a:xfrm>
              <a:off x="6012000" y="3657600"/>
              <a:ext cx="3808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Line 17"/>
            <p:cNvSpPr/>
            <p:nvPr/>
          </p:nvSpPr>
          <p:spPr>
            <a:xfrm flipV="1">
              <a:off x="6392880" y="3428640"/>
              <a:ext cx="0" cy="228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0" name="Text Box 18"/>
          <p:cNvSpPr/>
          <p:nvPr/>
        </p:nvSpPr>
        <p:spPr>
          <a:xfrm>
            <a:off x="4850640" y="3737880"/>
            <a:ext cx="109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植物酸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高浓度钾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1" name="Group 19"/>
          <p:cNvGrpSpPr/>
          <p:nvPr/>
        </p:nvGrpSpPr>
        <p:grpSpPr>
          <a:xfrm>
            <a:off x="6400800" y="4088160"/>
            <a:ext cx="1371600" cy="459720"/>
            <a:chOff x="6400800" y="4088160"/>
            <a:chExt cx="1371600" cy="459720"/>
          </a:xfrm>
        </p:grpSpPr>
        <p:grpSp>
          <p:nvGrpSpPr>
            <p:cNvPr id="412" name="Group 20"/>
            <p:cNvGrpSpPr/>
            <p:nvPr/>
          </p:nvGrpSpPr>
          <p:grpSpPr>
            <a:xfrm>
              <a:off x="6400800" y="4089240"/>
              <a:ext cx="609480" cy="457200"/>
              <a:chOff x="6400800" y="4089240"/>
              <a:chExt cx="609480" cy="457200"/>
            </a:xfrm>
          </p:grpSpPr>
          <p:sp>
            <p:nvSpPr>
              <p:cNvPr id="413" name="AutoShape 21"/>
              <p:cNvSpPr/>
              <p:nvPr/>
            </p:nvSpPr>
            <p:spPr>
              <a:xfrm>
                <a:off x="6400800" y="4089240"/>
                <a:ext cx="76320" cy="457200"/>
              </a:xfrm>
              <a:custGeom>
                <a:avLst/>
                <a:gdLst>
                  <a:gd name="textAreaLeft" fmla="*/ 0 w 76320"/>
                  <a:gd name="textAreaRight" fmla="*/ 27360 w 76320"/>
                  <a:gd name="textAreaTop" fmla="*/ 11880 h 457200"/>
                  <a:gd name="textAreaBottom" fmla="*/ 445320 h 457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Line 22"/>
              <p:cNvSpPr/>
              <p:nvPr/>
            </p:nvSpPr>
            <p:spPr>
              <a:xfrm>
                <a:off x="6477120" y="4317840"/>
                <a:ext cx="5331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5" name="Rectangle 23"/>
            <p:cNvSpPr/>
            <p:nvPr/>
          </p:nvSpPr>
          <p:spPr>
            <a:xfrm>
              <a:off x="7102080" y="408816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吸收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Line 24"/>
            <p:cNvSpPr/>
            <p:nvPr/>
          </p:nvSpPr>
          <p:spPr>
            <a:xfrm>
              <a:off x="7772400" y="4165560"/>
              <a:ext cx="0" cy="380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7" name="Text Box 25"/>
          <p:cNvSpPr/>
          <p:nvPr/>
        </p:nvSpPr>
        <p:spPr>
          <a:xfrm>
            <a:off x="1540440" y="4796280"/>
            <a:ext cx="54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排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26"/>
          <p:cNvSpPr/>
          <p:nvPr/>
        </p:nvSpPr>
        <p:spPr>
          <a:xfrm>
            <a:off x="2981160" y="4796280"/>
            <a:ext cx="30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——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主要由消化道随粪便排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27"/>
          <p:cNvSpPr/>
          <p:nvPr/>
        </p:nvSpPr>
        <p:spPr>
          <a:xfrm>
            <a:off x="1425240" y="5299560"/>
            <a:ext cx="1918080" cy="45972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二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磷的吸收与排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28"/>
          <p:cNvSpPr/>
          <p:nvPr/>
        </p:nvSpPr>
        <p:spPr>
          <a:xfrm>
            <a:off x="1542240" y="5733000"/>
            <a:ext cx="54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吸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29"/>
          <p:cNvSpPr/>
          <p:nvPr/>
        </p:nvSpPr>
        <p:spPr>
          <a:xfrm>
            <a:off x="3186720" y="575352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与钙相似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30"/>
          <p:cNvSpPr/>
          <p:nvPr/>
        </p:nvSpPr>
        <p:spPr>
          <a:xfrm>
            <a:off x="1540440" y="6210720"/>
            <a:ext cx="54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排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31"/>
          <p:cNvSpPr/>
          <p:nvPr/>
        </p:nvSpPr>
        <p:spPr>
          <a:xfrm>
            <a:off x="3092760" y="6210720"/>
            <a:ext cx="285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——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主要由泌尿道小便排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标题 1"/>
          <p:cNvSpPr/>
          <p:nvPr/>
        </p:nvSpPr>
        <p:spPr>
          <a:xfrm>
            <a:off x="755640" y="260280"/>
            <a:ext cx="77724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91440" anchor="b">
            <a:noAutofit/>
          </a:bodyPr>
          <a:p>
            <a:pPr marL="1015920" indent="-101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第二节 钙磷的吸收与排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Picture 2" descr="钙代谢"/>
          <p:cNvPicPr/>
          <p:nvPr/>
        </p:nvPicPr>
        <p:blipFill>
          <a:blip r:embed="rId1"/>
          <a:stretch/>
        </p:blipFill>
        <p:spPr>
          <a:xfrm>
            <a:off x="1258920" y="981000"/>
            <a:ext cx="6337440" cy="5292720"/>
          </a:xfrm>
          <a:prstGeom prst="rect">
            <a:avLst/>
          </a:prstGeom>
          <a:ln w="0">
            <a:noFill/>
          </a:ln>
        </p:spPr>
      </p:pic>
      <p:sp>
        <p:nvSpPr>
          <p:cNvPr id="426" name="Text Box 3"/>
          <p:cNvSpPr/>
          <p:nvPr/>
        </p:nvSpPr>
        <p:spPr>
          <a:xfrm>
            <a:off x="2411280" y="549360"/>
            <a:ext cx="4248360" cy="581400"/>
          </a:xfrm>
          <a:prstGeom prst="rect">
            <a:avLst/>
          </a:prstGeom>
          <a:gradFill rotWithShape="0">
            <a:gsLst>
              <a:gs pos="0">
                <a:srgbClr val="d34817"/>
              </a:gs>
              <a:gs pos="100000">
                <a:srgbClr val="f3cec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钙的代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Picture 2" descr=""/>
          <p:cNvPicPr/>
          <p:nvPr/>
        </p:nvPicPr>
        <p:blipFill>
          <a:blip r:embed="rId1"/>
          <a:stretch/>
        </p:blipFill>
        <p:spPr>
          <a:xfrm>
            <a:off x="611280" y="2948040"/>
            <a:ext cx="4392360" cy="3306600"/>
          </a:xfrm>
          <a:prstGeom prst="rect">
            <a:avLst/>
          </a:prstGeom>
          <a:ln w="0">
            <a:noFill/>
          </a:ln>
        </p:spPr>
      </p:pic>
      <p:sp>
        <p:nvSpPr>
          <p:cNvPr id="428" name="Rectangle 3"/>
          <p:cNvSpPr/>
          <p:nvPr/>
        </p:nvSpPr>
        <p:spPr>
          <a:xfrm>
            <a:off x="539640" y="765000"/>
            <a:ext cx="7391520" cy="25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一、钙的吸收与排泄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需要量：成人每天需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600mg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吸收部位：十二指肠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/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小肠上端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吸收途径 </a:t>
            </a:r>
            <a:r>
              <a:rPr b="1" lang="zh-CN" sz="26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（</a:t>
            </a:r>
            <a:r>
              <a:rPr b="1" lang="en-US" sz="26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1</a:t>
            </a:r>
            <a:r>
              <a:rPr b="1" lang="zh-CN" sz="26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）主动吸收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               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被动吸收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4"/>
          <p:cNvSpPr/>
          <p:nvPr/>
        </p:nvSpPr>
        <p:spPr>
          <a:xfrm>
            <a:off x="5364000" y="3724200"/>
            <a:ext cx="2737080" cy="2364840"/>
          </a:xfrm>
          <a:prstGeom prst="rect">
            <a:avLst/>
          </a:prstGeom>
          <a:noFill/>
          <a:ln w="936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钙离子通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②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钙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③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2+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-N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交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④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钾钠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⑤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细胞器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aX: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结合钙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Picture 2" descr="钙吸收1"/>
          <p:cNvPicPr/>
          <p:nvPr/>
        </p:nvPicPr>
        <p:blipFill>
          <a:blip r:embed="rId1"/>
          <a:stretch/>
        </p:blipFill>
        <p:spPr>
          <a:xfrm>
            <a:off x="826920" y="1027080"/>
            <a:ext cx="7490160" cy="5281560"/>
          </a:xfrm>
          <a:prstGeom prst="rect">
            <a:avLst/>
          </a:prstGeom>
          <a:ln w="0">
            <a:noFill/>
          </a:ln>
        </p:spPr>
      </p:pic>
      <p:sp>
        <p:nvSpPr>
          <p:cNvPr id="431" name="Text Box 3"/>
          <p:cNvSpPr/>
          <p:nvPr/>
        </p:nvSpPr>
        <p:spPr>
          <a:xfrm>
            <a:off x="2484360" y="112680"/>
            <a:ext cx="4248360" cy="581400"/>
          </a:xfrm>
          <a:prstGeom prst="rect">
            <a:avLst/>
          </a:prstGeom>
          <a:gradFill rotWithShape="0">
            <a:gsLst>
              <a:gs pos="0">
                <a:srgbClr val="d34817"/>
              </a:gs>
              <a:gs pos="100000">
                <a:srgbClr val="f3cec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钙的代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Text Box 2"/>
          <p:cNvSpPr/>
          <p:nvPr/>
        </p:nvSpPr>
        <p:spPr>
          <a:xfrm>
            <a:off x="684360" y="476280"/>
            <a:ext cx="7416720" cy="27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、 磷的吸收与排泄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需要量：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12mg/kg/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.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吸收部位：小肠、空肠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.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吸收形式：酸性磷酸盐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en-US" sz="2800" spc="-1" strike="noStrike" baseline="30000">
                <a:solidFill>
                  <a:srgbClr val="000000"/>
                </a:solidFill>
                <a:latin typeface="楷体_GB2312"/>
                <a:ea typeface="楷体_GB2312"/>
              </a:rPr>
              <a:t>-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ectangle 3"/>
          <p:cNvSpPr/>
          <p:nvPr/>
        </p:nvSpPr>
        <p:spPr>
          <a:xfrm>
            <a:off x="687240" y="3213000"/>
            <a:ext cx="7772400" cy="30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磷的排泄：肾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----70%</a:t>
            </a:r>
            <a:r>
              <a:rPr b="1" lang="en-US" sz="2800" spc="-1" strike="noStrike">
                <a:solidFill>
                  <a:srgbClr val="696464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受调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)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肠道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----3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4" name="Picture 4" descr="演示文稿1"/>
          <p:cNvPicPr/>
          <p:nvPr/>
        </p:nvPicPr>
        <p:blipFill>
          <a:blip r:embed="rId1"/>
          <a:srcRect l="0" t="0" r="0" b="15265"/>
          <a:stretch/>
        </p:blipFill>
        <p:spPr>
          <a:xfrm>
            <a:off x="216000" y="44280"/>
            <a:ext cx="8820000" cy="5621400"/>
          </a:xfrm>
          <a:prstGeom prst="rect">
            <a:avLst/>
          </a:prstGeom>
          <a:ln w="0">
            <a:noFill/>
          </a:ln>
        </p:spPr>
      </p:pic>
      <p:sp>
        <p:nvSpPr>
          <p:cNvPr id="435" name="Rectangle 5"/>
          <p:cNvSpPr/>
          <p:nvPr/>
        </p:nvSpPr>
        <p:spPr>
          <a:xfrm>
            <a:off x="3825360" y="561564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血钙与血磷代谢与调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772400" cy="8650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marL="101592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第三节  血液中钙磷含量与存在形式</a:t>
            </a:r>
            <a:endParaRPr b="0" lang="en-US" sz="3600" spc="-1" strike="noStrike">
              <a:solidFill>
                <a:srgbClr val="696464"/>
              </a:solidFill>
              <a:latin typeface="Arial"/>
            </a:endParaRPr>
          </a:p>
        </p:txBody>
      </p:sp>
      <p:grpSp>
        <p:nvGrpSpPr>
          <p:cNvPr id="437" name="Group 11"/>
          <p:cNvGrpSpPr/>
          <p:nvPr/>
        </p:nvGrpSpPr>
        <p:grpSpPr>
          <a:xfrm>
            <a:off x="539640" y="1844640"/>
            <a:ext cx="8208720" cy="2231640"/>
            <a:chOff x="539640" y="1844640"/>
            <a:chExt cx="8208720" cy="2231640"/>
          </a:xfrm>
        </p:grpSpPr>
        <p:grpSp>
          <p:nvGrpSpPr>
            <p:cNvPr id="438" name="Group 12"/>
            <p:cNvGrpSpPr/>
            <p:nvPr/>
          </p:nvGrpSpPr>
          <p:grpSpPr>
            <a:xfrm>
              <a:off x="539640" y="1844640"/>
              <a:ext cx="8208720" cy="2231640"/>
              <a:chOff x="539640" y="1844640"/>
              <a:chExt cx="8208720" cy="2231640"/>
            </a:xfrm>
          </p:grpSpPr>
          <p:sp>
            <p:nvSpPr>
              <p:cNvPr id="439" name="Text Box 13"/>
              <p:cNvSpPr/>
              <p:nvPr/>
            </p:nvSpPr>
            <p:spPr>
              <a:xfrm>
                <a:off x="2934000" y="1844640"/>
                <a:ext cx="1710000" cy="1608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</a:rPr>
                  <a:t>离子钙（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45%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</a:rPr>
                  <a:t>）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</a:rPr>
                  <a:t>结合钙（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55%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</a:rPr>
                  <a:t>）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Text Box 14"/>
              <p:cNvSpPr/>
              <p:nvPr/>
            </p:nvSpPr>
            <p:spPr>
              <a:xfrm>
                <a:off x="7209360" y="2136960"/>
                <a:ext cx="1197000" cy="409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</a:rPr>
                  <a:t>可扩散钙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Text Box 15"/>
              <p:cNvSpPr/>
              <p:nvPr/>
            </p:nvSpPr>
            <p:spPr>
              <a:xfrm>
                <a:off x="539640" y="2136960"/>
                <a:ext cx="2394360" cy="796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</a:rPr>
                  <a:t>              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</a:rPr>
                  <a:t>血钙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</a:rPr>
                  <a:t>（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2.25-2.75mmol/L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</a:rPr>
                  <a:t>）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Text Box 16"/>
              <p:cNvSpPr/>
              <p:nvPr/>
            </p:nvSpPr>
            <p:spPr>
              <a:xfrm>
                <a:off x="4815000" y="2429640"/>
                <a:ext cx="2223360" cy="1571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</a:rPr>
                  <a:t>柠檬酸钙（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10%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</a:rPr>
                  <a:t>）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</a:rPr>
                  <a:t>蛋白结合钙（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45%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</a:rPr>
                  <a:t>）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Text Box 17"/>
              <p:cNvSpPr/>
              <p:nvPr/>
            </p:nvSpPr>
            <p:spPr>
              <a:xfrm>
                <a:off x="7038360" y="3599280"/>
                <a:ext cx="1710000" cy="477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——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</a:rPr>
                  <a:t>非扩散钙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4" name="Group 18"/>
            <p:cNvGrpSpPr/>
            <p:nvPr/>
          </p:nvGrpSpPr>
          <p:grpSpPr>
            <a:xfrm>
              <a:off x="2763000" y="1844640"/>
              <a:ext cx="4104360" cy="1963440"/>
              <a:chOff x="2763000" y="1844640"/>
              <a:chExt cx="4104360" cy="1963440"/>
            </a:xfrm>
          </p:grpSpPr>
          <p:sp>
            <p:nvSpPr>
              <p:cNvPr id="445" name="AutoShape 19"/>
              <p:cNvSpPr/>
              <p:nvPr/>
            </p:nvSpPr>
            <p:spPr>
              <a:xfrm>
                <a:off x="4644000" y="2575800"/>
                <a:ext cx="222120" cy="1232280"/>
              </a:xfrm>
              <a:custGeom>
                <a:avLst/>
                <a:gdLst>
                  <a:gd name="textAreaLeft" fmla="*/ 141840 w 222120"/>
                  <a:gd name="textAreaRight" fmla="*/ 222480 w 222120"/>
                  <a:gd name="textAreaTop" fmla="*/ 32040 h 1232280"/>
                  <a:gd name="textAreaBottom" fmla="*/ 1200240 h 1232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AutoShape 20"/>
              <p:cNvSpPr/>
              <p:nvPr/>
            </p:nvSpPr>
            <p:spPr>
              <a:xfrm>
                <a:off x="6696360" y="1844640"/>
                <a:ext cx="171000" cy="819720"/>
              </a:xfrm>
              <a:custGeom>
                <a:avLst/>
                <a:gdLst>
                  <a:gd name="textAreaLeft" fmla="*/ 0 w 171000"/>
                  <a:gd name="textAreaRight" fmla="*/ 61560 w 171000"/>
                  <a:gd name="textAreaTop" fmla="*/ 21240 h 819720"/>
                  <a:gd name="textAreaBottom" fmla="*/ 798480 h 819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AutoShape 21"/>
              <p:cNvSpPr/>
              <p:nvPr/>
            </p:nvSpPr>
            <p:spPr>
              <a:xfrm>
                <a:off x="2763000" y="1990800"/>
                <a:ext cx="222120" cy="1232280"/>
              </a:xfrm>
              <a:custGeom>
                <a:avLst/>
                <a:gdLst>
                  <a:gd name="textAreaLeft" fmla="*/ 141840 w 222120"/>
                  <a:gd name="textAreaRight" fmla="*/ 222480 w 222120"/>
                  <a:gd name="textAreaTop" fmla="*/ 32040 h 1232280"/>
                  <a:gd name="textAreaBottom" fmla="*/ 1200240 h 1232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48" name="Text Box 23"/>
          <p:cNvSpPr/>
          <p:nvPr/>
        </p:nvSpPr>
        <p:spPr>
          <a:xfrm>
            <a:off x="1258920" y="4581360"/>
            <a:ext cx="7273800" cy="86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血浆蛋白结合钙                                             蛋白质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+ Ca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2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25"/>
          <p:cNvSpPr/>
          <p:nvPr/>
        </p:nvSpPr>
        <p:spPr>
          <a:xfrm>
            <a:off x="3924360" y="4365720"/>
            <a:ext cx="1492200" cy="76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[  H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26"/>
          <p:cNvSpPr/>
          <p:nvPr/>
        </p:nvSpPr>
        <p:spPr>
          <a:xfrm>
            <a:off x="3780000" y="4869000"/>
            <a:ext cx="1679400" cy="76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[  HC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1" name="Group 27"/>
          <p:cNvGrpSpPr/>
          <p:nvPr/>
        </p:nvGrpSpPr>
        <p:grpSpPr>
          <a:xfrm>
            <a:off x="3348000" y="4797360"/>
            <a:ext cx="2425680" cy="71640"/>
            <a:chOff x="3348000" y="4797360"/>
            <a:chExt cx="2425680" cy="71640"/>
          </a:xfrm>
        </p:grpSpPr>
        <p:sp>
          <p:nvSpPr>
            <p:cNvPr id="452" name="Line 28"/>
            <p:cNvSpPr/>
            <p:nvPr/>
          </p:nvSpPr>
          <p:spPr>
            <a:xfrm>
              <a:off x="3348000" y="4797360"/>
              <a:ext cx="2425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Line 29"/>
            <p:cNvSpPr/>
            <p:nvPr/>
          </p:nvSpPr>
          <p:spPr>
            <a:xfrm flipH="1">
              <a:off x="3348000" y="4869000"/>
              <a:ext cx="2425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Text Box 30"/>
          <p:cNvSpPr/>
          <p:nvPr/>
        </p:nvSpPr>
        <p:spPr>
          <a:xfrm>
            <a:off x="900000" y="5876280"/>
            <a:ext cx="640872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磷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浆中的无机磷；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0mg/d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Text Box 2"/>
          <p:cNvSpPr/>
          <p:nvPr/>
        </p:nvSpPr>
        <p:spPr>
          <a:xfrm>
            <a:off x="2340000" y="5229360"/>
            <a:ext cx="4248000" cy="642600"/>
          </a:xfrm>
          <a:prstGeom prst="rect">
            <a:avLst/>
          </a:prstGeom>
          <a:gradFill rotWithShape="0">
            <a:gsLst>
              <a:gs pos="0">
                <a:srgbClr val="d34817"/>
              </a:gs>
              <a:gs pos="100000">
                <a:srgbClr val="f0c1b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钙磷的代谢转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6" name="Group 3"/>
          <p:cNvGrpSpPr/>
          <p:nvPr/>
        </p:nvGrpSpPr>
        <p:grpSpPr>
          <a:xfrm>
            <a:off x="755640" y="1625760"/>
            <a:ext cx="7775640" cy="4326480"/>
            <a:chOff x="755640" y="1625760"/>
            <a:chExt cx="7775640" cy="4326480"/>
          </a:xfrm>
        </p:grpSpPr>
        <p:sp>
          <p:nvSpPr>
            <p:cNvPr id="457" name="Text Box 4"/>
            <p:cNvSpPr/>
            <p:nvPr/>
          </p:nvSpPr>
          <p:spPr>
            <a:xfrm>
              <a:off x="2987640" y="3068640"/>
              <a:ext cx="2519280" cy="5814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d348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ahoma"/>
                </a:rPr>
                <a:t>血钙与血磷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Text Box 5"/>
            <p:cNvSpPr/>
            <p:nvPr/>
          </p:nvSpPr>
          <p:spPr>
            <a:xfrm>
              <a:off x="6659640" y="1629000"/>
              <a:ext cx="1871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ahoma"/>
                </a:rPr>
                <a:t>组织细胞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Text Box 6"/>
            <p:cNvSpPr/>
            <p:nvPr/>
          </p:nvSpPr>
          <p:spPr>
            <a:xfrm>
              <a:off x="6659640" y="4073760"/>
              <a:ext cx="1871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ahoma"/>
                </a:rPr>
                <a:t>肾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Text Box 7"/>
            <p:cNvSpPr/>
            <p:nvPr/>
          </p:nvSpPr>
          <p:spPr>
            <a:xfrm>
              <a:off x="755640" y="3065760"/>
              <a:ext cx="1871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ahoma"/>
                </a:rPr>
                <a:t>肠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Text Box 8"/>
            <p:cNvSpPr/>
            <p:nvPr/>
          </p:nvSpPr>
          <p:spPr>
            <a:xfrm>
              <a:off x="826920" y="1625760"/>
              <a:ext cx="1872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ahoma"/>
                </a:rPr>
                <a:t>食物钙磷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Text Box 9"/>
            <p:cNvSpPr/>
            <p:nvPr/>
          </p:nvSpPr>
          <p:spPr>
            <a:xfrm>
              <a:off x="3564000" y="1629000"/>
              <a:ext cx="1871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ahoma"/>
                </a:rPr>
                <a:t>骨钙骨磷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Line 10"/>
            <p:cNvSpPr/>
            <p:nvPr/>
          </p:nvSpPr>
          <p:spPr>
            <a:xfrm>
              <a:off x="4643280" y="2205360"/>
              <a:ext cx="0" cy="863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Line 11"/>
            <p:cNvSpPr/>
            <p:nvPr/>
          </p:nvSpPr>
          <p:spPr>
            <a:xfrm flipV="1">
              <a:off x="4211640" y="2131920"/>
              <a:ext cx="0" cy="863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Line 12"/>
            <p:cNvSpPr/>
            <p:nvPr/>
          </p:nvSpPr>
          <p:spPr>
            <a:xfrm flipV="1">
              <a:off x="5506920" y="2133720"/>
              <a:ext cx="1729080" cy="790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Line 13"/>
            <p:cNvSpPr/>
            <p:nvPr/>
          </p:nvSpPr>
          <p:spPr>
            <a:xfrm>
              <a:off x="5580000" y="3502080"/>
              <a:ext cx="1800360" cy="71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Line 14"/>
            <p:cNvSpPr/>
            <p:nvPr/>
          </p:nvSpPr>
          <p:spPr>
            <a:xfrm flipH="1" flipV="1">
              <a:off x="5436720" y="3645000"/>
              <a:ext cx="1871640" cy="72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Line 15"/>
            <p:cNvSpPr/>
            <p:nvPr/>
          </p:nvSpPr>
          <p:spPr>
            <a:xfrm flipH="1">
              <a:off x="5580000" y="2349720"/>
              <a:ext cx="1727280" cy="792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Line 16"/>
            <p:cNvSpPr/>
            <p:nvPr/>
          </p:nvSpPr>
          <p:spPr>
            <a:xfrm>
              <a:off x="1690560" y="2133720"/>
              <a:ext cx="0" cy="1008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Line 17"/>
            <p:cNvSpPr/>
            <p:nvPr/>
          </p:nvSpPr>
          <p:spPr>
            <a:xfrm>
              <a:off x="1979640" y="3284640"/>
              <a:ext cx="93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Line 18"/>
            <p:cNvSpPr/>
            <p:nvPr/>
          </p:nvSpPr>
          <p:spPr>
            <a:xfrm flipH="1">
              <a:off x="1906200" y="3500640"/>
              <a:ext cx="93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Line 19"/>
            <p:cNvSpPr/>
            <p:nvPr/>
          </p:nvSpPr>
          <p:spPr>
            <a:xfrm>
              <a:off x="1690560" y="3645000"/>
              <a:ext cx="0" cy="1079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Text Box 20"/>
            <p:cNvSpPr/>
            <p:nvPr/>
          </p:nvSpPr>
          <p:spPr>
            <a:xfrm>
              <a:off x="898560" y="4653000"/>
              <a:ext cx="1584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ahoma"/>
                </a:rPr>
                <a:t>粪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Text Box 21"/>
            <p:cNvSpPr/>
            <p:nvPr/>
          </p:nvSpPr>
          <p:spPr>
            <a:xfrm>
              <a:off x="6804000" y="5370840"/>
              <a:ext cx="1584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ahoma"/>
                </a:rPr>
                <a:t>尿磷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Line 22"/>
            <p:cNvSpPr/>
            <p:nvPr/>
          </p:nvSpPr>
          <p:spPr>
            <a:xfrm>
              <a:off x="7596360" y="4651560"/>
              <a:ext cx="0" cy="792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Text Box 23"/>
            <p:cNvSpPr/>
            <p:nvPr/>
          </p:nvSpPr>
          <p:spPr>
            <a:xfrm>
              <a:off x="4236480" y="2205360"/>
              <a:ext cx="911880" cy="7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</a:rPr>
                <a:t>溶解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Text Box 24"/>
            <p:cNvSpPr/>
            <p:nvPr/>
          </p:nvSpPr>
          <p:spPr>
            <a:xfrm>
              <a:off x="3371040" y="2276640"/>
              <a:ext cx="911880" cy="7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</a:rPr>
                <a:t>沉积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Text Box 25"/>
            <p:cNvSpPr/>
            <p:nvPr/>
          </p:nvSpPr>
          <p:spPr>
            <a:xfrm rot="20154600">
              <a:off x="6085080" y="2636640"/>
              <a:ext cx="107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</a:rPr>
                <a:t>排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Text Box 26"/>
            <p:cNvSpPr/>
            <p:nvPr/>
          </p:nvSpPr>
          <p:spPr>
            <a:xfrm rot="20154600">
              <a:off x="5723280" y="2060280"/>
              <a:ext cx="107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</a:rPr>
                <a:t>利用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Text Box 27"/>
            <p:cNvSpPr/>
            <p:nvPr/>
          </p:nvSpPr>
          <p:spPr>
            <a:xfrm rot="1416000">
              <a:off x="6156000" y="3476520"/>
              <a:ext cx="86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</a:rPr>
                <a:t>排泄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Text Box 28"/>
            <p:cNvSpPr/>
            <p:nvPr/>
          </p:nvSpPr>
          <p:spPr>
            <a:xfrm rot="1416000">
              <a:off x="5849280" y="4052880"/>
              <a:ext cx="1235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</a:rPr>
                <a:t>重吸收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Text Box 29"/>
            <p:cNvSpPr/>
            <p:nvPr/>
          </p:nvSpPr>
          <p:spPr>
            <a:xfrm>
              <a:off x="1906560" y="2853000"/>
              <a:ext cx="10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</a:rPr>
                <a:t>吸收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Text Box 30"/>
            <p:cNvSpPr/>
            <p:nvPr/>
          </p:nvSpPr>
          <p:spPr>
            <a:xfrm>
              <a:off x="1906560" y="3476880"/>
              <a:ext cx="10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</a:rPr>
                <a:t>排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263240" y="475920"/>
            <a:ext cx="65977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Franklin Gothic Book"/>
                <a:ea typeface="幼圆"/>
              </a:rPr>
              <a:t>第四节  钙、磷代谢转变</a:t>
            </a: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Franklin Gothic Book"/>
                <a:ea typeface="幼圆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Franklin Gothic Book"/>
                <a:ea typeface="幼圆"/>
              </a:rPr>
              <a:t>本章内容</a:t>
            </a: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18" name="Text Box 6">
            <a:hlinkClick r:id="rId1" action="ppaction://hlinksldjump"/>
          </p:cNvPr>
          <p:cNvSpPr/>
          <p:nvPr/>
        </p:nvSpPr>
        <p:spPr>
          <a:xfrm>
            <a:off x="1712880" y="2205720"/>
            <a:ext cx="631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一、体内钙磷含量、分布和生理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7">
            <a:hlinkClick r:id="rId2" action="ppaction://hlinksldjump"/>
          </p:cNvPr>
          <p:cNvSpPr/>
          <p:nvPr/>
        </p:nvSpPr>
        <p:spPr>
          <a:xfrm>
            <a:off x="1692360" y="3012480"/>
            <a:ext cx="518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二、钙磷的吸收与排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8">
            <a:hlinkClick r:id="rId3" action="ppaction://hlinksldjump"/>
          </p:cNvPr>
          <p:cNvSpPr/>
          <p:nvPr/>
        </p:nvSpPr>
        <p:spPr>
          <a:xfrm>
            <a:off x="1692360" y="3790080"/>
            <a:ext cx="611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三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血液中钙磷含量与存在形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9">
            <a:hlinkClick r:id="rId4" action="ppaction://hlinksldjump"/>
          </p:cNvPr>
          <p:cNvSpPr/>
          <p:nvPr/>
        </p:nvSpPr>
        <p:spPr>
          <a:xfrm>
            <a:off x="1733400" y="4507920"/>
            <a:ext cx="63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四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钙磷代谢与骨代谢关系密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9">
            <a:hlinkClick r:id="rId5" action="ppaction://hlinksldjump"/>
          </p:cNvPr>
          <p:cNvSpPr/>
          <p:nvPr/>
        </p:nvSpPr>
        <p:spPr>
          <a:xfrm>
            <a:off x="1717560" y="5299920"/>
            <a:ext cx="443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五、钙磷代谢的调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2"/>
          <p:cNvSpPr/>
          <p:nvPr/>
        </p:nvSpPr>
        <p:spPr>
          <a:xfrm>
            <a:off x="0" y="2443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Rectangle 3"/>
          <p:cNvSpPr/>
          <p:nvPr/>
        </p:nvSpPr>
        <p:spPr>
          <a:xfrm>
            <a:off x="849240" y="2492280"/>
            <a:ext cx="1524240" cy="2590920"/>
          </a:xfrm>
          <a:prstGeom prst="rect">
            <a:avLst/>
          </a:prstGeom>
          <a:noFill/>
          <a:ln w="936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&gt;4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&lt;3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Rectangle 4"/>
          <p:cNvSpPr/>
          <p:nvPr/>
        </p:nvSpPr>
        <p:spPr>
          <a:xfrm>
            <a:off x="2373480" y="2492280"/>
            <a:ext cx="5943600" cy="2590920"/>
          </a:xfrm>
          <a:prstGeom prst="rect">
            <a:avLst/>
          </a:prstGeom>
          <a:noFill/>
          <a:ln w="936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钙磷以骨盐形式沉积在骨组织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-)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骨盐钙化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+)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骨盐再溶解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引起佝偻病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软骨病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Rectangle 5"/>
          <p:cNvSpPr/>
          <p:nvPr/>
        </p:nvSpPr>
        <p:spPr>
          <a:xfrm>
            <a:off x="822240" y="1268280"/>
            <a:ext cx="713448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ahoma"/>
              </a:rPr>
              <a:t>血清中</a:t>
            </a:r>
            <a:r>
              <a:rPr b="1" lang="en-US" sz="3200" spc="-1" strike="noStrike">
                <a:solidFill>
                  <a:srgbClr val="cc3300"/>
                </a:solidFill>
                <a:latin typeface="Tahoma"/>
              </a:rPr>
              <a:t>[Ca]×[P]=35-40</a:t>
            </a:r>
            <a:r>
              <a:rPr b="1" lang="zh-CN" sz="3200" spc="-1" strike="noStrike">
                <a:solidFill>
                  <a:srgbClr val="cc3300"/>
                </a:solidFill>
                <a:latin typeface="Tahoma"/>
              </a:rPr>
              <a:t>相对恒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2"/>
          <p:cNvSpPr/>
          <p:nvPr/>
        </p:nvSpPr>
        <p:spPr>
          <a:xfrm>
            <a:off x="1371600" y="333360"/>
            <a:ext cx="6400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第五节    钙磷代谢的调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Rectangle 3"/>
          <p:cNvSpPr/>
          <p:nvPr/>
        </p:nvSpPr>
        <p:spPr>
          <a:xfrm>
            <a:off x="755640" y="1557360"/>
            <a:ext cx="784872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1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调节物质：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,25(OH)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D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;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甲状旁腺素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;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降钙素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1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作用组织：小肠；肾；骨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Rectangle 4"/>
          <p:cNvSpPr/>
          <p:nvPr/>
        </p:nvSpPr>
        <p:spPr>
          <a:xfrm>
            <a:off x="826920" y="2708280"/>
            <a:ext cx="7561440" cy="20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1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一、 维生素</a:t>
            </a:r>
            <a:r>
              <a:rPr b="1" lang="en-US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D </a:t>
            </a: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的作用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1</a:t>
            </a: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．来源</a:t>
            </a:r>
            <a:r>
              <a:rPr b="1" lang="en-US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:    </a:t>
            </a: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食物</a:t>
            </a:r>
            <a:r>
              <a:rPr b="1" lang="en-US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/</a:t>
            </a: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机体自身合成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2</a:t>
            </a: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．需要量</a:t>
            </a:r>
            <a:r>
              <a:rPr b="1" lang="en-US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: 200~400</a:t>
            </a: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国际单位（</a:t>
            </a:r>
            <a:r>
              <a:rPr b="1" lang="en-US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10ug</a:t>
            </a: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） 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3</a:t>
            </a: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．活化过程：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Rectangle 5"/>
          <p:cNvSpPr/>
          <p:nvPr/>
        </p:nvSpPr>
        <p:spPr>
          <a:xfrm>
            <a:off x="684360" y="4724280"/>
            <a:ext cx="756108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1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1</a:t>
            </a: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）部位：肝；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1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2</a:t>
            </a: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）关键酶：</a:t>
            </a:r>
            <a:r>
              <a:rPr b="1" lang="en-US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1α-</a:t>
            </a: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羟化酶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3" name="Picture 2" descr="未标题-2"/>
          <p:cNvPicPr/>
          <p:nvPr/>
        </p:nvPicPr>
        <p:blipFill>
          <a:blip r:embed="rId1"/>
          <a:stretch/>
        </p:blipFill>
        <p:spPr>
          <a:xfrm>
            <a:off x="287280" y="0"/>
            <a:ext cx="8101080" cy="6670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0" y="23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5" name="Object 3"/>
          <p:cNvGraphicFramePr/>
          <p:nvPr/>
        </p:nvGraphicFramePr>
        <p:xfrm>
          <a:off x="179280" y="1268280"/>
          <a:ext cx="8697960" cy="482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268280"/>
                    <a:ext cx="8697960" cy="482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7" name="Rectangle 4"/>
          <p:cNvSpPr/>
          <p:nvPr/>
        </p:nvSpPr>
        <p:spPr>
          <a:xfrm>
            <a:off x="1619280" y="333360"/>
            <a:ext cx="5688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ctr">
              <a:lnSpc>
                <a:spcPct val="11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钙代谢调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8" name="Group 2"/>
          <p:cNvGrpSpPr/>
          <p:nvPr/>
        </p:nvGrpSpPr>
        <p:grpSpPr>
          <a:xfrm>
            <a:off x="1042920" y="765000"/>
            <a:ext cx="7201080" cy="3527280"/>
            <a:chOff x="1042920" y="765000"/>
            <a:chExt cx="7201080" cy="3527280"/>
          </a:xfrm>
        </p:grpSpPr>
        <p:sp>
          <p:nvSpPr>
            <p:cNvPr id="499" name="Rectangle 3"/>
            <p:cNvSpPr/>
            <p:nvPr/>
          </p:nvSpPr>
          <p:spPr>
            <a:xfrm>
              <a:off x="1081080" y="765000"/>
              <a:ext cx="3352680" cy="352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72880" indent="-272880">
                <a:lnSpc>
                  <a:spcPct val="100000"/>
                </a:lnSpc>
                <a:spcBef>
                  <a:spcPts val="575"/>
                </a:spcBef>
                <a:buClr>
                  <a:srgbClr val="d34817"/>
                </a:buClr>
                <a:buSzPct val="85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1,25(OH)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宋体"/>
                </a:rPr>
                <a:t>2</a:t>
              </a: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-D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宋体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  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本身负反馈调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575"/>
                </a:spcBef>
                <a:buClr>
                  <a:srgbClr val="d34817"/>
                </a:buClr>
                <a:buSzPct val="85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PT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575"/>
                </a:spcBef>
                <a:buClr>
                  <a:srgbClr val="d34817"/>
                </a:buClr>
                <a:buSzPct val="85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575"/>
                </a:spcBef>
                <a:buClr>
                  <a:srgbClr val="d34817"/>
                </a:buClr>
                <a:buSzPct val="85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血钙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575"/>
                </a:spcBef>
                <a:buClr>
                  <a:srgbClr val="d34817"/>
                </a:buClr>
                <a:buSzPct val="85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血磷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Rectangle 4"/>
            <p:cNvSpPr/>
            <p:nvPr/>
          </p:nvSpPr>
          <p:spPr>
            <a:xfrm>
              <a:off x="4433760" y="765000"/>
              <a:ext cx="3810240" cy="352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72880" indent="-272880">
                <a:lnSpc>
                  <a:spcPct val="100000"/>
                </a:lnSpc>
                <a:spcBef>
                  <a:spcPts val="575"/>
                </a:spcBef>
                <a:buClr>
                  <a:srgbClr val="cc3300"/>
                </a:buClr>
                <a:buSzPct val="85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(-)</a:t>
              </a:r>
              <a:r>
                <a:rPr b="1" lang="en-US" sz="2400" spc="-1" strike="noStrike">
                  <a:solidFill>
                    <a:srgbClr val="d34817"/>
                  </a:solidFill>
                  <a:latin typeface="楷体_GB2312"/>
                  <a:ea typeface="楷体_GB2312"/>
                </a:rPr>
                <a:t> </a:t>
              </a:r>
              <a:r>
                <a:rPr b="1" lang="en-US" sz="24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1α-</a:t>
              </a:r>
              <a:r>
                <a:rPr b="1" lang="zh-CN" sz="24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羟化酶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575"/>
                </a:spcBef>
                <a:buClr>
                  <a:srgbClr val="cc3300"/>
                </a:buClr>
                <a:buSzPct val="85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(+) </a:t>
              </a: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24-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羟化酶</a:t>
              </a:r>
              <a:r>
                <a:rPr b="1" lang="zh-CN" sz="2400" spc="-1" strike="noStrike">
                  <a:solidFill>
                    <a:srgbClr val="000000"/>
                  </a:solidFill>
                  <a:latin typeface="Perpetua"/>
                  <a:ea typeface="楷体_GB2312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575"/>
                </a:spcBef>
                <a:buClr>
                  <a:srgbClr val="cc3300"/>
                </a:buClr>
                <a:buSzPct val="85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(+)</a:t>
              </a:r>
              <a:r>
                <a:rPr b="1" lang="en-US" sz="2400" spc="-1" strike="noStrike">
                  <a:solidFill>
                    <a:srgbClr val="d34817"/>
                  </a:solidFill>
                  <a:latin typeface="楷体_GB2312"/>
                  <a:ea typeface="楷体_GB2312"/>
                </a:rPr>
                <a:t> </a:t>
              </a:r>
              <a:r>
                <a:rPr b="1" lang="en-US" sz="24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1α-</a:t>
              </a:r>
              <a:r>
                <a:rPr b="1" lang="zh-CN" sz="24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羟化酶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575"/>
                </a:spcBef>
                <a:buClr>
                  <a:srgbClr val="cc3300"/>
                </a:buClr>
                <a:buSzPct val="85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(-)</a:t>
              </a:r>
              <a:r>
                <a:rPr b="1" lang="en-US" sz="2400" spc="-1" strike="noStrike">
                  <a:solidFill>
                    <a:srgbClr val="96a9a9"/>
                  </a:solidFill>
                  <a:latin typeface="楷体_GB2312"/>
                  <a:ea typeface="楷体_GB2312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24-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羟化酶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575"/>
                </a:spcBef>
                <a:buClr>
                  <a:srgbClr val="cc3300"/>
                </a:buClr>
                <a:buSzPct val="85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楷体_GB2312"/>
                  <a:ea typeface="楷体_GB2312"/>
                </a:rPr>
                <a:t>(+) PT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575"/>
                </a:spcBef>
                <a:buClr>
                  <a:srgbClr val="cc3300"/>
                </a:buClr>
                <a:buSzPct val="85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(-) </a:t>
              </a:r>
              <a:r>
                <a:rPr b="1" lang="en-US" sz="24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1α-</a:t>
              </a:r>
              <a:r>
                <a:rPr b="1" lang="zh-CN" sz="24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羟化酶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575"/>
                </a:spcBef>
                <a:buClr>
                  <a:srgbClr val="d34817"/>
                </a:buClr>
                <a:buSzPct val="85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Line 5"/>
            <p:cNvSpPr/>
            <p:nvPr/>
          </p:nvSpPr>
          <p:spPr>
            <a:xfrm>
              <a:off x="1042920" y="1884960"/>
              <a:ext cx="720108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Line 6"/>
            <p:cNvSpPr/>
            <p:nvPr/>
          </p:nvSpPr>
          <p:spPr>
            <a:xfrm>
              <a:off x="1042920" y="3074760"/>
              <a:ext cx="720108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Line 7"/>
            <p:cNvSpPr/>
            <p:nvPr/>
          </p:nvSpPr>
          <p:spPr>
            <a:xfrm>
              <a:off x="1042920" y="3630960"/>
              <a:ext cx="720108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4" name="Rectangle 8"/>
          <p:cNvSpPr/>
          <p:nvPr/>
        </p:nvSpPr>
        <p:spPr>
          <a:xfrm>
            <a:off x="2332080" y="4194000"/>
            <a:ext cx="5408640" cy="19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肝：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25-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羟化酶系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(-)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肝性佝偻病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肾：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1α-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羟化酶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(-)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肾性佝偻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2" descr="未标题-2"/>
          <p:cNvPicPr/>
          <p:nvPr/>
        </p:nvPicPr>
        <p:blipFill>
          <a:blip r:embed="rId1"/>
          <a:stretch/>
        </p:blipFill>
        <p:spPr>
          <a:xfrm>
            <a:off x="1258920" y="0"/>
            <a:ext cx="6038640" cy="674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6" name="Picture 2" descr="图片2"/>
          <p:cNvPicPr/>
          <p:nvPr/>
        </p:nvPicPr>
        <p:blipFill>
          <a:blip r:embed="rId1"/>
          <a:stretch/>
        </p:blipFill>
        <p:spPr>
          <a:xfrm>
            <a:off x="0" y="50760"/>
            <a:ext cx="5076720" cy="3882960"/>
          </a:xfrm>
          <a:prstGeom prst="rect">
            <a:avLst/>
          </a:prstGeom>
          <a:ln w="0">
            <a:noFill/>
          </a:ln>
        </p:spPr>
      </p:pic>
      <p:pic>
        <p:nvPicPr>
          <p:cNvPr id="507" name="Picture 3" descr="图片1"/>
          <p:cNvPicPr/>
          <p:nvPr/>
        </p:nvPicPr>
        <p:blipFill>
          <a:blip r:embed="rId2"/>
          <a:stretch/>
        </p:blipFill>
        <p:spPr>
          <a:xfrm>
            <a:off x="3780000" y="3357720"/>
            <a:ext cx="5317920" cy="3449520"/>
          </a:xfrm>
          <a:prstGeom prst="rect">
            <a:avLst/>
          </a:prstGeom>
          <a:ln w="0">
            <a:noFill/>
          </a:ln>
        </p:spPr>
      </p:pic>
      <p:sp>
        <p:nvSpPr>
          <p:cNvPr id="508" name="Rectangle 4"/>
          <p:cNvSpPr/>
          <p:nvPr/>
        </p:nvSpPr>
        <p:spPr>
          <a:xfrm>
            <a:off x="1042920" y="260280"/>
            <a:ext cx="108108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Oval 5"/>
          <p:cNvSpPr/>
          <p:nvPr/>
        </p:nvSpPr>
        <p:spPr>
          <a:xfrm>
            <a:off x="826920" y="1176480"/>
            <a:ext cx="609840" cy="380880"/>
          </a:xfrm>
          <a:prstGeom prst="ellipse">
            <a:avLst/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6"/>
          <p:cNvSpPr/>
          <p:nvPr/>
        </p:nvSpPr>
        <p:spPr>
          <a:xfrm>
            <a:off x="1403280" y="1916280"/>
            <a:ext cx="1067040" cy="304560"/>
          </a:xfrm>
          <a:prstGeom prst="rect">
            <a:avLst/>
          </a:prstGeom>
          <a:noFill/>
          <a:ln w="381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 Box 7"/>
          <p:cNvSpPr/>
          <p:nvPr/>
        </p:nvSpPr>
        <p:spPr>
          <a:xfrm>
            <a:off x="2517480" y="191628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00ff"/>
                </a:solidFill>
                <a:latin typeface="Times New Roman"/>
              </a:rPr>
              <a:t>转录因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8"/>
          <p:cNvSpPr/>
          <p:nvPr/>
        </p:nvSpPr>
        <p:spPr>
          <a:xfrm>
            <a:off x="3276720" y="1989000"/>
            <a:ext cx="718920" cy="376200"/>
          </a:xfrm>
          <a:prstGeom prst="rect">
            <a:avLst/>
          </a:prstGeom>
          <a:noFill/>
          <a:ln w="381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 Box 9"/>
          <p:cNvSpPr/>
          <p:nvPr/>
        </p:nvSpPr>
        <p:spPr>
          <a:xfrm>
            <a:off x="1701720" y="25653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cc3300"/>
                </a:solidFill>
                <a:latin typeface="Times New Roman"/>
              </a:rPr>
              <a:t>顺式作用元件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10"/>
          <p:cNvSpPr/>
          <p:nvPr/>
        </p:nvSpPr>
        <p:spPr>
          <a:xfrm>
            <a:off x="8294760" y="3500280"/>
            <a:ext cx="380880" cy="2286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11"/>
          <p:cNvSpPr/>
          <p:nvPr/>
        </p:nvSpPr>
        <p:spPr>
          <a:xfrm>
            <a:off x="4067280" y="3500280"/>
            <a:ext cx="380880" cy="228600"/>
          </a:xfrm>
          <a:prstGeom prst="rect">
            <a:avLst/>
          </a:prstGeom>
          <a:noFill/>
          <a:ln w="28440">
            <a:solidFill>
              <a:srgbClr val="e9e5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12"/>
          <p:cNvSpPr/>
          <p:nvPr/>
        </p:nvSpPr>
        <p:spPr>
          <a:xfrm>
            <a:off x="4822560" y="4581360"/>
            <a:ext cx="315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3300"/>
                </a:solidFill>
                <a:latin typeface="Times New Roman"/>
              </a:rPr>
              <a:t>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13"/>
          <p:cNvSpPr/>
          <p:nvPr/>
        </p:nvSpPr>
        <p:spPr>
          <a:xfrm>
            <a:off x="5470920" y="4581360"/>
            <a:ext cx="31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3300"/>
                </a:solidFill>
                <a:latin typeface="Times New Roman"/>
              </a:rPr>
              <a:t>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 Box 14"/>
          <p:cNvSpPr/>
          <p:nvPr/>
        </p:nvSpPr>
        <p:spPr>
          <a:xfrm>
            <a:off x="6984000" y="4581360"/>
            <a:ext cx="31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3300"/>
                </a:solidFill>
                <a:latin typeface="Times New Roman"/>
              </a:rPr>
              <a:t>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 Box 15"/>
          <p:cNvSpPr/>
          <p:nvPr/>
        </p:nvSpPr>
        <p:spPr>
          <a:xfrm>
            <a:off x="8207640" y="4581360"/>
            <a:ext cx="31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3300"/>
                </a:solidFill>
                <a:latin typeface="Times New Roman"/>
              </a:rPr>
              <a:t>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 Box 16"/>
          <p:cNvSpPr/>
          <p:nvPr/>
        </p:nvSpPr>
        <p:spPr>
          <a:xfrm>
            <a:off x="5364000" y="1268280"/>
            <a:ext cx="2087640" cy="1006200"/>
          </a:xfrm>
          <a:prstGeom prst="rect">
            <a:avLst/>
          </a:prstGeom>
          <a:noFill/>
          <a:ln w="936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活性维生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D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促进小肠对钙的吸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2"/>
          <p:cNvSpPr/>
          <p:nvPr/>
        </p:nvSpPr>
        <p:spPr>
          <a:xfrm>
            <a:off x="539640" y="1905120"/>
            <a:ext cx="2743200" cy="3611520"/>
          </a:xfrm>
          <a:prstGeom prst="rect">
            <a:avLst/>
          </a:prstGeom>
          <a:noFill/>
          <a:ln w="9360">
            <a:solidFill>
              <a:srgbClr val="96a9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对小肠的作用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对骨的作用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对肾的作用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总效应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3"/>
          <p:cNvSpPr/>
          <p:nvPr/>
        </p:nvSpPr>
        <p:spPr>
          <a:xfrm>
            <a:off x="3206880" y="1905120"/>
            <a:ext cx="5421240" cy="3611520"/>
          </a:xfrm>
          <a:prstGeom prst="rect">
            <a:avLst/>
          </a:prstGeom>
          <a:noFill/>
          <a:ln w="9360">
            <a:solidFill>
              <a:srgbClr val="96a9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(+)</a:t>
            </a:r>
            <a:r>
              <a:rPr b="1" lang="zh-CN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小肠对钙、磷的吸收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   </a:t>
            </a:r>
            <a:r>
              <a:rPr b="1" lang="zh-CN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脂溶性激素的作用机制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+)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骨骼的更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先</a:t>
            </a:r>
            <a:r>
              <a:rPr b="1" lang="zh-CN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溶骨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再</a:t>
            </a:r>
            <a:r>
              <a:rPr b="1" lang="zh-CN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成骨，溶骨</a:t>
            </a:r>
            <a:r>
              <a:rPr b="1" lang="en-US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&gt;</a:t>
            </a:r>
            <a:r>
              <a:rPr b="1" lang="zh-CN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成骨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+)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肾远曲小管及集合管合成钙结合蛋白，促进钙的重吸收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升高血钙与血磷</a:t>
            </a:r>
            <a:br>
              <a:rPr sz="2200"/>
            </a:br>
            <a:r>
              <a:rPr b="1" lang="zh-CN" sz="2200" spc="-1" strike="noStrike">
                <a:solidFill>
                  <a:srgbClr val="cc3300"/>
                </a:solidFill>
                <a:latin typeface="楷体_GB2312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Rectangle 4"/>
          <p:cNvSpPr/>
          <p:nvPr/>
        </p:nvSpPr>
        <p:spPr>
          <a:xfrm>
            <a:off x="1332000" y="189000"/>
            <a:ext cx="6406920" cy="874800"/>
          </a:xfrm>
          <a:prstGeom prst="rect">
            <a:avLst/>
          </a:prstGeom>
          <a:gradFill rotWithShape="0">
            <a:gsLst>
              <a:gs pos="0">
                <a:srgbClr val="ff9999"/>
              </a:gs>
              <a:gs pos="100000">
                <a:srgbClr val="76474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1,25-(OH)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Franklin Gothic Book"/>
                <a:ea typeface="楷体_GB2312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-D</a:t>
            </a:r>
            <a:r>
              <a:rPr b="1" lang="en-US" sz="2800" spc="-1" strike="noStrike" baseline="-30000">
                <a:solidFill>
                  <a:srgbClr val="000000"/>
                </a:solidFill>
                <a:latin typeface="Franklin Gothic Book"/>
                <a:ea typeface="楷体_GB2312"/>
              </a:rPr>
              <a:t>3 </a:t>
            </a:r>
            <a:r>
              <a:rPr b="1" lang="zh-CN" sz="28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的生理作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4" name="Picture 2" descr="talk005__s026_f"/>
          <p:cNvPicPr/>
          <p:nvPr/>
        </p:nvPicPr>
        <p:blipFill>
          <a:blip r:embed="rId1"/>
          <a:stretch/>
        </p:blipFill>
        <p:spPr>
          <a:xfrm>
            <a:off x="1258920" y="1214280"/>
            <a:ext cx="6697800" cy="5023080"/>
          </a:xfrm>
          <a:prstGeom prst="rect">
            <a:avLst/>
          </a:prstGeom>
          <a:ln w="0">
            <a:noFill/>
          </a:ln>
        </p:spPr>
      </p:pic>
      <p:sp>
        <p:nvSpPr>
          <p:cNvPr id="525" name="Rectangle 3"/>
          <p:cNvSpPr/>
          <p:nvPr/>
        </p:nvSpPr>
        <p:spPr>
          <a:xfrm>
            <a:off x="685800" y="547560"/>
            <a:ext cx="604692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二、甲状旁腺素的调节作用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．合成场所：甲状旁腺主细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6" name="Group 2"/>
          <p:cNvGrpSpPr/>
          <p:nvPr/>
        </p:nvGrpSpPr>
        <p:grpSpPr>
          <a:xfrm>
            <a:off x="2289960" y="1268280"/>
            <a:ext cx="4871160" cy="3202920"/>
            <a:chOff x="2289960" y="1268280"/>
            <a:chExt cx="4871160" cy="3202920"/>
          </a:xfrm>
        </p:grpSpPr>
        <p:sp>
          <p:nvSpPr>
            <p:cNvPr id="527" name="Text Box 3"/>
            <p:cNvSpPr/>
            <p:nvPr/>
          </p:nvSpPr>
          <p:spPr>
            <a:xfrm>
              <a:off x="2628000" y="1268280"/>
              <a:ext cx="279576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前甲状旁腺素原 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115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Text Box 4"/>
            <p:cNvSpPr/>
            <p:nvPr/>
          </p:nvSpPr>
          <p:spPr>
            <a:xfrm>
              <a:off x="2512800" y="2639880"/>
              <a:ext cx="2643480" cy="459720"/>
            </a:xfrm>
            <a:prstGeom prst="rect">
              <a:avLst/>
            </a:prstGeom>
            <a:noFill/>
            <a:ln w="9360">
              <a:solidFill>
                <a:srgbClr val="d348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甲状旁腺素原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90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Text Box 5"/>
            <p:cNvSpPr/>
            <p:nvPr/>
          </p:nvSpPr>
          <p:spPr>
            <a:xfrm>
              <a:off x="2603520" y="4011480"/>
              <a:ext cx="2460600" cy="459720"/>
            </a:xfrm>
            <a:prstGeom prst="rect">
              <a:avLst/>
            </a:prstGeom>
            <a:noFill/>
            <a:ln w="9360">
              <a:solidFill>
                <a:srgbClr val="96a9a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甲状旁腺素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84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AutoShape 6"/>
            <p:cNvSpPr/>
            <p:nvPr/>
          </p:nvSpPr>
          <p:spPr>
            <a:xfrm>
              <a:off x="3808440" y="1877760"/>
              <a:ext cx="304920" cy="685800"/>
            </a:xfrm>
            <a:prstGeom prst="downArrow">
              <a:avLst>
                <a:gd name="adj1" fmla="val 50000"/>
                <a:gd name="adj2" fmla="val 56228"/>
              </a:avLst>
            </a:prstGeom>
            <a:solidFill>
              <a:srgbClr val="d34817"/>
            </a:solidFill>
            <a:ln w="9360">
              <a:solidFill>
                <a:srgbClr val="d348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Text Box 7"/>
            <p:cNvSpPr/>
            <p:nvPr/>
          </p:nvSpPr>
          <p:spPr>
            <a:xfrm>
              <a:off x="2289960" y="195408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粗面内质网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AutoShape 8"/>
            <p:cNvSpPr/>
            <p:nvPr/>
          </p:nvSpPr>
          <p:spPr>
            <a:xfrm>
              <a:off x="3808440" y="3249360"/>
              <a:ext cx="304920" cy="663840"/>
            </a:xfrm>
            <a:prstGeom prst="downArrow">
              <a:avLst>
                <a:gd name="adj1" fmla="val 50000"/>
                <a:gd name="adj2" fmla="val 54427"/>
              </a:avLst>
            </a:prstGeom>
            <a:solidFill>
              <a:srgbClr val="d34817"/>
            </a:solidFill>
            <a:ln w="9360">
              <a:solidFill>
                <a:srgbClr val="d348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Text Box 9"/>
            <p:cNvSpPr/>
            <p:nvPr/>
          </p:nvSpPr>
          <p:spPr>
            <a:xfrm>
              <a:off x="2532960" y="33256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高尔基体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AutoShape 10"/>
            <p:cNvSpPr/>
            <p:nvPr/>
          </p:nvSpPr>
          <p:spPr>
            <a:xfrm rot="17403000">
              <a:off x="4185000" y="1881720"/>
              <a:ext cx="314640" cy="763560"/>
            </a:xfrm>
            <a:custGeom>
              <a:avLst/>
              <a:gdLst>
                <a:gd name="textAreaLeft" fmla="*/ 42120 w 314640"/>
                <a:gd name="textAreaRight" fmla="*/ 272520 w 314640"/>
                <a:gd name="textAreaTop" fmla="*/ 133560 h 763560"/>
                <a:gd name="textAreaBottom" fmla="*/ 553680 h 763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d3481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Text Box 11"/>
            <p:cNvSpPr/>
            <p:nvPr/>
          </p:nvSpPr>
          <p:spPr>
            <a:xfrm>
              <a:off x="4932360" y="1877760"/>
              <a:ext cx="2228760" cy="4597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N-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末端信号肽</a:t>
              </a: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25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6" name="Rectangle 12"/>
          <p:cNvSpPr/>
          <p:nvPr/>
        </p:nvSpPr>
        <p:spPr>
          <a:xfrm>
            <a:off x="971640" y="547560"/>
            <a:ext cx="41050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．合成过程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Rectangle 13"/>
          <p:cNvSpPr/>
          <p:nvPr/>
        </p:nvSpPr>
        <p:spPr>
          <a:xfrm>
            <a:off x="903240" y="4557600"/>
            <a:ext cx="7413840" cy="15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3.  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分泌的调节：    </a:t>
            </a:r>
            <a:r>
              <a:rPr b="1" lang="zh-CN" sz="2400" spc="-1" strike="noStrike">
                <a:solidFill>
                  <a:srgbClr val="cc3300"/>
                </a:solidFill>
                <a:latin typeface="Franklin Gothic Book"/>
                <a:ea typeface="楷体_GB2312"/>
              </a:rPr>
              <a:t>血</a:t>
            </a:r>
            <a:r>
              <a:rPr b="1" lang="en-US" sz="2400" spc="-1" strike="noStrike">
                <a:solidFill>
                  <a:srgbClr val="cc3300"/>
                </a:solidFill>
                <a:latin typeface="Franklin Gothic Book"/>
                <a:ea typeface="楷体_GB2312"/>
              </a:rPr>
              <a:t>Ca</a:t>
            </a:r>
            <a:r>
              <a:rPr b="1" lang="en-US" sz="2400" spc="-1" strike="noStrike" baseline="30000">
                <a:solidFill>
                  <a:srgbClr val="cc3300"/>
                </a:solidFill>
                <a:latin typeface="Franklin Gothic Book"/>
                <a:ea typeface="楷体_GB2312"/>
              </a:rPr>
              <a:t>2+</a:t>
            </a:r>
            <a:r>
              <a:rPr b="1" lang="zh-CN" sz="2400" spc="-1" strike="noStrike">
                <a:solidFill>
                  <a:srgbClr val="cc3300"/>
                </a:solidFill>
                <a:latin typeface="Franklin Gothic Book"/>
                <a:ea typeface="楷体_GB2312"/>
              </a:rPr>
              <a:t>和</a:t>
            </a:r>
            <a:r>
              <a:rPr b="1" lang="en-US" sz="2400" spc="-1" strike="noStrike">
                <a:solidFill>
                  <a:srgbClr val="cc3300"/>
                </a:solidFill>
                <a:latin typeface="Franklin Gothic Book"/>
                <a:ea typeface="楷体_GB2312"/>
              </a:rPr>
              <a:t>PTH </a:t>
            </a:r>
            <a:r>
              <a:rPr b="1" lang="zh-CN" sz="2400" spc="-1" strike="noStrike">
                <a:solidFill>
                  <a:srgbClr val="cc3300"/>
                </a:solidFill>
                <a:latin typeface="Franklin Gothic Book"/>
                <a:ea typeface="楷体_GB2312"/>
              </a:rPr>
              <a:t>成反比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1,25-(OH)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Franklin Gothic Book"/>
                <a:ea typeface="楷体_GB2312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Franklin Gothic Book"/>
                <a:ea typeface="楷体_GB2312"/>
              </a:rPr>
              <a:t>3 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        (-)PTH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（通过血钙）    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    降钙素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(+)PTH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4"/>
          <p:cNvSpPr/>
          <p:nvPr/>
        </p:nvSpPr>
        <p:spPr>
          <a:xfrm>
            <a:off x="884160" y="549360"/>
            <a:ext cx="779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第一节  钙磷的含量、分布及生理功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5"/>
          <p:cNvSpPr/>
          <p:nvPr/>
        </p:nvSpPr>
        <p:spPr>
          <a:xfrm>
            <a:off x="2175120" y="3356640"/>
            <a:ext cx="446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钙磷的含量及分布和在血浆在存在的形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5" name=""/>
          <p:cNvGraphicFramePr/>
          <p:nvPr/>
        </p:nvGraphicFramePr>
        <p:xfrm>
          <a:off x="0" y="3938760"/>
          <a:ext cx="8893080" cy="2514600"/>
        </p:xfrm>
        <a:graphic>
          <a:graphicData uri="http://schemas.openxmlformats.org/drawingml/2006/table">
            <a:tbl>
              <a:tblPr/>
              <a:tblGrid>
                <a:gridCol w="851040"/>
                <a:gridCol w="946080"/>
                <a:gridCol w="879480"/>
                <a:gridCol w="927000"/>
                <a:gridCol w="1122480"/>
                <a:gridCol w="923760"/>
                <a:gridCol w="1047960"/>
                <a:gridCol w="925200"/>
                <a:gridCol w="1270080"/>
              </a:tblGrid>
              <a:tr h="4572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无机元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血浆中的存在形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43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骨和齿（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软组织（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细胞外（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总浓度（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mol/L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游离（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结合（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复合物（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总浓度（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mol/L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lt;0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15~2.5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lt;0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81~1.4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</a:tr>
            </a:tbl>
          </a:graphicData>
        </a:graphic>
      </p:graphicFrame>
      <p:sp>
        <p:nvSpPr>
          <p:cNvPr id="326" name="Text Box 223"/>
          <p:cNvSpPr/>
          <p:nvPr/>
        </p:nvSpPr>
        <p:spPr>
          <a:xfrm>
            <a:off x="1455120" y="1675440"/>
            <a:ext cx="208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一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体内分布与存在形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224"/>
          <p:cNvSpPr/>
          <p:nvPr/>
        </p:nvSpPr>
        <p:spPr>
          <a:xfrm>
            <a:off x="2579400" y="2178720"/>
            <a:ext cx="30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钙和磷是体内含量最高的无机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225"/>
          <p:cNvSpPr/>
          <p:nvPr/>
        </p:nvSpPr>
        <p:spPr>
          <a:xfrm>
            <a:off x="2885040" y="2635920"/>
            <a:ext cx="39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钙磷主要以骨盐的形式分布于骨胳、牙齿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8" name="Picture 2" descr="PTH1"/>
          <p:cNvPicPr/>
          <p:nvPr/>
        </p:nvPicPr>
        <p:blipFill>
          <a:blip r:embed="rId1"/>
          <a:stretch/>
        </p:blipFill>
        <p:spPr>
          <a:xfrm>
            <a:off x="539640" y="0"/>
            <a:ext cx="8353440" cy="6756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2"/>
          <p:cNvSpPr/>
          <p:nvPr/>
        </p:nvSpPr>
        <p:spPr>
          <a:xfrm>
            <a:off x="900000" y="476280"/>
            <a:ext cx="53992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PTH</a:t>
            </a:r>
            <a:r>
              <a:rPr b="1" lang="zh-CN" sz="28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的生理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Rectangle 3"/>
          <p:cNvSpPr/>
          <p:nvPr/>
        </p:nvSpPr>
        <p:spPr>
          <a:xfrm>
            <a:off x="685800" y="1484280"/>
            <a:ext cx="2971800" cy="4465800"/>
          </a:xfrm>
          <a:prstGeom prst="rect">
            <a:avLst/>
          </a:prstGeom>
          <a:noFill/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5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对肾的作用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5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5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5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5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对骨的作用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5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对小肠的作用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5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5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总效应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Rectangle 4"/>
          <p:cNvSpPr/>
          <p:nvPr/>
        </p:nvSpPr>
        <p:spPr>
          <a:xfrm>
            <a:off x="3657600" y="1484280"/>
            <a:ext cx="4730760" cy="4465800"/>
          </a:xfrm>
          <a:prstGeom prst="rect">
            <a:avLst/>
          </a:prstGeom>
          <a:noFill/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5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+)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肾远曲小管对钙的重吸收，</a:t>
            </a:r>
            <a:r>
              <a:rPr b="1" lang="zh-CN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血</a:t>
            </a:r>
            <a:r>
              <a:rPr b="1" lang="en-US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Ca</a:t>
            </a:r>
            <a:r>
              <a:rPr b="1" lang="en-US" sz="2200" spc="-1" strike="noStrike" baseline="30000">
                <a:solidFill>
                  <a:srgbClr val="cc3300"/>
                </a:solidFill>
                <a:latin typeface="楷体_GB2312"/>
                <a:ea typeface="楷体_GB2312"/>
              </a:rPr>
              <a:t>2+</a:t>
            </a:r>
            <a:r>
              <a:rPr b="1" lang="zh-CN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升高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-)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肾近曲小管对磷的重吸收，</a:t>
            </a:r>
            <a:r>
              <a:rPr b="1" lang="zh-CN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血</a:t>
            </a:r>
            <a:r>
              <a:rPr b="1" lang="en-US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P</a:t>
            </a:r>
            <a:r>
              <a:rPr b="1" lang="zh-CN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降低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5000"/>
              </a:lnSpc>
              <a:spcBef>
                <a:spcPts val="1650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+)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骨盐溶解（溶骨作用）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5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通过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,25-(OH)</a:t>
            </a:r>
            <a:r>
              <a:rPr b="1" lang="en-US" sz="2200" spc="-1" strike="noStrike" baseline="-30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VitD</a:t>
            </a:r>
            <a:r>
              <a:rPr b="1" lang="en-US" sz="2200" spc="-1" strike="noStrike" baseline="-30000">
                <a:solidFill>
                  <a:srgbClr val="000000"/>
                </a:solidFill>
                <a:latin typeface="楷体_GB2312"/>
                <a:ea typeface="楷体_GB2312"/>
              </a:rPr>
              <a:t>3 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5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+)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钙磷的吸收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5000"/>
              </a:lnSpc>
              <a:spcBef>
                <a:spcPts val="82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升高血</a:t>
            </a:r>
            <a:r>
              <a:rPr b="1" lang="en-US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Ca</a:t>
            </a:r>
            <a:r>
              <a:rPr b="1" lang="en-US" sz="2200" spc="-1" strike="noStrike" baseline="30000">
                <a:solidFill>
                  <a:srgbClr val="cc3300"/>
                </a:solidFill>
                <a:latin typeface="楷体_GB2312"/>
                <a:ea typeface="楷体_GB2312"/>
              </a:rPr>
              <a:t>2+</a:t>
            </a:r>
            <a:r>
              <a:rPr b="1" lang="zh-CN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；降低血</a:t>
            </a:r>
            <a:r>
              <a:rPr b="1" lang="en-US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2"/>
          <p:cNvSpPr/>
          <p:nvPr/>
        </p:nvSpPr>
        <p:spPr>
          <a:xfrm>
            <a:off x="0" y="20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3" name="Object 3"/>
          <p:cNvGraphicFramePr/>
          <p:nvPr/>
        </p:nvGraphicFramePr>
        <p:xfrm>
          <a:off x="755640" y="692280"/>
          <a:ext cx="7453440" cy="523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692280"/>
                    <a:ext cx="7453440" cy="523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2"/>
          <p:cNvSpPr/>
          <p:nvPr/>
        </p:nvSpPr>
        <p:spPr>
          <a:xfrm>
            <a:off x="755640" y="404640"/>
            <a:ext cx="7772400" cy="202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三、降钙素（</a:t>
            </a:r>
            <a:r>
              <a:rPr b="1" lang="en-US" sz="28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calcitomin,CT</a:t>
            </a:r>
            <a:r>
              <a:rPr b="1" lang="zh-CN" sz="28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）的作用</a:t>
            </a:r>
            <a:br>
              <a:rPr sz="2800"/>
            </a:b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、分泌细胞：甲状腺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细胞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、化学本质：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32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肽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、分泌的调节：血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C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Franklin Gothic Book"/>
                <a:ea typeface="楷体_GB2312"/>
              </a:rPr>
              <a:t>2+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和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CT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成正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Rectangle 3"/>
          <p:cNvSpPr/>
          <p:nvPr/>
        </p:nvSpPr>
        <p:spPr>
          <a:xfrm>
            <a:off x="611280" y="3386160"/>
            <a:ext cx="2971800" cy="2563920"/>
          </a:xfrm>
          <a:prstGeom prst="rect">
            <a:avLst/>
          </a:prstGeom>
          <a:noFill/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对骨的作用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对肾的作用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对小肠的作用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总效应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Rectangle 4"/>
          <p:cNvSpPr/>
          <p:nvPr/>
        </p:nvSpPr>
        <p:spPr>
          <a:xfrm>
            <a:off x="3583080" y="3386160"/>
            <a:ext cx="4952880" cy="2563920"/>
          </a:xfrm>
          <a:prstGeom prst="rect">
            <a:avLst/>
          </a:prstGeom>
          <a:noFill/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+)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骨盐沉积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-)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肾近曲小管对磷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远曲小管对钙的重吸收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-)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钙的吸收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降低血</a:t>
            </a:r>
            <a:r>
              <a:rPr b="1" lang="en-US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Ca</a:t>
            </a:r>
            <a:r>
              <a:rPr b="1" lang="en-US" sz="2200" spc="-1" strike="noStrike" baseline="30000">
                <a:solidFill>
                  <a:srgbClr val="cc3300"/>
                </a:solidFill>
                <a:latin typeface="楷体_GB2312"/>
                <a:ea typeface="楷体_GB2312"/>
              </a:rPr>
              <a:t>2+ </a:t>
            </a:r>
            <a:r>
              <a:rPr b="1" lang="zh-CN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、血磷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Rectangle 5"/>
          <p:cNvSpPr/>
          <p:nvPr/>
        </p:nvSpPr>
        <p:spPr>
          <a:xfrm>
            <a:off x="971640" y="2708280"/>
            <a:ext cx="64069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、生理功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9" name="Picture 2" descr="b19-2"/>
          <p:cNvPicPr/>
          <p:nvPr/>
        </p:nvPicPr>
        <p:blipFill>
          <a:blip r:embed="rId1"/>
          <a:stretch/>
        </p:blipFill>
        <p:spPr>
          <a:xfrm>
            <a:off x="684360" y="2060640"/>
            <a:ext cx="7557840" cy="2273400"/>
          </a:xfrm>
          <a:prstGeom prst="rect">
            <a:avLst/>
          </a:prstGeom>
          <a:ln w="0">
            <a:noFill/>
          </a:ln>
        </p:spPr>
      </p:pic>
      <p:sp>
        <p:nvSpPr>
          <p:cNvPr id="550" name="Oval 3"/>
          <p:cNvSpPr/>
          <p:nvPr/>
        </p:nvSpPr>
        <p:spPr>
          <a:xfrm>
            <a:off x="2131920" y="3048120"/>
            <a:ext cx="457200" cy="304560"/>
          </a:xfrm>
          <a:prstGeom prst="ellipse">
            <a:avLst/>
          </a:prstGeom>
          <a:noFill/>
          <a:ln w="381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Oval 4"/>
          <p:cNvSpPr/>
          <p:nvPr/>
        </p:nvSpPr>
        <p:spPr>
          <a:xfrm>
            <a:off x="3503520" y="3657600"/>
            <a:ext cx="228600" cy="228600"/>
          </a:xfrm>
          <a:prstGeom prst="ellipse">
            <a:avLst/>
          </a:prstGeom>
          <a:noFill/>
          <a:ln w="381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Oval 5"/>
          <p:cNvSpPr/>
          <p:nvPr/>
        </p:nvSpPr>
        <p:spPr>
          <a:xfrm>
            <a:off x="4799160" y="3352680"/>
            <a:ext cx="1447560" cy="304920"/>
          </a:xfrm>
          <a:prstGeom prst="ellipse">
            <a:avLst/>
          </a:prstGeom>
          <a:noFill/>
          <a:ln w="381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Oval 6"/>
          <p:cNvSpPr/>
          <p:nvPr/>
        </p:nvSpPr>
        <p:spPr>
          <a:xfrm>
            <a:off x="6323040" y="3048120"/>
            <a:ext cx="1066680" cy="914400"/>
          </a:xfrm>
          <a:prstGeom prst="ellipse">
            <a:avLst/>
          </a:prstGeom>
          <a:noFill/>
          <a:ln w="5724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2"/>
          <p:cNvSpPr/>
          <p:nvPr/>
        </p:nvSpPr>
        <p:spPr>
          <a:xfrm>
            <a:off x="0" y="270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5" name="Object 3"/>
          <p:cNvGraphicFramePr/>
          <p:nvPr/>
        </p:nvGraphicFramePr>
        <p:xfrm>
          <a:off x="801720" y="2082960"/>
          <a:ext cx="7657920" cy="307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01720" y="2082960"/>
                    <a:ext cx="7657920" cy="307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57" name="Rectangle 4"/>
          <p:cNvGrpSpPr/>
          <p:nvPr/>
        </p:nvGrpSpPr>
        <p:grpSpPr>
          <a:xfrm>
            <a:off x="1695600" y="401760"/>
            <a:ext cx="5685840" cy="652320"/>
            <a:chOff x="1695600" y="401760"/>
            <a:chExt cx="5685840" cy="652320"/>
          </a:xfrm>
        </p:grpSpPr>
        <p:pic>
          <p:nvPicPr>
            <p:cNvPr id="558" name="Rectangle 4" descr=""/>
            <p:cNvPicPr/>
            <p:nvPr/>
          </p:nvPicPr>
          <p:blipFill>
            <a:blip r:embed="rId3"/>
            <a:stretch/>
          </p:blipFill>
          <p:spPr>
            <a:xfrm>
              <a:off x="1698480" y="401760"/>
              <a:ext cx="5682960" cy="65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9" name=""/>
            <p:cNvSpPr/>
            <p:nvPr/>
          </p:nvSpPr>
          <p:spPr>
            <a:xfrm>
              <a:off x="1695600" y="404640"/>
              <a:ext cx="5684760" cy="64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钙代谢调节激素的协同作用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60" name="Picture 5" descr="Pi_13310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3851280" y="5950080"/>
            <a:ext cx="1333440" cy="23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Text Box 2"/>
          <p:cNvSpPr/>
          <p:nvPr/>
        </p:nvSpPr>
        <p:spPr>
          <a:xfrm>
            <a:off x="2556000" y="404640"/>
            <a:ext cx="4248000" cy="642600"/>
          </a:xfrm>
          <a:prstGeom prst="rect">
            <a:avLst/>
          </a:prstGeom>
          <a:gradFill rotWithShape="0">
            <a:gsLst>
              <a:gs pos="0">
                <a:srgbClr val="d34817"/>
              </a:gs>
              <a:gs pos="100000">
                <a:srgbClr val="f0c1b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钙磷代谢紊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 Box 3"/>
          <p:cNvSpPr/>
          <p:nvPr/>
        </p:nvSpPr>
        <p:spPr>
          <a:xfrm>
            <a:off x="755640" y="1530360"/>
            <a:ext cx="7632720" cy="29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一、生理需要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30000"/>
              </a:lnSpc>
              <a:buClr>
                <a:srgbClr val="00cc00"/>
              </a:buClr>
              <a:buFont typeface="Times New Roman"/>
              <a:buChar char="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钙需要量：成人每天需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00m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青春期儿童每天需钙约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00m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孕妇及乳母需钙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5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000mg/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30000"/>
              </a:lnSpc>
              <a:buClr>
                <a:srgbClr val="00cc00"/>
              </a:buClr>
              <a:buFont typeface="Times New Roman"/>
              <a:buChar char="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磷的需要量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2mg/kg/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30000"/>
              </a:lnSpc>
              <a:buClr>
                <a:srgbClr val="00cc00"/>
              </a:buClr>
              <a:buFont typeface="Times New Roman"/>
              <a:buChar char="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当膳食中钙∶磷比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时最宜于钙、磷的吸收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Text Box 2"/>
          <p:cNvSpPr/>
          <p:nvPr/>
        </p:nvSpPr>
        <p:spPr>
          <a:xfrm>
            <a:off x="684360" y="333360"/>
            <a:ext cx="64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二、低血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684360" y="1341360"/>
            <a:ext cx="7920000" cy="23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产生原因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浆蛋白质含量减少，可使蛋白结合钙减少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甲状旁腺功能减退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PT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泌下降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③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维生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缺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 Box 4"/>
          <p:cNvSpPr/>
          <p:nvPr/>
        </p:nvSpPr>
        <p:spPr>
          <a:xfrm>
            <a:off x="611280" y="3716280"/>
            <a:ext cx="82087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临床症状：除精神症状外，常发生手足搐搦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Text Box 2"/>
          <p:cNvSpPr/>
          <p:nvPr/>
        </p:nvSpPr>
        <p:spPr>
          <a:xfrm>
            <a:off x="684360" y="260280"/>
            <a:ext cx="79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三、佝偻病与软骨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 Box 3"/>
          <p:cNvSpPr/>
          <p:nvPr/>
        </p:nvSpPr>
        <p:spPr>
          <a:xfrm>
            <a:off x="755640" y="1413000"/>
            <a:ext cx="8209080" cy="62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产生原因：维生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缺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 Box 4"/>
          <p:cNvSpPr/>
          <p:nvPr/>
        </p:nvSpPr>
        <p:spPr>
          <a:xfrm>
            <a:off x="611280" y="2023920"/>
            <a:ext cx="820872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临床症状：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佝偻病发生于生长发育中的儿童；软骨病则多发生于成年人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 Box 5"/>
          <p:cNvSpPr/>
          <p:nvPr/>
        </p:nvSpPr>
        <p:spPr>
          <a:xfrm>
            <a:off x="611280" y="3186000"/>
            <a:ext cx="64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四、高血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 Box 6"/>
          <p:cNvSpPr/>
          <p:nvPr/>
        </p:nvSpPr>
        <p:spPr>
          <a:xfrm>
            <a:off x="684360" y="3724200"/>
            <a:ext cx="820872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产生原因：甲状旁腺功能亢进及维生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中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 Box 7"/>
          <p:cNvSpPr/>
          <p:nvPr/>
        </p:nvSpPr>
        <p:spPr>
          <a:xfrm>
            <a:off x="468360" y="4265640"/>
            <a:ext cx="806436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临床症状：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神经肌肉兴奋性减弱，嗜睡，肌张力减弱等，严重时有精神障碍，出现幻觉，甚至昏迷。高血钙还可引起钙盐的异位沉着，如形成尿路结石等。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Text Box 2"/>
          <p:cNvSpPr/>
          <p:nvPr/>
        </p:nvSpPr>
        <p:spPr>
          <a:xfrm>
            <a:off x="826920" y="404640"/>
            <a:ext cx="715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五、泌尿系统结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 Box 3"/>
          <p:cNvSpPr/>
          <p:nvPr/>
        </p:nvSpPr>
        <p:spPr>
          <a:xfrm>
            <a:off x="971640" y="1339920"/>
            <a:ext cx="741672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产生原因：高血钙、高尿钙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 Box 4"/>
          <p:cNvSpPr/>
          <p:nvPr/>
        </p:nvSpPr>
        <p:spPr>
          <a:xfrm>
            <a:off x="826920" y="1844640"/>
            <a:ext cx="741708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临床症状：草酸钙和磷酸钙沉积，形成肾结石和膀胱结石。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 Box 5"/>
          <p:cNvSpPr/>
          <p:nvPr/>
        </p:nvSpPr>
        <p:spPr>
          <a:xfrm>
            <a:off x="820800" y="2995560"/>
            <a:ext cx="731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六、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低磷酸盐血症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 Box 6"/>
          <p:cNvSpPr/>
          <p:nvPr/>
        </p:nvSpPr>
        <p:spPr>
          <a:xfrm>
            <a:off x="604800" y="3540240"/>
            <a:ext cx="784872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产生原因：使用过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1(OH)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或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a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与磷酸形成不溶性沉淀，从而降低血磷。代谢性酸中毒可导致磷从尿中丢失过多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 Box 7"/>
          <p:cNvSpPr/>
          <p:nvPr/>
        </p:nvSpPr>
        <p:spPr>
          <a:xfrm>
            <a:off x="677880" y="4989600"/>
            <a:ext cx="778176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临床症状：最初症状是肌肉无力，最终可发展为佝偻病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Text Box 2"/>
          <p:cNvSpPr/>
          <p:nvPr/>
        </p:nvSpPr>
        <p:spPr>
          <a:xfrm>
            <a:off x="684360" y="1943640"/>
            <a:ext cx="1439640" cy="6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 anchorCtr="1">
            <a:spAutoFit/>
          </a:bodyPr>
          <a:p>
            <a:pPr algn="ctr">
              <a:lnSpc>
                <a:spcPct val="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骨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（不溶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3"/>
          <p:cNvSpPr/>
          <p:nvPr/>
        </p:nvSpPr>
        <p:spPr>
          <a:xfrm>
            <a:off x="755640" y="3312000"/>
            <a:ext cx="1440000" cy="6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 anchorCtr="1">
            <a:spAutoFit/>
          </a:bodyPr>
          <a:p>
            <a:pPr algn="ctr">
              <a:lnSpc>
                <a:spcPct val="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体液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（可溶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4"/>
          <p:cNvSpPr/>
          <p:nvPr/>
        </p:nvSpPr>
        <p:spPr>
          <a:xfrm>
            <a:off x="971640" y="4795200"/>
            <a:ext cx="424800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胞内钙：线粒体、内质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5"/>
          <p:cNvSpPr/>
          <p:nvPr/>
        </p:nvSpPr>
        <p:spPr>
          <a:xfrm>
            <a:off x="2411280" y="1625040"/>
            <a:ext cx="49690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羟磷灰石结晶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C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P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Ca(OH)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6"/>
          <p:cNvSpPr/>
          <p:nvPr/>
        </p:nvSpPr>
        <p:spPr>
          <a:xfrm>
            <a:off x="2340000" y="2287080"/>
            <a:ext cx="68040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无定形磷酸钙沉淀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CaHP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O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；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C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P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AutoShape 7"/>
          <p:cNvSpPr/>
          <p:nvPr/>
        </p:nvSpPr>
        <p:spPr>
          <a:xfrm>
            <a:off x="2266920" y="1628640"/>
            <a:ext cx="73080" cy="1079640"/>
          </a:xfrm>
          <a:custGeom>
            <a:avLst/>
            <a:gdLst>
              <a:gd name="textAreaLeft" fmla="*/ 46800 w 73080"/>
              <a:gd name="textAreaRight" fmla="*/ 73440 w 730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8"/>
          <p:cNvSpPr/>
          <p:nvPr/>
        </p:nvSpPr>
        <p:spPr>
          <a:xfrm>
            <a:off x="2340000" y="3050280"/>
            <a:ext cx="34560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不扩散钙：与蛋白质结合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9"/>
          <p:cNvSpPr/>
          <p:nvPr/>
        </p:nvSpPr>
        <p:spPr>
          <a:xfrm>
            <a:off x="2340000" y="3763080"/>
            <a:ext cx="154764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可扩散钙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AutoShape 10"/>
          <p:cNvSpPr/>
          <p:nvPr/>
        </p:nvSpPr>
        <p:spPr>
          <a:xfrm>
            <a:off x="2266920" y="3068640"/>
            <a:ext cx="73080" cy="1079640"/>
          </a:xfrm>
          <a:custGeom>
            <a:avLst/>
            <a:gdLst>
              <a:gd name="textAreaLeft" fmla="*/ 46800 w 73080"/>
              <a:gd name="textAreaRight" fmla="*/ 73440 w 730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11"/>
          <p:cNvSpPr/>
          <p:nvPr/>
        </p:nvSpPr>
        <p:spPr>
          <a:xfrm>
            <a:off x="3995640" y="3547080"/>
            <a:ext cx="158436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游离钙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12"/>
          <p:cNvSpPr/>
          <p:nvPr/>
        </p:nvSpPr>
        <p:spPr>
          <a:xfrm>
            <a:off x="3995640" y="4047120"/>
            <a:ext cx="496908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难解离化合物：乳酸钙、柠檬酸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AutoShape 13"/>
          <p:cNvSpPr/>
          <p:nvPr/>
        </p:nvSpPr>
        <p:spPr>
          <a:xfrm>
            <a:off x="3778200" y="3573360"/>
            <a:ext cx="73080" cy="863640"/>
          </a:xfrm>
          <a:custGeom>
            <a:avLst/>
            <a:gdLst>
              <a:gd name="textAreaLeft" fmla="*/ 46800 w 73080"/>
              <a:gd name="textAreaRight" fmla="*/ 73440 w 73080"/>
              <a:gd name="textAreaTop" fmla="*/ 22320 h 863640"/>
              <a:gd name="textAreaBottom" fmla="*/ 841320 h 86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AutoShape 14"/>
          <p:cNvSpPr/>
          <p:nvPr/>
        </p:nvSpPr>
        <p:spPr>
          <a:xfrm>
            <a:off x="754200" y="1844640"/>
            <a:ext cx="72720" cy="3240000"/>
          </a:xfrm>
          <a:custGeom>
            <a:avLst/>
            <a:gdLst>
              <a:gd name="textAreaLeft" fmla="*/ 46440 w 72720"/>
              <a:gd name="textAreaRight" fmla="*/ 73080 w 72720"/>
              <a:gd name="textAreaTop" fmla="*/ 84240 h 3240000"/>
              <a:gd name="textAreaBottom" fmla="*/ 3155760 h 324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15"/>
          <p:cNvSpPr/>
          <p:nvPr/>
        </p:nvSpPr>
        <p:spPr>
          <a:xfrm>
            <a:off x="2556000" y="333360"/>
            <a:ext cx="4103640" cy="581400"/>
          </a:xfrm>
          <a:prstGeom prst="rect">
            <a:avLst/>
          </a:prstGeom>
          <a:solidFill>
            <a:srgbClr val="ff9999"/>
          </a:solidFill>
          <a:ln w="936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体内钙的存在状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Text Box 2"/>
          <p:cNvSpPr/>
          <p:nvPr/>
        </p:nvSpPr>
        <p:spPr>
          <a:xfrm>
            <a:off x="684360" y="677880"/>
            <a:ext cx="748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降钙素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 Box 3"/>
          <p:cNvSpPr/>
          <p:nvPr/>
        </p:nvSpPr>
        <p:spPr>
          <a:xfrm>
            <a:off x="574560" y="1268280"/>
            <a:ext cx="76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1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泌细胞：甲状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细胞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 Box 4"/>
          <p:cNvSpPr/>
          <p:nvPr/>
        </p:nvSpPr>
        <p:spPr>
          <a:xfrm>
            <a:off x="574560" y="2565360"/>
            <a:ext cx="76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3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生理功能：降低血钙、降低血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 Box 5"/>
          <p:cNvSpPr/>
          <p:nvPr/>
        </p:nvSpPr>
        <p:spPr>
          <a:xfrm>
            <a:off x="539640" y="1917720"/>
            <a:ext cx="67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2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主要靶细胞：骨、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 Box 6"/>
          <p:cNvSpPr/>
          <p:nvPr/>
        </p:nvSpPr>
        <p:spPr>
          <a:xfrm>
            <a:off x="611280" y="3645000"/>
            <a:ext cx="69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四、钙磷代谢紊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3" name="Picture 7" descr="Pi_15086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211640" y="3816360"/>
            <a:ext cx="260280" cy="260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Text Box 2"/>
          <p:cNvSpPr/>
          <p:nvPr/>
        </p:nvSpPr>
        <p:spPr>
          <a:xfrm>
            <a:off x="1258920" y="2205000"/>
            <a:ext cx="6767640" cy="1519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993300"/>
                </a:solidFill>
                <a:latin typeface="Arial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钙、磷的主要存在形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993300"/>
                </a:solidFill>
                <a:latin typeface="Arial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血钙与血磷的关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993300"/>
                </a:solidFill>
                <a:latin typeface="Arial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激素对钙磷代谢的调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 Box 3"/>
          <p:cNvSpPr/>
          <p:nvPr/>
        </p:nvSpPr>
        <p:spPr>
          <a:xfrm>
            <a:off x="3398400" y="37152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本章重要内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3" name="Group 2"/>
          <p:cNvGrpSpPr/>
          <p:nvPr/>
        </p:nvGrpSpPr>
        <p:grpSpPr>
          <a:xfrm>
            <a:off x="972720" y="1690560"/>
            <a:ext cx="7125120" cy="1663200"/>
            <a:chOff x="972720" y="1690560"/>
            <a:chExt cx="7125120" cy="1663200"/>
          </a:xfrm>
        </p:grpSpPr>
        <p:sp>
          <p:nvSpPr>
            <p:cNvPr id="344" name="Line 4"/>
            <p:cNvSpPr/>
            <p:nvPr/>
          </p:nvSpPr>
          <p:spPr>
            <a:xfrm>
              <a:off x="973080" y="1690560"/>
              <a:ext cx="7124760" cy="15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Line 5"/>
            <p:cNvSpPr/>
            <p:nvPr/>
          </p:nvSpPr>
          <p:spPr>
            <a:xfrm flipH="1">
              <a:off x="972720" y="3334680"/>
              <a:ext cx="6800760" cy="19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6" name="Group 6"/>
          <p:cNvGrpSpPr/>
          <p:nvPr/>
        </p:nvGrpSpPr>
        <p:grpSpPr>
          <a:xfrm>
            <a:off x="911160" y="4195800"/>
            <a:ext cx="6775560" cy="1110960"/>
            <a:chOff x="911160" y="4195800"/>
            <a:chExt cx="6775560" cy="1110960"/>
          </a:xfrm>
        </p:grpSpPr>
        <p:sp>
          <p:nvSpPr>
            <p:cNvPr id="347" name="AutoShape 9"/>
            <p:cNvSpPr/>
            <p:nvPr/>
          </p:nvSpPr>
          <p:spPr>
            <a:xfrm>
              <a:off x="6718680" y="4195800"/>
              <a:ext cx="644760" cy="4420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d3481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AutoShape 10"/>
            <p:cNvSpPr/>
            <p:nvPr/>
          </p:nvSpPr>
          <p:spPr>
            <a:xfrm>
              <a:off x="911160" y="4280400"/>
              <a:ext cx="644760" cy="3535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3481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AutoShape 11"/>
            <p:cNvSpPr/>
            <p:nvPr/>
          </p:nvSpPr>
          <p:spPr>
            <a:xfrm>
              <a:off x="7041960" y="4864680"/>
              <a:ext cx="644760" cy="3535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3481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AutoShape 12"/>
            <p:cNvSpPr/>
            <p:nvPr/>
          </p:nvSpPr>
          <p:spPr>
            <a:xfrm>
              <a:off x="1234080" y="4864680"/>
              <a:ext cx="644760" cy="4420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d3481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1" name="Text Box 13"/>
          <p:cNvSpPr/>
          <p:nvPr/>
        </p:nvSpPr>
        <p:spPr>
          <a:xfrm>
            <a:off x="755640" y="3414600"/>
            <a:ext cx="777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pH 6.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4.3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游离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pH 7.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7.5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游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20"/>
          <p:cNvSpPr/>
          <p:nvPr/>
        </p:nvSpPr>
        <p:spPr>
          <a:xfrm>
            <a:off x="1760040" y="981000"/>
            <a:ext cx="5007960" cy="581400"/>
          </a:xfrm>
          <a:prstGeom prst="rect">
            <a:avLst/>
          </a:prstGeom>
          <a:solidFill>
            <a:srgbClr val="ff9999"/>
          </a:solidFill>
          <a:ln w="9360">
            <a:solidFill>
              <a:srgbClr val="96a9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离子钙</a:t>
            </a:r>
            <a:r>
              <a:rPr b="1" lang="en-US" sz="3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---</a:t>
            </a:r>
            <a:r>
              <a:rPr b="1" lang="zh-CN" sz="3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血钙中直接发挥生理功能的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7"/>
          <p:cNvSpPr/>
          <p:nvPr/>
        </p:nvSpPr>
        <p:spPr>
          <a:xfrm>
            <a:off x="1108080" y="4262400"/>
            <a:ext cx="2097000" cy="11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酸中毒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碱中毒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8"/>
          <p:cNvSpPr/>
          <p:nvPr/>
        </p:nvSpPr>
        <p:spPr>
          <a:xfrm>
            <a:off x="3184560" y="4253040"/>
            <a:ext cx="4680000" cy="11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Perpetua"/>
              </a:rPr>
              <a:t>pH            [</a:t>
            </a:r>
            <a:r>
              <a:rPr b="1" lang="en-US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Ca</a:t>
            </a:r>
            <a:r>
              <a:rPr b="1" lang="en-US" sz="2200" spc="-1" strike="noStrike" baseline="30000">
                <a:solidFill>
                  <a:srgbClr val="000000"/>
                </a:solidFill>
                <a:latin typeface="Perpetua"/>
                <a:ea typeface="楷体_GB2312"/>
              </a:rPr>
              <a:t>2+</a:t>
            </a:r>
            <a:r>
              <a:rPr b="1" lang="en-US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Perpetua"/>
              </a:rPr>
              <a:t>pH           [</a:t>
            </a:r>
            <a:r>
              <a:rPr b="1" lang="en-US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Ca</a:t>
            </a:r>
            <a:r>
              <a:rPr b="1" lang="en-US" sz="2200" spc="-1" strike="noStrike" baseline="30000">
                <a:solidFill>
                  <a:srgbClr val="000000"/>
                </a:solidFill>
                <a:latin typeface="Perpetua"/>
                <a:ea typeface="楷体_GB2312"/>
              </a:rPr>
              <a:t>2+</a:t>
            </a:r>
            <a:r>
              <a:rPr b="1" lang="en-US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]        </a:t>
            </a: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抽搐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3"/>
          <p:cNvSpPr/>
          <p:nvPr/>
        </p:nvSpPr>
        <p:spPr>
          <a:xfrm>
            <a:off x="1143000" y="1643040"/>
            <a:ext cx="6429240" cy="16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91440" anchor="b">
            <a:no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Franklin Gothic Book"/>
                <a:ea typeface="楷体_GB2312"/>
              </a:rPr>
              <a:t>离子钙与结合钙</a:t>
            </a:r>
            <a:r>
              <a:rPr b="1" lang="zh-CN" sz="2400" spc="-1" strike="noStrike" baseline="30000">
                <a:solidFill>
                  <a:srgbClr val="cc3300"/>
                </a:solidFill>
                <a:latin typeface="Franklin Gothic Book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cc3300"/>
                </a:solidFill>
                <a:latin typeface="Franklin Gothic Book"/>
                <a:ea typeface="楷体_GB2312"/>
              </a:rPr>
              <a:t>的动态平衡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[HCO</a:t>
            </a:r>
            <a:r>
              <a:rPr b="1" lang="en-US" sz="2400" spc="-1" strike="noStrike" baseline="30000">
                <a:solidFill>
                  <a:srgbClr val="000000"/>
                </a:solidFill>
                <a:latin typeface="Franklin Gothic Book"/>
                <a:ea typeface="楷体_GB2312"/>
              </a:rPr>
              <a:t>3-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]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C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Franklin Gothic Book"/>
                <a:ea typeface="楷体_GB2312"/>
              </a:rPr>
              <a:t>2+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血浆蛋白质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结合钙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                                             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  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[H</a:t>
            </a:r>
            <a:r>
              <a:rPr b="1" lang="en-US" sz="2400" spc="-1" strike="noStrike" baseline="30000">
                <a:solidFill>
                  <a:srgbClr val="000000"/>
                </a:solidFill>
                <a:latin typeface="Franklin Gothic Book"/>
                <a:ea typeface="楷体_GB2312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Text Box 2"/>
          <p:cNvSpPr/>
          <p:nvPr/>
        </p:nvSpPr>
        <p:spPr>
          <a:xfrm>
            <a:off x="539640" y="1727640"/>
            <a:ext cx="1440000" cy="6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 anchorCtr="1">
            <a:spAutoFit/>
          </a:bodyPr>
          <a:p>
            <a:pPr algn="ctr">
              <a:lnSpc>
                <a:spcPct val="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骨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（不溶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3"/>
          <p:cNvSpPr/>
          <p:nvPr/>
        </p:nvSpPr>
        <p:spPr>
          <a:xfrm>
            <a:off x="826920" y="3571200"/>
            <a:ext cx="568836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胞内磷：磷酸盐、有机磷酸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4"/>
          <p:cNvSpPr/>
          <p:nvPr/>
        </p:nvSpPr>
        <p:spPr>
          <a:xfrm>
            <a:off x="2266920" y="1409040"/>
            <a:ext cx="49690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羟磷灰石结晶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C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P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2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Ca(OH)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5"/>
          <p:cNvSpPr/>
          <p:nvPr/>
        </p:nvSpPr>
        <p:spPr>
          <a:xfrm>
            <a:off x="2195640" y="1823400"/>
            <a:ext cx="64800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无定形磷酸钙沉淀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CaHP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O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；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C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P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AutoShape 6"/>
          <p:cNvSpPr/>
          <p:nvPr/>
        </p:nvSpPr>
        <p:spPr>
          <a:xfrm>
            <a:off x="2122560" y="1484280"/>
            <a:ext cx="73080" cy="719280"/>
          </a:xfrm>
          <a:custGeom>
            <a:avLst/>
            <a:gdLst>
              <a:gd name="textAreaLeft" fmla="*/ 46800 w 73080"/>
              <a:gd name="textAreaRight" fmla="*/ 73440 w 73080"/>
              <a:gd name="textAreaTop" fmla="*/ 18720 h 719280"/>
              <a:gd name="textAreaBottom" fmla="*/ 700560 h 71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7"/>
          <p:cNvSpPr/>
          <p:nvPr/>
        </p:nvSpPr>
        <p:spPr>
          <a:xfrm>
            <a:off x="826920" y="2490120"/>
            <a:ext cx="475308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体液磷：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磷酸盐、有机磷酸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AutoShape 8"/>
          <p:cNvSpPr/>
          <p:nvPr/>
        </p:nvSpPr>
        <p:spPr>
          <a:xfrm>
            <a:off x="609480" y="1628640"/>
            <a:ext cx="73080" cy="2305080"/>
          </a:xfrm>
          <a:custGeom>
            <a:avLst/>
            <a:gdLst>
              <a:gd name="textAreaLeft" fmla="*/ 46800 w 73080"/>
              <a:gd name="textAreaRight" fmla="*/ 73440 w 73080"/>
              <a:gd name="textAreaTop" fmla="*/ 60120 h 2305080"/>
              <a:gd name="textAreaBottom" fmla="*/ 2244960 h 2305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9"/>
          <p:cNvSpPr/>
          <p:nvPr/>
        </p:nvSpPr>
        <p:spPr>
          <a:xfrm>
            <a:off x="2340000" y="333360"/>
            <a:ext cx="3959280" cy="581400"/>
          </a:xfrm>
          <a:prstGeom prst="rect">
            <a:avLst/>
          </a:prstGeom>
          <a:solidFill>
            <a:srgbClr val="ff9999"/>
          </a:solidFill>
          <a:ln w="936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体内磷的存在状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10"/>
          <p:cNvSpPr/>
          <p:nvPr/>
        </p:nvSpPr>
        <p:spPr>
          <a:xfrm>
            <a:off x="2124000" y="2923560"/>
            <a:ext cx="640872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宋体"/>
              </a:rPr>
              <a:t>血磷</a:t>
            </a:r>
            <a:r>
              <a:rPr b="1" lang="en-US" sz="2800" spc="-1" strike="noStrike">
                <a:solidFill>
                  <a:srgbClr val="cc3300"/>
                </a:solidFill>
                <a:latin typeface="宋体"/>
              </a:rPr>
              <a:t>:</a:t>
            </a:r>
            <a:r>
              <a:rPr b="1" lang="zh-CN" sz="2800" spc="-1" strike="noStrike">
                <a:solidFill>
                  <a:srgbClr val="cc3300"/>
                </a:solidFill>
                <a:latin typeface="宋体"/>
              </a:rPr>
              <a:t>血浆中的无机磷；</a:t>
            </a:r>
            <a:r>
              <a:rPr b="1" lang="en-US" sz="2800" spc="-1" strike="noStrike">
                <a:solidFill>
                  <a:srgbClr val="cc3300"/>
                </a:solidFill>
                <a:latin typeface="宋体"/>
              </a:rPr>
              <a:t>3.4</a:t>
            </a:r>
            <a:r>
              <a:rPr b="1" lang="zh-CN" sz="2800" spc="-1" strike="noStrike">
                <a:solidFill>
                  <a:srgbClr val="cc33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cc3300"/>
                </a:solidFill>
                <a:latin typeface="宋体"/>
              </a:rPr>
              <a:t>4.0mg/d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11"/>
          <p:cNvSpPr/>
          <p:nvPr/>
        </p:nvSpPr>
        <p:spPr>
          <a:xfrm>
            <a:off x="2268360" y="4221000"/>
            <a:ext cx="4248360" cy="642600"/>
          </a:xfrm>
          <a:prstGeom prst="rect">
            <a:avLst/>
          </a:prstGeom>
          <a:gradFill rotWithShape="0">
            <a:gsLst>
              <a:gs pos="0">
                <a:srgbClr val="d34817"/>
              </a:gs>
              <a:gs pos="100000">
                <a:srgbClr val="f0c1b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钙与磷的关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12"/>
          <p:cNvSpPr/>
          <p:nvPr/>
        </p:nvSpPr>
        <p:spPr>
          <a:xfrm>
            <a:off x="611280" y="5803200"/>
            <a:ext cx="792144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血钙与血磷的关系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【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a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】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×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【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】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13"/>
          <p:cNvSpPr/>
          <p:nvPr/>
        </p:nvSpPr>
        <p:spPr>
          <a:xfrm>
            <a:off x="611280" y="5155560"/>
            <a:ext cx="626436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磷酸钙盐类：磷酸钙、羟磷灰石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7"/>
          <p:cNvSpPr/>
          <p:nvPr/>
        </p:nvSpPr>
        <p:spPr>
          <a:xfrm>
            <a:off x="756000" y="155664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钙磷共同的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8"/>
          <p:cNvSpPr/>
          <p:nvPr/>
        </p:nvSpPr>
        <p:spPr>
          <a:xfrm>
            <a:off x="3393720" y="1987920"/>
            <a:ext cx="33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——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形成骨胳，起机体支架的作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9"/>
          <p:cNvSpPr/>
          <p:nvPr/>
        </p:nvSpPr>
        <p:spPr>
          <a:xfrm>
            <a:off x="780480" y="2521440"/>
            <a:ext cx="912240" cy="45972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钙的功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10"/>
          <p:cNvSpPr/>
          <p:nvPr/>
        </p:nvSpPr>
        <p:spPr>
          <a:xfrm>
            <a:off x="3328920" y="2521440"/>
            <a:ext cx="271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参与凝血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过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凝血因子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11"/>
          <p:cNvSpPr/>
          <p:nvPr/>
        </p:nvSpPr>
        <p:spPr>
          <a:xfrm>
            <a:off x="4206240" y="2980080"/>
            <a:ext cx="65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维持神经、肌肉的兴奋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12"/>
          <p:cNvSpPr/>
          <p:nvPr/>
        </p:nvSpPr>
        <p:spPr>
          <a:xfrm>
            <a:off x="3443760" y="3450240"/>
            <a:ext cx="364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调节代谢（酶的调节剂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第二信使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13"/>
          <p:cNvSpPr/>
          <p:nvPr/>
        </p:nvSpPr>
        <p:spPr>
          <a:xfrm>
            <a:off x="780480" y="3980520"/>
            <a:ext cx="912240" cy="45972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磷的功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14"/>
          <p:cNvSpPr/>
          <p:nvPr/>
        </p:nvSpPr>
        <p:spPr>
          <a:xfrm>
            <a:off x="3523680" y="3980520"/>
            <a:ext cx="32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以磷酸基形式参与物质和能量代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15"/>
          <p:cNvSpPr/>
          <p:nvPr/>
        </p:nvSpPr>
        <p:spPr>
          <a:xfrm>
            <a:off x="3276720" y="4437720"/>
            <a:ext cx="253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参与核酸及细胞膜的组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16"/>
          <p:cNvSpPr/>
          <p:nvPr/>
        </p:nvSpPr>
        <p:spPr>
          <a:xfrm>
            <a:off x="3276720" y="4894920"/>
            <a:ext cx="253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调节代谢、维持酸碱平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12"/>
          <p:cNvSpPr/>
          <p:nvPr/>
        </p:nvSpPr>
        <p:spPr>
          <a:xfrm>
            <a:off x="2627280" y="260280"/>
            <a:ext cx="4248360" cy="642600"/>
          </a:xfrm>
          <a:prstGeom prst="rect">
            <a:avLst/>
          </a:prstGeom>
          <a:gradFill rotWithShape="0">
            <a:gsLst>
              <a:gs pos="0">
                <a:srgbClr val="d34817"/>
              </a:gs>
              <a:gs pos="100000">
                <a:srgbClr val="f3cec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钙磷的生理功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Text Box 2"/>
          <p:cNvSpPr/>
          <p:nvPr/>
        </p:nvSpPr>
        <p:spPr>
          <a:xfrm>
            <a:off x="2627280" y="260280"/>
            <a:ext cx="4248360" cy="642600"/>
          </a:xfrm>
          <a:prstGeom prst="rect">
            <a:avLst/>
          </a:prstGeom>
          <a:gradFill rotWithShape="0">
            <a:gsLst>
              <a:gs pos="0">
                <a:srgbClr val="d34817"/>
              </a:gs>
              <a:gs pos="100000">
                <a:srgbClr val="f3cec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钙的生理功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/>
          </p:nvPr>
        </p:nvSpPr>
        <p:spPr>
          <a:xfrm>
            <a:off x="1331640" y="1989000"/>
            <a:ext cx="2230200" cy="2764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cc"/>
            </a:solidFill>
            <a:miter/>
          </a:ln>
        </p:spPr>
        <p:txBody>
          <a:bodyPr anchor="t">
            <a:normAutofit/>
          </a:bodyPr>
          <a:p>
            <a:pPr marL="2728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Perpetu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  <a:ea typeface="宋体"/>
              </a:rPr>
              <a:t>骨   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Perpetua"/>
                <a:ea typeface="宋体"/>
              </a:rPr>
              <a:t>骨细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Perpetua"/>
                <a:ea typeface="宋体"/>
              </a:rPr>
              <a:t>骨基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Perpetua"/>
                <a:ea typeface="宋体"/>
              </a:rPr>
              <a:t>骨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4"/>
          <p:cNvSpPr/>
          <p:nvPr/>
        </p:nvSpPr>
        <p:spPr>
          <a:xfrm>
            <a:off x="3564000" y="1989000"/>
            <a:ext cx="4248000" cy="27878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SzPct val="91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骨细胞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成骨细胞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破骨细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SzPct val="91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胶原蛋白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蛋白多糖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脂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SzPct val="91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磷酸钙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碳酸钙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柠檬酸钙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SzPct val="91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微量钾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氟化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title"/>
          </p:nvPr>
        </p:nvSpPr>
        <p:spPr>
          <a:xfrm>
            <a:off x="684360" y="1413000"/>
            <a:ext cx="7772400" cy="57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形成骨盐参与骨架组成</a:t>
            </a:r>
            <a:endParaRPr b="0" lang="en-US" sz="2400" spc="-1" strike="noStrike">
              <a:solidFill>
                <a:srgbClr val="696464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2"/>
          <p:cNvSpPr/>
          <p:nvPr/>
        </p:nvSpPr>
        <p:spPr>
          <a:xfrm>
            <a:off x="755640" y="692280"/>
            <a:ext cx="3200400" cy="4465440"/>
          </a:xfrm>
          <a:prstGeom prst="rect">
            <a:avLst/>
          </a:prstGeom>
          <a:solidFill>
            <a:srgbClr val="ff99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cc33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骨盐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骨基质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cc33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cc33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cc33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骨晶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骨基质胶原纤维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cc33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cc33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牙齿中的骨盐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ctangle 3"/>
          <p:cNvSpPr/>
          <p:nvPr/>
        </p:nvSpPr>
        <p:spPr>
          <a:xfrm>
            <a:off x="3995640" y="692280"/>
            <a:ext cx="4419720" cy="4465440"/>
          </a:xfrm>
          <a:prstGeom prst="rect">
            <a:avLst/>
          </a:prstGeom>
          <a:solidFill>
            <a:srgbClr val="cc9900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磷酸钙盐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</a:t>
            </a:r>
            <a:r>
              <a:rPr b="1" lang="zh-CN" sz="2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无定形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CaHPO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羟磷灰石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</a:t>
            </a:r>
            <a:r>
              <a:rPr b="1" lang="zh-CN" sz="2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柱状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/</a:t>
            </a:r>
            <a:r>
              <a:rPr b="1" lang="zh-CN" sz="2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针状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[Ca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PO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OH)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羟磷灰石</a:t>
            </a:r>
            <a:r>
              <a:rPr b="1" lang="zh-CN" sz="2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结晶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钙、磷的储存库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维持钙、磷的浓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[Ca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PO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F)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硬度增加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溶解度降低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适量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预防齿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过量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斑釉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毒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21T12:22:06Z</dcterms:created>
  <dc:creator>Yuanlijie</dc:creator>
  <dc:description/>
  <dc:language>en-US</dc:language>
  <cp:lastModifiedBy>ZhangLL</cp:lastModifiedBy>
  <dcterms:modified xsi:type="dcterms:W3CDTF">2014-12-04T03:14:39Z</dcterms:modified>
  <cp:revision>19</cp:revision>
  <dc:subject/>
  <dc:title>幻灯片 1</dc:title>
</cp:coreProperties>
</file>