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upian.knowsky.com/tupianlist_14202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wa.com/Photo/107/6626.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3733101504480973017&amp;pos=72&amp;num=36&amp;q=&#23567;&#20799;&#36139;&#34880;&amp;fm=QH360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-1208842857323975383&amp;pos=25&amp;num=36&amp;q=&#23567;&#20799;&#33829;&#20859;&#19981;&#33391;&amp;fm=QH360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920" y="5445000"/>
            <a:ext cx="806616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沈阳医学院   王智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2819520" cy="254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第十二章  </a:t>
            </a:r>
            <a:br>
              <a:rPr sz="4400"/>
            </a:b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造血系统疾病患儿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二、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一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-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理性贫血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hysiologic anem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2-3m       EPO↓→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造血↓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100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血容量多、稀释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3.0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胎儿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寿命短破坏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生理性溶血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二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W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交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三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PLT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与成人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四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五）血容量（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Blood Volume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Newborn            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Child                    8%-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Adult                    6%-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36352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理性贫血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婴儿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×10</a:t>
            </a:r>
            <a:r>
              <a:rPr b="1" lang="zh-CN" sz="2400" spc="-1" strike="noStrike" baseline="50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g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出现轻度贫血（自限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原因</a:t>
            </a: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呼吸建立，血氧含量增加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PO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造血功能暂时↓，网织红细胞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细胞寿命短，破坏较多（生理性溶血）。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发育迅速，循环血量迅速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高清漂亮婴儿图片下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86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红细胞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RBC)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和血红蛋白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 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RBC(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/L)     Hb(g/L)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备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出生时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5.0~7.0         150~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6~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小时          ↑                 ↑    血液浓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2~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3.0                100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生理性贫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&gt;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 ↑                 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岁后            成人水平       成人水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756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56536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3160" y="5597640"/>
            <a:ext cx="693432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1840" y="177012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3160" y="4713120"/>
            <a:ext cx="46836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8080" y="35812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6668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89000" y="949320"/>
            <a:ext cx="0" cy="46483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29272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1-4</a:t>
            </a: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520" y="5791320"/>
            <a:ext cx="13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7</a:t>
            </a:r>
            <a:r>
              <a:rPr b="1" lang="zh-CN" sz="2400" spc="-1" strike="noStrike">
                <a:solidFill>
                  <a:srgbClr val="006666"/>
                </a:solidFill>
                <a:latin typeface="Garamond"/>
              </a:rPr>
              <a:t>岁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6248520" cy="2082960"/>
          </a:xfrm>
          <a:custGeom>
            <a:avLst/>
            <a:gdLst/>
            <a:ahLst/>
            <a:rect l="l" t="t" r="r" b="b"/>
            <a:pathLst>
              <a:path w="3936" h="1312">
                <a:moveTo>
                  <a:pt x="0" y="0"/>
                </a:moveTo>
                <a:cubicBezTo>
                  <a:pt x="560" y="592"/>
                  <a:pt x="1120" y="1184"/>
                  <a:pt x="1776" y="1248"/>
                </a:cubicBezTo>
                <a:cubicBezTo>
                  <a:pt x="2432" y="1312"/>
                  <a:pt x="3184" y="848"/>
                  <a:pt x="3936" y="38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0480" y="2755800"/>
            <a:ext cx="6400800" cy="1511280"/>
          </a:xfrm>
          <a:custGeom>
            <a:avLst/>
            <a:gdLst/>
            <a:ahLst/>
            <a:rect l="l" t="t" r="r" b="b"/>
            <a:pathLst>
              <a:path w="4032" h="952">
                <a:moveTo>
                  <a:pt x="0" y="952"/>
                </a:moveTo>
                <a:cubicBezTo>
                  <a:pt x="40" y="932"/>
                  <a:pt x="80" y="912"/>
                  <a:pt x="384" y="760"/>
                </a:cubicBezTo>
                <a:cubicBezTo>
                  <a:pt x="688" y="608"/>
                  <a:pt x="1328" y="80"/>
                  <a:pt x="1824" y="40"/>
                </a:cubicBezTo>
                <a:cubicBezTo>
                  <a:pt x="2320" y="0"/>
                  <a:pt x="2992" y="368"/>
                  <a:pt x="3360" y="520"/>
                </a:cubicBezTo>
                <a:cubicBezTo>
                  <a:pt x="3728" y="672"/>
                  <a:pt x="3880" y="812"/>
                  <a:pt x="4032" y="95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5640" y="266688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3949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7664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0480" y="2247840"/>
            <a:ext cx="141120" cy="15264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5640" y="419112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6360" y="29718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40" y="1370160"/>
            <a:ext cx="1360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36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944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720" y="5292720"/>
            <a:ext cx="52236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400480"/>
            <a:ext cx="76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333600"/>
            <a:ext cx="7621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65800"/>
            <a:ext cx="762120" cy="49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1440" y="1447920"/>
            <a:ext cx="1366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844560"/>
            <a:ext cx="1060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447920"/>
            <a:ext cx="1060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5257800"/>
            <a:ext cx="831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606600"/>
            <a:ext cx="2679840" cy="14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4200" y="696960"/>
            <a:ext cx="987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淋 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02280" y="1216080"/>
            <a:ext cx="125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中性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1720" y="957240"/>
            <a:ext cx="10605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844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1447920"/>
            <a:ext cx="1060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0720" y="13716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6248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中性粒细胞和淋巴细胞比例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第二节  小儿贫血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贫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(anemia)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外周血中单位容积末梢血中的红细胞数或血红蛋白量低于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1773360"/>
            <a:ext cx="165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行楷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689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3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世界卫生组织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~ 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1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~1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2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1e31"/>
                </a:solidFill>
                <a:latin typeface="Garamond"/>
                <a:ea typeface="隶书"/>
              </a:rPr>
              <a:t>血红蛋白正常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364500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中国儿科血液学组        新生儿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45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9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0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516640"/>
            <a:ext cx="37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拔每升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0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二）贫血分度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43640" cy="36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极重度       重度       中度       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血红蛋白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g/L)        &lt;30            &lt;60         &lt;90       &lt;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*(&lt;60)         (&lt;90)     (&lt;120)    (&lt;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数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&lt;1.0        &lt;2.0      &lt;3.0      &lt;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×10</a:t>
            </a:r>
            <a:r>
              <a:rPr b="1" lang="zh-CN" sz="32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972040"/>
            <a:ext cx="57610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括号内为新生儿分度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贫血分类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9688"/>
                </a:solidFill>
                <a:latin typeface="隶书"/>
                <a:ea typeface="隶书"/>
              </a:rPr>
              <a:t>病因学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红细胞丢失过多（失血性贫血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</a:t>
            </a:r>
            <a:r>
              <a:rPr b="0" lang="zh-CN" sz="1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血物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铁性贫血，巨幼细胞性贫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叶酸缺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骨髓造血功能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红细胞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：感染、炎症、肾病、癌症、铅中毒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0640"/>
            <a:ext cx="65880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404640"/>
            <a:ext cx="2987640" cy="112572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624720" cy="3744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89040"/>
            <a:ext cx="18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）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贫血及生理性贫血的概念；归纳营养性缺铁性贫血和营养性巨幼红细胞性贫血的概念、身体状况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正常小儿造血及血液特点；各年龄期贫血的诊断标准；营养性贫血的治疗原则及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9fff"/>
                </a:solidFill>
                <a:latin typeface="隶书"/>
                <a:ea typeface="隶书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性失血性贫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慢性失血性贫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奶过敏、钩虫、月经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52360" y="5493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丢失过多（失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564000" cy="187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988920"/>
            <a:ext cx="88390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MCV(fl)      MCH(pg)      MCHC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常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28~32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大细胞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gt;94                  &gt;32             32~38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细胞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  28~32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单纯小细胞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&lt;28 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小细胞低色素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 &lt;28              &lt;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55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79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91440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7840" y="598176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C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浓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5210280"/>
            <a:ext cx="456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3200" y="521028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* MCV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容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54680" y="635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8520" y="5584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形态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0"/>
            <a:ext cx="2987640" cy="907920"/>
          </a:xfrm>
          <a:prstGeom prst="cloudCallout">
            <a:avLst>
              <a:gd name="adj1" fmla="val -49203"/>
              <a:gd name="adj2" fmla="val 11835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60280"/>
            <a:ext cx="853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二、  营养性缺铁性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8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</a:rPr>
              <a:t>缺铁性贫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on  deficiency anemia, 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于体内铁缺乏导致血红蛋白合成减少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特点：①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血清铁和铁蛋白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              ③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铁剂治疗有效为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小儿最常见的一种贫血，婴幼儿发病率最高，严重危害小儿健康，是我国重点防治的小儿常见病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52856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人体内铁元素的含量及其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：正常成人 男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存铁，以铁蛋白、含铁血黄素形式贮存于骨髓、肝、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铁酶、运输铁（血浆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159280" cy="2690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87520" y="489240"/>
            <a:ext cx="71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隶书"/>
              </a:rPr>
              <a:t>【铁的代谢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铁的来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食物中摄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衰老的红细胞释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095560" cy="1727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4360" y="549360"/>
            <a:ext cx="8159760" cy="5661000"/>
            <a:chOff x="684360" y="549360"/>
            <a:chExt cx="8159760" cy="5661000"/>
          </a:xfrm>
        </p:grpSpPr>
        <p:sp>
          <p:nvSpPr>
            <p:cNvPr id="220" name=""/>
            <p:cNvSpPr/>
            <p:nvPr/>
          </p:nvSpPr>
          <p:spPr>
            <a:xfrm>
              <a:off x="684360" y="549360"/>
              <a:ext cx="815976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9fff"/>
                  </a:solidFill>
                  <a:latin typeface="宋体"/>
                </a:rPr>
                <a:t>食物铁含量、吸收率比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物    铁含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g/100g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吸收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菠菜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                                     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蛋黄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5                              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牛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豆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2                      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肉类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4                                    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~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母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49~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1486080"/>
              <a:ext cx="720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061720"/>
              <a:ext cx="72010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5230800"/>
              <a:ext cx="720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位：十二指肠和空肠上段被吸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9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29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粘膜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1e31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e21e31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551664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9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去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299736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＋转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需铁和贮铁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4360" y="3500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肠粘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263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333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78560" y="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33360"/>
            <a:ext cx="583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4360" y="1197000"/>
            <a:ext cx="9828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肠粘膜的调节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贮存铁充足或造血功能减退时，转铁蛋白受体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)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减少，肠粘膜细胞内铁蛋白合成增多，随肠粘膜脱落而排出体外，因而吸收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缺铁或造血功能增强时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合成增加，铁蛋白合成减少，肠粘膜内铁大部分入血流，铁吸收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影响铁吸收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促进因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、稀盐酸、果糖、氨基酸等还原物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抑制因素：磷酸、草酸、植物纤维、茶、咖啡、蛋、牛奶、抗酸药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25316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（四） 铁的储存与利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利用</a:t>
            </a:r>
            <a:r>
              <a:rPr b="0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血红蛋白：铁→骨髓 →幼红细胞的线粒体中与原卟啉 结合→形成血红素→与珠蛋白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肌红蛋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酶（单胺氧化酶等）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储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未被利用的铁以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铁蛋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含铁血黄素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形式贮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贮存铁可再利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→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+Tf (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转铁蛋白）→需铁组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276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35772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93372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5300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66"/>
                </a:solidFill>
                <a:latin typeface="Arial"/>
                <a:ea typeface="隶书"/>
              </a:rPr>
              <a:t>主要内容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节    小儿造血和血液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     小儿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（四） 铁的储存与利用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血液系统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形成的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铁减少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红细胞生成缺铁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缺铁性贫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其他系统的影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肌红蛋白的合成，并可使多种含铁酶活性减低，而出现非造血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95360" y="-63360"/>
            <a:ext cx="815328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铁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贮存铁↓　   血清铁↓ 血红蛋白铁↓       酶铁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红细胞内Ｈｂ合成↓↓              含铁酶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细胞分裂不受影响          　 　   铁依赖酶↓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Ｈｂ↓↓，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正常或↓   某些细胞功能紊乱，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　                     生物氧化、细胞呼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小细胞低色素性贫血   　　 神经递质分解与合成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            　　　　　　　    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血液系统症状        　　　    非血液系统症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一般贫血表现       　　　　 行为发育异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髓外造血表现          　　       皮肤粘膜损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心血管系统症状                     细胞免疫功能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缺铁性贫血发病机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561680" y="88920"/>
            <a:ext cx="1676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38560" y="241200"/>
            <a:ext cx="4572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71880" y="16524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80880"/>
            <a:ext cx="381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380880"/>
            <a:ext cx="3049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16524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914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1840" y="914400"/>
            <a:ext cx="12193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一）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先天储铁不足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早产、多胎、胎儿 失血、孕母严重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铁摄入量不足：婴儿食物转换期未及时补足强化 铁的    食物或铁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生长发育过快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产儿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年龄儿总摄入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&lt;15mg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吸收障碍：食物搭配不合理，慢性肠道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丢失过多：长期慢性失血，如牛奶过敏、息肉、钩虫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隶书"/>
              </a:rPr>
              <a:t>（二）身体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一般表现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下降→缺氧→疲倦乏力、皮肤粘膜苍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外造血表现</a:t>
            </a: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贫血愈重，肝、脾肿大也愈明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008000" cy="781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270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非造血系统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3357720"/>
            <a:ext cx="54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消化系统：食欲不振、恶心、呕吐、腹泻腹胀或便秘等。异食癖（吃纸屑、煤渣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797360"/>
            <a:ext cx="59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循环系统：由于缺氧，可有代偿性呼吸、心率加快，活动或哭闹后更明显，严重者可出现全心扩大、心脏杂音甚至心力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081080" cy="87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87640" y="620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341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神经系统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烦躁不安、萎靡不振、精神不集中、记忆力减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隶书"/>
              </a:rPr>
              <a:t>其他表现：因细胞免疫功能低下，常合并感染。因上皮组织异常而出现指甲菲薄、反甲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268280"/>
          <a:ext cx="100656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10065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koilonychia反甲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3875400" cy="262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00720" y="0"/>
            <a:ext cx="2484360" cy="1368360"/>
          </a:xfrm>
          <a:prstGeom prst="cloudCallout">
            <a:avLst>
              <a:gd name="adj1" fmla="val -99518"/>
              <a:gd name="adj2" fmla="val 435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8472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辅助检查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常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Hb ↓↓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＞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RBC 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呈小细胞低色素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细胞大小不等，以小细胞为多，中央淡染区扩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V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80fl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6pg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C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网织红细胞正常或轻度减少；白细胞、血小板一般无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520560" cy="368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4005360"/>
            <a:ext cx="84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骨髓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增生活跃，以中、晚幼红细胞增生为主，各期红细胞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较小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含量少，铁幼粒细胞减少甚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粒细胞和巨核细胞一般无明显异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5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19120" cy="368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47960" y="4495680"/>
            <a:ext cx="7924680" cy="136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76767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9fff"/>
                </a:solidFill>
                <a:latin typeface="宋体"/>
              </a:rPr>
              <a:t>           </a:t>
            </a:r>
            <a:endParaRPr b="0" i="1" lang="en-US" sz="1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52974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83000" y="484812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83000" y="4879800"/>
            <a:ext cx="552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011040" y="483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8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354560"/>
            <a:ext cx="45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9000" y="4484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4040" y="5297400"/>
            <a:ext cx="58467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6767"/>
                </a:solidFill>
                <a:latin typeface="Garamond"/>
              </a:rPr>
              <a:t>缺铁性贫血红细胞形态：图示成熟红细胞大小不等以小细胞为主，中心浅染区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2760" y="31161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42920" y="1989000"/>
          <a:ext cx="65534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655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943280" y="50212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uclear cytoplasmic di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549360"/>
            <a:ext cx="8001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骨髓象</a:t>
            </a:r>
            <a:r>
              <a:rPr b="1" lang="zh-CN" sz="28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bone marrow sm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增生活跃，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量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，粒系和巨核系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有关铁代谢的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蛋白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F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体内贮存铁的情况，是诊断缺铁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期的敏感指标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正常值：＜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94~238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个月后为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8~91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；低于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2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提示缺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游离原卟啉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内缺铁时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FEP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未出现贫血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的典型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I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、总铁结合力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IBC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和转铁蛋白饱和度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S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血浆中铁含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I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S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IBC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骨髓可染铁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5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1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6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9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2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293920"/>
            <a:ext cx="8893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生在婴幼儿时期，因其神经系统受影响而使心理发展出现迟缓。病情较重、病程较长的年长患儿由于成绩下降或智力低于同龄儿而产生自卑、焦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隶书"/>
                <a:ea typeface="隶书"/>
              </a:rPr>
              <a:t>家长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42360" y="836640"/>
            <a:ext cx="33364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隶书"/>
              </a:rPr>
              <a:t>（四）心理社会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宝宝表情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727280" cy="963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2016360" cy="1295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第一节  小儿造血和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52720" cy="27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五）治疗原则</a:t>
            </a:r>
            <a:br>
              <a:rPr sz="40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872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去除病因，合理喂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补充铁剂，必要时输血治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防治感染。</a:t>
            </a:r>
            <a:r>
              <a:rPr b="0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58920" y="2204640"/>
            <a:ext cx="7634160" cy="399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营养失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活动无耐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3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有感染的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4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77840" cy="2736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8696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65480" y="303120"/>
            <a:ext cx="2165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护理措施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337760"/>
            <a:ext cx="84978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457200"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合理安排活动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预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加强消毒隔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口腔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皮肤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357336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60640"/>
            <a:ext cx="33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32018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308640"/>
            <a:ext cx="1214280" cy="12146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17520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buClr>
                <a:srgbClr val="0066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理安排饮食，补充含铁食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正确应用铁剂，观察疗效与副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3200" y="4344480"/>
            <a:ext cx="3987360" cy="605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2997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4581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93080" y="134136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562920"/>
            <a:ext cx="4159440" cy="255636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射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铁剂后的观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0955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合理安排活动与休息</a:t>
            </a:r>
            <a:br>
              <a:rPr sz="32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应避免剧烈运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活要有规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避免激动、保持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0"/>
            <a:ext cx="2952720" cy="896760"/>
          </a:xfrm>
          <a:prstGeom prst="cloudCallout">
            <a:avLst>
              <a:gd name="adj1" fmla="val -89300"/>
              <a:gd name="adj2" fmla="val 6699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9592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97080" y="1628640"/>
            <a:ext cx="561636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强消毒隔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口腔护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皮肤护理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6640"/>
            <a:ext cx="3887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预防感染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671920" cy="228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21e31"/>
                </a:solidFill>
                <a:latin typeface="Arial"/>
                <a:ea typeface="隶书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指导家长及患儿正确用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宣传科学育儿，提倡母乳喂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向家长及患儿讲解疾病的有关防治要点及护理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做好母亲的保健工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950320" cy="23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fff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</a:t>
            </a:r>
            <a:r>
              <a:rPr b="1" i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(nutritional megaloblastic anemia)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概述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叶酸缺乏所致的大细胞性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主要临床特点：贫血、神经精神症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红细胞胞体积变大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骨髓出现巨幼细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维生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叶酸治疗有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5440" y="55440"/>
            <a:ext cx="543348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 baseline="-25000">
                <a:solidFill>
                  <a:srgbClr val="008080"/>
                </a:solidFill>
                <a:latin typeface="隶书"/>
                <a:ea typeface="隶书"/>
              </a:rPr>
              <a:t>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758196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隶书"/>
              </a:rPr>
              <a:t>性质与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是维生素中分子量最大的，含有金属元素钴，是维生素中唯一含有金属元素的，弱酸中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参与叶酸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促使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隶书"/>
                <a:hlinkClick r:id="rId2" action="ppaction://hlinksldjump"/>
              </a:rPr>
              <a:t>甲基丙二酸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转变为琥珀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增加叶酸的利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一、造血特点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86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胚胎造血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38680" y="2708280"/>
            <a:ext cx="196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胚叶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3480" y="328464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肝脾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120" y="393372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221000"/>
            <a:ext cx="2117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生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2040" y="4797360"/>
            <a:ext cx="1861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外造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1885680"/>
            <a:ext cx="856908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分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胃内与内因子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形成复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复合物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远端粘膜细胞微绒毛的特殊受体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内因子分离，经主动转运进入肠粘膜上皮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转运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钴蛋白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来源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其主要来源为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动物性食物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如肉类、肝脏、肾含量较多，奶、蛋类含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3360" y="1220760"/>
            <a:ext cx="1704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吸收与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2720" y="274680"/>
            <a:ext cx="442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8798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二、叶酸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在十二指肠、空肠近端主动重吸收；在小肠下部以弥散方式被动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吸收后以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5-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甲基四氢叶酸形式储存于肝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参与嘌呤和嘧啶的合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食物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绿色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肝、肾、蛋黄、人乳、牛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羊乳含量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食物中叶酸不耐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51768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365040"/>
            <a:ext cx="76201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四氢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核苷酸尤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胸苷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VitB</a:t>
            </a:r>
            <a:r>
              <a:rPr b="1" lang="zh-CN" sz="2400" spc="-1" strike="noStrike" baseline="-30000">
                <a:solidFill>
                  <a:srgbClr val="dadada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DNA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RNA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髓鞘中脂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分裂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蛋白质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如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蛋白合成不足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增殖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纤维功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巨幼变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不完整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数量下降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表情呆滞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反应差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R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W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PLT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其它组织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发育落后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常倒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↓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肢体震颤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可有病理反射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精神神经症状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巨幼细胞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81080" y="746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1557360"/>
            <a:ext cx="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53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822240"/>
            <a:ext cx="137160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822240"/>
            <a:ext cx="99072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508040"/>
            <a:ext cx="0" cy="38124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5750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920" y="3641760"/>
            <a:ext cx="76176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641760"/>
            <a:ext cx="114300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41760"/>
            <a:ext cx="236232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5851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细胞性贫血发病机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93640"/>
            <a:ext cx="106668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593640"/>
            <a:ext cx="83844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1484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508640"/>
            <a:ext cx="0" cy="93636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摄入量不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吸收代谢障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需要量增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其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2087640" cy="208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16720" y="189000"/>
            <a:ext cx="2303280" cy="107928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" y="476280"/>
            <a:ext cx="3546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摄入量不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264760"/>
            <a:ext cx="504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孕妇缺乏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，可致婴儿储存不足；出生后单纯母乳喂养或奶粉、羊奶喂养而未及时添加辅食的婴儿易致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和叶酸缺乏。年长儿多因挑食、偏食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440" y="3855960"/>
            <a:ext cx="313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．吸收代谢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4581360"/>
            <a:ext cx="885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严重营养不良、慢性腹泻、胃肠炎、小肠病变或吸收不良综合征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吸收减少</a:t>
            </a:r>
            <a:r>
              <a:rPr b="0" lang="zh-CN" sz="2800" spc="-1" strike="noStrike">
                <a:solidFill>
                  <a:srgbClr val="00808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91628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0360" y="0"/>
            <a:ext cx="2303640" cy="107964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25560" y="104760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3025800"/>
            <a:ext cx="568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399960"/>
            <a:ext cx="285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需要量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73360"/>
            <a:ext cx="83170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早产儿、婴幼儿生长发育快，对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的需要量增加，严重感染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耗增加，慢性溶血、恶性肿瘤等对叶酸的需要增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7480" y="3645000"/>
            <a:ext cx="166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其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35760" y="4437000"/>
            <a:ext cx="26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长期或大量应用某些药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50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（二）身体状况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一般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贫血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神经精神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消化系统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201600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月～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岁多见，起病缓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多呈虚胖或颜面轻度浮肿，毛发纤细稀疏、黄色，严重者皮肤有出血点或瘀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贫血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皮肤蜡黄色，睑结膜、口唇、指甲等处苍白，偶有轻度黄疸；疲乏无力，常伴有肝脾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40720" y="8366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189000"/>
            <a:ext cx="2987640" cy="1081080"/>
          </a:xfrm>
          <a:prstGeom prst="cloudCallout">
            <a:avLst>
              <a:gd name="adj1" fmla="val -95060"/>
              <a:gd name="adj2" fmla="val 4574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0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6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9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2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64360" cy="56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精神神经症状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退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与贫血程度不完全平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维生素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 baseline="-25000">
                <a:solidFill>
                  <a:srgbClr val="009688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缺乏者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表现为表情呆滞、目光发直、对周围反应迟钝，嗜睡、不认亲人，少哭不笑，智力、动作发育落后甚至退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重症病例可发展为神经系统器质性病变，出现不规则性震颤，手足无意识运动，甚至抽搐、感觉异常、共济失调、踝阵挛和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Barbinski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征阳性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酸缺乏不发生神经系统症状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但可导致情感改变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偶见深感觉异常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其机制尚未明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化系统症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常出现较早，如厌食、恶心、呕吐、腹泻和舌炎（牛肉镜面舌）等。（舌下正对下中门齿处可发生溃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0"/>
            <a:ext cx="2987640" cy="1081080"/>
          </a:xfrm>
          <a:prstGeom prst="cloudCallout">
            <a:avLst>
              <a:gd name="adj1" fmla="val -79490"/>
              <a:gd name="adj2" fmla="val 914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3124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外周血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RBC↓↓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Hb↓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呈大细胞性贫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V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94f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2pg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涂片可见红细胞大小不等，以大细胞为多。中央淡染区不明显，染色稍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网织红细胞降低，是反映疗效的指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白细胞、血小板计数常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辅助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056360" cy="47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（一）生前（胚胎期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中胚叶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卵黄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肝、脾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m  ,  6m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胸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淋巴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Bone Marrow, B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发育  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4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造血，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持续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互相交替、此消彼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3356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附图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01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19920"/>
            <a:ext cx="9612360" cy="838080"/>
          </a:xfrm>
          <a:prstGeom prst="rect">
            <a:avLst/>
          </a:prstGeom>
          <a:solidFill>
            <a:srgbClr val="ffe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Garamond"/>
                <a:ea typeface="华文中宋"/>
              </a:rPr>
              <a:t>营养性巨幼细胞性贫血外周血涂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增生明显活跃，以红细胞系增生为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  <a:ea typeface="黑体"/>
              </a:rPr>
              <a:t>红系巨幼变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核幼浆老”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各期红细胞均较大；核染色质疏松核分裂常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由于红细胞成熟停滞，原红细胞和早幼红细胞增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血红蛋白出现早，在早幼阶段偶可见血红蛋白，提示胞核发育落后于胞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粒细胞系可见巨幼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巨核细胞的核有过度分叶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干预后改变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549360"/>
            <a:ext cx="19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骨髓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3333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60280"/>
            <a:ext cx="2627280" cy="970200"/>
          </a:xfrm>
          <a:prstGeom prst="wedgeEllipseCallout">
            <a:avLst>
              <a:gd name="adj1" fmla="val -88611"/>
              <a:gd name="adj2" fmla="val 41652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383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38160">
            <a:solidFill>
              <a:srgbClr val="ff6699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巨幼细胞性贫血骨髓象：图示幼稚红细胞巨幼变，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大、核染色质粗而松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成熟红细胞较大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嗜多色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1672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和叶酸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正常值为　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800ng/L,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00n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叶酸水平正常值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5~6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乳酸脱氧酶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LD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水平明显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缺乏者血清胆红素水平中等程度升高，尿甲基丙二酸含量增高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0"/>
            <a:ext cx="2627280" cy="969840"/>
          </a:xfrm>
          <a:prstGeom prst="wedgeEllipseCallout">
            <a:avLst>
              <a:gd name="adj1" fmla="val -84745"/>
              <a:gd name="adj2" fmla="val 71601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（四）心理社会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黑体"/>
              </a:rPr>
              <a:t>此种贫血多发生在婴幼儿时期，贫血严重时不但会影响小儿的体格发育，而且还会影响神经、精神的正常发育，患儿易产生烦躁、抑郁及自卑的心理。同时评估家长对本病防治知识的了解程度，及时给与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治疗：注意营养，及时添加辅食；加强护理，防止感染；对症治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去除病因：对引起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缺乏的原因应予去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单纯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500~10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次肌注或每次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每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~3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次连用数周，至临床症状好转，血象恢复正常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有神经系统表现时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d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连续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周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由于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缺陷所致者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月，长期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0000" y="62064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7468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五）治疗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030320" y="2354040"/>
            <a:ext cx="7074000" cy="31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活动无耐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长发育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有受伤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4480" y="105264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79736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380360" y="4149720"/>
            <a:ext cx="10792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5208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22240" y="2856600"/>
            <a:ext cx="3848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导哺乳母亲改善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医嘱给药，并注意观察疗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149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126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不需卧床，严重贫血者适当限制活动，烦躁、抽搐频繁者必要时可用镇静剂，以防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1413000"/>
            <a:ext cx="7095600" cy="4431960"/>
            <a:chOff x="971640" y="1413000"/>
            <a:chExt cx="7095600" cy="4431960"/>
          </a:xfrm>
        </p:grpSpPr>
        <p:sp>
          <p:nvSpPr>
            <p:cNvPr id="91" name=""/>
            <p:cNvSpPr/>
            <p:nvPr/>
          </p:nvSpPr>
          <p:spPr>
            <a:xfrm>
              <a:off x="1130400" y="14130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518148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1640" y="51814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3     4     5     6     7     8     9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7120" y="4508640"/>
              <a:ext cx="2210040" cy="787320"/>
            </a:xfrm>
            <a:custGeom>
              <a:avLst/>
              <a:gdLst/>
              <a:ahLst/>
              <a:rect l="l" t="t" r="r" b="b"/>
              <a:pathLst>
                <a:path w="1392" h="448">
                  <a:moveTo>
                    <a:pt x="0" y="352"/>
                  </a:moveTo>
                  <a:cubicBezTo>
                    <a:pt x="268" y="176"/>
                    <a:pt x="536" y="0"/>
                    <a:pt x="768" y="16"/>
                  </a:cubicBezTo>
                  <a:cubicBezTo>
                    <a:pt x="1000" y="32"/>
                    <a:pt x="1288" y="376"/>
                    <a:pt x="1392" y="448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30400" y="2205000"/>
              <a:ext cx="1371600" cy="2997360"/>
            </a:xfrm>
            <a:custGeom>
              <a:avLst/>
              <a:gdLst/>
              <a:ahLst/>
              <a:rect l="l" t="t" r="r" b="b"/>
              <a:pathLst>
                <a:path w="864" h="1888">
                  <a:moveTo>
                    <a:pt x="0" y="8"/>
                  </a:moveTo>
                  <a:cubicBezTo>
                    <a:pt x="84" y="4"/>
                    <a:pt x="168" y="0"/>
                    <a:pt x="240" y="56"/>
                  </a:cubicBezTo>
                  <a:cubicBezTo>
                    <a:pt x="312" y="112"/>
                    <a:pt x="360" y="200"/>
                    <a:pt x="432" y="344"/>
                  </a:cubicBezTo>
                  <a:cubicBezTo>
                    <a:pt x="504" y="488"/>
                    <a:pt x="608" y="688"/>
                    <a:pt x="672" y="920"/>
                  </a:cubicBezTo>
                  <a:cubicBezTo>
                    <a:pt x="736" y="1152"/>
                    <a:pt x="784" y="1584"/>
                    <a:pt x="816" y="1736"/>
                  </a:cubicBezTo>
                  <a:cubicBezTo>
                    <a:pt x="848" y="1888"/>
                    <a:pt x="856" y="1860"/>
                    <a:pt x="864" y="1832"/>
                  </a:cubicBezTo>
                </a:path>
              </a:pathLst>
            </a:custGeom>
            <a:noFill/>
            <a:ln w="19080">
              <a:solidFill>
                <a:srgbClr val="00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6040" y="3263760"/>
              <a:ext cx="5257800" cy="1917720"/>
            </a:xfrm>
            <a:custGeom>
              <a:avLst/>
              <a:gdLst/>
              <a:ahLst/>
              <a:rect l="l" t="t" r="r" b="b"/>
              <a:pathLst>
                <a:path w="3312" h="1208">
                  <a:moveTo>
                    <a:pt x="0" y="1208"/>
                  </a:moveTo>
                  <a:cubicBezTo>
                    <a:pt x="104" y="1156"/>
                    <a:pt x="208" y="1104"/>
                    <a:pt x="288" y="1016"/>
                  </a:cubicBezTo>
                  <a:cubicBezTo>
                    <a:pt x="368" y="928"/>
                    <a:pt x="416" y="784"/>
                    <a:pt x="480" y="680"/>
                  </a:cubicBezTo>
                  <a:cubicBezTo>
                    <a:pt x="544" y="576"/>
                    <a:pt x="584" y="488"/>
                    <a:pt x="672" y="392"/>
                  </a:cubicBezTo>
                  <a:cubicBezTo>
                    <a:pt x="760" y="296"/>
                    <a:pt x="912" y="168"/>
                    <a:pt x="1008" y="104"/>
                  </a:cubicBezTo>
                  <a:cubicBezTo>
                    <a:pt x="1104" y="40"/>
                    <a:pt x="1160" y="16"/>
                    <a:pt x="1248" y="8"/>
                  </a:cubicBezTo>
                  <a:cubicBezTo>
                    <a:pt x="1336" y="0"/>
                    <a:pt x="1424" y="8"/>
                    <a:pt x="1536" y="56"/>
                  </a:cubicBezTo>
                  <a:cubicBezTo>
                    <a:pt x="1648" y="104"/>
                    <a:pt x="1800" y="200"/>
                    <a:pt x="1920" y="296"/>
                  </a:cubicBezTo>
                  <a:cubicBezTo>
                    <a:pt x="2040" y="392"/>
                    <a:pt x="2144" y="536"/>
                    <a:pt x="2256" y="632"/>
                  </a:cubicBezTo>
                  <a:cubicBezTo>
                    <a:pt x="2368" y="728"/>
                    <a:pt x="2472" y="800"/>
                    <a:pt x="2592" y="872"/>
                  </a:cubicBezTo>
                  <a:cubicBezTo>
                    <a:pt x="2712" y="944"/>
                    <a:pt x="2872" y="1024"/>
                    <a:pt x="2976" y="1064"/>
                  </a:cubicBezTo>
                  <a:cubicBezTo>
                    <a:pt x="3080" y="1104"/>
                    <a:pt x="3160" y="1104"/>
                    <a:pt x="3216" y="1112"/>
                  </a:cubicBezTo>
                  <a:cubicBezTo>
                    <a:pt x="3272" y="1120"/>
                    <a:pt x="3292" y="1116"/>
                    <a:pt x="3312" y="111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79040" y="5324400"/>
              <a:ext cx="9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胎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0" y="423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9fff"/>
                  </a:solidFill>
                  <a:latin typeface="Times New Roman"/>
                </a:rPr>
                <a:t>淋巴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1720" y="271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3120" y="393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520" y="2421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中胚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9040" y="2197080"/>
              <a:ext cx="4647960" cy="2984400"/>
            </a:xfrm>
            <a:custGeom>
              <a:avLst/>
              <a:gdLst/>
              <a:ahLst/>
              <a:rect l="l" t="t" r="r" b="b"/>
              <a:pathLst>
                <a:path w="2928" h="1880">
                  <a:moveTo>
                    <a:pt x="0" y="1880"/>
                  </a:moveTo>
                  <a:cubicBezTo>
                    <a:pt x="100" y="1848"/>
                    <a:pt x="200" y="1816"/>
                    <a:pt x="288" y="1784"/>
                  </a:cubicBezTo>
                  <a:cubicBezTo>
                    <a:pt x="376" y="1752"/>
                    <a:pt x="440" y="1736"/>
                    <a:pt x="528" y="1688"/>
                  </a:cubicBezTo>
                  <a:cubicBezTo>
                    <a:pt x="616" y="1640"/>
                    <a:pt x="728" y="1568"/>
                    <a:pt x="816" y="1496"/>
                  </a:cubicBezTo>
                  <a:cubicBezTo>
                    <a:pt x="904" y="1424"/>
                    <a:pt x="992" y="1344"/>
                    <a:pt x="1056" y="1256"/>
                  </a:cubicBezTo>
                  <a:cubicBezTo>
                    <a:pt x="1120" y="1168"/>
                    <a:pt x="1136" y="1048"/>
                    <a:pt x="1200" y="968"/>
                  </a:cubicBezTo>
                  <a:cubicBezTo>
                    <a:pt x="1264" y="888"/>
                    <a:pt x="1336" y="840"/>
                    <a:pt x="1440" y="776"/>
                  </a:cubicBezTo>
                  <a:cubicBezTo>
                    <a:pt x="1544" y="712"/>
                    <a:pt x="1688" y="656"/>
                    <a:pt x="1824" y="584"/>
                  </a:cubicBezTo>
                  <a:cubicBezTo>
                    <a:pt x="1960" y="512"/>
                    <a:pt x="2104" y="432"/>
                    <a:pt x="2256" y="344"/>
                  </a:cubicBezTo>
                  <a:cubicBezTo>
                    <a:pt x="2408" y="256"/>
                    <a:pt x="2624" y="112"/>
                    <a:pt x="2736" y="56"/>
                  </a:cubicBezTo>
                  <a:cubicBezTo>
                    <a:pt x="2848" y="0"/>
                    <a:pt x="2888" y="4"/>
                    <a:pt x="2928" y="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09920" y="4635360"/>
              <a:ext cx="3924360" cy="546120"/>
            </a:xfrm>
            <a:custGeom>
              <a:avLst/>
              <a:gdLst/>
              <a:ahLst/>
              <a:rect l="l" t="t" r="r" b="b"/>
              <a:pathLst>
                <a:path w="2472" h="344">
                  <a:moveTo>
                    <a:pt x="0" y="344"/>
                  </a:moveTo>
                  <a:cubicBezTo>
                    <a:pt x="180" y="296"/>
                    <a:pt x="360" y="248"/>
                    <a:pt x="480" y="200"/>
                  </a:cubicBezTo>
                  <a:cubicBezTo>
                    <a:pt x="600" y="152"/>
                    <a:pt x="568" y="88"/>
                    <a:pt x="720" y="56"/>
                  </a:cubicBezTo>
                  <a:cubicBezTo>
                    <a:pt x="872" y="24"/>
                    <a:pt x="1128" y="16"/>
                    <a:pt x="1392" y="8"/>
                  </a:cubicBezTo>
                  <a:cubicBezTo>
                    <a:pt x="1656" y="0"/>
                    <a:pt x="2136" y="8"/>
                    <a:pt x="2304" y="8"/>
                  </a:cubicBezTo>
                  <a:cubicBezTo>
                    <a:pt x="2472" y="8"/>
                    <a:pt x="2436" y="8"/>
                    <a:pt x="2400" y="8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8520" y="164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骨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511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7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Times New Roman"/>
                <a:ea typeface="隶书"/>
              </a:rPr>
              <a:t>造血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55840" y="1741320"/>
          <a:ext cx="6089400" cy="35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1741320"/>
                    <a:ext cx="6089400" cy="35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63374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患儿的体格、智力、运动发育情况，对部分发育落后者应加强锻炼和训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16692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5975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避免交叉感染，少去公共场所，在医院注意实施保护性隔离，做好口腔清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5977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重震颤患儿可按医嘱给予镇静剂 ，防止发生舌咬伤 。限制活动防止发生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8292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1476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【健康教育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向家长介绍本病的临床表现和防治措施，强调预防的重要性。合理用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加强对家长进行营养知识的宣传，强调    饮食多样化的重要性，不能挑食、偏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指导家长做好生长发育监测和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1e31"/>
                </a:solidFill>
                <a:latin typeface="Arial"/>
                <a:ea typeface="隶书"/>
              </a:rPr>
              <a:t>小结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836640"/>
            <a:ext cx="288720" cy="687240"/>
          </a:xfrm>
          <a:prstGeom prst="downArrow">
            <a:avLst>
              <a:gd name="adj1" fmla="val 50000"/>
              <a:gd name="adj2" fmla="val 595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4005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314172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3141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3357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5840" y="2772720"/>
            <a:ext cx="8858160" cy="139392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儿造血和血液特点与成人不同。小儿造血分为胚胎期造血及生后造血，肝、脾是胚胎期主要造血器官，骨髓是生后主要的造血器官。不同年龄期小儿的血象有所不同。护士应掌握贫血的诊断标准和贫血分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摄入不足是引起营养性缺铁性贫血主要原因。临床有贫血、髓外造血表现，以及非造血系统症状。血象血红蛋白降低较红细胞减少明显。铁剂是特效药。护理重点是提倡母乳喂养，并及时添加含铁丰富的辅食。正确应用铁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营养性巨幼细胞性贫血主要由于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叶酸摄入不足所致。临床可出现神经精神症状。血象红细胞数减少较血红蛋白量降低更明显。护理措施是添加富含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叶酸的辅食，并注意防止患儿受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同阶段小儿主要在哪些器官造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髓外造血？生理性贫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贫血？贫血的程度是怎样划分的？贫血的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缺铁性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巨幼红细胞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小儿常见贫血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时期最初的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中期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出生后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28836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幼儿发生各种感染时，可出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、脾、淋巴结参与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、黄骨髓均参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二）生后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髓               黄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5-7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骨髓外造血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xtramedullary Hematopoies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婴幼儿时期   感染  →贫血         ①肝、脾、淋巴结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溶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②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外周血：有核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幼稚粒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149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儿生理性贫血通常发生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756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骨髓外造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生理性贫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营养性缺铁性贫血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       </a:t>
            </a:r>
            <a:r>
              <a:rPr b="1" i="1" lang="zh-CN" sz="9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515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5:19Z</dcterms:modified>
  <cp:revision>352</cp:revision>
  <dc:subject/>
  <dc:title>Lorem Ipsum</dc:title>
</cp:coreProperties>
</file>