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aike.baidu.com/view/53985.htm" TargetMode="External"/><Relationship Id="rId3" Type="http://schemas.openxmlformats.org/officeDocument/2006/relationships/hyperlink" Target="http://baike.baidu.com/view/771316.htm" TargetMode="External"/><Relationship Id="rId4" Type="http://schemas.openxmlformats.org/officeDocument/2006/relationships/hyperlink" Target="http://baike.baidu.com/view/525240.htm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7440" cy="180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十八章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传染性疾病患儿的护理</a:t>
            </a:r>
            <a:br>
              <a:rPr sz="5400"/>
            </a:br>
            <a:br>
              <a:rPr sz="5400"/>
            </a:b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3809880"/>
            <a:ext cx="8066160" cy="22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82920" y="5229360"/>
            <a:ext cx="47080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宁夏师范学院医学院  崔杏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692360" y="1908000"/>
            <a:ext cx="6048360" cy="2938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698508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持正常体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持皮肤粘膜完整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证营养的供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情观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感染的传播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患儿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岁。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发热，躯干、头面部皮肤可见较多皮疹，有丘疹、疱疹和结痂，体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8.6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精神欠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思考：①该患儿最可能的医疗诊断是什么？②患儿存在哪些护理问题？③应如何进行正确的护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65080" y="880200"/>
            <a:ext cx="5077440" cy="741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水痘？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3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水痘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痘是由水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带状疱疹病毒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VZV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初次感染引起的急性传染病。临床以皮肤粘膜分批出现斑丘疹、水疱和结痂，而且各期皮疹同时存在为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痘患儿是唯一的传染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飞沫或直接接触传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群普遍易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批出现的红色斑疹、斑丘疹、疱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皮疹呈向心性分布，且皮疹脱痂后一般不留瘢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粘膜疱疹易破溃形成溃疡，疼痛明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痘多为自限性疾病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左右自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水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3024360" cy="32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3384720" cy="29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皮肤完整性受损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水痘病毒引起的皮疹及继发感染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传播感染的危险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呼吸道及疱疹液排出病毒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在并发症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肺炎、脑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皮肤粘膜护理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疱疹无破溃，可涂炉甘石洗剂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碳酸氢钠溶液，已破溃者、有继发感染者，局部用抗生素软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药护理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热者忌用阿司匹林，以防诱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y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综合征。避免服用肾上腺皮质激素类药物包括软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感染的传播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隔离    ②保护易感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猩红热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猩红热是由溶血性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hlinkClick r:id="rId2"/>
              </a:rPr>
              <a:t>链球菌感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引起的急性呼吸道传染病。临床表现为发热、咽峡炎、全身弥漫性鲜红色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hlinkClick r:id="rId3"/>
              </a:rPr>
              <a:t>皮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疹退后皮肤明显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hlinkClick r:id="rId4"/>
              </a:rPr>
              <a:t>脱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患者和带菌者是其主要传染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飞沫经呼吸道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群普遍易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前驱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莓舌”、“杨梅舌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出疹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帕氏线”、“口周苍白圈”、“粟粒疹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恢复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猩红热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237492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35640" y="3848040"/>
            <a:ext cx="2089080" cy="224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900000" y="234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9600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麻疹、水痘、猩红热、百日咳、流行性腮腺炎、中毒性菌痢的概念、身体状况、护理诊断及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说出上述传染病的治疗原则、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知道上述传染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皮肤完整性受损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皮疹：与细菌产生红疹毒素引起皮肤损害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过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链球菌感染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在并发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肾炎、风湿热：与变态反应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皮肤护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、鼻、咽部的护理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密切观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起病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周复查尿常规以除外肾小球肾炎。注意有无出现发热、皮疹、关节损害等症状以除外风湿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健康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百日咳</a:t>
            </a: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百日咳是由百日咳杆菌所引起的急性呼吸道传染病。其临床特征为阵发性痉挛性咳嗽及阵咳终末出现“鸡鸣”样吸气性吼声。病程可迁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，故称“百日咳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病人是主要传染源，带菌者及不典型病人亦有传染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飞沫经呼吸道直接传播，传播范围一般在患者周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以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群对百日咳普遍易感，以婴幼儿最易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卡他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痉咳期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咳后回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恢复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2592360" cy="3382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64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窒息的危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百日咳痉咳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营养失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低于机体需要量：与痉咳引起呕吐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在并发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脑炎、肺不张、肺气肿：与百日咳病原毒素及痉咳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应安静，空气新鲜，阳光充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饮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应富含营养并易消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阵咳时护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可加用腹带，痉咳频繁伴有窒息或抽搐时，应设专人密切监护，侧卧，如出现阵发性屏气、发绀应及时吸氧，并适度地按压胸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病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百日咳脑病、肺不张、肺炎、皮下气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流行性腮腺炎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727280" y="2276640"/>
            <a:ext cx="23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76720" y="2205000"/>
            <a:ext cx="2095560" cy="273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流行性腮腺炎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流行性腮腺炎是由腮腺炎病毒引起的急性呼吸道传染病。以腮腺肿大、疼痛为特征，各种涎腺体及其他器官均可受累，系非化脓性炎症。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患者和隐性感染者为本病的传染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通过直接接触、飞沫传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以下小儿是主要的易感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腮腺肿大常是疾病的首发体征。肿胀以耳垂为中心，向周围弥漫肿大，局部不红，边缘不清，轻度压痛，咀嚼食物特别是吃酸性食物时疼痛加重。在上颌第二臼齿相对应的颊粘膜处，可见红肿的腮腺管口，持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，然后逐渐消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2808360" cy="309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过高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与病毒感染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疼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腮腺肿胀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传播感染的危险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与病毒排出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在并发症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脑膜脑炎、睾丸炎、胰腺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9fff"/>
                </a:solidFill>
                <a:latin typeface="Arial"/>
              </a:rPr>
              <a:t>第一节  小儿传染病的特点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染病的基本特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有病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具有传染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能获得一定的免疫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可以预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染病的流行环节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即传染源、传播途径和人群易感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温过高的护理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时测体温、多饮水、适量退热剂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减轻疼痛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易消化、清淡、有营养的流质、半流质或软食，避免吃酸、辣、硬等刺激性食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密切观察病情变化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有无脑膜脑炎、睾丸炎、急性胰腺炎等并发症的临床征象。发生睾丸炎时可用丁字带托起阴囊，局部间歇冷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防感染传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呼吸道隔离措施，直至腮腺肿大消退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中毒型细菌性痢疾</a:t>
            </a: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毒型细菌性痢疾是急性细菌性痢疾的危重型。起病急骤，临床以突然高热、反复惊厥、昏迷，迅速发生休克和呼吸衰竭为特征。而早期肠道症状可很轻或缺如，病死率较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传染源为病人及带菌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经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口途径传播。受污染的食物、玩具等也可传播本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易感人群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小儿为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苍蝇是传播媒介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患儿突然高热，体温可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0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上，迅速发生呼吸衰竭、休克或昏迷而肠道症状反而不明显，甚至无腹痛与腹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休克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脑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混合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6312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治疗原则</a:t>
            </a:r>
            <a:br>
              <a:rPr sz="44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降温止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生素治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两种敏感抗生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循环衰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①扩容，纠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改善微循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脑水肿和呼吸衰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％甘露醇   利尿剂    地塞米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br>
              <a:rPr sz="44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过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痢疾杆菌毒素作用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便异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腹泻：与痢疾杆菌肠道感染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灌注量改变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与微循环障碍休克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急性意识障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与脑微循环障碍及颅内压增高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（家长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病情危重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温过高的护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监测患儿体温变化。对持续高热不退甚至惊厥不止者可用人工冬眠疗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便异常的护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排便次数和大便性状，采集粘液脓血便部分化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克型中毒性菌痢的护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密切观察病情变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立有效的静脉通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药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防感染传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管理传染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护易感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小儿结核病的护理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核病是由结核杆菌引起的慢性感染性疾病。可累及全身各脏器，小儿时期以原发性肺结核最为常见，其次为粟粒性肺结核和结核性脑膜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开放性肺结核患者是主要传染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呼吸道为主要传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儿对结核杆菌普遍易感，感染后不一定都发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结核菌素试验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判断结核感染的早期特异性诊断方法。小儿受结核感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周后，作结核菌素试验即呈阳性反应，属于迟发型变态反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硬结主要为致敏淋巴细胞和巨噬细胞浸润诱发的炎症反应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试验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P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皮内注射，一般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稀释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m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射于左前臂掌侧中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界处，使之形成直径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m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皮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结果判断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2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观测反应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结核菌素试验结果判断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红肿硬结直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mm)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果判断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                                         (-)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+)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                       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 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                     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 + 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强阳性  局部坏死或水疱                    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 + + 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强阳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临床意义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阳性反应：①接种卡介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周后，为人工免疫所致。②年长儿无明显临床症状而仅呈一般阳性反应，表示曾感染过结核。③婴幼儿尤其是未接种卡介苗者，多表示体内有新的结核病灶。④强阳性反应，提示体内有活动性结核病。⑤由阴性反应转为阳性反应，或硬结直径较原来增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m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上者，表示新近有结核感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9fff"/>
                </a:solidFill>
                <a:latin typeface="Arial"/>
              </a:rPr>
              <a:t>小儿传染病的特点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病的预防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管理传染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保护易感人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病常见症状护理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热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主要护理诊断是体温过高。护理重点是休息、饮食护理、降温措施、口腔及皮肤护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皮疹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护理诊断是组织完整性受损。护理重点是饮食管理、皮肤护理、病情观察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9fff"/>
                </a:solidFill>
                <a:latin typeface="Arial"/>
              </a:rPr>
              <a:t>自然感染与卡介苗接种后结核菌素试验阳性反应的鉴别</a:t>
            </a:r>
            <a:endParaRPr b="0" i="1" lang="en-US" sz="2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134200" cy="338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自然感染                                  接种卡介苗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硬结直径                   多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5mm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多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m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硬结颜色                           深红                                               浅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硬结质地                   较硬，边缘清楚                         较软，边缘不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阳性反应时间       较长，可达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以上                 较短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即消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阳性反应的变化    短时间内反应无减弱倾向，     有较明显的逐年减弱倾向，                                    可                            可持续若干年，甚至终身          一般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年内逐渐消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临床意义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阴性反应：①未受到结核感染。②结核变态反应前期（初次感染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周内）。③技术性误差，如试剂失效、注入皮下、剂量不足等。④假阴性反应，在机体免疫功能受到抑制时可出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抗结核药物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药原则：早期、适量、联合、规律、全程，分段治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的抗结核药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可分为杀菌药物和抑菌药物两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杀菌药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全效杀菌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半效杀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抑菌药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9fff"/>
                </a:solidFill>
                <a:latin typeface="Arial"/>
              </a:rPr>
              <a:t>常用小儿抗结核药物</a:t>
            </a: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药物                  给药途径                                               主要副作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异烟肼            口服或静点                    肝毒性、末梢神经炎、过敏、皮疹和发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链霉素                肌注                        Ⅷ颅神经损害、肾毒性、过敏、皮疹和发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利福平               口服                                肝毒性、恶心、呕吐和流感样症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吡嗪酰胺           口服                               肝毒性、高尿酸血症、关节痛和过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乙胺丁醇           口服                                               皮疹、视神经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乙硫异烟胺       口服                                    胃肠道反应、肝毒性、末梢神经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化疗方案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准疗法：无明显临床症状的原发性肺结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两阶段疗法：严重小儿结核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强化治疗阶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巩固治疗阶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程疗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HRZ/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SHRZ/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EHRZ/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HRZ/4H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预防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接种卡介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控制传染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预防性化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适应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原发型肺结核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发型肺结核为结核杆菌初次侵入肺部后发生的原发感染，是小儿肺结核的主要类型。包括原发综合征和支气管淋巴结结核。它们是同一疾病发展过程中的两种不同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改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营养失调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低于机体需要量：与食欲下降、消耗过多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传播感染的危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呼吸道排出病原体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需要长期治疗、隔离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在并发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抗结核药物的副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护理措施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饮食护理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高热量、高蛋白、高维生素、高钙质的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感染的传播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呼吸道隔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理护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药护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严格遵循结核用药原则，注意观察药物的副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急性粟粒型肺结核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急性粟粒性肺结核（急性血行播散性肺结核），由结核杆菌经血行播散而引起，常为原发性肺结核病情进展恶化的结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患儿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前发热，伴咳嗽、流涕、流泪，今晨发现耳后、颈部、发际边缘有红色斑丘疹，疹间皮肤正常，眼结膜充血，口腔粘膜红，体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9.8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精神不振，心、肺正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思考：①该患儿最可能的医疗诊断是什么？②患儿存在哪些护理问题？③应如何进行正确的护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65080" y="880200"/>
            <a:ext cx="5077440" cy="741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麻疹？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过高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结核感染中毒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气体交换受损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肺部广泛粟粒结核病灶影响呼吸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营养失调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低于机体需要量：与纳差、疾病消耗增多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护理措施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观察体温变化，给予降温处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休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卧床休息，保持呼吸道通畅，必要时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饮食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给予高能量、高蛋白、高维生素的饮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定时测体温、呼吸、脉搏及观察神志变化，如出现烦躁不安、嗜睡、头痛、呕吐、惊厥等脑膜炎症状及时通知医生，并积极配合抢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结核性脑膜炎</a:t>
            </a: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核性脑膜炎（结脑）是由于结核杆菌侵犯脑膜所引起的炎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脑是小儿结核病中最严重的类型，病死率及后遗症发生率较高，早期诊断、彻底治疗可改善预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早期（前驱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期（脑膜刺激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晚期（昏迷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脑脊液检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脑脊液压力增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观清亮或毛玻璃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白细胞数多在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10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之间，以淋巴细胞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糖和氯化物含量降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蛋白定量增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营养失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低于机体需要量：与摄入不足、消耗增多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皮肤完整性受损的危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压疮：与长期卧床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在并发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颅内压增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焦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与病情危重、预后差有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护理措施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好饮食护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量多餐，耐心喂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鼻饲或胃肠外营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皮肤粘膜的完整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床铺干燥、柔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小便后及时更换尿布，应用温水清洗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勤翻身，局部按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病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命体征、意识状态、瞳孔、惊厥、肌张力、前囟张力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出院指导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期复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期随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康复训练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动活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言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当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小结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麻疹是由麻疹病毒引起，以发热、咳嗽、流涕、眼结膜充血、麻疹粘膜斑及全身斑丘疹为特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痘是由水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状疱疹病毒引起，以皮肤粘膜分批出现的斑疹、丘疹、疱疹与结痂为特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猩红热是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溶血性链球菌引起，以发热、咽峡炎、全身弥漫性红色皮疹、疹退后脱屑为特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日咳是由百日咳杆菌所引起，以阵发性痉挛性咳嗽及阵咳终末出现“鸡鸣”样吸气性吼声为特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行性腮腺炎是由腮腺炎病毒引起，以腮腺肿大、疼痛为特征，应减轻患者疼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毒型细菌性痢疾是急性细菌性痢疾的危重型。以突然高热、反复惊厥、昏迷，迅速发生休克和呼吸衰竭为特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儿结核病是由结核杆菌引起的慢性呼吸道传染病，减少本病发生的关键在于预防，要注意及时为小儿接种卡介苗，加强锻炼，合理喂养，增强小儿体质，避免其他传染病的发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病的基本特征、传染病病情发展分几个阶段、传染病流行环节、传染病预防的方法、传染病患儿的一般护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麻疹、水痘、猩红热、百日咳、流行性腮腺炎、中毒性菌痢的概念、致病菌、身体状况、治疗原则、护理诊断、护理措施、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麻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麻疹是由麻疹病毒感染引起的急性出疹性呼吸道传染病。临床以发热、咳嗽、流涕、结膜炎、口腔粘膜斑及全身斑丘疹为主要表现。本病传染性强，易并发肺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麻疹患者是唯一的传染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传播途径：飞沫直接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群普遍易感，病后可获得持久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关于水痘的叙述，以下哪项不正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水痘是由水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带状疱疹病毒引起的疾病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以全身出现水疱疹为特征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感染水痘后一般可持久免疫，但可发生带状疱疹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水痘通过飞沫传播，水痘痂皮有传染性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四季可发病，以冬春季为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8134200" cy="39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猩红热患者应隔离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体温正常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症状消失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青霉素治疗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咽拭子培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阴性后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症状完全消失，咽拭子培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阴性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82789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患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，发热，躯干、头面部可见皮疹，皮肤同一部位可见斑疹、丘疹、疱疹结痂，考虑发生的疾病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脓疱疹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水痘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带状疱疹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手足口病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丘疹样荨麻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06292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患儿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，发热、干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，体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8.2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双眼疱疹性结膜炎，颈部可扪及成串肿大的淋巴结，右肺呼吸音稍低，少许干罗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验硬结直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2m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诊断考虑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支气管炎合并结膜炎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右侧胸膜炎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原发型肺结核　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支气管肺炎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急性支气管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测试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麻疹患儿高热如何进行护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早期发现麻疹的并发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述水痘的皮疹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百日咳痉咳期如何护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原发型肺结核如何进行健康教育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487692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76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 txBox="1"/>
          <p:nvPr/>
        </p:nvSpPr>
        <p:spPr>
          <a:xfrm>
            <a:off x="395280" y="2565360"/>
            <a:ext cx="7993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6666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谢谢！</a:t>
            </a:r>
            <a:endParaRPr b="0" lang="en-US" sz="5400" spc="1" strike="noStrike">
              <a:ln w="19080">
                <a:solidFill>
                  <a:srgbClr val="6666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404640"/>
            <a:ext cx="590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235240" cy="216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临床表现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表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潜伏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前驱期（出疹前期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麻疹粘膜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出疹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恢复期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24360" y="3933720"/>
            <a:ext cx="1943280" cy="230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治疗原则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原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为对症治疗，预防感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症治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病毒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药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常见护理诊断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病毒血症、继发感染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皮肤完整性受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与麻疹病毒感染所致皮疹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营养失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低于机体需要量：与食欲下降、高热消耗增加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传播感染的危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与呼吸道排出病毒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肺炎、心肌炎、喉炎、脑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6:50Z</dcterms:modified>
  <cp:revision>313</cp:revision>
  <dc:subject/>
  <dc:title>Lorem Ipsum</dc:title>
</cp:coreProperties>
</file>