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1.xml.rels" ContentType="application/vnd.openxmlformats-package.relationships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1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2.gif" ContentType="image/gif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科学地规划和严格实施对所有婴儿进行的“基础”免疫及随后适时的“加强”免疫，以确保儿童获得可靠的免疫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1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31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2805"/>
                </a:solidFill>
                <a:latin typeface="楷体_GB2312"/>
                <a:ea typeface="楷体_GB2312"/>
              </a:rPr>
              <a:t>第三章  儿童保健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920" y="3809880"/>
            <a:ext cx="8066160" cy="22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5229360"/>
            <a:ext cx="6985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广州医学院从化学院  张永霞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26920" y="1989000"/>
            <a:ext cx="74883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二、新生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326200" cy="381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6600"/>
                </a:solidFill>
                <a:latin typeface="Times New Roman"/>
              </a:rPr>
              <a:t>重点：保暖、喂养、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保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室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2℃ ~24℃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5%~65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防硬肿症，防烫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理喂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母乳喂养、按需喂养、食后右侧卧位，防窒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0" t="10674" r="0" b="0"/>
          <a:stretch/>
        </p:blipFill>
        <p:spPr>
          <a:xfrm>
            <a:off x="6227640" y="2349360"/>
            <a:ext cx="2541600" cy="302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fff"/>
                </a:solidFill>
                <a:latin typeface="Arial"/>
              </a:rPr>
              <a:t>二、新生儿期的保健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预防疾病和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洗手，防交叉感染，按时免疫接种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W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后补充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VitD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，防窒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早期教育（刺激感知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视、听、智力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亲子感情建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日常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观察新生儿一般状况，了解小儿生活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沐浴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眼、口 、耳、臀部、脐部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2" action="ppaction://hlinksldjump"/>
              </a:rPr>
              <a:t>衣物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使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棉布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样式简单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宽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304920" y="457200"/>
            <a:ext cx="838188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二、新生儿期的保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626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三、婴儿期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一）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长发育最快的时期，但消化吸收功能尚未完善，易发生腹泻和营养紊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－－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</a:rPr>
              <a:t>合理喂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治腹泻和佝偻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胎盘获得的免疫球蛋白逐渐消失， 后天免疫力尚未产生，易患感染性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－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按时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</a:rPr>
              <a:t>免疫接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三、婴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5960" y="2057040"/>
            <a:ext cx="76993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二）保健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合理喂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4~6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月提倡母乳喂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月后合理添加辅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0~1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月左右指导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渐进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的断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断奶时可能出现烦躁不安、易怒、失眠、啼哭等表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27640" y="1773360"/>
            <a:ext cx="2414880" cy="3024000"/>
          </a:xfrm>
          <a:prstGeom prst="rect">
            <a:avLst/>
          </a:prstGeom>
          <a:ln w="9360">
            <a:solidFill>
              <a:srgbClr val="009fff"/>
            </a:solidFill>
            <a:miter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三、婴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日常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清洁卫生：沐浴、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2" action="ppaction://hlinksldjump"/>
              </a:rPr>
              <a:t>抚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衣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睡眠：不拍不摇不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牙齿：清洁和磨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户外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大小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9520" y="749160"/>
            <a:ext cx="732924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三、婴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8520" y="2187360"/>
            <a:ext cx="7916760" cy="37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防止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fff"/>
                </a:solidFill>
                <a:latin typeface="Times New Roman"/>
              </a:rPr>
              <a:t>异物吸入、窒息、中毒、跌伤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预防疾病和促进健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fff"/>
                </a:solidFill>
                <a:latin typeface="Times New Roman"/>
              </a:rPr>
              <a:t>预防接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fff"/>
                </a:solidFill>
                <a:latin typeface="Times New Roman"/>
              </a:rPr>
              <a:t>预防常见病：佝偻病、贫血、腹泻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fff"/>
                </a:solidFill>
                <a:latin typeface="Times New Roman"/>
              </a:rPr>
              <a:t>定期体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70452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四、幼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4152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一）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能独立行走，对危险的识别能力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——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意外伤害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发生率增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免疫功能不健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——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感染性和传染性疾病发生率较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6400" y="754200"/>
            <a:ext cx="7202520" cy="91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四、幼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15920"/>
            <a:ext cx="8381880" cy="42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二）保健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营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~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岁前，食物应细软碎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时出现生理性厌食：鼓励自己进食、不要惩罚小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38240" y="7045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四、幼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常护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衣着、睡眠、口腔保健、大小便训练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~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教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培养良好的卫生和生活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德教育：爱劳动、互助、与人分享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主动免疫、被动免疫、计划免疫的概念；免疫程序；预防接种一般禁忌证和特殊禁忌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各年龄期儿童保健；儿童常见意外事故及预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体格锻炼方法；几种生物制品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四、幼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疾病和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物吸入、烫伤、中毒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治常见的心理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脾气、违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五、学龄前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186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一）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可塑性大——早期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易免疫性疾病，易发生各种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24136" t="2950" r="0" b="0"/>
          <a:stretch/>
        </p:blipFill>
        <p:spPr>
          <a:xfrm>
            <a:off x="5796000" y="1844640"/>
            <a:ext cx="26956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五、学龄前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保健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：食物多样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常护理：自我照顾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早期教育：品德和智力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五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、学龄前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疾病和意外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体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，预防接种，防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治常见的心理行为问题：吮拇指、咬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6480" y="801360"/>
            <a:ext cx="6689880" cy="9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3366"/>
                </a:solidFill>
                <a:latin typeface="Arial"/>
              </a:rPr>
              <a:t>六、学龄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（一）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知和心理－社会发展迅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（二）保健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理营养 ：充分而均衡，重视早餐和课间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常活动：生活自理、户外活动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六、学龄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疾病和意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近视、龋齿、骨骼畸形、寄生虫、溺水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治常见的心理行为问题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学不适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0000" y="704880"/>
            <a:ext cx="693576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3366"/>
                </a:solidFill>
                <a:latin typeface="Arial"/>
              </a:rPr>
              <a:t>七</a:t>
            </a: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、青春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一）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体格及生殖系统发育迅速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常引起心理行为、精神方面等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二）保健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充足的营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日常活动：卫生习惯、睡眠、健康生活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七、青春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常见健康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痤疮、月经病、酗酒、吸毒、滥用药物、意外伤害、自杀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性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小结</a:t>
            </a:r>
            <a:endParaRPr b="1" i="1" lang="en-US" sz="4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450864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思考题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650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56520" y="4436640"/>
            <a:ext cx="3466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如何制定针对性的保健指导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检索儿童保健新进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案例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341360"/>
            <a:ext cx="806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新生儿期，尤其是生后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周是保健重点，应定期进行家庭访视。婴儿期保健重点是科学喂养，提倡母乳喂养，及时添加辅食并有计划地预防接种。幼儿期保健重点是合理安排膳食，培养良好的生活习惯，预防疾病和意外，监测生长发育。学龄前期保健重点是加强早期教育，培养生活独立能力和良好的道德品质，预防疾病和意外的发生。学龄期和青春期的儿童应提供适宜的学习条件，培养良好的学习习惯，并加强素质教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豆豆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月，请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常生活护理的重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指导家长制定教育计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案例分析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95640" y="836640"/>
            <a:ext cx="5148360" cy="26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豆豆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月，请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护理的重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指导家长制定教育计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995640" cy="317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新生儿期保健重点不包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合理喂养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生后一个月访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早产儿应保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按时接种卡介苗和乙肝疫苗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进行生长发育监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学龄前期儿童的特点中哪一点是错误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体格发育稳步增长，但较前减慢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应该加强学前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智力发育增快，知识面迅速扩大，可塑性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脑发育完全成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幼儿期的特点不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体格生长发育速度较婴儿期减慢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智能发育较婴儿期突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语言、动作及心理方面发展较慢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前囟闭合，乳牙出齐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能控制大小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生儿期的保健重点有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期的保健重点有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第二节 锻炼与游戏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一、体格锻炼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浴”锻炼的顺序：先空气浴、日光浴，最后水浴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光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1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空气浴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方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室内：通风换气，室温不低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逐渐减少衣裤至只穿短裤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后至室外，每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，开始时每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，逐渐延长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时（夏季），冬季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1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空气浴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出生时即可进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夏天开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饭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时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2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日光浴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989840" cy="38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）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预防维生素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缺乏性佝偻病；促进心肺功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）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选择场所：应避风、清洁，最好在树荫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小儿仅穿三角短裤、头戴宽边帽子以保护头部及眼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晒背部      身体两侧      胸      腹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时间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0min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周一疗程，每周停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日，每疗程间休息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日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581360"/>
            <a:ext cx="360720" cy="216000"/>
          </a:xfrm>
          <a:prstGeom prst="rightArrow">
            <a:avLst>
              <a:gd name="adj1" fmla="val 50000"/>
              <a:gd name="adj2" fmla="val 41750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4653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465300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2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日光浴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）注意事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适合年龄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岁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天气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4℃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无大风时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时间：夏季上午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时左右；春、秋季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时进行；不宜空腹，早餐后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小时为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如出现不适，应限制日光照射量或停止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身体特别虚弱或神经极易兴奋的儿童不宜日光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59280" y="333360"/>
            <a:ext cx="30668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儿童保健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924280"/>
            <a:ext cx="2664000" cy="100944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5915"/>
                </a:solidFill>
                <a:latin typeface="Garamond"/>
                <a:ea typeface="隶书"/>
              </a:rPr>
              <a:t>预防接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2997360"/>
            <a:ext cx="2735280" cy="99504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b5915"/>
                </a:solidFill>
                <a:latin typeface="Garamond"/>
                <a:ea typeface="隶书"/>
              </a:rPr>
              <a:t>锻炼与游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2924280"/>
            <a:ext cx="2735280" cy="107928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688"/>
                </a:solidFill>
                <a:uFillTx/>
                <a:latin typeface="Garamond"/>
                <a:ea typeface="隶书"/>
                <a:hlinkClick r:id="rId4" action="ppaction://hlinksldjump"/>
              </a:rPr>
              <a:t>分期</a:t>
            </a:r>
            <a:r>
              <a:rPr b="0" lang="zh-CN" sz="3600" spc="-1" strike="noStrike" u="sng">
                <a:solidFill>
                  <a:srgbClr val="009688"/>
                </a:solidFill>
                <a:uFillTx/>
                <a:latin typeface="Garamond"/>
                <a:ea typeface="隶书"/>
                <a:hlinkClick r:id="rId5" action="ppaction://hlinksldjump"/>
              </a:rPr>
              <a:t>及</a:t>
            </a:r>
            <a:r>
              <a:rPr b="0" lang="zh-CN" sz="3600" spc="-1" strike="noStrike" u="sng">
                <a:solidFill>
                  <a:srgbClr val="009688"/>
                </a:solidFill>
                <a:uFillTx/>
                <a:latin typeface="Garamond"/>
                <a:ea typeface="隶书"/>
                <a:hlinkClick r:id="rId6" action="ppaction://hlinksldjump"/>
              </a:rPr>
              <a:t>保</a:t>
            </a:r>
            <a:r>
              <a:rPr b="1" lang="zh-CN" sz="3600" spc="-1" strike="noStrike">
                <a:solidFill>
                  <a:srgbClr val="1b5915"/>
                </a:solidFill>
                <a:latin typeface="Garamond"/>
                <a:ea typeface="隶书"/>
              </a:rPr>
              <a:t>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907920"/>
            <a:ext cx="6337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隶书"/>
              </a:rPr>
              <a:t>学习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5013360"/>
            <a:ext cx="287280" cy="216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013360"/>
            <a:ext cx="287280" cy="216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4437000"/>
            <a:ext cx="287640" cy="21744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2349360"/>
            <a:ext cx="287640" cy="21600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4437000"/>
            <a:ext cx="287280" cy="21744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00209 0.24143 E">
                                      <p:cBhvr>
                                        <p:cTn id="1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45573 -0.15648 E">
                                      <p:cBhvr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22222E-006 L 0.45278 0.16273 E">
                                      <p:cBhvr>
                                        <p:cTn id="3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3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水浴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）作用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提高皮肤适应冷热变化的能力；保持皮肤清洁，提高免疫力，促进生长发育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）温水浴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）擦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）淋浴     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）游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1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）温水浴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新生儿脐带脱落后即可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水温在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7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7.5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水中持续时间约为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冬春季每日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次，夏秋季每日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每次浴毕用毛巾擦干，注意保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）擦浴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以上任何体质的小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室温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8℃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水温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3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将毛巾拧半干，在婴儿四肢做向心性擦浴，擦毕用干毛巾摩擦至皮肤微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婴儿适应后，水温每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降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3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）淋浴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898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用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以上儿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室温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0℃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；水温为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36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顺序：冲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淋背部    两肋    胸部   腹部、下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0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早餐前或午睡后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冲淋后用干毛巾擦至皮肤微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冲头部，喷头不高于小儿头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0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应后水温每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年幼儿可将水温降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8℃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长儿可降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6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35280" y="3068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3068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306864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27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4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）游泳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条件者可从小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地点：游泳池或天然浴场（平坦、活水、水底为沙质、水质清洁、附近无污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气温于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6℃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；水温不低于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2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时间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min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逐渐延长至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5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空腹或刚进食后不可游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出汗时应擦干全身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先浸湿头部和胸部，再全身入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心肾疾病的小儿不应游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4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婴儿抚触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）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刺激淋巴系统，促进血液循环，增强抵抗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改善消化系统功能，增加体重、缓解胀气、预防便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增加父母与婴儿之间的情感交流，满足婴儿心理需要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4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婴儿抚触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婴儿洗澡后进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播放轻柔的音乐；调节室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8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涂抹少量润肤油润滑，在婴儿面部、胸部、腹部、背部及四肢有规律的轻揉与捏握；力度要轻，然后逐渐加力，以婴儿舒适合作为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4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婴儿抚触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注意事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新生儿开始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~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~20min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要强迫婴儿保持固定姿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与小儿沟通交流；注意婴儿情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应注意保暖，防受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婴儿发热时，在未明原因之前暂不进行抚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5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体育运动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婴儿被动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用：促进婴儿大运动发展及血液循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合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的婴儿，每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：在成人帮助下进行四肢屈伸运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5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体育运动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婴儿主动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用：促进其智能的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合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的婴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：在成人适当扶持下，训练婴儿爬、坐、仰卧起身、扶站、扶走、双手取物等部分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第一节 不同年龄阶段小儿的保健</a:t>
            </a: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5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体育运动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儿童体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用：增加大肌群、肩、背及腹肌的运动及四肢活动的协调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用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岁儿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：广播体操、健美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5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体育运动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游戏、田径与球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适用于年长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方法：利用器械进行锻炼，如木马、滑梯，也可参加球类、舞蹈、跳绳等。幼儿园可采用活动性游戏方式如赛跑、丢手绢、滚球、捉迷藏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二、游戏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婴儿期游戏发展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幼儿期游戏发展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学龄前期游戏发展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学龄期游戏发展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青春期游戏发展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1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婴儿期游戏发展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多为单独性游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自己的身体是游戏的主要内容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婴儿喜欢注视和玩弄自己的小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33cc"/>
                </a:solidFill>
                <a:latin typeface="Times New Roman"/>
              </a:rPr>
              <a:t>喜欢颜色鲜艳、能发出声响的玩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月内婴儿可以看见颜色鲜明可移动的物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2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幼儿期游戏发展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多为平行性游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婴幼儿以捡东西和扔东西为乐，常需大人陪伴参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岁小儿喜欢模仿成人的生活和动作，可选择小家具、餐具、小木桶等玩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3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学龄前期游戏发展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多为联合性和合作性游戏；在游戏中表现出丰富的想象力和极强的模仿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喜欢玩水、玩沙、绘画、搭积木、剪贴；做模型的技巧性明显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4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学龄期游戏发展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多为竞赛性游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喜欢户外活动，如骑车、游戏、溜冰、踢球、跳绳等；喜欢看电视、玩游戏机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5. </a:t>
            </a: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青春期游戏发展特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对父母的依赖性减少，更多从朋友获得自我认同感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游戏内容会因性别有明显的差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女孩对社交性活动产生兴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喜欢参加聚会，学习烹饪、洗衣服、手工艺等，并与朋友交流体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男孩子在运动中的竞争和求胜感很强，对机械和设备装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浓厚的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小结</a:t>
            </a:r>
            <a:endParaRPr b="1" i="1" lang="en-US" sz="4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450864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思考题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2650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4436640"/>
            <a:ext cx="42768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如何制定针对性的锻炼计划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检索儿童锻炼方法新进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请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个月大的小儿设计语言游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341360"/>
            <a:ext cx="806436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体格锻炼能促进小儿的生长发育、增进健康、增强体质，是一项利用阳光、空气、水等自然条件，结合日常护理，增强儿童体质的重要措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游戏是儿童必不可少的活动，有利于发展小儿智力及动作的协调性；有利于心理、社会适应能力的发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第三节  预防接种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fff"/>
                </a:solidFill>
                <a:latin typeface="Arial"/>
              </a:rPr>
              <a:t>一、胎儿期的保健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82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胎儿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胎儿的发育主要依靠母体生存，母体的健康、营养、情绪等密切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胎儿期保健应以孕母的保健为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64000" y="2492280"/>
            <a:ext cx="3348360" cy="2511360"/>
          </a:xfrm>
          <a:prstGeom prst="rect">
            <a:avLst/>
          </a:prstGeom>
          <a:ln w="38160">
            <a:solidFill>
              <a:srgbClr val="009fff"/>
            </a:solidFill>
            <a:miter/>
          </a:ln>
        </p:spPr>
      </p:pic>
    </p:spTree>
  </p:cSld>
  <p:transition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fff"/>
                </a:solidFill>
                <a:latin typeface="Arial"/>
              </a:rPr>
              <a:t>一、  计划免疫</a:t>
            </a:r>
            <a:br>
              <a:rPr sz="4000"/>
            </a:b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(planned immunization)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198960" y="2057400"/>
            <a:ext cx="3232080" cy="403560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993366"/>
                </a:solidFill>
                <a:latin typeface="华文行楷"/>
              </a:rPr>
              <a:t>概念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8880" y="2057040"/>
            <a:ext cx="7626240" cy="38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根据小儿的免疫特点和传染病疫情的监测情况制定的免疫程序，是有计划、有目的地将生物制品接种到婴幼儿体内，以确保小儿获得可靠地抵抗疾病地能力，从而达到预防、控制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至消灭相应传染病地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预防接种是核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940360" y="4149720"/>
            <a:ext cx="2735280" cy="216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二、获得性免疫接种方式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主动免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ctive immu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二）被动免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ive immuniza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fff"/>
                </a:solidFill>
                <a:latin typeface="Arial"/>
              </a:rPr>
              <a:t>（一）主动免疫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1.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概念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给易感者接种特异性抗原，刺激机体产生特异性抗体，从而产生相应免疫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持续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1~5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（一）主动免疫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主动免疫制剂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菌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类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299736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3357720"/>
            <a:ext cx="838440" cy="990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3577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3068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灭活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12800" y="414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活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（二）被动免疫及常用制剂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1. 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未接受主动免疫地易感者在接触传染源后，被给予相应地抗体，而立即获得免疫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一般持续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i="1" lang="zh-CN" sz="3200" spc="-1" strike="noStrike">
                <a:solidFill>
                  <a:srgbClr val="800000"/>
                </a:solidFill>
                <a:latin typeface="Times New Roman"/>
              </a:rPr>
              <a:t>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55280" y="1916280"/>
            <a:ext cx="7404120" cy="33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被动免疫制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）特异性免疫血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）丙种球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）胎盘球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53280" cy="89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（二）被动免疫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三、预防接种程序及注意事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预防接种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卡介苗：结核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脊髓灰质炎减毒糖丸：脊髓灰质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麻疹减毒活疫苗：麻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百白破：百日咳、白喉、破伤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</a:rPr>
              <a:t>乙肝疫苗：乙型肝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208240" cy="3313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计划免疫程序口诀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生乙肝卡介苗，   二月脊灰炎正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四五月百白破，   八月麻疹岁乙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3366"/>
                </a:solidFill>
                <a:latin typeface="Arial"/>
              </a:rPr>
              <a:t>（二）预防接种的注意事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63280" y="2133360"/>
            <a:ext cx="64659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种的环境和物品准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受种者的准备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饭后防晕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严格掌握禁忌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严格执行免疫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9fff"/>
                </a:solidFill>
                <a:latin typeface="Arial"/>
              </a:rPr>
              <a:t>一、胎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胎儿的保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hlinkClick r:id="rId2" action="ppaction://hlinksldjump"/>
              </a:rPr>
              <a:t>产前保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产时保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产后保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（二）预防接种的注意事项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严格执行查对制定及无菌操作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接种活疫苗，只用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75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％酒精消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抽吸后剩余药液放置不能超过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接种后剩余活疫苗应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一般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）局部反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全身反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异常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过敏性休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晕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过敏性皮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全身感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9fff"/>
                </a:solidFill>
                <a:latin typeface="Arial"/>
              </a:rPr>
              <a:t>（三）预防接种的反应及处理：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（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1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）局部反应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间：接种后数小时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小时左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症状：注射部位会出现红、肿、热、痛；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有时伴有局部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红晕直径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&lt;2.5cm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弱反应，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2.5~5cm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中等反应，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&gt;5cm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强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处理：热敷、抬高患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33360"/>
            <a:ext cx="2016000" cy="934920"/>
          </a:xfrm>
          <a:prstGeom prst="flowChartPunchedTap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一般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26920" y="1915920"/>
            <a:ext cx="7483680" cy="31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：一般接种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时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症状：多为中低度发热，伴有恶心、呕吐、腹痛、腹泻等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体温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&lt;37.5℃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弱反应，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37.5℃~38.5℃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中等反应，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&gt;38.5℃</a:t>
            </a:r>
            <a:r>
              <a:rPr b="1" i="1" lang="zh-CN" sz="2800" spc="-1" strike="noStrike">
                <a:solidFill>
                  <a:srgbClr val="0033cc"/>
                </a:solidFill>
                <a:latin typeface="Times New Roman"/>
              </a:rPr>
              <a:t>强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处理：轻微——休息、多饮水，对症处理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严重——医院就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698040" y="704520"/>
            <a:ext cx="7759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（</a:t>
            </a: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）全身反应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333360"/>
            <a:ext cx="2016000" cy="934920"/>
          </a:xfrm>
          <a:prstGeom prst="flowChartPunchedTap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343080" indent="-343080" algn="ctr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一般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562880" cy="31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）过敏性休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：接种后数分钟内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症状：烦躁不安、面色苍白、口周青紫、四肢湿冷、呼吸困难、脉细速、恶心呕吐、惊厥、大小便失禁以至昏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处理：平卧、头稍低，保暖、吸氧、皮下或静脉注射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00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肾上腺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038240" y="7045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688"/>
                </a:solidFill>
                <a:latin typeface="Arial"/>
              </a:rPr>
              <a:t>2. </a:t>
            </a:r>
            <a:r>
              <a:rPr b="0" i="1" lang="zh-CN" sz="4700" spc="-1" strike="noStrike">
                <a:solidFill>
                  <a:srgbClr val="009688"/>
                </a:solidFill>
                <a:latin typeface="Arial"/>
              </a:rPr>
              <a:t>异常反应</a:t>
            </a:r>
            <a:endParaRPr b="0" i="1" lang="en-US" sz="47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）晕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：接种时或几分钟内突发晕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处理：平卧、头稍低，饮少量热开水或糖水，数分钟不能恢复正常者，皮下注射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1:1000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肾上腺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预防：避免疲劳、空腹时注射 、消除紧张、恐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62120" y="838080"/>
            <a:ext cx="755496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993366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993366"/>
                </a:solidFill>
                <a:latin typeface="Arial"/>
              </a:rPr>
              <a:t>、异常反应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2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、异常反应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过敏性皮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种后几小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几天出现，服用抗组胺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全身感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严重原发性免疫缺陷，继发性免疫功能破坏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22860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小结</a:t>
            </a:r>
            <a:endParaRPr b="1" i="1" lang="en-US" sz="44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4508640"/>
            <a:ext cx="3048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思考题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650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8040" y="4436640"/>
            <a:ext cx="346644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如何指导家长执行免疫程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检索预防接种新进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请默写免疫程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1341360"/>
            <a:ext cx="806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预防接种是保护易感儿童的重要措施，遵循：“预防为主”的方针，切实做好消灭传染病源，切断传播途径，保护易感儿童等综合措施。卫生部规定，婴儿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内必须完成卡介苗、脊髓灰质炎减毒活疫苗、百日咳、白喉、破伤风类毒素混合制剂、麻疹减毒疫苗及乙型肝炎疫苗接种的基础免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哪种疫苗不是卫生部规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内婴儿必须接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流感”疫苗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脊髓灰质炎疫苗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卡介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肝疫苗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白破三联疫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接种乙肝疫苗的时间（月）顺序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 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 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 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640" y="936360"/>
            <a:ext cx="727704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9688"/>
                </a:solidFill>
                <a:uFillTx/>
                <a:latin typeface="Arial"/>
                <a:hlinkClick r:id="rId2" action="ppaction://hlinksldjump"/>
              </a:rPr>
              <a:t>（</a:t>
            </a:r>
            <a:r>
              <a:rPr b="0" i="1" lang="zh-CN" sz="4400" spc="-1" strike="noStrike" u="sng">
                <a:solidFill>
                  <a:srgbClr val="009688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i="1" lang="zh-CN" sz="4400" spc="-1" strike="noStrike" u="sng">
                <a:solidFill>
                  <a:srgbClr val="009688"/>
                </a:solidFill>
                <a:uFillTx/>
                <a:latin typeface="Arial"/>
                <a:hlinkClick r:id="rId4" action="ppaction://hlinksldjump"/>
              </a:rPr>
              <a:t>）产前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626240" cy="303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预防先天畸形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预防孕期感染：尤其是妊娠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个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有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遗传性疾病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家族史者婚前进行遗传咨询。禁止近亲结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患严重慢性病的孕母，在医生指导下进行治疗，定期产检，必要时终止妊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注意孕期用药、禁止烟酒，避免接触放射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哪种疫苗属被动免疫制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肝疫苗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麻疹疫苗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种球蛋白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卡介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伤寒菌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种活疫苗时，局部皮肤消毒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0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碘伏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2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碘伏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2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碘酊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 7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醇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 2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碘酊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乙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971640" y="1844280"/>
            <a:ext cx="6913440" cy="35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程序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接种一般禁忌证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916360" y="620640"/>
            <a:ext cx="3097080" cy="792360"/>
          </a:xfrm>
          <a:prstGeom prst="rect">
            <a:avLst/>
          </a:prstGeom>
        </p:spPr>
        <p:txBody>
          <a:bodyPr wrap="none" lIns="90360" rIns="90360" tIns="44280" bIns="44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测试题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487692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876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 txBox="1"/>
          <p:nvPr/>
        </p:nvSpPr>
        <p:spPr>
          <a:xfrm>
            <a:off x="395280" y="2565360"/>
            <a:ext cx="799308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666699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谢谢！</a:t>
            </a:r>
            <a:endParaRPr b="0" lang="en-US" sz="5400" spc="1" strike="noStrike">
              <a:ln w="19080">
                <a:solidFill>
                  <a:srgbClr val="666699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79" name=""/>
          <p:cNvSpPr/>
          <p:nvPr/>
        </p:nvSpPr>
        <p:spPr>
          <a:xfrm>
            <a:off x="2340000" y="404640"/>
            <a:ext cx="590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516720" y="0"/>
            <a:ext cx="2235240" cy="216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704880"/>
            <a:ext cx="7494840" cy="99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3366"/>
                </a:solidFill>
                <a:latin typeface="Arial"/>
              </a:rPr>
              <a:t>二、新生儿期的保健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宋体"/>
              </a:rPr>
              <a:t>新生儿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新生儿离开母体后经历巨大变化，但器官功能发育尚不完善，适应能力和抵抗力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婴儿死亡中有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2/3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死于出生后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28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天内，尤以第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周最高，占新生儿死亡数的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7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－新生儿的保健重点在生后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9688"/>
                </a:solidFill>
                <a:latin typeface="Times New Roman"/>
              </a:rPr>
              <a:t>周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2:38Z</dcterms:modified>
  <cp:revision>317</cp:revision>
  <dc:subject/>
  <dc:title>Lorem Ipsum</dc:title>
</cp:coreProperties>
</file>