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十七章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寄生虫疾病患儿的护理</a:t>
            </a:r>
            <a:br>
              <a:rPr sz="4800"/>
            </a:b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6360" y="4652640"/>
            <a:ext cx="7345440" cy="13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宁夏师范学院医学院  崔杏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63640" y="1773360"/>
            <a:ext cx="612144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辅助检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血象检查：嗜酸粒细胞明显增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粪便涂片和盐水漂浮发：蛔虫卵→确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治疗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134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驱蛔虫为主：驱蛔灵（哌嗪枸橼酸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饮食：富有营养、维生素、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并发症治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二、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护理诊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疼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潜在并发症（移位损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缺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二、护理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二）护理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腹痛的护理：酌情卧床休息，热敷，轻揉（解痉止痛药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用驱虫药的护理：空腹或睡前一次顿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饮食护理：营养丰富易消化食物（避免油腻、甜、冷、生、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防和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普查普治，复查复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健康教育，增强自我保健意识      良好卫生习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改水改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确指导家庭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适当休息，营养丰富易消化食物，保持清洁卫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时服用驱蛔虫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服药期间，注意儿童病情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培养良好卫生习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684072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fff"/>
                </a:solidFill>
                <a:latin typeface="Arial"/>
              </a:rPr>
              <a:t>第二节  蛲虫病患儿的护理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蛲虫病是蛲虫寄生于人体肠道内引起的寄生虫病。其临床特征为肛门周围和会阴部瘙痒、睡眠不安。发病以儿童为主，尤其多见于幼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蛲虫患者是唯一的传染源。感染方式主要通过肛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口直接感染和人群之间接触感染，偶有在肛门孵育的幼虫再返爬回肛门内而发生逆行感染。人群普遍易感，常在集体儿童机构或家庭中造成流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3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蛲虫成虫细小如线头，乳白色，寄生于人体的盲肠、结肠及直肠等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雌雄异体，交配后雄虫很快死亡；雌虫向肠腔下段移行，于夜间爬出肛门，在肛门、会阴部皮肤皱褶处排卵，然后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虫卵在肛门周围经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时左右即发育成感染性虫卵。当虫卵污染患儿手指，再经口食入后即形成自身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11640" cy="432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临床表现：一般无症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部分患儿，夜间肛门及会阴部皮肤瘙痒，常致哭闹不安，抓破局部皮肤→出血及细菌继发感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化道症状轻微，有时可有烦躁，易怒，恶梦，磨牙等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常见的护理诊断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舒适的改变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肛周和会阴部瘙痒：与蛲虫生活习性造成局部皮肤刺激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身重复感染的危险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蛲虫的感染方式和缺乏预防知识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肛门和会阴局部的护理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晚睡前用温水洗净肛门和会阴部后，涂上雄黄百部软膏，连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观察驱虫效果和药物副作用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晨用透明胶纸在肛门周围采集标本检查虫卵，直至虫卵消失后再连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。扑蛲灵副作用有恶心、呕吐、腹痛和感觉过敏，且服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内大便、呕吐物可染成红色，应事先说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导家长检查成虫和收集虫卵的方法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在夜间患儿入睡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时，观察肛周、会阴部皮肤皱襞处，寻找乳白色线头状小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开展蛲虫传播方式的知识宣教工作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时注意个人卫生，饭前便后洗手，勤剪指甲，不吮手指，婴幼儿尽量不穿开裆裤；集体儿童机构应定时普查、普治，家庭中的患者应同时治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小结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蛔虫病是由蛔虫寄生于人体小肠所引起的疾病。疾病早期幼虫在人体内移行时可引起呼吸道症状，当成虫寄生在小肠则可引起腹痛、肠道功能紊乱。少数患者可发生胆道蛔虫与蛔虫性肠梗阻等严重并发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蛲虫病是由蛲虫寄生于人体大肠内的疾病。临床以肛门周围及会阴瘙痒而致睡眠不安为特征。儿童发病率高，多见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儿童。容易在家庭和儿童集体机构中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虫病是小儿时期最常见的多发病，应加强其养成良好个人卫生习惯的教育，做好粪便管理。要按医嘱按时服药，以使患儿早日康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蛔虫病、蛲虫病的概念、身体状况、护理诊断及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说出上述疾病的治疗原则、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知道上述疾病的流行病学、健康史与辅助检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什么是寄生虫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蛔虫的习性、蛔虫病的概念、健康史、身体状况、治疗原则、护理诊断、护理措施、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蛲虫的习性、蛲虫病的概念、健康史、身体状况、治疗原则、护理诊断、护理措施、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2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蛲虫为乳白色细线状虫，长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寄生于大肠内。雌虫于夜间移行至肛门附近产卵，虫卵在接触空气多久即可成有感染性的虫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今起阵发性脐周疼痛伴有频繁呕吐，所吐为胃内容物和胆汁，腹部扪及条索块物，扪之有活动感。腹部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透视见液平面。其首先应考虑的诊断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蛔虫性阑尾炎　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腹膜炎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胆道蛔虫　　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蛔虫性肠梗阻　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肠蛔虫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蛔虫最常见的并发症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胆道蛔虫病　  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阑尾炎　　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胆囊炎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腹膜炎　　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蛔虫性肠梗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蛔虫病如何预防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防止蛲虫病的自身感染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696080" cy="22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ff9900"/>
                </a:solidFill>
                <a:latin typeface="华文新魏"/>
                <a:ea typeface="华文新魏"/>
              </a:rPr>
              <a:t>第一节</a:t>
            </a:r>
            <a:br>
              <a:rPr sz="4800"/>
            </a:br>
            <a:r>
              <a:rPr b="1" lang="zh-CN" sz="4800" spc="-1" strike="noStrike">
                <a:solidFill>
                  <a:srgbClr val="ff9900"/>
                </a:solidFill>
                <a:latin typeface="华文新魏"/>
                <a:ea typeface="华文新魏"/>
              </a:rPr>
              <a:t>蛔虫病患儿的护理</a:t>
            </a:r>
            <a:br>
              <a:rPr sz="6000"/>
            </a:br>
            <a:br>
              <a:rPr sz="6000"/>
            </a:b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3809880"/>
            <a:ext cx="8066160" cy="22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患儿，男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岁。右上腹疼痛伴呕吐，有排出蛔虫史，胆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超检查诊断为胆道蛔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患儿目前身心状况，列出其主要的护理诊断及相应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65080" y="880200"/>
            <a:ext cx="5077440" cy="741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蛔虫的习性怎样？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一、概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概念：蛔虫病是蛔虫寄生于人体小肠而引起的最常见的肠道寄生虫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临床特点：儿童为消化不良、腹痛等肠道功能紊乱表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流行病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染源：病人和带菌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播途径：消化道传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易感人群：农村儿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（一）病原学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蛔虫（人体最大线虫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卵：受精卵→感染性虫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未受精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3280" y="1844280"/>
            <a:ext cx="3810240" cy="163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816360" cy="187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311640" cy="201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（一）病原学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感染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雌虫产卵，受精卵→感染性产卵→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小肠内）孵出幼虫→侵入小肠粘膜及粘膜下层→门静脉→肝脏、下腔静脉→右心→肺动脉→肺泡→会厌→吞咽进入消化道→ （小肠内）成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（二）发病机制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虫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谢产物及死亡后崩解物质刺激机体，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局部和全身变态反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肺部炎症反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虫（小肠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损伤肠粘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械性肠梗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幼虫：喉头异物感、肺部症状、血中嗜酸粒细胞增多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为支气管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成虫：食欲减退、厌食、偏食、多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儿童：脐周钝痛，伴恶心、腹泻、排便虫，磨牙、易怒、精神不安、异食癖→机械性肠梗阻，胆道蛔虫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6:34Z</dcterms:modified>
  <cp:revision>311</cp:revision>
  <dc:subject/>
  <dc:title>Lorem Ipsum</dc:title>
</cp:coreProperties>
</file>