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3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3704-CED7-4A77-9913-C86668F5AD1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2b2b2"/>
                </a:solidFill>
                <a:latin typeface="Arial"/>
                <a:ea typeface="华文中宋"/>
              </a:rPr>
              <a:t>诊断及鉴别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立即确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有明确服药病史诊断并无困难，应请家属取来药瓶或药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昏迷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病人已昏迷，且病史不明，应与其他原因的昏迷鉴别，如原因不明的突然昏迷，不发热，对光反应存在，无局灶性体征，则应怀疑此类药物中毒；如昏迷，不发热伴低血压，更应高度怀疑；老年病人易与脑血管病混淆，如见打哈欠、嗜睡状、有四肢不自主活动，则更支持药物中毒；做血、尿毒物检测有助诊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抽搐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不少药物引起抽搐，应注意与相关疾病鉴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042920" y="1773360"/>
            <a:ext cx="76327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八章  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华文新魏"/>
              </a:rPr>
              <a:t>急性中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四、急性中毒病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职业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有毒原料、辅料、中间产物、成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保管、使用、运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生活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误食、意外接触有毒物质、用药过量、自杀或谋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05800" cy="4521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43280" y="4724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陕西一家人六天两次中毒，怀疑被人投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五、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粘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灼伤、紫绀、黄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散大如阿托品、瞳孔缩小如有机磷农药、视神经炎如甲醇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、谵妄 、肌纤维颤动、惊厥、瘫痪、精神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气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大蒜味、氰化物苦杏   仁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加快或减慢、肺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、心搏骤停、休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肾功能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性贫血、白细胞减少和再障贫血、出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棉酚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六、中毒评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毒物检测</a:t>
            </a:r>
            <a:r>
              <a:rPr b="1" lang="en-US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预测严重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之一为危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昏迷、高血压或血压偏低、高热或体温过低、呼吸衰竭、肺水肿、吸入性肺炎、严重心律失常、癫痫发作、少尿肾功衰、黄疸或中毒性肝损害、溶血性贫血或出血倾向、进行性呼吸困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七、急性中毒急救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终止接触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已吸收毒物的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解毒剂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621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人性中毒应撤离中毒现场，呼吸新鲜空气，吸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中毒应脱去污染衣服，用清水洗净皮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中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、导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867280" y="3357720"/>
            <a:ext cx="197028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二）促进已吸收毒物的排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饮水、喝茶水或口服速尿都有利尿排毒作用；碱化尿液。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~6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氧化碳中毒时吸氧可加速排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腹膜透析、血液透析、血液灌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或血浆置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于毒性极大的氰化物、砷化物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三）特殊解毒剂的应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属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地酸二钠钙→铅中毒，二巯基丙醇→砷、汞、金、锑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铁血红蛋白血症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蓝→亚硝酸钠盐、苯胺、硝基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氰化物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硝酸异戊酯＋亚硝酸钠，美蓝＋硫代硫酸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农药中毒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解磷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神经抑制药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→阿片类、麻醉镇痛药、酒精中毒；氟马西尼→苯二氮卓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熟记急性中毒的急救原则及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有机磷杀虫药中毒、镇静催眠药中毒、一氧化碳中毒、急性酒精中毒的临床表现、急救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各种急性中毒的发生机制与护理要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73240" y="0"/>
            <a:ext cx="65372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八、急性中毒急救护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迅速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洁皮肤、清除眼内毒物、洗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留取洗胃标本做毒物鉴定，并送检血、尿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命体征监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饮食护理、口腔护理、对症护理、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普及防毒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吃有毒或变质食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产及使用毒物部门要严格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节   有机磷农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剧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拌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91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吸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05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对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60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八甲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~1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基对硫磷、甲胺磷、氧化乐果、敌敌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 ~1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敌百虫、乐果、乙硫磷、倍硫磷、二嗪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~5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马拉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04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心菜毒翻湖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工      初步诊断为有机磷农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67080" cy="352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、运输、保管和使用农药不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性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毒自杀、误服农药或摄入被污染的水源和食物、水果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杀虫剂过程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中毒途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47280" y="4508640"/>
            <a:ext cx="56883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、粘膜、呼吸道、消化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816360" cy="22478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67164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毒物的吸收和代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吸收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、粘膜、呼吸道、消化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与氧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氧化后毒性增强，分解后毒性降低。对硫磷氧化成对氧磷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内吸磷氧化成亚枫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排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脏、粪便、呼气、出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401920" y="1268280"/>
            <a:ext cx="4546440" cy="494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机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63600" y="1286280"/>
            <a:ext cx="7968960" cy="2616840"/>
            <a:chOff x="363600" y="1286280"/>
            <a:chExt cx="7968960" cy="2616840"/>
          </a:xfrm>
        </p:grpSpPr>
        <p:sp>
          <p:nvSpPr>
            <p:cNvPr id="307" name=""/>
            <p:cNvSpPr/>
            <p:nvPr/>
          </p:nvSpPr>
          <p:spPr>
            <a:xfrm>
              <a:off x="6658200" y="16527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磷酰化胆碱酯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63600" y="1676520"/>
              <a:ext cx="6629400" cy="2226600"/>
              <a:chOff x="363600" y="1676520"/>
              <a:chExt cx="6629400" cy="22266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73640" y="2955960"/>
                <a:ext cx="914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酰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33080" y="17287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有机磷农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81840" y="1728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酯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3600" y="2955960"/>
                <a:ext cx="1676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能神经兴奋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87840" y="3429000"/>
                <a:ext cx="7617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02640" y="2955960"/>
                <a:ext cx="99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酸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64000" y="3429000"/>
                <a:ext cx="25146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78200" y="2057400"/>
                <a:ext cx="11430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83320" y="2362320"/>
                <a:ext cx="0" cy="106668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06800" y="1676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b2b2b2"/>
                    </a:solidFill>
                    <a:latin typeface="Times New Roman"/>
                    <a:ea typeface="华文中宋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9" name=""/>
            <p:cNvCxnSpPr>
              <a:stCxn id="310" idx="0"/>
              <a:endCxn id="307" idx="0"/>
            </p:cNvCxnSpPr>
            <p:nvPr/>
          </p:nvCxnSpPr>
          <p:spPr>
            <a:xfrm flipH="1" flipV="1" rot="5400000">
              <a:off x="4664160" y="-1051560"/>
              <a:ext cx="76680" cy="5531760"/>
            </a:xfrm>
            <a:prstGeom prst="bentConnector3">
              <a:avLst>
                <a:gd name="adj1" fmla="val 610377"/>
              </a:avLst>
            </a:prstGeom>
            <a:ln cap="sq" w="3816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320" name=""/>
            <p:cNvCxnSpPr>
              <a:stCxn id="311" idx="0"/>
            </p:cNvCxnSpPr>
            <p:nvPr/>
          </p:nvCxnSpPr>
          <p:spPr>
            <a:xfrm flipV="1">
              <a:off x="4782960" y="1294920"/>
              <a:ext cx="1080" cy="457920"/>
            </a:xfrm>
            <a:prstGeom prst="straightConnector1">
              <a:avLst/>
            </a:prstGeom>
            <a:ln cap="sq" w="38160">
              <a:solidFill>
                <a:srgbClr val="00ffff"/>
              </a:solidFill>
              <a:miter/>
            </a:ln>
          </p:spPr>
        </p:cxnSp>
      </p:grpSp>
      <p:sp>
        <p:nvSpPr>
          <p:cNvPr id="321" name=""/>
          <p:cNvSpPr/>
          <p:nvPr/>
        </p:nvSpPr>
        <p:spPr>
          <a:xfrm>
            <a:off x="3090240" y="4111560"/>
            <a:ext cx="2588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蕈碱样、烟碱样和中枢神经系统症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磷酰化胆碱酶酯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老化，不易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411280" y="0"/>
            <a:ext cx="44802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案   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46836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邓某，女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农民，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前与家人吵架自服农药“马拉硫磷、克虫霸”各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入院。查体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35.8℃  P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P120/80mmH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神清，烦躁，双侧瞳孔缩小，对光反射存在，口腔内有浓重大蒜味，流涎，大汗淋漓，双下肺闻及湿啰音。心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心律规整，各瓣膜区未闻及杂音。腹平软，肠鸣音亢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3280" y="3716280"/>
            <a:ext cx="7489800" cy="27352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病人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进一步了解病情应做哪项辅助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为重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的救治与护理措施有哪些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史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史、误服史、有的隐瞒服农药史，询问陪伴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潜伏期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吸收多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后出现多汗、流涎、烦躁不安等，呼吸道吸入或口服后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出现恶心、呕吐、腹痛等症状；吸入者视物模糊、呼吸困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主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毒蕈碱样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现最早，主要表现为平滑肌痉挛和腺体分泌增加。恶心、呕吐、腹痛、腹泻、流涎、多汗、视物模糊、瞳孔缩小、呼吸道分泌物增加、支气管痉挛、呼吸困难、肺水肿、大小便失禁等。可用阿托品对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烟碱样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肌兴奋出现肌纤维震颤。常由小肌群开始。如眼睑、颜面、舌肌等，逐渐发展肌束颤动，牙关紧闭，全身抽搐等、而后肌力减退、呼吸肌麻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中枢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共济失调、烦躁不安、意识模糊、谵妄、抽搐、昏迷，呼吸抑制致呼吸停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植物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压升高、心率加快，病情进展时出现心率减慢、心律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次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“反跳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间型综合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迟发性神经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分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头晕、头痛、恶心、呕吐、多汗、胸闷、视物模糊、无力、瞳孔缩小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述症状加重，还有肌束颤动、瞳孔明显缩小、轻度呼吸困难、流涎、腹痛、腹泻、步态蹒跚、意识清楚或模糊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外，并有肺水肿、昏迷、呼吸麻痹或脑水肿、大小便失禁等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清除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迅速脱离中毒现场，脱去污染的衣服、鞋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肥皂水或清水清洗污染的皮肤、毛发和指甲，眼部污染者用清水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氢钠溶液清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中毒应尽早催吐洗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，吸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特效解毒剂</a:t>
            </a: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抗胆碱药阿托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缓解毒蕈碱样症状，对抗呼吸中枢抑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药原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适量、快速、反复给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扩大、颜面潮红、皮肤无汗、口干、心率加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-1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湿啰音消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法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下或肌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；中度中毒者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之后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；重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达到阿托品化后，根据病情调整给药间隔时间，也可用静滴维持药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可单用阿托品，中重度中毒时合并应用胆碱酯酶复能剂，合并用药有协同作用，阿托品剂量应适当减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胆碱酯酶复能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Ⅰ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复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M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解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MB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、氯磷定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5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甲胺磷、甲拌磷疗效显蓍；双复磷对敌百虫、敌敌畏较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氯磷定用法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，必要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半小时后可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。之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静注或静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3g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碱样症状好转后逐步停药。持续应用复能剂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因胆碱酯酶老化，复能剂不起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  急性中毒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或毒性较剧的毒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短时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进入人体，引起损害甚至危及生命称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性中毒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阿托品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55640" y="2060640"/>
          <a:ext cx="8064000" cy="3157560"/>
        </p:xfrm>
        <a:graphic>
          <a:graphicData uri="http://schemas.openxmlformats.org/drawingml/2006/table">
            <a:tbl>
              <a:tblPr/>
              <a:tblGrid>
                <a:gridCol w="869760"/>
                <a:gridCol w="3873960"/>
                <a:gridCol w="332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中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神经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意识清醒或模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谵妄、幻觉、双手抓空、昏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皮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颜面潮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紫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瞳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由小扩大不再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极度扩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体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常或轻度升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增快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脉搏快而有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动过速、甚至室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注意阿托品足量不等于过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不要误认为阿托品用量越大疗效越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机械定时、定量地重复用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把“瞳孔扩大”和“神志由昏迷转清醒”作为阿托品化的必备指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逐渐减量，切忌突然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阿托品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、皮肤、瞳孔、体温、心率，防止阿托品用量过大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表现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、狂燥、谵妄、幻觉、双手抓空、抽搐、高热、心动过速、瞳孔散大，以至昏迷、呼吸中枢麻痹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停药，可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毛果芸香碱或新斯的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拮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过早停用或急于减量，以防出现“反跳”现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胆碱酯酶复能剂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使用、首次足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并用药、注意配伍禁忌、防止药液外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不宜肌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副反应、密切观察，防止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震颤、抽搐、昏迷及呼吸持久抑制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过多过快可引起呼吸抑制，应立即停药，用大量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补液来解毒及排泄，施行人工呼吸或气管插管加压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解磷注射液的观察与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可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不良反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干、面红、瞳孔扩大、心率增快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或误用可出现头昏、头痛、烦躁不安、尿潴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防止“反跳”与迟发性猝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秒必争”地清除毒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应尽早、及时、足量，并观察阿托品化，减量不宜过快、停药不宜过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生化及肝、肾、心、脑功能监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观察胆碱酯酶活性，降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时应用胆碱酯酶复能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反跳先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闷、出汗、言语不清、吞咽困难等，通知医生，再次阿托品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般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持有效通气功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机械通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好护理记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集资料及护理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腔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机磷农药施药规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057400" cy="1714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2514600" y="2971800"/>
            <a:ext cx="2057400" cy="2617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4800600" y="2895480"/>
            <a:ext cx="2057400" cy="1589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7"/>
          <a:stretch/>
        </p:blipFill>
        <p:spPr>
          <a:xfrm>
            <a:off x="4800600" y="4648320"/>
            <a:ext cx="2057400" cy="15652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7086600" y="1371600"/>
            <a:ext cx="2057400" cy="1325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7086600" y="2971800"/>
            <a:ext cx="2057400" cy="26398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304920" y="1143000"/>
            <a:ext cx="205740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有机磷农药中毒的新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句话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胆碱酯酶为核心，不以阿托品化为依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条线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与抗胆硷能药物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治疗终点是全血胆硷酯酶活性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胆硷能药物治疗终点是阿托品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维持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酶老化及中间综合症时阿托品的维持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  镇静催眠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巴比妥盐类问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静催眠药中毒占药物中毒的第一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三大类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盐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抑制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 、毒物的吸收、代谢、排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08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入人体的途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粘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615636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gt;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氟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氯硝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硝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-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普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静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艾司唑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lt;6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咪哒安定，三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乐神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普拉安定，克罗西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苯二氮卓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性反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兴奋、忧虑、攻击、敌意行为、躁狂和瞻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巴比妥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中度中毒极似醉酒样酩酊状态，嗜睡、情感脆弱、思维障碍、动作不协调、语言含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可进行性中枢抑制，自嗜睡至深昏迷；呼吸抑制，呼吸浅慢，潮式呼吸，甚至停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实验室检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毒物检测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一般不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、尿及胃液的定性检查有助诊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药浓度测定对临床并无帮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血气分析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可检测呼吸受抑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线检查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胸片了解肺水肿、肺部感染、误吸及气管插管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除毒物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胃管或切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炭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/k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肠肝循环，应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毒物排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、血液灌流、利尿、用碳酸氢钠碱化尿液促使毒物排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药物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效解毒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umazenil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易行，原名安易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特异性苯二氮卓受体拮抗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枢兴奋药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苏仑作用于颈动脉化学感受器，直接兴奋延髓呼吸中枢解除呼吸抑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兴奋呼吸、催醒、解除呼吸抑制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-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直至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支持治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、吸氧，呼衰用呼吸兴奋剂，必要时气管插管，呼吸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O2&lt;50mmHg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人工通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心律失常和保护心肌，低血压或休克应用多巴胺或去甲肾上腺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脱水利尿减轻脑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抗生素防治肺部感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镇静催眠药中毒急救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胃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生命体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情观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识、瞳孔、对光反应、角膜反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。吸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昏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鼻饲营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时翻身、拍背、吸痰，预防褥疮，口腔护理，尿管每周更换定时冲洗，便后高锰酸钾消毒会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、佳苏仑、纳洛酮、美解眠、毒扁豆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透析、血液灌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节  急性一氧化碳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因与发病机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碳物质燃烧不全产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工业生产或日常生活中，都会产生大量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中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入体内即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形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亲和力比氧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其解离又比氧合血红蛋白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毒物的代谢：主要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肝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代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些毒物经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增加毒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如对硫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680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家三口煤气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640872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牧羊犬用嘴拖出昏迷主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2400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一家三口煤气中毒牧羊犬用嘴拖出昏迷主人(图)"/>
          <p:cNvPicPr/>
          <p:nvPr/>
        </p:nvPicPr>
        <p:blipFill>
          <a:blip r:embed="rId1"/>
          <a:stretch/>
        </p:blipFill>
        <p:spPr>
          <a:xfrm>
            <a:off x="1476360" y="1484280"/>
            <a:ext cx="5327640" cy="3578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22400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对夫妻煤气中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煤气中毒抢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80880" y="1652760"/>
            <a:ext cx="3581640" cy="35524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43400" y="1666800"/>
            <a:ext cx="35812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症状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、接触时间长短、患者的健康情况有关，常分三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恶心、呕吐，甚至昏厥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10%~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脱离现场，吸新鲜空气，症状可消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加重外，皮肤粘膜呈樱桃红色 、心动过速、烦躁多汗、神志恍惚、步态不稳、甚至昏迷。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~4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治疗可恢复无并发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昏迷，各种反射消失，呈去大脑皮质状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便失禁、四肢厥冷、不动不语、呼之不应、推之不动、血压下降、瞳孔缩小、呼吸不规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迟发性脑病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意识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痴呆或去大脑皮质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外系神经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震颤麻痹综合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系神经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瘫、病理征阳性、大小便失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脑皮质局灶性功能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语、失明或癫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现场急救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抬离现场，门窗通风，解开领口，注意保暖。呼吸心跳骤停进行心肺复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纠正缺氧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可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离。应尽可能行高压氧治疗，无条件可自体血体外辐射充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脑水肿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水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-4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达高峰，利尿脱水用甘露醇、高渗葡萄糖、速尿、地塞米松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救治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治疗感染，控制高热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培养选择广谱抗生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热者可物理降温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降温寒战及惊厥可冬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脑细胞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量合剂，如辅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胞色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并发症和后发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楼着火如何逃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4978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重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96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比空气轻，救护者应俯伏入室，或匍匐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，并用湿毛巾捂住口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638360" y="1295280"/>
            <a:ext cx="586728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379260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高压氧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3429000" cy="2210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高压氧舱里“充电”每次50元岛城兴起“钻舱热”(图)"/>
          <p:cNvPicPr/>
          <p:nvPr/>
        </p:nvPicPr>
        <p:blipFill>
          <a:blip r:embed="rId2"/>
          <a:stretch/>
        </p:blipFill>
        <p:spPr>
          <a:xfrm>
            <a:off x="1332000" y="3645000"/>
            <a:ext cx="3429000" cy="1981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3276360" cy="1981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4859280" y="1341360"/>
            <a:ext cx="3314880" cy="2210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1298520" y="3360600"/>
            <a:ext cx="12564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毒物的排泄：大多数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肾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排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皮肤、汗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唾液腺、乳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50767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护理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氧气吸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必要时气管切开并常规护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好吸纯氧或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C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好中毒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进行高压氧，轻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中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重度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高压氧条件者经鼻导管给高浓度氧，流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-10L/min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续低浓度吸氧→清醒后间歇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节  急性酒精中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643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及中毒机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入的乙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小肠上段吸收，其余由胃吸收。空腹饮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胃内有食物存在可延缓乙醇吸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中毒机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剂量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γ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脑的抑制，产生兴奋效应。血中乙醇浓度增高，作用于小脑，引起共济失调；作用于网状结构，引起昏睡和昏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一）毒物接触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过量饮酒史，应询问饮酒的种类和饮用量、平素酒量、饮酒的具体时间，有无服用其他药物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临床上大致分三期，各期界限不是很明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济失调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睡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醇检测：呼出气体中乙醇浓度与血乙醇浓度相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急救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33112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急救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盐酸纳洛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乙醇氧化代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1700280"/>
            <a:ext cx="3889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护理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全防护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发病急骤，病情变化迅速，应及时采取积极措施，延缓病变发展，减少器官的损害，以促使早日恢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内容主要包括：①急性中毒救护；②有机磷杀虫药中毒救护；③镇静催眠药中毒救护；④急性一氧化碳中毒救护；⑤急性酒精中毒救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熟练掌握常见急性中毒的救护技术，配合医师救治急性中毒患者，同时应加强防毒宣传，向群众介绍有关中毒的预防和急救知识，严格遵守有关毒物的防护和管理制度，加强毒物保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835280" y="1628280"/>
            <a:ext cx="568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药物：安定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547640" y="188640"/>
            <a:ext cx="4321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二 、毒物种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26120" y="22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学毒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三、机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局部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激腐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缺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麻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抑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酶活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膜或细胞器的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竞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5:59:50Z</dcterms:modified>
  <cp:revision>930</cp:revision>
  <dc:subject/>
  <dc:title>Reading Fun</dc:title>
</cp:coreProperties>
</file>