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DD49-B707-4939-AD0F-6DC64B085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506B-96B4-4663-B317-18AA415FC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8507-A428-47A2-8079-8EB46D3E7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093F-618E-4EA4-BC77-D0173B7F6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E796-D857-4F67-8761-6F086C5A5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4D52-D647-4F15-BDBA-3A3F099A4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F875-6FD9-457D-B643-306EA3851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737F-B959-48D5-A84A-7B04D7A35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A438-4ABF-45E9-992A-E852364CE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D489-4FB8-4540-8EEA-4DC75E028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6388-5DD4-46CA-9130-CC5969A6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FFED-E4F6-4EDD-AE9D-068AACA5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C8BD8-6E21-4A17-9496-A6B335585B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3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99640" y="47592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99"/>
                </a:solidFill>
                <a:latin typeface="华文行楷"/>
                <a:ea typeface="华文行楷"/>
              </a:rPr>
              <a:t>第三章  抗 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360" y="1844640"/>
            <a:ext cx="7991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学习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．解释抗原、完全抗原、半抗原、抗原决定基、共同抗原和交叉反应的概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．说出抗原的基本特性；说出决定抗原具有免疫原性的条件；医学上重要的抗原物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．知道抗原的分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第三节    抗原的特异性与交叉反应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3628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新魏"/>
              </a:rPr>
              <a:t>一、特异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309e3"/>
                </a:solidFill>
                <a:latin typeface="Arial"/>
                <a:ea typeface="华文行楷"/>
              </a:rPr>
              <a:t>      </a:t>
            </a:r>
            <a:r>
              <a:rPr b="0" lang="zh-CN" sz="2800" spc="-1" strike="noStrike">
                <a:solidFill>
                  <a:srgbClr val="1309e3"/>
                </a:solidFill>
                <a:latin typeface="Arial"/>
                <a:ea typeface="华文行楷"/>
              </a:rPr>
              <a:t>指抗原只能刺激机体产生针对该抗原的免疫效应物质，且只能与相应的免疫效应物质特异性结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华文行楷"/>
              </a:rPr>
              <a:t>是免疫应答最基本的特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606e6"/>
                </a:solidFill>
                <a:latin typeface="Arial"/>
                <a:ea typeface="华文行楷"/>
              </a:rPr>
              <a:t>是免疫学诊断与防治的理论依据</a:t>
            </a:r>
            <a:r>
              <a:rPr b="0" lang="zh-CN" sz="2800" spc="-1" strike="noStrike">
                <a:solidFill>
                  <a:srgbClr val="1309e3"/>
                </a:solidFill>
                <a:latin typeface="Arial"/>
                <a:ea typeface="华文行楷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826920" y="3985560"/>
            <a:ext cx="6799320" cy="2470680"/>
            <a:chOff x="826920" y="3985560"/>
            <a:chExt cx="6799320" cy="2470680"/>
          </a:xfrm>
        </p:grpSpPr>
        <p:grpSp>
          <p:nvGrpSpPr>
            <p:cNvPr id="353" name=""/>
            <p:cNvGrpSpPr/>
            <p:nvPr/>
          </p:nvGrpSpPr>
          <p:grpSpPr>
            <a:xfrm>
              <a:off x="6892560" y="3985560"/>
              <a:ext cx="691560" cy="481680"/>
              <a:chOff x="6892560" y="3985560"/>
              <a:chExt cx="691560" cy="481680"/>
            </a:xfrm>
          </p:grpSpPr>
          <p:sp>
            <p:nvSpPr>
              <p:cNvPr id="354" name=""/>
              <p:cNvSpPr/>
              <p:nvPr/>
            </p:nvSpPr>
            <p:spPr>
              <a:xfrm flipH="1" flipV="1" rot="3591600">
                <a:off x="6953040" y="4240440"/>
                <a:ext cx="139680" cy="221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rot="3591600">
                <a:off x="7383240" y="3990600"/>
                <a:ext cx="139680" cy="221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rot="19791000">
                <a:off x="7003080" y="4081320"/>
                <a:ext cx="442080" cy="2797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826920" y="4262760"/>
              <a:ext cx="6799320" cy="2193480"/>
              <a:chOff x="826920" y="4262760"/>
              <a:chExt cx="6799320" cy="2193480"/>
            </a:xfrm>
          </p:grpSpPr>
          <p:sp>
            <p:nvSpPr>
              <p:cNvPr id="358" name=""/>
              <p:cNvSpPr/>
              <p:nvPr/>
            </p:nvSpPr>
            <p:spPr>
              <a:xfrm>
                <a:off x="1932840" y="4682520"/>
                <a:ext cx="810720" cy="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006280" y="5848560"/>
                <a:ext cx="737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0" name=""/>
              <p:cNvGrpSpPr/>
              <p:nvPr/>
            </p:nvGrpSpPr>
            <p:grpSpPr>
              <a:xfrm>
                <a:off x="826920" y="4542840"/>
                <a:ext cx="718200" cy="279720"/>
                <a:chOff x="826920" y="4542840"/>
                <a:chExt cx="718200" cy="279720"/>
              </a:xfrm>
            </p:grpSpPr>
            <p:sp>
              <p:nvSpPr>
                <p:cNvPr id="361" name=""/>
                <p:cNvSpPr/>
                <p:nvPr/>
              </p:nvSpPr>
              <p:spPr>
                <a:xfrm flipH="1" flipV="1" rot="5400000">
                  <a:off x="867600" y="4583520"/>
                  <a:ext cx="139680" cy="221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000" bIns="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 rot="5400000">
                  <a:off x="1364760" y="4583520"/>
                  <a:ext cx="139680" cy="221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000" bIns="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955440" y="4542840"/>
                  <a:ext cx="442080" cy="27972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" name=""/>
              <p:cNvGrpSpPr/>
              <p:nvPr/>
            </p:nvGrpSpPr>
            <p:grpSpPr>
              <a:xfrm>
                <a:off x="900360" y="5708520"/>
                <a:ext cx="737280" cy="279720"/>
                <a:chOff x="900360" y="5708520"/>
                <a:chExt cx="737280" cy="27972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900360" y="5813280"/>
                  <a:ext cx="737280" cy="92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080" bIns="46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1047600" y="5708520"/>
                  <a:ext cx="442080" cy="27972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7" name=""/>
              <p:cNvGrpSpPr/>
              <p:nvPr/>
            </p:nvGrpSpPr>
            <p:grpSpPr>
              <a:xfrm>
                <a:off x="3112560" y="4309200"/>
                <a:ext cx="1474560" cy="652680"/>
                <a:chOff x="3112560" y="4309200"/>
                <a:chExt cx="1474560" cy="65268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3112560" y="4610520"/>
                  <a:ext cx="1061640" cy="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3112560" y="4711320"/>
                  <a:ext cx="1061640" cy="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 flipV="1">
                  <a:off x="4115520" y="4409280"/>
                  <a:ext cx="294840" cy="20088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4174200" y="4711320"/>
                  <a:ext cx="236520" cy="15048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4410720" y="4862160"/>
                  <a:ext cx="57960" cy="9972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4410720" y="4862160"/>
                  <a:ext cx="176400" cy="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 flipV="1">
                  <a:off x="4410720" y="4309200"/>
                  <a:ext cx="0" cy="9972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4410720" y="4409280"/>
                  <a:ext cx="118080" cy="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6" name=""/>
              <p:cNvGrpSpPr/>
              <p:nvPr/>
            </p:nvGrpSpPr>
            <p:grpSpPr>
              <a:xfrm>
                <a:off x="2964960" y="5522040"/>
                <a:ext cx="1382040" cy="547200"/>
                <a:chOff x="2964960" y="5522040"/>
                <a:chExt cx="1382040" cy="54720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2964960" y="5776200"/>
                  <a:ext cx="1061280" cy="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2964960" y="5877360"/>
                  <a:ext cx="1061280" cy="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 flipV="1">
                  <a:off x="3967920" y="5574960"/>
                  <a:ext cx="294840" cy="20052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4026240" y="5877360"/>
                  <a:ext cx="236520" cy="15012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4199760" y="5522040"/>
                  <a:ext cx="147240" cy="9288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 flipH="1">
                  <a:off x="4199400" y="5976360"/>
                  <a:ext cx="147240" cy="9288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3" name=""/>
              <p:cNvSpPr/>
              <p:nvPr/>
            </p:nvSpPr>
            <p:spPr>
              <a:xfrm>
                <a:off x="4660920" y="4636080"/>
                <a:ext cx="811080" cy="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513680" y="5848560"/>
                <a:ext cx="810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5" name=""/>
              <p:cNvGrpSpPr/>
              <p:nvPr/>
            </p:nvGrpSpPr>
            <p:grpSpPr>
              <a:xfrm>
                <a:off x="5619600" y="4262760"/>
                <a:ext cx="1474200" cy="652680"/>
                <a:chOff x="5619600" y="4262760"/>
                <a:chExt cx="1474200" cy="65268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5619600" y="4564080"/>
                  <a:ext cx="1061280" cy="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5619600" y="4664880"/>
                  <a:ext cx="1061280" cy="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 flipV="1">
                  <a:off x="6622200" y="4362840"/>
                  <a:ext cx="294840" cy="20088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6680880" y="4664880"/>
                  <a:ext cx="236520" cy="15048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6917400" y="4815720"/>
                  <a:ext cx="57960" cy="9972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6917400" y="4815720"/>
                  <a:ext cx="176400" cy="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 flipV="1">
                  <a:off x="6917400" y="4262760"/>
                  <a:ext cx="0" cy="9972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6917400" y="4362840"/>
                  <a:ext cx="118080" cy="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4" name=""/>
              <p:cNvGrpSpPr/>
              <p:nvPr/>
            </p:nvGrpSpPr>
            <p:grpSpPr>
              <a:xfrm>
                <a:off x="6834960" y="5133240"/>
                <a:ext cx="518400" cy="498240"/>
                <a:chOff x="6834960" y="5133240"/>
                <a:chExt cx="518400" cy="498240"/>
              </a:xfrm>
            </p:grpSpPr>
            <p:sp>
              <p:nvSpPr>
                <p:cNvPr id="395" name=""/>
                <p:cNvSpPr/>
                <p:nvPr/>
              </p:nvSpPr>
              <p:spPr>
                <a:xfrm rot="18598800">
                  <a:off x="6874920" y="5320080"/>
                  <a:ext cx="465840" cy="147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 rot="18598800">
                  <a:off x="6954120" y="5161320"/>
                  <a:ext cx="279360" cy="44208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7" name=""/>
              <p:cNvGrpSpPr/>
              <p:nvPr/>
            </p:nvGrpSpPr>
            <p:grpSpPr>
              <a:xfrm>
                <a:off x="6848640" y="5911200"/>
                <a:ext cx="624240" cy="545040"/>
                <a:chOff x="6848640" y="5911200"/>
                <a:chExt cx="624240" cy="545040"/>
              </a:xfrm>
            </p:grpSpPr>
            <p:sp>
              <p:nvSpPr>
                <p:cNvPr id="398" name=""/>
                <p:cNvSpPr/>
                <p:nvPr/>
              </p:nvSpPr>
              <p:spPr>
                <a:xfrm rot="2400600">
                  <a:off x="6792120" y="6136920"/>
                  <a:ext cx="736920" cy="92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080" bIns="46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 rot="2400600">
                  <a:off x="6946560" y="6034680"/>
                  <a:ext cx="442080" cy="27972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" name=""/>
              <p:cNvGrpSpPr/>
              <p:nvPr/>
            </p:nvGrpSpPr>
            <p:grpSpPr>
              <a:xfrm>
                <a:off x="5545800" y="5522040"/>
                <a:ext cx="1382040" cy="547200"/>
                <a:chOff x="5545800" y="5522040"/>
                <a:chExt cx="1382040" cy="54720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5545800" y="5776200"/>
                  <a:ext cx="1061280" cy="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5545800" y="5877360"/>
                  <a:ext cx="1061280" cy="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 flipV="1">
                  <a:off x="6548760" y="5574960"/>
                  <a:ext cx="294840" cy="20052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6607080" y="5877360"/>
                  <a:ext cx="236520" cy="15012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6780600" y="5522040"/>
                  <a:ext cx="147240" cy="9288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flipH="1">
                  <a:off x="6780240" y="5976360"/>
                  <a:ext cx="147240" cy="9288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7" name=""/>
              <p:cNvGrpSpPr/>
              <p:nvPr/>
            </p:nvGrpSpPr>
            <p:grpSpPr>
              <a:xfrm>
                <a:off x="6972120" y="4696560"/>
                <a:ext cx="654120" cy="549720"/>
                <a:chOff x="6972120" y="4696560"/>
                <a:chExt cx="654120" cy="549720"/>
              </a:xfrm>
            </p:grpSpPr>
            <p:sp>
              <p:nvSpPr>
                <p:cNvPr id="408" name=""/>
                <p:cNvSpPr/>
                <p:nvPr/>
              </p:nvSpPr>
              <p:spPr>
                <a:xfrm flipH="1" flipV="1" rot="7660800">
                  <a:off x="7031880" y="4708440"/>
                  <a:ext cx="139680" cy="221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000" bIns="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 rot="7660800">
                  <a:off x="7426080" y="5012640"/>
                  <a:ext cx="139680" cy="221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000" bIns="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 rot="2260200">
                  <a:off x="7077240" y="4816440"/>
                  <a:ext cx="442080" cy="27972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-7390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250920" y="907920"/>
            <a:ext cx="820872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一）抗原决定基的概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华文隶书"/>
              </a:rPr>
              <a:t>抗原决定基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是抗原分子中决定抗原特异性的特殊化学基团，一般由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氨基酸残基或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多糖残基或核苷酸构成。它是与抗体、免疫活性细胞抗原受体特异性结合的部位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隶书"/>
              </a:rPr>
              <a:t>天然抗原含有多种抗原决定基。抗原分子上能与抗体分子结合的抗原决定基的总数叫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隶书"/>
              </a:rPr>
              <a:t>抗原结合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324000" y="-906120"/>
            <a:ext cx="7343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-257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（二）抗原决定基的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功能性抗原决定基与隐蔽性抗原决定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位于分子表面的决定基，易被相应的淋巴细胞识别而启动免疫应答，称为功能性决定基。位于抗原分子内部的决定基，不能直接激发免疫应答，称为隐蔽决定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构象决定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序列上不相连，由天然构象形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位于分子内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胞识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33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胞抗原决定基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胞抗原决定基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T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细胞表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CR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识别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必须经降解加工处理后才能被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胞识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线性决定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细胞表位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CR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识别或抗体识别并结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直接识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构象决定基或线性决定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826920" y="907920"/>
            <a:ext cx="2602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半抗原</a:t>
            </a:r>
            <a:r>
              <a:rPr b="1" lang="zh-CN" sz="2800" spc="-1" strike="noStrike">
                <a:solidFill>
                  <a:srgbClr val="ff3300"/>
                </a:solidFill>
                <a:latin typeface="Arial Narrow"/>
              </a:rPr>
              <a:t>(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Hapten</a:t>
            </a:r>
            <a:r>
              <a:rPr b="1" lang="zh-CN" sz="2800" spc="-1" strike="noStrike">
                <a:solidFill>
                  <a:srgbClr val="ff3300"/>
                </a:solidFill>
                <a:latin typeface="Arial Narrow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708360" y="981000"/>
            <a:ext cx="228600" cy="30492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1167840" y="197640"/>
            <a:ext cx="3528720" cy="3398400"/>
            <a:chOff x="1167840" y="197640"/>
            <a:chExt cx="3528720" cy="3398400"/>
          </a:xfrm>
        </p:grpSpPr>
        <p:sp>
          <p:nvSpPr>
            <p:cNvPr id="421" name=""/>
            <p:cNvSpPr/>
            <p:nvPr/>
          </p:nvSpPr>
          <p:spPr>
            <a:xfrm rot="18432000">
              <a:off x="1866240" y="490680"/>
              <a:ext cx="2131920" cy="281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483720" y="976680"/>
              <a:ext cx="186480" cy="141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3" name=""/>
          <p:cNvSpPr/>
          <p:nvPr/>
        </p:nvSpPr>
        <p:spPr>
          <a:xfrm>
            <a:off x="3962520" y="1447920"/>
            <a:ext cx="914400" cy="10666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581280" y="2387520"/>
            <a:ext cx="51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免疫应答 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mmune response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4152960" y="1752480"/>
            <a:ext cx="380880" cy="304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114800" y="173340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629240" y="933480"/>
            <a:ext cx="838080" cy="228600"/>
          </a:xfrm>
          <a:prstGeom prst="rect">
            <a:avLst/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624200" y="113040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载体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arr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15000" y="10666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343560" y="914400"/>
            <a:ext cx="228600" cy="30492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572160" y="952560"/>
            <a:ext cx="838440" cy="228600"/>
          </a:xfrm>
          <a:prstGeom prst="rect">
            <a:avLst/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6095520" y="1447920"/>
            <a:ext cx="76212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4422960" y="2904480"/>
            <a:ext cx="971280" cy="1057320"/>
            <a:chOff x="4422960" y="2904480"/>
            <a:chExt cx="971280" cy="1057320"/>
          </a:xfrm>
        </p:grpSpPr>
        <p:sp>
          <p:nvSpPr>
            <p:cNvPr id="434" name=""/>
            <p:cNvSpPr/>
            <p:nvPr/>
          </p:nvSpPr>
          <p:spPr>
            <a:xfrm flipV="1" rot="21561600">
              <a:off x="4925160" y="3349440"/>
              <a:ext cx="360" cy="19152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64"/>
                    <a:pt x="0" y="128"/>
                    <a:pt x="0" y="19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 rot="21561600">
              <a:off x="4853160" y="3341880"/>
              <a:ext cx="31680" cy="203400"/>
            </a:xfrm>
            <a:custGeom>
              <a:avLst/>
              <a:gdLst/>
              <a:ahLst/>
              <a:rect l="l" t="t" r="r" b="b"/>
              <a:pathLst>
                <a:path w="1" h="211">
                  <a:moveTo>
                    <a:pt x="0" y="0"/>
                  </a:moveTo>
                  <a:cubicBezTo>
                    <a:pt x="0" y="70"/>
                    <a:pt x="0" y="141"/>
                    <a:pt x="0" y="211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 rot="21561600">
              <a:off x="4803840" y="3164760"/>
              <a:ext cx="84960" cy="96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759e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 rot="21561600">
              <a:off x="4894920" y="3164760"/>
              <a:ext cx="86400" cy="96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 rot="21561600">
              <a:off x="4892040" y="3255120"/>
              <a:ext cx="87840" cy="96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 rot="21561600">
              <a:off x="4803120" y="3260160"/>
              <a:ext cx="84960" cy="96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759e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 rot="5361600">
              <a:off x="4903920" y="3447720"/>
              <a:ext cx="304560" cy="72000"/>
            </a:xfrm>
            <a:prstGeom prst="flowChartOnlineStorage">
              <a:avLst/>
            </a:prstGeom>
            <a:solidFill>
              <a:srgbClr val="ff77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892200">
              <a:off x="4484520" y="3003120"/>
              <a:ext cx="847800" cy="592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336" y="1527"/>
                  </a:moveTo>
                  <a:arcTo wR="10800" hR="10800" stAng="-3549669" swAng="5947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6336" y="1527"/>
                  </a:moveTo>
                  <a:arcTo wR="10800" hR="10800" stAng="-3549669" swAng="5947154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7609200">
              <a:off x="5121000" y="3054240"/>
              <a:ext cx="99720" cy="86400"/>
            </a:xfrm>
            <a:custGeom>
              <a:avLst/>
              <a:gdLst/>
              <a:ahLst/>
              <a:rect l="l" t="t" r="r" b="b"/>
              <a:pathLst>
                <a:path w="96" h="48">
                  <a:moveTo>
                    <a:pt x="0" y="48"/>
                  </a:moveTo>
                  <a:lnTo>
                    <a:pt x="48" y="0"/>
                  </a:lnTo>
                  <a:lnTo>
                    <a:pt x="96" y="4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rot="10800000">
              <a:off x="4572000" y="3448800"/>
              <a:ext cx="695520" cy="51300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rot="10800000">
              <a:off x="4655520" y="3504960"/>
              <a:ext cx="470160" cy="235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d9bc9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3842640" y="4542120"/>
            <a:ext cx="1753920" cy="1934280"/>
            <a:chOff x="3842640" y="4542120"/>
            <a:chExt cx="1753920" cy="1934280"/>
          </a:xfrm>
        </p:grpSpPr>
        <p:sp>
          <p:nvSpPr>
            <p:cNvPr id="446" name=""/>
            <p:cNvSpPr/>
            <p:nvPr/>
          </p:nvSpPr>
          <p:spPr>
            <a:xfrm flipV="1" rot="21561600">
              <a:off x="4750200" y="5352840"/>
              <a:ext cx="360" cy="3513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64"/>
                    <a:pt x="0" y="128"/>
                    <a:pt x="0" y="19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 rot="21561600">
              <a:off x="4620960" y="5339160"/>
              <a:ext cx="56880" cy="372960"/>
            </a:xfrm>
            <a:custGeom>
              <a:avLst/>
              <a:gdLst/>
              <a:ahLst/>
              <a:rect l="l" t="t" r="r" b="b"/>
              <a:pathLst>
                <a:path w="1" h="211">
                  <a:moveTo>
                    <a:pt x="0" y="0"/>
                  </a:moveTo>
                  <a:cubicBezTo>
                    <a:pt x="0" y="70"/>
                    <a:pt x="0" y="141"/>
                    <a:pt x="0" y="211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 rot="21561600">
              <a:off x="4532760" y="5013360"/>
              <a:ext cx="153000" cy="176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759e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 rot="21561600">
              <a:off x="4696560" y="5013360"/>
              <a:ext cx="155160" cy="176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 rot="21561600">
              <a:off x="4691160" y="5179320"/>
              <a:ext cx="158400" cy="176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 rot="21561600">
              <a:off x="4530600" y="5190120"/>
              <a:ext cx="153000" cy="177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759e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 rot="5361600">
              <a:off x="4708080" y="5533920"/>
              <a:ext cx="558000" cy="129960"/>
            </a:xfrm>
            <a:prstGeom prst="flowChartOnlineStorage">
              <a:avLst/>
            </a:prstGeom>
            <a:solidFill>
              <a:srgbClr val="ff77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rot="892200">
              <a:off x="3956400" y="4719600"/>
              <a:ext cx="1526040" cy="108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336" y="1527"/>
                  </a:moveTo>
                  <a:arcTo wR="10800" hR="10800" stAng="-3549669" swAng="5947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6336" y="1527"/>
                  </a:moveTo>
                  <a:arcTo wR="10800" hR="10800" stAng="-3549669" swAng="5947154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rot="7609200">
              <a:off x="5100480" y="4814280"/>
              <a:ext cx="182880" cy="155160"/>
            </a:xfrm>
            <a:custGeom>
              <a:avLst/>
              <a:gdLst/>
              <a:ahLst/>
              <a:rect l="l" t="t" r="r" b="b"/>
              <a:pathLst>
                <a:path w="96" h="48">
                  <a:moveTo>
                    <a:pt x="0" y="48"/>
                  </a:moveTo>
                  <a:lnTo>
                    <a:pt x="48" y="0"/>
                  </a:lnTo>
                  <a:lnTo>
                    <a:pt x="96" y="4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rot="10800000">
              <a:off x="4114440" y="5535720"/>
              <a:ext cx="1251720" cy="94068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rot="10800000">
              <a:off x="4264920" y="5638320"/>
              <a:ext cx="846360" cy="432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d9bc9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4449600" y="6019920"/>
            <a:ext cx="122400" cy="15228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754520" y="6019920"/>
            <a:ext cx="122400" cy="15228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602240" y="5943600"/>
            <a:ext cx="122040" cy="15228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5029200" y="4038480"/>
            <a:ext cx="38088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553080" y="4114800"/>
            <a:ext cx="38124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696080" y="4038480"/>
            <a:ext cx="228600" cy="30492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943600" y="4495680"/>
            <a:ext cx="762120" cy="152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5565240" y="4035960"/>
            <a:ext cx="228600" cy="763920"/>
            <a:chOff x="5565240" y="4035960"/>
            <a:chExt cx="228600" cy="763920"/>
          </a:xfrm>
        </p:grpSpPr>
        <p:sp>
          <p:nvSpPr>
            <p:cNvPr id="465" name=""/>
            <p:cNvSpPr/>
            <p:nvPr/>
          </p:nvSpPr>
          <p:spPr>
            <a:xfrm rot="5438400">
              <a:off x="5597640" y="4005000"/>
              <a:ext cx="163080" cy="226800"/>
            </a:xfrm>
            <a:prstGeom prst="ellipse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rot="5438400">
              <a:off x="5376240" y="4414320"/>
              <a:ext cx="598680" cy="169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 flipH="1">
            <a:off x="7086600" y="4343400"/>
            <a:ext cx="53352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086600" y="1219320"/>
            <a:ext cx="17524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09e3"/>
                </a:solidFill>
                <a:latin typeface="Arial Narrow"/>
              </a:rPr>
              <a:t>完全抗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5943240" y="3048120"/>
            <a:ext cx="190800" cy="228240"/>
            <a:chOff x="5943240" y="3048120"/>
            <a:chExt cx="190800" cy="228240"/>
          </a:xfrm>
        </p:grpSpPr>
        <p:sp>
          <p:nvSpPr>
            <p:cNvPr id="470" name=""/>
            <p:cNvSpPr/>
            <p:nvPr/>
          </p:nvSpPr>
          <p:spPr>
            <a:xfrm>
              <a:off x="6057720" y="304812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019560" y="304812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058080" y="3200040"/>
              <a:ext cx="7596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5943240" y="3200040"/>
              <a:ext cx="7632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5752800" y="3276720"/>
            <a:ext cx="190800" cy="228240"/>
            <a:chOff x="5752800" y="3276720"/>
            <a:chExt cx="190800" cy="228240"/>
          </a:xfrm>
        </p:grpSpPr>
        <p:sp>
          <p:nvSpPr>
            <p:cNvPr id="475" name=""/>
            <p:cNvSpPr/>
            <p:nvPr/>
          </p:nvSpPr>
          <p:spPr>
            <a:xfrm>
              <a:off x="5867280" y="327672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829120" y="327672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867640" y="3428640"/>
              <a:ext cx="7596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>
              <a:off x="5752800" y="3428640"/>
              <a:ext cx="7632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7200720" y="3048120"/>
            <a:ext cx="190800" cy="228240"/>
            <a:chOff x="7200720" y="3048120"/>
            <a:chExt cx="190800" cy="228240"/>
          </a:xfrm>
        </p:grpSpPr>
        <p:sp>
          <p:nvSpPr>
            <p:cNvPr id="480" name=""/>
            <p:cNvSpPr/>
            <p:nvPr/>
          </p:nvSpPr>
          <p:spPr>
            <a:xfrm>
              <a:off x="7315200" y="304812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277040" y="304812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315560" y="3200040"/>
              <a:ext cx="7596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7200720" y="3200040"/>
              <a:ext cx="7632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6438600" y="3048120"/>
            <a:ext cx="190800" cy="228240"/>
            <a:chOff x="6438600" y="3048120"/>
            <a:chExt cx="190800" cy="228240"/>
          </a:xfrm>
        </p:grpSpPr>
        <p:sp>
          <p:nvSpPr>
            <p:cNvPr id="485" name=""/>
            <p:cNvSpPr/>
            <p:nvPr/>
          </p:nvSpPr>
          <p:spPr>
            <a:xfrm>
              <a:off x="6553080" y="304812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514920" y="304812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553440" y="3200040"/>
              <a:ext cx="7596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6438600" y="3200040"/>
              <a:ext cx="7632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6286320" y="3352680"/>
            <a:ext cx="190800" cy="228240"/>
            <a:chOff x="6286320" y="3352680"/>
            <a:chExt cx="190800" cy="228240"/>
          </a:xfrm>
        </p:grpSpPr>
        <p:sp>
          <p:nvSpPr>
            <p:cNvPr id="490" name=""/>
            <p:cNvSpPr/>
            <p:nvPr/>
          </p:nvSpPr>
          <p:spPr>
            <a:xfrm>
              <a:off x="6400800" y="335268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362640" y="335268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401160" y="3504600"/>
              <a:ext cx="7596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6286320" y="3504600"/>
              <a:ext cx="7632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6743520" y="3352680"/>
            <a:ext cx="190800" cy="228240"/>
            <a:chOff x="6743520" y="3352680"/>
            <a:chExt cx="190800" cy="228240"/>
          </a:xfrm>
        </p:grpSpPr>
        <p:sp>
          <p:nvSpPr>
            <p:cNvPr id="495" name=""/>
            <p:cNvSpPr/>
            <p:nvPr/>
          </p:nvSpPr>
          <p:spPr>
            <a:xfrm>
              <a:off x="6858000" y="335268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819840" y="335268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858360" y="3504600"/>
              <a:ext cx="7596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6743520" y="3504600"/>
              <a:ext cx="7632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6895800" y="3505320"/>
            <a:ext cx="190800" cy="228240"/>
            <a:chOff x="6895800" y="3505320"/>
            <a:chExt cx="190800" cy="228240"/>
          </a:xfrm>
        </p:grpSpPr>
        <p:sp>
          <p:nvSpPr>
            <p:cNvPr id="500" name=""/>
            <p:cNvSpPr/>
            <p:nvPr/>
          </p:nvSpPr>
          <p:spPr>
            <a:xfrm>
              <a:off x="7010280" y="350532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972120" y="350532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010640" y="3657240"/>
              <a:ext cx="7596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6895800" y="3657240"/>
              <a:ext cx="7632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7048080" y="3657600"/>
            <a:ext cx="190800" cy="228240"/>
            <a:chOff x="7048080" y="3657600"/>
            <a:chExt cx="190800" cy="228240"/>
          </a:xfrm>
        </p:grpSpPr>
        <p:sp>
          <p:nvSpPr>
            <p:cNvPr id="505" name=""/>
            <p:cNvSpPr/>
            <p:nvPr/>
          </p:nvSpPr>
          <p:spPr>
            <a:xfrm>
              <a:off x="7162560" y="365760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124400" y="365760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162920" y="3809520"/>
              <a:ext cx="7596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7048080" y="3809520"/>
              <a:ext cx="7632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6096240" y="3200400"/>
            <a:ext cx="190800" cy="228240"/>
            <a:chOff x="6096240" y="3200400"/>
            <a:chExt cx="190800" cy="228240"/>
          </a:xfrm>
        </p:grpSpPr>
        <p:sp>
          <p:nvSpPr>
            <p:cNvPr id="510" name=""/>
            <p:cNvSpPr/>
            <p:nvPr/>
          </p:nvSpPr>
          <p:spPr>
            <a:xfrm>
              <a:off x="6210720" y="320040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172560" y="320040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211080" y="3352320"/>
              <a:ext cx="7596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>
              <a:off x="6096240" y="3352320"/>
              <a:ext cx="7632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5905080" y="3581280"/>
            <a:ext cx="190800" cy="228240"/>
            <a:chOff x="5905080" y="3581280"/>
            <a:chExt cx="190800" cy="228240"/>
          </a:xfrm>
        </p:grpSpPr>
        <p:sp>
          <p:nvSpPr>
            <p:cNvPr id="515" name=""/>
            <p:cNvSpPr/>
            <p:nvPr/>
          </p:nvSpPr>
          <p:spPr>
            <a:xfrm>
              <a:off x="6019560" y="358128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981400" y="358128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019920" y="3733200"/>
              <a:ext cx="7596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>
              <a:off x="5905080" y="3733200"/>
              <a:ext cx="7632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6400440" y="3733920"/>
            <a:ext cx="190800" cy="228240"/>
            <a:chOff x="6400440" y="3733920"/>
            <a:chExt cx="190800" cy="228240"/>
          </a:xfrm>
        </p:grpSpPr>
        <p:sp>
          <p:nvSpPr>
            <p:cNvPr id="520" name=""/>
            <p:cNvSpPr/>
            <p:nvPr/>
          </p:nvSpPr>
          <p:spPr>
            <a:xfrm>
              <a:off x="6514920" y="373392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476760" y="373392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515280" y="3885840"/>
              <a:ext cx="7596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>
              <a:off x="6400440" y="3885840"/>
              <a:ext cx="7632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6096240" y="3429000"/>
            <a:ext cx="190800" cy="228240"/>
            <a:chOff x="6096240" y="3429000"/>
            <a:chExt cx="190800" cy="228240"/>
          </a:xfrm>
        </p:grpSpPr>
        <p:sp>
          <p:nvSpPr>
            <p:cNvPr id="525" name=""/>
            <p:cNvSpPr/>
            <p:nvPr/>
          </p:nvSpPr>
          <p:spPr>
            <a:xfrm>
              <a:off x="6210720" y="342900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172560" y="342900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211080" y="3580920"/>
              <a:ext cx="7596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6096240" y="3580920"/>
              <a:ext cx="7632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7391520" y="5106960"/>
            <a:ext cx="122040" cy="15228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162920" y="5106960"/>
            <a:ext cx="122040" cy="15228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359480" y="4876200"/>
            <a:ext cx="0" cy="152280"/>
          </a:xfrm>
          <a:prstGeom prst="line">
            <a:avLst/>
          </a:prstGeom>
          <a:ln w="28440">
            <a:solidFill>
              <a:srgbClr val="e60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321680" y="4876200"/>
            <a:ext cx="0" cy="152280"/>
          </a:xfrm>
          <a:prstGeom prst="line">
            <a:avLst/>
          </a:prstGeom>
          <a:ln w="28440">
            <a:solidFill>
              <a:srgbClr val="e60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359480" y="5029200"/>
            <a:ext cx="76320" cy="76320"/>
          </a:xfrm>
          <a:prstGeom prst="line">
            <a:avLst/>
          </a:prstGeom>
          <a:ln w="28440">
            <a:solidFill>
              <a:srgbClr val="e60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7238880" y="5029200"/>
            <a:ext cx="76320" cy="76320"/>
          </a:xfrm>
          <a:prstGeom prst="line">
            <a:avLst/>
          </a:prstGeom>
          <a:ln w="28440">
            <a:solidFill>
              <a:srgbClr val="e60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696080" y="5487840"/>
            <a:ext cx="122400" cy="15264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467480" y="5487840"/>
            <a:ext cx="122400" cy="15264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664400" y="5257080"/>
            <a:ext cx="0" cy="152280"/>
          </a:xfrm>
          <a:prstGeom prst="line">
            <a:avLst/>
          </a:prstGeom>
          <a:ln w="28440">
            <a:solidFill>
              <a:srgbClr val="e60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626240" y="5257080"/>
            <a:ext cx="0" cy="152280"/>
          </a:xfrm>
          <a:prstGeom prst="line">
            <a:avLst/>
          </a:prstGeom>
          <a:ln w="28440">
            <a:solidFill>
              <a:srgbClr val="e60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664400" y="5410080"/>
            <a:ext cx="76320" cy="76320"/>
          </a:xfrm>
          <a:prstGeom prst="line">
            <a:avLst/>
          </a:prstGeom>
          <a:ln w="28440">
            <a:solidFill>
              <a:srgbClr val="e60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7549920" y="5410080"/>
            <a:ext cx="75960" cy="76320"/>
          </a:xfrm>
          <a:prstGeom prst="line">
            <a:avLst/>
          </a:prstGeom>
          <a:ln w="28440">
            <a:solidFill>
              <a:srgbClr val="e60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477120" y="5334120"/>
            <a:ext cx="122040" cy="15228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6332760" y="5105520"/>
            <a:ext cx="190800" cy="228240"/>
            <a:chOff x="6332760" y="5105520"/>
            <a:chExt cx="190800" cy="228240"/>
          </a:xfrm>
        </p:grpSpPr>
        <p:sp>
          <p:nvSpPr>
            <p:cNvPr id="543" name=""/>
            <p:cNvSpPr/>
            <p:nvPr/>
          </p:nvSpPr>
          <p:spPr>
            <a:xfrm>
              <a:off x="6447240" y="510552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409080" y="510552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447600" y="5257440"/>
              <a:ext cx="7596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>
              <a:off x="6332760" y="5257440"/>
              <a:ext cx="7632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"/>
          <p:cNvSpPr/>
          <p:nvPr/>
        </p:nvSpPr>
        <p:spPr>
          <a:xfrm>
            <a:off x="6504120" y="5486400"/>
            <a:ext cx="75960" cy="228600"/>
          </a:xfrm>
          <a:prstGeom prst="rect">
            <a:avLst/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6248520" y="5334120"/>
            <a:ext cx="122040" cy="380880"/>
            <a:chOff x="6248520" y="5334120"/>
            <a:chExt cx="122040" cy="380880"/>
          </a:xfrm>
        </p:grpSpPr>
        <p:sp>
          <p:nvSpPr>
            <p:cNvPr id="549" name=""/>
            <p:cNvSpPr/>
            <p:nvPr/>
          </p:nvSpPr>
          <p:spPr>
            <a:xfrm>
              <a:off x="6248520" y="5334120"/>
              <a:ext cx="122040" cy="152280"/>
            </a:xfrm>
            <a:prstGeom prst="ellipse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275520" y="5486400"/>
              <a:ext cx="75960" cy="2286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7010280" y="5486400"/>
            <a:ext cx="122400" cy="15228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781680" y="5486400"/>
            <a:ext cx="122400" cy="15228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6865560" y="5257800"/>
            <a:ext cx="190800" cy="228240"/>
            <a:chOff x="6865560" y="5257800"/>
            <a:chExt cx="190800" cy="228240"/>
          </a:xfrm>
        </p:grpSpPr>
        <p:sp>
          <p:nvSpPr>
            <p:cNvPr id="554" name=""/>
            <p:cNvSpPr/>
            <p:nvPr/>
          </p:nvSpPr>
          <p:spPr>
            <a:xfrm>
              <a:off x="6980040" y="525780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941880" y="525780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980400" y="5409720"/>
              <a:ext cx="7596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6865560" y="5409720"/>
              <a:ext cx="7632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7037280" y="5638680"/>
            <a:ext cx="76320" cy="228600"/>
          </a:xfrm>
          <a:prstGeom prst="rect">
            <a:avLst/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808680" y="5638680"/>
            <a:ext cx="76320" cy="228600"/>
          </a:xfrm>
          <a:prstGeom prst="rect">
            <a:avLst/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4632840" y="4493880"/>
            <a:ext cx="167400" cy="510120"/>
            <a:chOff x="4632840" y="4493880"/>
            <a:chExt cx="167400" cy="510120"/>
          </a:xfrm>
        </p:grpSpPr>
        <p:sp>
          <p:nvSpPr>
            <p:cNvPr id="561" name=""/>
            <p:cNvSpPr/>
            <p:nvPr/>
          </p:nvSpPr>
          <p:spPr>
            <a:xfrm rot="10780200">
              <a:off x="4633200" y="4799880"/>
              <a:ext cx="166320" cy="203400"/>
            </a:xfrm>
            <a:prstGeom prst="ellipse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rot="10780200">
              <a:off x="4658040" y="4493880"/>
              <a:ext cx="103320" cy="30564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3" name=""/>
          <p:cNvSpPr/>
          <p:nvPr/>
        </p:nvSpPr>
        <p:spPr>
          <a:xfrm>
            <a:off x="4038480" y="765000"/>
            <a:ext cx="39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24000" y="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．载体决定基与半抗原决定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行楷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250560" y="4508640"/>
            <a:ext cx="88930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1371600" y="-487440"/>
            <a:ext cx="6400800" cy="1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95280" y="0"/>
            <a:ext cx="5184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行楷"/>
              </a:rPr>
              <a:t>二、共同抗原与交叉反应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179280" y="692280"/>
          <a:ext cx="8713800" cy="3313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692280"/>
                    <a:ext cx="871380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0" name=""/>
          <p:cNvSpPr/>
          <p:nvPr/>
        </p:nvSpPr>
        <p:spPr>
          <a:xfrm>
            <a:off x="0" y="4365720"/>
            <a:ext cx="889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华文行楷"/>
              </a:rPr>
              <a:t>共同抗原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行楷"/>
              </a:rPr>
              <a:t>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行楷"/>
              </a:rPr>
              <a:t>两种抗原含有一种相同或相似的抗原决定基，能与同一抗体发反应，则将这两种抗原称为共同抗原。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华文行楷"/>
              </a:rPr>
              <a:t>交叉反应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行楷"/>
              </a:rPr>
              <a:t>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行楷"/>
              </a:rPr>
              <a:t>抗体或效应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T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行楷"/>
              </a:rPr>
              <a:t>细胞对具有相同或相似决定基的不同抗原的反应，称为交叉反应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第四节   抗原的分类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根据抗原的基本性质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一）完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抗原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同时具有免疫原性、抗原性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蛋白质、细菌、病毒等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二）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抗原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抗原性、无免疫原性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为小分子物质，如多糖、类脂、某些药物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0" y="-1278720"/>
            <a:ext cx="8028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、根据诱生抗体时是否需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细胞辅助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一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D-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细胞依赖性抗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二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I-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细胞非依赖性抗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、根据抗原与机体的亲缘关系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一）异嗜性抗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存在于不同种属间的共同抗原称异嗜性抗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二）异种抗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动物来源的抗毒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50752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）同种异型抗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类同种异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血型抗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BO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血型抗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血型抗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组织相容性抗原（人主要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L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四、根据抗原是否在抗原提呈细胞内合成分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一）内源性抗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二）外源性抗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066320" y="549000"/>
            <a:ext cx="772164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第五节    医学上重要的抗原物质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0" y="1483920"/>
            <a:ext cx="896472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</a:rPr>
              <a:t>一、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异种抗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（一）病原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仿宋_GB2312"/>
              </a:rPr>
              <a:t>微生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组成非常复杂，是多种抗原的聚合体，免疫原性较强。因此，可制备相应的疫苗来预防感染，也可根据相应抗体来诊断疾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（二）细菌的外毒素和类毒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某些病原菌的外毒素是毒性很强蛋白质，具有很强的免疫原性。将外毒素经甲醛处理后，失去毒性，仍保留免疫原性，称为类毒素，可作为人工自动免疫制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第一节 抗原的概念及基本性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一、抗原的概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抗原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antigen, Ag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：是一类能诱导机体发生免疫应答，并能与相应的免疫应答产物（抗体和致敏淋巴细胞）在体内外发生特异性结合的物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533520" y="3063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547640" y="1557360"/>
            <a:ext cx="5545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治疗疾病使用的抗毒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动物免疫血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马血清抗毒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619280" y="3284640"/>
            <a:ext cx="4608360" cy="52056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马血清抗毒素的两重性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763640" y="3933720"/>
            <a:ext cx="7380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333399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特异性抗体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和毒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异种抗原，可刺激机体产生抗马血清抗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7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（三）异种动物血清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" descr=""/>
          <p:cNvPicPr/>
          <p:nvPr/>
        </p:nvPicPr>
        <p:blipFill>
          <a:blip r:embed="rId1"/>
          <a:stretch/>
        </p:blipFill>
        <p:spPr>
          <a:xfrm>
            <a:off x="4843440" y="476280"/>
            <a:ext cx="1938240" cy="1733400"/>
          </a:xfrm>
          <a:prstGeom prst="rect">
            <a:avLst/>
          </a:prstGeom>
          <a:ln w="0">
            <a:noFill/>
          </a:ln>
        </p:spPr>
      </p:pic>
      <p:grpSp>
        <p:nvGrpSpPr>
          <p:cNvPr id="585" name=""/>
          <p:cNvGrpSpPr/>
          <p:nvPr/>
        </p:nvGrpSpPr>
        <p:grpSpPr>
          <a:xfrm>
            <a:off x="3047760" y="609480"/>
            <a:ext cx="914400" cy="1526760"/>
            <a:chOff x="3047760" y="609480"/>
            <a:chExt cx="914400" cy="1526760"/>
          </a:xfrm>
        </p:grpSpPr>
        <p:grpSp>
          <p:nvGrpSpPr>
            <p:cNvPr id="586" name=""/>
            <p:cNvGrpSpPr/>
            <p:nvPr/>
          </p:nvGrpSpPr>
          <p:grpSpPr>
            <a:xfrm>
              <a:off x="3047760" y="609480"/>
              <a:ext cx="914400" cy="914400"/>
              <a:chOff x="3047760" y="609480"/>
              <a:chExt cx="914400" cy="914400"/>
            </a:xfrm>
          </p:grpSpPr>
          <p:sp>
            <p:nvSpPr>
              <p:cNvPr id="587" name=""/>
              <p:cNvSpPr/>
              <p:nvPr/>
            </p:nvSpPr>
            <p:spPr>
              <a:xfrm>
                <a:off x="3047760" y="609480"/>
                <a:ext cx="914400" cy="914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3276360" y="83808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3580920" y="83808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466800" y="990360"/>
                <a:ext cx="76320" cy="2286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V="1" rot="16200000">
                <a:off x="3390480" y="1103760"/>
                <a:ext cx="228600" cy="457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2" name=""/>
            <p:cNvSpPr/>
            <p:nvPr/>
          </p:nvSpPr>
          <p:spPr>
            <a:xfrm>
              <a:off x="3205440" y="1676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类毒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1143000" y="609480"/>
            <a:ext cx="914400" cy="1526760"/>
            <a:chOff x="1143000" y="609480"/>
            <a:chExt cx="914400" cy="1526760"/>
          </a:xfrm>
        </p:grpSpPr>
        <p:grpSp>
          <p:nvGrpSpPr>
            <p:cNvPr id="594" name=""/>
            <p:cNvGrpSpPr/>
            <p:nvPr/>
          </p:nvGrpSpPr>
          <p:grpSpPr>
            <a:xfrm>
              <a:off x="1143000" y="609480"/>
              <a:ext cx="914400" cy="914400"/>
              <a:chOff x="1143000" y="609480"/>
              <a:chExt cx="914400" cy="914400"/>
            </a:xfrm>
          </p:grpSpPr>
          <p:sp>
            <p:nvSpPr>
              <p:cNvPr id="595" name=""/>
              <p:cNvSpPr/>
              <p:nvPr/>
            </p:nvSpPr>
            <p:spPr>
              <a:xfrm>
                <a:off x="1143000" y="609480"/>
                <a:ext cx="914400" cy="914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371600" y="83808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676520" y="83808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562040" y="914040"/>
                <a:ext cx="76320" cy="2286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400000">
                <a:off x="1485720" y="1104480"/>
                <a:ext cx="228600" cy="457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0" name=""/>
            <p:cNvSpPr/>
            <p:nvPr/>
          </p:nvSpPr>
          <p:spPr>
            <a:xfrm>
              <a:off x="1346040" y="16765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毒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1" name=""/>
          <p:cNvSpPr/>
          <p:nvPr/>
        </p:nvSpPr>
        <p:spPr>
          <a:xfrm>
            <a:off x="2133720" y="1066680"/>
            <a:ext cx="761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114800" y="106668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629400" y="1066680"/>
            <a:ext cx="68580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6634440" y="914400"/>
            <a:ext cx="2052360" cy="2286000"/>
            <a:chOff x="6634440" y="914400"/>
            <a:chExt cx="2052360" cy="2286000"/>
          </a:xfrm>
        </p:grpSpPr>
        <p:grpSp>
          <p:nvGrpSpPr>
            <p:cNvPr id="605" name=""/>
            <p:cNvGrpSpPr/>
            <p:nvPr/>
          </p:nvGrpSpPr>
          <p:grpSpPr>
            <a:xfrm>
              <a:off x="7696080" y="914400"/>
              <a:ext cx="990720" cy="2286000"/>
              <a:chOff x="7696080" y="914400"/>
              <a:chExt cx="990720" cy="2286000"/>
            </a:xfrm>
          </p:grpSpPr>
          <p:grpSp>
            <p:nvGrpSpPr>
              <p:cNvPr id="606" name=""/>
              <p:cNvGrpSpPr/>
              <p:nvPr/>
            </p:nvGrpSpPr>
            <p:grpSpPr>
              <a:xfrm>
                <a:off x="7696080" y="914400"/>
                <a:ext cx="533520" cy="1828800"/>
                <a:chOff x="7696080" y="914400"/>
                <a:chExt cx="533520" cy="1828800"/>
              </a:xfrm>
            </p:grpSpPr>
            <p:sp>
              <p:nvSpPr>
                <p:cNvPr id="607" name=""/>
                <p:cNvSpPr/>
                <p:nvPr/>
              </p:nvSpPr>
              <p:spPr>
                <a:xfrm>
                  <a:off x="7696080" y="914400"/>
                  <a:ext cx="533520" cy="1828800"/>
                </a:xfrm>
                <a:prstGeom prst="can">
                  <a:avLst>
                    <a:gd name="adj" fmla="val 15625"/>
                  </a:avLst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7696080" y="1885680"/>
                  <a:ext cx="533520" cy="838440"/>
                </a:xfrm>
                <a:prstGeom prst="can">
                  <a:avLst>
                    <a:gd name="adj" fmla="val 31439"/>
                  </a:avLst>
                </a:prstGeom>
                <a:solidFill>
                  <a:srgbClr val="ffcc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9" name=""/>
              <p:cNvGrpSpPr/>
              <p:nvPr/>
            </p:nvGrpSpPr>
            <p:grpSpPr>
              <a:xfrm>
                <a:off x="7848360" y="1066680"/>
                <a:ext cx="533520" cy="1828800"/>
                <a:chOff x="7848360" y="1066680"/>
                <a:chExt cx="533520" cy="1828800"/>
              </a:xfrm>
            </p:grpSpPr>
            <p:sp>
              <p:nvSpPr>
                <p:cNvPr id="610" name=""/>
                <p:cNvSpPr/>
                <p:nvPr/>
              </p:nvSpPr>
              <p:spPr>
                <a:xfrm>
                  <a:off x="7848360" y="1066680"/>
                  <a:ext cx="533520" cy="1828800"/>
                </a:xfrm>
                <a:prstGeom prst="can">
                  <a:avLst>
                    <a:gd name="adj" fmla="val 15625"/>
                  </a:avLst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7848360" y="2037960"/>
                  <a:ext cx="533520" cy="838440"/>
                </a:xfrm>
                <a:prstGeom prst="can">
                  <a:avLst>
                    <a:gd name="adj" fmla="val 31439"/>
                  </a:avLst>
                </a:prstGeom>
                <a:solidFill>
                  <a:srgbClr val="ffcc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2" name=""/>
              <p:cNvGrpSpPr/>
              <p:nvPr/>
            </p:nvGrpSpPr>
            <p:grpSpPr>
              <a:xfrm>
                <a:off x="8001000" y="1219320"/>
                <a:ext cx="533160" cy="1828800"/>
                <a:chOff x="8001000" y="1219320"/>
                <a:chExt cx="533160" cy="1828800"/>
              </a:xfrm>
            </p:grpSpPr>
            <p:sp>
              <p:nvSpPr>
                <p:cNvPr id="613" name=""/>
                <p:cNvSpPr/>
                <p:nvPr/>
              </p:nvSpPr>
              <p:spPr>
                <a:xfrm>
                  <a:off x="8001000" y="1219320"/>
                  <a:ext cx="533160" cy="1828800"/>
                </a:xfrm>
                <a:prstGeom prst="can">
                  <a:avLst>
                    <a:gd name="adj" fmla="val 15625"/>
                  </a:avLst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8001000" y="2190600"/>
                  <a:ext cx="533160" cy="838440"/>
                </a:xfrm>
                <a:prstGeom prst="can">
                  <a:avLst>
                    <a:gd name="adj" fmla="val 31439"/>
                  </a:avLst>
                </a:prstGeom>
                <a:solidFill>
                  <a:srgbClr val="ffcc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5" name=""/>
              <p:cNvGrpSpPr/>
              <p:nvPr/>
            </p:nvGrpSpPr>
            <p:grpSpPr>
              <a:xfrm>
                <a:off x="8153280" y="1371600"/>
                <a:ext cx="533520" cy="1828800"/>
                <a:chOff x="8153280" y="1371600"/>
                <a:chExt cx="533520" cy="1828800"/>
              </a:xfrm>
            </p:grpSpPr>
            <p:sp>
              <p:nvSpPr>
                <p:cNvPr id="616" name=""/>
                <p:cNvSpPr/>
                <p:nvPr/>
              </p:nvSpPr>
              <p:spPr>
                <a:xfrm>
                  <a:off x="8153280" y="1371600"/>
                  <a:ext cx="533520" cy="1828800"/>
                </a:xfrm>
                <a:prstGeom prst="can">
                  <a:avLst>
                    <a:gd name="adj" fmla="val 15625"/>
                  </a:avLst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8153280" y="2342880"/>
                  <a:ext cx="533520" cy="838440"/>
                </a:xfrm>
                <a:prstGeom prst="can">
                  <a:avLst>
                    <a:gd name="adj" fmla="val 31439"/>
                  </a:avLst>
                </a:prstGeom>
                <a:solidFill>
                  <a:srgbClr val="ffcc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18" name=""/>
            <p:cNvSpPr/>
            <p:nvPr/>
          </p:nvSpPr>
          <p:spPr>
            <a:xfrm>
              <a:off x="6634440" y="23623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309e3"/>
                  </a:solidFill>
                  <a:latin typeface="Times New Roman"/>
                </a:rPr>
                <a:t>马血清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9" name=""/>
          <p:cNvSpPr/>
          <p:nvPr/>
        </p:nvSpPr>
        <p:spPr>
          <a:xfrm flipH="1">
            <a:off x="7772400" y="3581280"/>
            <a:ext cx="533520" cy="1067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2"/>
          <a:stretch/>
        </p:blipFill>
        <p:spPr>
          <a:xfrm>
            <a:off x="2855880" y="3662280"/>
            <a:ext cx="2084400" cy="2967120"/>
          </a:xfrm>
          <a:prstGeom prst="rect">
            <a:avLst/>
          </a:prstGeom>
          <a:ln w="0">
            <a:noFill/>
          </a:ln>
        </p:spPr>
      </p:pic>
      <p:grpSp>
        <p:nvGrpSpPr>
          <p:cNvPr id="621" name=""/>
          <p:cNvGrpSpPr/>
          <p:nvPr/>
        </p:nvGrpSpPr>
        <p:grpSpPr>
          <a:xfrm>
            <a:off x="7068600" y="3432240"/>
            <a:ext cx="729360" cy="2353680"/>
            <a:chOff x="7068600" y="3432240"/>
            <a:chExt cx="729360" cy="2353680"/>
          </a:xfrm>
        </p:grpSpPr>
        <p:sp>
          <p:nvSpPr>
            <p:cNvPr id="622" name=""/>
            <p:cNvSpPr/>
            <p:nvPr/>
          </p:nvSpPr>
          <p:spPr>
            <a:xfrm>
              <a:off x="7068600" y="5326200"/>
              <a:ext cx="729360" cy="459720"/>
            </a:xfrm>
            <a:prstGeom prst="rect">
              <a:avLst/>
            </a:prstGeom>
            <a:noFill/>
            <a:ln w="93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抗毒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3" name=""/>
            <p:cNvGrpSpPr/>
            <p:nvPr/>
          </p:nvGrpSpPr>
          <p:grpSpPr>
            <a:xfrm>
              <a:off x="7128720" y="3432240"/>
              <a:ext cx="446760" cy="454680"/>
              <a:chOff x="7128720" y="3432240"/>
              <a:chExt cx="446760" cy="454680"/>
            </a:xfrm>
          </p:grpSpPr>
          <p:sp>
            <p:nvSpPr>
              <p:cNvPr id="624" name=""/>
              <p:cNvSpPr/>
              <p:nvPr/>
            </p:nvSpPr>
            <p:spPr>
              <a:xfrm flipH="1" flipV="1">
                <a:off x="7130160" y="3618720"/>
                <a:ext cx="316800" cy="504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 flipV="1">
                <a:off x="7128720" y="3696480"/>
                <a:ext cx="316800" cy="504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H="1">
                <a:off x="7446960" y="3510000"/>
                <a:ext cx="128520" cy="11376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7445520" y="3701520"/>
                <a:ext cx="124920" cy="11808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7420680" y="3768840"/>
                <a:ext cx="124920" cy="11808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H="1">
                <a:off x="7424280" y="3432240"/>
                <a:ext cx="128520" cy="11376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7128720" y="4115160"/>
              <a:ext cx="446760" cy="454680"/>
              <a:chOff x="7128720" y="4115160"/>
              <a:chExt cx="446760" cy="454680"/>
            </a:xfrm>
          </p:grpSpPr>
          <p:sp>
            <p:nvSpPr>
              <p:cNvPr id="631" name=""/>
              <p:cNvSpPr/>
              <p:nvPr/>
            </p:nvSpPr>
            <p:spPr>
              <a:xfrm flipH="1" flipV="1">
                <a:off x="7130160" y="4301640"/>
                <a:ext cx="316800" cy="504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H="1" flipV="1">
                <a:off x="7128720" y="4379400"/>
                <a:ext cx="316800" cy="504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7446960" y="4192920"/>
                <a:ext cx="128520" cy="11376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445520" y="4384440"/>
                <a:ext cx="124920" cy="11808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7420680" y="4451760"/>
                <a:ext cx="124920" cy="11808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H="1">
                <a:off x="7424280" y="4115160"/>
                <a:ext cx="128520" cy="11376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7128720" y="4722120"/>
              <a:ext cx="446760" cy="454680"/>
              <a:chOff x="7128720" y="4722120"/>
              <a:chExt cx="446760" cy="454680"/>
            </a:xfrm>
          </p:grpSpPr>
          <p:sp>
            <p:nvSpPr>
              <p:cNvPr id="638" name=""/>
              <p:cNvSpPr/>
              <p:nvPr/>
            </p:nvSpPr>
            <p:spPr>
              <a:xfrm flipH="1" flipV="1">
                <a:off x="7130160" y="4908600"/>
                <a:ext cx="316800" cy="504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flipH="1" flipV="1">
                <a:off x="7128720" y="4986360"/>
                <a:ext cx="316800" cy="504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flipH="1">
                <a:off x="7446960" y="4799880"/>
                <a:ext cx="128520" cy="11376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7445520" y="4991400"/>
                <a:ext cx="124920" cy="11808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7420680" y="5058720"/>
                <a:ext cx="124920" cy="11808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flipH="1">
                <a:off x="7424280" y="4722120"/>
                <a:ext cx="128520" cy="11376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44" name=""/>
          <p:cNvGrpSpPr/>
          <p:nvPr/>
        </p:nvGrpSpPr>
        <p:grpSpPr>
          <a:xfrm>
            <a:off x="4113360" y="2666880"/>
            <a:ext cx="1754640" cy="914400"/>
            <a:chOff x="4113360" y="2666880"/>
            <a:chExt cx="1754640" cy="914400"/>
          </a:xfrm>
        </p:grpSpPr>
        <p:grpSp>
          <p:nvGrpSpPr>
            <p:cNvPr id="645" name=""/>
            <p:cNvGrpSpPr/>
            <p:nvPr/>
          </p:nvGrpSpPr>
          <p:grpSpPr>
            <a:xfrm>
              <a:off x="5025240" y="2750760"/>
              <a:ext cx="842760" cy="761760"/>
              <a:chOff x="5025240" y="2750760"/>
              <a:chExt cx="842760" cy="761760"/>
            </a:xfrm>
          </p:grpSpPr>
          <p:sp>
            <p:nvSpPr>
              <p:cNvPr id="646" name=""/>
              <p:cNvSpPr/>
              <p:nvPr/>
            </p:nvSpPr>
            <p:spPr>
              <a:xfrm flipV="1">
                <a:off x="5267880" y="3061800"/>
                <a:ext cx="597960" cy="972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flipV="1">
                <a:off x="5269680" y="3191760"/>
                <a:ext cx="598320" cy="972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025240" y="2881080"/>
                <a:ext cx="242640" cy="19044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flipH="1">
                <a:off x="5033160" y="3201480"/>
                <a:ext cx="236160" cy="19836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flipH="1">
                <a:off x="5079600" y="3314160"/>
                <a:ext cx="236160" cy="19836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5067720" y="2750760"/>
                <a:ext cx="242640" cy="19044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2" name=""/>
            <p:cNvGrpSpPr/>
            <p:nvPr/>
          </p:nvGrpSpPr>
          <p:grpSpPr>
            <a:xfrm>
              <a:off x="4113360" y="2666880"/>
              <a:ext cx="914400" cy="914400"/>
              <a:chOff x="4113360" y="2666880"/>
              <a:chExt cx="914400" cy="914400"/>
            </a:xfrm>
          </p:grpSpPr>
          <p:sp>
            <p:nvSpPr>
              <p:cNvPr id="653" name=""/>
              <p:cNvSpPr/>
              <p:nvPr/>
            </p:nvSpPr>
            <p:spPr>
              <a:xfrm>
                <a:off x="4113360" y="2666880"/>
                <a:ext cx="914400" cy="9144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4341960" y="289548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4646880" y="289548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4532400" y="2971440"/>
                <a:ext cx="76320" cy="2286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5400000">
                <a:off x="4456080" y="3161880"/>
                <a:ext cx="228600" cy="457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8" name=""/>
          <p:cNvSpPr/>
          <p:nvPr/>
        </p:nvSpPr>
        <p:spPr>
          <a:xfrm flipH="1" flipV="1">
            <a:off x="2438280" y="4800240"/>
            <a:ext cx="53352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990720" y="3429000"/>
            <a:ext cx="2971800" cy="1447920"/>
          </a:xfrm>
          <a:prstGeom prst="irregularSeal2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219320" y="3429000"/>
            <a:ext cx="2178720" cy="1872000"/>
          </a:xfrm>
          <a:prstGeom prst="irregularSeal1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方正舒体"/>
              </a:rPr>
              <a:t>超敏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5076720" y="3213000"/>
            <a:ext cx="1008000" cy="647280"/>
            <a:chOff x="5076720" y="3213000"/>
            <a:chExt cx="1008000" cy="647280"/>
          </a:xfrm>
        </p:grpSpPr>
        <p:sp>
          <p:nvSpPr>
            <p:cNvPr id="662" name=""/>
            <p:cNvSpPr/>
            <p:nvPr/>
          </p:nvSpPr>
          <p:spPr>
            <a:xfrm flipH="1" flipV="1">
              <a:off x="5076720" y="3277800"/>
              <a:ext cx="1008000" cy="58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466960" y="3213000"/>
              <a:ext cx="212760" cy="485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4" name=""/>
          <p:cNvGrpSpPr/>
          <p:nvPr/>
        </p:nvGrpSpPr>
        <p:grpSpPr>
          <a:xfrm>
            <a:off x="5003280" y="3860640"/>
            <a:ext cx="1676520" cy="992880"/>
            <a:chOff x="5003280" y="3860640"/>
            <a:chExt cx="1676520" cy="992880"/>
          </a:xfrm>
        </p:grpSpPr>
        <p:sp>
          <p:nvSpPr>
            <p:cNvPr id="665" name=""/>
            <p:cNvSpPr/>
            <p:nvPr/>
          </p:nvSpPr>
          <p:spPr>
            <a:xfrm flipH="1">
              <a:off x="5003280" y="3860640"/>
              <a:ext cx="167652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492520" y="4393800"/>
              <a:ext cx="54648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抗原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7" name=""/>
          <p:cNvSpPr/>
          <p:nvPr/>
        </p:nvSpPr>
        <p:spPr>
          <a:xfrm>
            <a:off x="5940360" y="3357720"/>
            <a:ext cx="109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684360" y="2637000"/>
            <a:ext cx="815472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血型（红细胞）抗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333399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B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型抗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333399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Rh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型抗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二）组织相容性抗原（人主要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L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7863120" cy="30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二、同种异体抗原</a:t>
            </a:r>
            <a:br>
              <a:rPr sz="32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同种动物不同个体间也存在各种组织成分抗原性的差异，称此种抗原为同种异型抗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3048120" y="1981080"/>
            <a:ext cx="1295280" cy="0"/>
          </a:xfrm>
          <a:prstGeom prst="line">
            <a:avLst/>
          </a:prstGeom>
          <a:ln w="284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172200" y="1828800"/>
            <a:ext cx="1143000" cy="685800"/>
          </a:xfrm>
          <a:prstGeom prst="line">
            <a:avLst/>
          </a:prstGeom>
          <a:ln w="57240">
            <a:solidFill>
              <a:srgbClr val="00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2" name=""/>
          <p:cNvGrpSpPr/>
          <p:nvPr/>
        </p:nvGrpSpPr>
        <p:grpSpPr>
          <a:xfrm>
            <a:off x="6934320" y="3930480"/>
            <a:ext cx="1371600" cy="2165040"/>
            <a:chOff x="6934320" y="3930480"/>
            <a:chExt cx="1371600" cy="2165040"/>
          </a:xfrm>
        </p:grpSpPr>
        <p:grpSp>
          <p:nvGrpSpPr>
            <p:cNvPr id="673" name=""/>
            <p:cNvGrpSpPr/>
            <p:nvPr/>
          </p:nvGrpSpPr>
          <p:grpSpPr>
            <a:xfrm>
              <a:off x="6934320" y="4648320"/>
              <a:ext cx="1371600" cy="1447200"/>
              <a:chOff x="6934320" y="4648320"/>
              <a:chExt cx="1371600" cy="1447200"/>
            </a:xfrm>
          </p:grpSpPr>
          <p:sp>
            <p:nvSpPr>
              <p:cNvPr id="674" name=""/>
              <p:cNvSpPr/>
              <p:nvPr/>
            </p:nvSpPr>
            <p:spPr>
              <a:xfrm>
                <a:off x="6934320" y="4952880"/>
                <a:ext cx="1371600" cy="1142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RB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7543800" y="4648320"/>
                <a:ext cx="228600" cy="3045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6" name=""/>
            <p:cNvSpPr/>
            <p:nvPr/>
          </p:nvSpPr>
          <p:spPr>
            <a:xfrm>
              <a:off x="7423200" y="3930480"/>
              <a:ext cx="441360" cy="64260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7" name=""/>
          <p:cNvSpPr/>
          <p:nvPr/>
        </p:nvSpPr>
        <p:spPr>
          <a:xfrm flipH="1">
            <a:off x="5334120" y="5410080"/>
            <a:ext cx="121896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4111560" y="4266360"/>
            <a:ext cx="457200" cy="460440"/>
            <a:chOff x="4111560" y="4266360"/>
            <a:chExt cx="457200" cy="460440"/>
          </a:xfrm>
        </p:grpSpPr>
        <p:sp>
          <p:nvSpPr>
            <p:cNvPr id="679" name=""/>
            <p:cNvSpPr/>
            <p:nvPr/>
          </p:nvSpPr>
          <p:spPr>
            <a:xfrm flipV="1">
              <a:off x="4376160" y="4267800"/>
              <a:ext cx="5040" cy="32652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V="1">
              <a:off x="4298040" y="4266360"/>
              <a:ext cx="5040" cy="32652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flipV="1">
              <a:off x="4376160" y="4594320"/>
              <a:ext cx="114480" cy="13248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>
              <a:off x="4179240" y="4593240"/>
              <a:ext cx="118800" cy="12888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H="1">
              <a:off x="4111560" y="4567680"/>
              <a:ext cx="118800" cy="12888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 flipV="1">
              <a:off x="4454280" y="4570920"/>
              <a:ext cx="114480" cy="13248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5" name=""/>
          <p:cNvGrpSpPr/>
          <p:nvPr/>
        </p:nvGrpSpPr>
        <p:grpSpPr>
          <a:xfrm>
            <a:off x="3619440" y="4648320"/>
            <a:ext cx="1371600" cy="1447200"/>
            <a:chOff x="3619440" y="4648320"/>
            <a:chExt cx="1371600" cy="1447200"/>
          </a:xfrm>
        </p:grpSpPr>
        <p:sp>
          <p:nvSpPr>
            <p:cNvPr id="686" name=""/>
            <p:cNvSpPr/>
            <p:nvPr/>
          </p:nvSpPr>
          <p:spPr>
            <a:xfrm>
              <a:off x="3619440" y="4952880"/>
              <a:ext cx="1371600" cy="114264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B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228920" y="4648320"/>
              <a:ext cx="228600" cy="304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8" name=""/>
          <p:cNvSpPr/>
          <p:nvPr/>
        </p:nvSpPr>
        <p:spPr>
          <a:xfrm>
            <a:off x="3733920" y="4267080"/>
            <a:ext cx="533160" cy="2286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749400" y="3809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补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>
            <a:off x="2666520" y="5486400"/>
            <a:ext cx="685800" cy="0"/>
          </a:xfrm>
          <a:prstGeom prst="line">
            <a:avLst/>
          </a:prstGeom>
          <a:ln w="284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219320" y="4876920"/>
            <a:ext cx="1371600" cy="11430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R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1523880" y="457200"/>
            <a:ext cx="1371600" cy="3050640"/>
            <a:chOff x="1523880" y="457200"/>
            <a:chExt cx="1371600" cy="3050640"/>
          </a:xfrm>
        </p:grpSpPr>
        <p:grpSp>
          <p:nvGrpSpPr>
            <p:cNvPr id="693" name=""/>
            <p:cNvGrpSpPr/>
            <p:nvPr/>
          </p:nvGrpSpPr>
          <p:grpSpPr>
            <a:xfrm>
              <a:off x="1523880" y="1143000"/>
              <a:ext cx="1371600" cy="1447920"/>
              <a:chOff x="1523880" y="1143000"/>
              <a:chExt cx="1371600" cy="1447920"/>
            </a:xfrm>
          </p:grpSpPr>
          <p:sp>
            <p:nvSpPr>
              <p:cNvPr id="694" name=""/>
              <p:cNvSpPr/>
              <p:nvPr/>
            </p:nvSpPr>
            <p:spPr>
              <a:xfrm>
                <a:off x="1523880" y="1447920"/>
                <a:ext cx="1371600" cy="114300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RB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2133360" y="1143000"/>
                <a:ext cx="228600" cy="3049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6" name=""/>
            <p:cNvSpPr/>
            <p:nvPr/>
          </p:nvSpPr>
          <p:spPr>
            <a:xfrm>
              <a:off x="1864800" y="3048120"/>
              <a:ext cx="656280" cy="45972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A</a:t>
              </a:r>
              <a:r>
                <a:rPr b="1" lang="zh-CN" sz="2400" spc="-1" strike="noStrike">
                  <a:solidFill>
                    <a:srgbClr val="ff3300"/>
                  </a:solidFill>
                  <a:latin typeface="Arial"/>
                </a:rPr>
                <a:t>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857600" y="457200"/>
              <a:ext cx="839160" cy="45972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Arial"/>
                </a:rPr>
                <a:t>A</a:t>
              </a:r>
              <a:r>
                <a:rPr b="1" lang="zh-CN" sz="2400" spc="-1" strike="noStrike">
                  <a:solidFill>
                    <a:srgbClr val="ff3300"/>
                  </a:solidFill>
                  <a:latin typeface="Arial"/>
                </a:rPr>
                <a:t>抗原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8" name=""/>
          <p:cNvGrpSpPr/>
          <p:nvPr/>
        </p:nvGrpSpPr>
        <p:grpSpPr>
          <a:xfrm>
            <a:off x="4383000" y="380880"/>
            <a:ext cx="1941480" cy="3050640"/>
            <a:chOff x="4383000" y="380880"/>
            <a:chExt cx="1941480" cy="3050640"/>
          </a:xfrm>
        </p:grpSpPr>
        <p:pic>
          <p:nvPicPr>
            <p:cNvPr id="699" name="" descr=""/>
            <p:cNvPicPr/>
            <p:nvPr/>
          </p:nvPicPr>
          <p:blipFill>
            <a:blip r:embed="rId2"/>
            <a:stretch/>
          </p:blipFill>
          <p:spPr>
            <a:xfrm>
              <a:off x="4383000" y="685800"/>
              <a:ext cx="194148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0" name=""/>
            <p:cNvSpPr/>
            <p:nvPr/>
          </p:nvSpPr>
          <p:spPr>
            <a:xfrm>
              <a:off x="5127120" y="2971800"/>
              <a:ext cx="65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685400" y="38088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抗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抗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7409880" y="1679760"/>
            <a:ext cx="1095120" cy="2132640"/>
            <a:chOff x="7409880" y="1679760"/>
            <a:chExt cx="1095120" cy="2132640"/>
          </a:xfrm>
        </p:grpSpPr>
        <p:sp>
          <p:nvSpPr>
            <p:cNvPr id="703" name=""/>
            <p:cNvSpPr/>
            <p:nvPr/>
          </p:nvSpPr>
          <p:spPr>
            <a:xfrm>
              <a:off x="7409880" y="3352680"/>
              <a:ext cx="1095120" cy="459720"/>
            </a:xfrm>
            <a:prstGeom prst="rect">
              <a:avLst/>
            </a:prstGeom>
            <a:noFill/>
            <a:ln w="93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抗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抗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4" name=""/>
            <p:cNvGrpSpPr/>
            <p:nvPr/>
          </p:nvGrpSpPr>
          <p:grpSpPr>
            <a:xfrm>
              <a:off x="7695360" y="1679760"/>
              <a:ext cx="460440" cy="457200"/>
              <a:chOff x="7695360" y="1679760"/>
              <a:chExt cx="460440" cy="457200"/>
            </a:xfrm>
          </p:grpSpPr>
          <p:sp>
            <p:nvSpPr>
              <p:cNvPr id="705" name=""/>
              <p:cNvSpPr/>
              <p:nvPr/>
            </p:nvSpPr>
            <p:spPr>
              <a:xfrm flipH="1" flipV="1">
                <a:off x="7696800" y="1867320"/>
                <a:ext cx="326520" cy="504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H="1" flipV="1">
                <a:off x="7695360" y="1945440"/>
                <a:ext cx="326520" cy="504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H="1">
                <a:off x="8023320" y="1757880"/>
                <a:ext cx="132480" cy="11448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022240" y="1950480"/>
                <a:ext cx="128880" cy="11880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7996680" y="2018160"/>
                <a:ext cx="128880" cy="11880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H="1">
                <a:off x="7999920" y="1679760"/>
                <a:ext cx="132480" cy="11448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1" name=""/>
            <p:cNvGrpSpPr/>
            <p:nvPr/>
          </p:nvGrpSpPr>
          <p:grpSpPr>
            <a:xfrm>
              <a:off x="7695360" y="2289240"/>
              <a:ext cx="460440" cy="457200"/>
              <a:chOff x="7695360" y="2289240"/>
              <a:chExt cx="460440" cy="457200"/>
            </a:xfrm>
          </p:grpSpPr>
          <p:sp>
            <p:nvSpPr>
              <p:cNvPr id="712" name=""/>
              <p:cNvSpPr/>
              <p:nvPr/>
            </p:nvSpPr>
            <p:spPr>
              <a:xfrm flipH="1" flipV="1">
                <a:off x="7696800" y="2476800"/>
                <a:ext cx="326520" cy="504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H="1" flipV="1">
                <a:off x="7695360" y="2554920"/>
                <a:ext cx="326520" cy="504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flipH="1">
                <a:off x="8023320" y="2367360"/>
                <a:ext cx="132480" cy="11448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022240" y="2559960"/>
                <a:ext cx="128880" cy="11880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996680" y="2627640"/>
                <a:ext cx="128880" cy="11880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H="1">
                <a:off x="7999920" y="2289240"/>
                <a:ext cx="132480" cy="11448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8" name=""/>
            <p:cNvGrpSpPr/>
            <p:nvPr/>
          </p:nvGrpSpPr>
          <p:grpSpPr>
            <a:xfrm>
              <a:off x="7695360" y="2822760"/>
              <a:ext cx="460440" cy="457200"/>
              <a:chOff x="7695360" y="2822760"/>
              <a:chExt cx="460440" cy="457200"/>
            </a:xfrm>
          </p:grpSpPr>
          <p:sp>
            <p:nvSpPr>
              <p:cNvPr id="719" name=""/>
              <p:cNvSpPr/>
              <p:nvPr/>
            </p:nvSpPr>
            <p:spPr>
              <a:xfrm flipH="1" flipV="1">
                <a:off x="7696800" y="3010320"/>
                <a:ext cx="326520" cy="504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H="1" flipV="1">
                <a:off x="7695360" y="3088440"/>
                <a:ext cx="326520" cy="504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H="1">
                <a:off x="8023320" y="2900880"/>
                <a:ext cx="132480" cy="11448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8022240" y="3093480"/>
                <a:ext cx="128880" cy="11880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996680" y="3161160"/>
                <a:ext cx="128880" cy="11880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H="1">
                <a:off x="7999920" y="2822760"/>
                <a:ext cx="132480" cy="11448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1066680" y="3124080"/>
            <a:ext cx="1371600" cy="1143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286000" y="5257800"/>
            <a:ext cx="190512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自身免疫性溶血性贫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514600" y="3733920"/>
            <a:ext cx="762120" cy="0"/>
          </a:xfrm>
          <a:prstGeom prst="line">
            <a:avLst/>
          </a:prstGeom>
          <a:ln w="284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666880" y="3733920"/>
            <a:ext cx="304920" cy="304560"/>
          </a:xfrm>
          <a:prstGeom prst="hexagon">
            <a:avLst>
              <a:gd name="adj" fmla="val 25030"/>
              <a:gd name="vf" fmla="val 115470"/>
            </a:avLst>
          </a:prstGeom>
          <a:solidFill>
            <a:srgbClr val="ffcc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565000" y="4114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药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276720" y="3124080"/>
            <a:ext cx="1371600" cy="1143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886200" y="2819520"/>
            <a:ext cx="304920" cy="304560"/>
          </a:xfrm>
          <a:prstGeom prst="hexagon">
            <a:avLst>
              <a:gd name="adj" fmla="val 25030"/>
              <a:gd name="vf" fmla="val 115470"/>
            </a:avLst>
          </a:prstGeom>
          <a:solidFill>
            <a:srgbClr val="ffcc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962520" y="4267080"/>
            <a:ext cx="304560" cy="30492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cc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724280" y="3733920"/>
            <a:ext cx="53352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5177520" y="3358800"/>
            <a:ext cx="843120" cy="761760"/>
            <a:chOff x="5177520" y="3358800"/>
            <a:chExt cx="843120" cy="761760"/>
          </a:xfrm>
        </p:grpSpPr>
        <p:sp>
          <p:nvSpPr>
            <p:cNvPr id="735" name=""/>
            <p:cNvSpPr/>
            <p:nvPr/>
          </p:nvSpPr>
          <p:spPr>
            <a:xfrm flipV="1">
              <a:off x="5420160" y="3669840"/>
              <a:ext cx="598320" cy="972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V="1">
              <a:off x="5421960" y="3799800"/>
              <a:ext cx="598680" cy="972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177520" y="3489120"/>
              <a:ext cx="242640" cy="19044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>
              <a:off x="5185440" y="3809520"/>
              <a:ext cx="236160" cy="19836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5231880" y="3922200"/>
              <a:ext cx="236160" cy="19836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220000" y="3358800"/>
              <a:ext cx="242640" cy="19044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1" name=""/>
          <p:cNvSpPr/>
          <p:nvPr/>
        </p:nvSpPr>
        <p:spPr>
          <a:xfrm>
            <a:off x="4973040" y="4211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自身抗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438960" y="5875200"/>
            <a:ext cx="34920" cy="3816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rot="16155000">
            <a:off x="6363360" y="5989680"/>
            <a:ext cx="186480" cy="34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473880" y="5875200"/>
            <a:ext cx="34920" cy="3816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rot="16155000">
            <a:off x="6398280" y="5989680"/>
            <a:ext cx="186480" cy="34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508800" y="5875200"/>
            <a:ext cx="34920" cy="3816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rot="16155000">
            <a:off x="6433200" y="5989680"/>
            <a:ext cx="186480" cy="34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543720" y="5875200"/>
            <a:ext cx="34920" cy="3816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rot="16155000">
            <a:off x="6468120" y="5989680"/>
            <a:ext cx="186480" cy="34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578640" y="5875200"/>
            <a:ext cx="33120" cy="3816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rot="16155000">
            <a:off x="6502320" y="5990400"/>
            <a:ext cx="186480" cy="3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611760" y="5875200"/>
            <a:ext cx="36720" cy="3816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rot="16155000">
            <a:off x="6537240" y="5988600"/>
            <a:ext cx="186480" cy="3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648480" y="5875200"/>
            <a:ext cx="34920" cy="3816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rot="16155000">
            <a:off x="6572880" y="5989680"/>
            <a:ext cx="186480" cy="34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683400" y="5875200"/>
            <a:ext cx="33480" cy="3816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rot="16155000">
            <a:off x="6607080" y="5990400"/>
            <a:ext cx="186480" cy="33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716880" y="5875200"/>
            <a:ext cx="37800" cy="3816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rot="16155000">
            <a:off x="6642720" y="5988240"/>
            <a:ext cx="186480" cy="37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 flipH="1" flipV="1">
            <a:off x="6543000" y="6100200"/>
            <a:ext cx="34920" cy="3780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 flipV="1" rot="16155000">
            <a:off x="6465960" y="5988960"/>
            <a:ext cx="187200" cy="34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H="1" flipV="1">
            <a:off x="6508080" y="6100200"/>
            <a:ext cx="34920" cy="3780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flipH="1" flipV="1" rot="16155000">
            <a:off x="6431040" y="5988960"/>
            <a:ext cx="187200" cy="34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H="1" flipV="1">
            <a:off x="6473160" y="6100200"/>
            <a:ext cx="34920" cy="3780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H="1" flipV="1" rot="16155000">
            <a:off x="6396120" y="5988960"/>
            <a:ext cx="187200" cy="34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H="1" flipV="1">
            <a:off x="6438240" y="6100200"/>
            <a:ext cx="34920" cy="3780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H="1" flipV="1" rot="16155000">
            <a:off x="6361200" y="5988960"/>
            <a:ext cx="187200" cy="34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H="1" flipV="1">
            <a:off x="6716160" y="6100200"/>
            <a:ext cx="37800" cy="3780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H="1" flipV="1" rot="16155000">
            <a:off x="6640560" y="5987520"/>
            <a:ext cx="187200" cy="37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H="1" flipV="1">
            <a:off x="6682680" y="6100200"/>
            <a:ext cx="33480" cy="3780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H="1" flipV="1" rot="16155000">
            <a:off x="6604920" y="5989680"/>
            <a:ext cx="187200" cy="33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H="1" flipV="1">
            <a:off x="6647760" y="6100200"/>
            <a:ext cx="34920" cy="3780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H="1" flipV="1" rot="16155000">
            <a:off x="6570720" y="5988960"/>
            <a:ext cx="187200" cy="34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H="1" flipV="1">
            <a:off x="6611760" y="6100200"/>
            <a:ext cx="36720" cy="3780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flipH="1" flipV="1" rot="16155000">
            <a:off x="6535800" y="5987880"/>
            <a:ext cx="187200" cy="3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H="1" flipV="1">
            <a:off x="6578640" y="6100200"/>
            <a:ext cx="33120" cy="3780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H="1" flipV="1" rot="16155000">
            <a:off x="6500880" y="5989680"/>
            <a:ext cx="187200" cy="3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5751360" y="5886360"/>
            <a:ext cx="879120" cy="263160"/>
            <a:chOff x="5751360" y="5886360"/>
            <a:chExt cx="879120" cy="263160"/>
          </a:xfrm>
        </p:grpSpPr>
        <p:sp>
          <p:nvSpPr>
            <p:cNvPr id="779" name=""/>
            <p:cNvSpPr/>
            <p:nvPr/>
          </p:nvSpPr>
          <p:spPr>
            <a:xfrm>
              <a:off x="575316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rot="16155000">
              <a:off x="567612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78772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155000">
              <a:off x="571068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82264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rot="16155000">
              <a:off x="574560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85756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6155000">
              <a:off x="578052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89248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rot="16155000">
              <a:off x="581544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92740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rot="16155000">
              <a:off x="585036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92740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6155000">
              <a:off x="585036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96232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16155000">
              <a:off x="588528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99724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16155000">
              <a:off x="592020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03216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rot="16155000">
              <a:off x="595512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06708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rot="16155000">
              <a:off x="599004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102000" y="5886360"/>
              <a:ext cx="363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rot="16155000">
              <a:off x="6025680" y="6000120"/>
              <a:ext cx="189360" cy="36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13872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rot="16155000">
              <a:off x="606168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17364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rot="16155000">
              <a:off x="609660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20856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rot="16155000">
              <a:off x="613152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24348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rot="16155000">
              <a:off x="616644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27840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rot="16155000">
              <a:off x="620136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31332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rot="16155000">
              <a:off x="623628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34824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rot="16155000">
              <a:off x="627120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38316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rot="16155000">
              <a:off x="630612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418080" y="5886360"/>
              <a:ext cx="3600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rot="16155000">
              <a:off x="6341760" y="6000120"/>
              <a:ext cx="189360" cy="3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418080" y="5886360"/>
              <a:ext cx="3600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rot="16155000">
              <a:off x="6341760" y="6000120"/>
              <a:ext cx="189360" cy="3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45444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rot="16155000">
              <a:off x="637740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489360" y="5886360"/>
              <a:ext cx="3312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rot="16155000">
              <a:off x="6411600" y="6001560"/>
              <a:ext cx="189360" cy="3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522840" y="5886360"/>
              <a:ext cx="3600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rot="16155000">
              <a:off x="6446520" y="6000120"/>
              <a:ext cx="189360" cy="3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559200" y="5886360"/>
              <a:ext cx="3312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rot="16155000">
              <a:off x="6481440" y="6001560"/>
              <a:ext cx="189360" cy="3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592680" y="5886360"/>
              <a:ext cx="363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rot="16155000">
              <a:off x="6516360" y="6000120"/>
              <a:ext cx="189360" cy="36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 flipV="1">
              <a:off x="6591960" y="6112800"/>
              <a:ext cx="363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 flipV="1" rot="16155000">
              <a:off x="6514200" y="5999400"/>
              <a:ext cx="190080" cy="36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H="1" flipV="1">
              <a:off x="6559200" y="6112800"/>
              <a:ext cx="3312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 flipV="1" rot="16155000">
              <a:off x="6479640" y="6000840"/>
              <a:ext cx="190080" cy="3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 flipV="1">
              <a:off x="6522840" y="6112800"/>
              <a:ext cx="3600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 flipV="1" rot="16155000">
              <a:off x="6444720" y="5999400"/>
              <a:ext cx="190080" cy="3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 flipV="1">
              <a:off x="6489360" y="6112800"/>
              <a:ext cx="3312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 flipV="1" rot="16155000">
              <a:off x="6409800" y="6000840"/>
              <a:ext cx="190080" cy="3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 flipV="1">
              <a:off x="645444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 flipV="1" rot="16155000">
              <a:off x="637560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flipH="1" flipV="1">
              <a:off x="6418080" y="6112800"/>
              <a:ext cx="3600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 flipV="1" rot="16155000">
              <a:off x="6339960" y="5999400"/>
              <a:ext cx="190080" cy="3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 flipV="1">
              <a:off x="6418080" y="6112800"/>
              <a:ext cx="3600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 flipV="1" rot="16155000">
              <a:off x="6339960" y="5999400"/>
              <a:ext cx="190080" cy="3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 flipV="1">
              <a:off x="638316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 flipV="1" rot="16155000">
              <a:off x="630432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 flipV="1">
              <a:off x="634824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 flipV="1" rot="16155000">
              <a:off x="626940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 flipV="1">
              <a:off x="631332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 flipV="1" rot="16155000">
              <a:off x="623448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 flipV="1">
              <a:off x="627840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 flipV="1" rot="16155000">
              <a:off x="619956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 flipV="1">
              <a:off x="624348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 flipV="1" rot="16155000">
              <a:off x="616464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 flipV="1">
              <a:off x="620856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H="1" flipV="1" rot="16155000">
              <a:off x="612972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H="1" flipV="1">
              <a:off x="617364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 flipV="1" rot="16155000">
              <a:off x="609480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 flipV="1">
              <a:off x="613872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 flipV="1" rot="16155000">
              <a:off x="605988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 flipV="1">
              <a:off x="6101280" y="6112800"/>
              <a:ext cx="363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H="1" flipV="1" rot="16155000">
              <a:off x="6023520" y="5999400"/>
              <a:ext cx="190080" cy="36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H="1" flipV="1">
              <a:off x="606708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 flipV="1" rot="16155000">
              <a:off x="598824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 flipV="1">
              <a:off x="603216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 flipV="1" rot="16155000">
              <a:off x="595332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H="1" flipV="1">
              <a:off x="599724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H="1" flipV="1" rot="16155000">
              <a:off x="591840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 flipV="1">
              <a:off x="596232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H="1" flipV="1" rot="16155000">
              <a:off x="588348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 flipV="1">
              <a:off x="592740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 flipV="1" rot="16155000">
              <a:off x="584856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 flipV="1">
              <a:off x="592740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 flipV="1" rot="16155000">
              <a:off x="584856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H="1" flipV="1">
              <a:off x="589248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 flipV="1" rot="16155000">
              <a:off x="581364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H="1" flipV="1">
              <a:off x="585756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 flipV="1" rot="16155000">
              <a:off x="577872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 flipV="1">
              <a:off x="582264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 flipV="1" rot="16155000">
              <a:off x="574380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 flipV="1">
              <a:off x="578772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H="1" flipV="1" rot="16155000">
              <a:off x="570888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 flipV="1">
              <a:off x="575316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 flipV="1" rot="16155000">
              <a:off x="567432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7" name=""/>
          <p:cNvGrpSpPr/>
          <p:nvPr/>
        </p:nvGrpSpPr>
        <p:grpSpPr>
          <a:xfrm>
            <a:off x="6752520" y="5875200"/>
            <a:ext cx="423000" cy="263160"/>
            <a:chOff x="6752520" y="5875200"/>
            <a:chExt cx="423000" cy="263160"/>
          </a:xfrm>
        </p:grpSpPr>
        <p:sp>
          <p:nvSpPr>
            <p:cNvPr id="888" name=""/>
            <p:cNvSpPr/>
            <p:nvPr/>
          </p:nvSpPr>
          <p:spPr>
            <a:xfrm>
              <a:off x="6929280" y="5875200"/>
              <a:ext cx="34920" cy="3780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rot="16155000">
              <a:off x="6853320" y="598932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964560" y="5875200"/>
              <a:ext cx="34920" cy="3780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rot="16155000">
              <a:off x="6888600" y="598932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999480" y="5875200"/>
              <a:ext cx="34920" cy="3780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rot="16155000">
              <a:off x="6923520" y="598932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034400" y="5875200"/>
              <a:ext cx="34920" cy="3780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rot="16155000">
              <a:off x="6958440" y="598932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069680" y="5875200"/>
              <a:ext cx="34920" cy="3780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rot="16155000">
              <a:off x="6993720" y="598932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104600" y="5875200"/>
              <a:ext cx="34200" cy="3780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rot="16155000">
              <a:off x="7028280" y="5989680"/>
              <a:ext cx="187200" cy="3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139160" y="5875200"/>
              <a:ext cx="34920" cy="3780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rot="16155000">
              <a:off x="7063200" y="598932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754680" y="5875200"/>
              <a:ext cx="34920" cy="3780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rot="16155000">
              <a:off x="6678720" y="598932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789600" y="5875200"/>
              <a:ext cx="34920" cy="3780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rot="16155000">
              <a:off x="6713640" y="598932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824520" y="5875200"/>
              <a:ext cx="34920" cy="3780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rot="16155000">
              <a:off x="6748560" y="598932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859800" y="5875200"/>
              <a:ext cx="34200" cy="3780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rot="16155000">
              <a:off x="6783480" y="5989680"/>
              <a:ext cx="187200" cy="3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894000" y="5875200"/>
              <a:ext cx="34920" cy="3780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rot="16155000">
              <a:off x="6818040" y="598932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H="1" flipV="1">
              <a:off x="7138440" y="6100920"/>
              <a:ext cx="34920" cy="3744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 flipV="1" rot="16155000">
              <a:off x="7061400" y="598896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 flipV="1">
              <a:off x="7103880" y="6100920"/>
              <a:ext cx="34200" cy="3744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H="1" flipV="1" rot="16155000">
              <a:off x="7026480" y="5989320"/>
              <a:ext cx="187200" cy="3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 flipV="1">
              <a:off x="7068960" y="6100920"/>
              <a:ext cx="34920" cy="3744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H="1" flipV="1" rot="16155000">
              <a:off x="6991920" y="598896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 flipV="1">
              <a:off x="7033680" y="6100920"/>
              <a:ext cx="34920" cy="3744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 flipH="1" flipV="1" rot="16155000">
              <a:off x="6956640" y="598896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H="1" flipV="1">
              <a:off x="6998760" y="6100920"/>
              <a:ext cx="34920" cy="3744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H="1" flipV="1" rot="16155000">
              <a:off x="6921720" y="598896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 flipH="1" flipV="1">
              <a:off x="6963840" y="6100920"/>
              <a:ext cx="34920" cy="3744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flipH="1" flipV="1" rot="16155000">
              <a:off x="6886800" y="598896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 flipV="1">
              <a:off x="6928560" y="6100920"/>
              <a:ext cx="34920" cy="3744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flipH="1" flipV="1" rot="16155000">
              <a:off x="6851520" y="598896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 flipV="1">
              <a:off x="6893280" y="6100920"/>
              <a:ext cx="34920" cy="3744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H="1" flipV="1" rot="16155000">
              <a:off x="6816240" y="598896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H="1" flipV="1">
              <a:off x="6859080" y="6100920"/>
              <a:ext cx="34200" cy="3744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 flipH="1" flipV="1" rot="16155000">
              <a:off x="6781680" y="5989320"/>
              <a:ext cx="187200" cy="3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 flipV="1">
              <a:off x="6823800" y="6100920"/>
              <a:ext cx="34920" cy="3744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flipH="1" flipV="1" rot="16155000">
              <a:off x="6746760" y="598896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H="1" flipV="1">
              <a:off x="6788880" y="6100920"/>
              <a:ext cx="34920" cy="3744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flipH="1" flipV="1" rot="16155000">
              <a:off x="6711840" y="598896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 flipH="1" flipV="1">
              <a:off x="6753960" y="6100920"/>
              <a:ext cx="34920" cy="3744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flipH="1" flipV="1" rot="16155000">
              <a:off x="6676920" y="598896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6" name=""/>
          <p:cNvSpPr/>
          <p:nvPr/>
        </p:nvSpPr>
        <p:spPr>
          <a:xfrm>
            <a:off x="5958000" y="5470560"/>
            <a:ext cx="230040" cy="493560"/>
          </a:xfrm>
          <a:prstGeom prst="can">
            <a:avLst>
              <a:gd name="adj" fmla="val 10000"/>
            </a:avLst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108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053040" y="5462640"/>
            <a:ext cx="157320" cy="173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e6e6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884920" y="5462640"/>
            <a:ext cx="168120" cy="173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e6e6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345360" y="5281560"/>
            <a:ext cx="458640" cy="890640"/>
          </a:xfrm>
          <a:prstGeom prst="can">
            <a:avLst>
              <a:gd name="adj" fmla="val 20370"/>
            </a:avLst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108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421320" y="5479920"/>
            <a:ext cx="0" cy="65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6508800" y="5470560"/>
            <a:ext cx="0" cy="69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6630840" y="5470560"/>
            <a:ext cx="0" cy="69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243480" y="5214960"/>
            <a:ext cx="638280" cy="330120"/>
          </a:xfrm>
          <a:prstGeom prst="can">
            <a:avLst>
              <a:gd name="adj" fmla="val 47500"/>
            </a:avLst>
          </a:prstGeom>
          <a:gradFill rotWithShape="0">
            <a:gsLst>
              <a:gs pos="0">
                <a:srgbClr val="6b6b6b"/>
              </a:gs>
              <a:gs pos="50000">
                <a:srgbClr val="eaeaea"/>
              </a:gs>
              <a:gs pos="100000">
                <a:srgbClr val="6b6b6b"/>
              </a:gs>
            </a:gsLst>
            <a:lin ang="108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172200" y="5532480"/>
            <a:ext cx="204840" cy="561960"/>
          </a:xfrm>
          <a:prstGeom prst="can">
            <a:avLst>
              <a:gd name="adj" fmla="val 10000"/>
            </a:avLst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108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6396120" y="5248440"/>
            <a:ext cx="358560" cy="6480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108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523200" y="5248440"/>
            <a:ext cx="0" cy="64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6626160" y="5248440"/>
            <a:ext cx="0" cy="64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5902200" y="5684760"/>
            <a:ext cx="35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6724800" y="5533920"/>
            <a:ext cx="0" cy="619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0" name=""/>
          <p:cNvGrpSpPr/>
          <p:nvPr/>
        </p:nvGrpSpPr>
        <p:grpSpPr>
          <a:xfrm>
            <a:off x="7626240" y="2437200"/>
            <a:ext cx="761400" cy="843120"/>
            <a:chOff x="7626240" y="2437200"/>
            <a:chExt cx="761400" cy="843120"/>
          </a:xfrm>
        </p:grpSpPr>
        <p:sp>
          <p:nvSpPr>
            <p:cNvPr id="951" name=""/>
            <p:cNvSpPr/>
            <p:nvPr/>
          </p:nvSpPr>
          <p:spPr>
            <a:xfrm flipH="1" flipV="1">
              <a:off x="7937280" y="2439360"/>
              <a:ext cx="9720" cy="59832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 flipV="1">
              <a:off x="8067240" y="2437200"/>
              <a:ext cx="9720" cy="59868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V="1">
              <a:off x="7756200" y="3038040"/>
              <a:ext cx="190440" cy="24228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8076960" y="3036240"/>
              <a:ext cx="198360" cy="23616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8189280" y="2989800"/>
              <a:ext cx="198360" cy="23616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 flipV="1">
              <a:off x="7626240" y="2995200"/>
              <a:ext cx="190440" cy="24264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7" name=""/>
          <p:cNvSpPr/>
          <p:nvPr/>
        </p:nvSpPr>
        <p:spPr>
          <a:xfrm>
            <a:off x="7162920" y="3386160"/>
            <a:ext cx="896760" cy="728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7512120" y="3157560"/>
            <a:ext cx="198360" cy="195120"/>
          </a:xfrm>
          <a:prstGeom prst="hexagon">
            <a:avLst>
              <a:gd name="adj" fmla="val 25415"/>
              <a:gd name="vf" fmla="val 115470"/>
            </a:avLst>
          </a:prstGeom>
          <a:solidFill>
            <a:srgbClr val="ffcc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7512120" y="4148280"/>
            <a:ext cx="198360" cy="195120"/>
          </a:xfrm>
          <a:prstGeom prst="hexagon">
            <a:avLst>
              <a:gd name="adj" fmla="val 25415"/>
              <a:gd name="vf" fmla="val 115470"/>
            </a:avLst>
          </a:prstGeom>
          <a:solidFill>
            <a:srgbClr val="ffcc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H="1">
            <a:off x="6858000" y="4419720"/>
            <a:ext cx="914400" cy="68580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flipH="1">
            <a:off x="4038120" y="5715000"/>
            <a:ext cx="129564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 rot="20336400">
            <a:off x="6151320" y="29714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抗原抗体复合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7548120" y="47451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激活补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7414560" y="6180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红细胞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 flipH="1" flipV="1">
            <a:off x="7162560" y="6019560"/>
            <a:ext cx="152280" cy="22860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6344640" y="564192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6137280" y="5562720"/>
            <a:ext cx="32076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C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5915160" y="5607000"/>
            <a:ext cx="38088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5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5843520" y="54212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5995800" y="54212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721640" cy="24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三、自身抗原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utoantigen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br>
              <a:rPr sz="2800"/>
            </a:b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正常情况下，机体对自身组织细胞不会产生免疫应答，即自身耐受。但在感染、外伤、服用某些药物等影响下，使隔离抗原释放，或改变和修饰了自身组织的抗原结构，诱发对自身抗原的应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6095880" y="3733920"/>
            <a:ext cx="914400" cy="0"/>
          </a:xfrm>
          <a:prstGeom prst="line">
            <a:avLst/>
          </a:prstGeom>
          <a:ln w="2844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1447920" y="2133720"/>
            <a:ext cx="2819160" cy="11304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溶血性链球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细胞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抗原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1258920" y="3860640"/>
            <a:ext cx="17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链球菌感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4419720" y="2590920"/>
            <a:ext cx="99036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4419720" y="2362320"/>
            <a:ext cx="99036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427640" y="3213000"/>
            <a:ext cx="3124080" cy="152424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643280" y="3500280"/>
            <a:ext cx="29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急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肾小球肾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851840" y="5562720"/>
            <a:ext cx="13996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大肠埃希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型脂多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3733920" y="5997600"/>
            <a:ext cx="45720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4395240" y="5770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09e3"/>
                </a:solidFill>
                <a:latin typeface="Times New Roman"/>
              </a:rPr>
              <a:t>结肠黏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5486400" y="6019920"/>
            <a:ext cx="9144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400800" y="5562720"/>
            <a:ext cx="2438280" cy="914400"/>
          </a:xfrm>
          <a:custGeom>
            <a:avLst/>
            <a:gdLst>
              <a:gd name="textAreaLeft" fmla="*/ 556560 w 2438280"/>
              <a:gd name="textAreaRight" fmla="*/ 1881720 w 24382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溃疡性结肠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486400" y="2108160"/>
            <a:ext cx="2614680" cy="459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09e3"/>
                </a:solidFill>
                <a:latin typeface="Arial"/>
              </a:rPr>
              <a:t>肾小球基底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059280" y="4149720"/>
            <a:ext cx="1223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755640" y="1052640"/>
            <a:ext cx="80820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四、异嗜性抗原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指一类与种属无关的存在于人、动物、植物和微生物之间的共同抗原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-184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五、肿瘤抗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309e3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1309e3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1309e3"/>
                </a:solidFill>
                <a:latin typeface="华文新魏"/>
                <a:ea typeface="华文新魏"/>
              </a:rPr>
              <a:t>肿瘤特异性抗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指只存在于某种特定肿瘤细胞表面的抗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309e3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1309e3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1309e3"/>
                </a:solidFill>
                <a:latin typeface="华文新魏"/>
                <a:ea typeface="华文新魏"/>
              </a:rPr>
              <a:t>肿瘤相关抗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指与某种肿瘤的发生有关，但不是该肿瘤细胞所特有的抗原物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胚胎性抗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与肿瘤有关的病毒抗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78920" y="380520"/>
            <a:ext cx="82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六、超抗原</a:t>
            </a:r>
            <a:br>
              <a:rPr sz="4000"/>
            </a:b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只需要极低浓度即可激活多克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胞，产生很强的免疫应答的抗原。</a:t>
            </a: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0" name=""/>
          <p:cNvGrpSpPr/>
          <p:nvPr/>
        </p:nvGrpSpPr>
        <p:grpSpPr>
          <a:xfrm>
            <a:off x="276120" y="1981080"/>
            <a:ext cx="4038840" cy="3170520"/>
            <a:chOff x="276120" y="1981080"/>
            <a:chExt cx="4038840" cy="3170520"/>
          </a:xfrm>
        </p:grpSpPr>
        <p:sp>
          <p:nvSpPr>
            <p:cNvPr id="991" name=""/>
            <p:cNvSpPr/>
            <p:nvPr/>
          </p:nvSpPr>
          <p:spPr>
            <a:xfrm>
              <a:off x="555480" y="1981080"/>
              <a:ext cx="358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普通抗原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385920" y="4535640"/>
              <a:ext cx="739440" cy="603000"/>
            </a:xfrm>
            <a:prstGeom prst="ellipse">
              <a:avLst/>
            </a:prstGeom>
            <a:solidFill>
              <a:srgbClr val="cce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42800" y="4535640"/>
              <a:ext cx="568440" cy="49356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85920" y="3668760"/>
              <a:ext cx="739440" cy="603360"/>
            </a:xfrm>
            <a:prstGeom prst="ellipse">
              <a:avLst/>
            </a:prstGeom>
            <a:solidFill>
              <a:srgbClr val="cce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42800" y="3668760"/>
              <a:ext cx="568440" cy="49356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403360" y="3672000"/>
              <a:ext cx="739800" cy="603000"/>
            </a:xfrm>
            <a:prstGeom prst="ellipse">
              <a:avLst/>
            </a:prstGeom>
            <a:solidFill>
              <a:srgbClr val="cce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460600" y="3672000"/>
              <a:ext cx="568440" cy="49356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390680" y="4548240"/>
              <a:ext cx="739800" cy="603360"/>
            </a:xfrm>
            <a:prstGeom prst="ellipse">
              <a:avLst/>
            </a:prstGeom>
            <a:solidFill>
              <a:srgbClr val="cce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447920" y="4548240"/>
              <a:ext cx="568080" cy="49356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352600" y="4548240"/>
              <a:ext cx="739800" cy="603360"/>
            </a:xfrm>
            <a:prstGeom prst="ellipse">
              <a:avLst/>
            </a:prstGeom>
            <a:solidFill>
              <a:srgbClr val="cce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409840" y="4548240"/>
              <a:ext cx="568440" cy="49356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394080" y="4535640"/>
              <a:ext cx="739800" cy="603000"/>
            </a:xfrm>
            <a:prstGeom prst="ellipse">
              <a:avLst/>
            </a:prstGeom>
            <a:solidFill>
              <a:srgbClr val="cce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451320" y="4535640"/>
              <a:ext cx="568080" cy="49356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74760" y="2814480"/>
              <a:ext cx="739800" cy="603360"/>
            </a:xfrm>
            <a:prstGeom prst="ellipse">
              <a:avLst/>
            </a:prstGeom>
            <a:solidFill>
              <a:srgbClr val="cce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31640" y="2814480"/>
              <a:ext cx="568440" cy="49392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371600" y="2819520"/>
              <a:ext cx="739800" cy="603000"/>
            </a:xfrm>
            <a:prstGeom prst="ellipse">
              <a:avLst/>
            </a:prstGeom>
            <a:solidFill>
              <a:srgbClr val="cce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459080" y="2801880"/>
              <a:ext cx="568080" cy="49392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397320" y="2801880"/>
              <a:ext cx="739800" cy="603360"/>
            </a:xfrm>
            <a:prstGeom prst="ellipse">
              <a:avLst/>
            </a:prstGeom>
            <a:solidFill>
              <a:srgbClr val="cce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3454560" y="2801880"/>
              <a:ext cx="568080" cy="49392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390760" y="2814480"/>
              <a:ext cx="739800" cy="603360"/>
            </a:xfrm>
            <a:prstGeom prst="ellipse">
              <a:avLst/>
            </a:prstGeom>
            <a:solidFill>
              <a:srgbClr val="cce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448000" y="2814480"/>
              <a:ext cx="568080" cy="49392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3394080" y="3672000"/>
              <a:ext cx="739800" cy="603000"/>
            </a:xfrm>
            <a:prstGeom prst="ellipse">
              <a:avLst/>
            </a:prstGeom>
            <a:solidFill>
              <a:srgbClr val="cce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3451320" y="3672000"/>
              <a:ext cx="568080" cy="49356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327320" y="3538440"/>
              <a:ext cx="879480" cy="876240"/>
            </a:xfrm>
            <a:prstGeom prst="ellipse">
              <a:avLst/>
            </a:prstGeom>
            <a:solidFill>
              <a:srgbClr val="ff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447920" y="3614760"/>
              <a:ext cx="568080" cy="49356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76120" y="2522520"/>
              <a:ext cx="4038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7" name=""/>
          <p:cNvSpPr/>
          <p:nvPr/>
        </p:nvSpPr>
        <p:spPr>
          <a:xfrm>
            <a:off x="85680" y="5327640"/>
            <a:ext cx="4524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细胞克隆应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:10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行楷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:10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8" name=""/>
          <p:cNvGrpSpPr/>
          <p:nvPr/>
        </p:nvGrpSpPr>
        <p:grpSpPr>
          <a:xfrm>
            <a:off x="4861080" y="1989000"/>
            <a:ext cx="4101480" cy="4368600"/>
            <a:chOff x="4861080" y="1989000"/>
            <a:chExt cx="4101480" cy="4368600"/>
          </a:xfrm>
        </p:grpSpPr>
        <p:grpSp>
          <p:nvGrpSpPr>
            <p:cNvPr id="1019" name=""/>
            <p:cNvGrpSpPr/>
            <p:nvPr/>
          </p:nvGrpSpPr>
          <p:grpSpPr>
            <a:xfrm>
              <a:off x="4861080" y="1989000"/>
              <a:ext cx="4075560" cy="3301920"/>
              <a:chOff x="4861080" y="1989000"/>
              <a:chExt cx="4075560" cy="3301920"/>
            </a:xfrm>
          </p:grpSpPr>
          <p:grpSp>
            <p:nvGrpSpPr>
              <p:cNvPr id="1020" name=""/>
              <p:cNvGrpSpPr/>
              <p:nvPr/>
            </p:nvGrpSpPr>
            <p:grpSpPr>
              <a:xfrm>
                <a:off x="5022720" y="2662200"/>
                <a:ext cx="3913920" cy="2628720"/>
                <a:chOff x="5022720" y="2662200"/>
                <a:chExt cx="3913920" cy="2628720"/>
              </a:xfrm>
            </p:grpSpPr>
            <p:grpSp>
              <p:nvGrpSpPr>
                <p:cNvPr id="1021" name=""/>
                <p:cNvGrpSpPr/>
                <p:nvPr/>
              </p:nvGrpSpPr>
              <p:grpSpPr>
                <a:xfrm>
                  <a:off x="8057520" y="2662200"/>
                  <a:ext cx="879120" cy="876240"/>
                  <a:chOff x="8057520" y="2662200"/>
                  <a:chExt cx="879120" cy="876240"/>
                </a:xfrm>
              </p:grpSpPr>
              <p:sp>
                <p:nvSpPr>
                  <p:cNvPr id="1022" name=""/>
                  <p:cNvSpPr/>
                  <p:nvPr/>
                </p:nvSpPr>
                <p:spPr>
                  <a:xfrm>
                    <a:off x="8057520" y="2662200"/>
                    <a:ext cx="879120" cy="876240"/>
                  </a:xfrm>
                  <a:prstGeom prst="ellipse">
                    <a:avLst/>
                  </a:prstGeom>
                  <a:solidFill>
                    <a:srgbClr val="ffccff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3" name=""/>
                  <p:cNvSpPr/>
                  <p:nvPr/>
                </p:nvSpPr>
                <p:spPr>
                  <a:xfrm>
                    <a:off x="8177760" y="2738160"/>
                    <a:ext cx="568080" cy="493920"/>
                  </a:xfrm>
                  <a:prstGeom prst="ellipse">
                    <a:avLst/>
                  </a:prstGeom>
                  <a:solidFill>
                    <a:srgbClr val="6666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24" name=""/>
                <p:cNvGrpSpPr/>
                <p:nvPr/>
              </p:nvGrpSpPr>
              <p:grpSpPr>
                <a:xfrm>
                  <a:off x="5109840" y="3681360"/>
                  <a:ext cx="739440" cy="603360"/>
                  <a:chOff x="5109840" y="3681360"/>
                  <a:chExt cx="739440" cy="603360"/>
                </a:xfrm>
              </p:grpSpPr>
              <p:sp>
                <p:nvSpPr>
                  <p:cNvPr id="1025" name=""/>
                  <p:cNvSpPr/>
                  <p:nvPr/>
                </p:nvSpPr>
                <p:spPr>
                  <a:xfrm>
                    <a:off x="5109840" y="3681360"/>
                    <a:ext cx="739440" cy="603360"/>
                  </a:xfrm>
                  <a:prstGeom prst="ellipse">
                    <a:avLst/>
                  </a:prstGeom>
                  <a:solidFill>
                    <a:srgbClr val="ccecff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6" name=""/>
                  <p:cNvSpPr/>
                  <p:nvPr/>
                </p:nvSpPr>
                <p:spPr>
                  <a:xfrm>
                    <a:off x="5166360" y="3681360"/>
                    <a:ext cx="568800" cy="493560"/>
                  </a:xfrm>
                  <a:prstGeom prst="ellipse">
                    <a:avLst/>
                  </a:prstGeom>
                  <a:solidFill>
                    <a:srgbClr val="6666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27" name=""/>
                <p:cNvGrpSpPr/>
                <p:nvPr/>
              </p:nvGrpSpPr>
              <p:grpSpPr>
                <a:xfrm>
                  <a:off x="7127280" y="3684600"/>
                  <a:ext cx="739440" cy="603360"/>
                  <a:chOff x="7127280" y="3684600"/>
                  <a:chExt cx="739440" cy="603360"/>
                </a:xfrm>
              </p:grpSpPr>
              <p:sp>
                <p:nvSpPr>
                  <p:cNvPr id="1028" name=""/>
                  <p:cNvSpPr/>
                  <p:nvPr/>
                </p:nvSpPr>
                <p:spPr>
                  <a:xfrm>
                    <a:off x="7127280" y="3684600"/>
                    <a:ext cx="739440" cy="603360"/>
                  </a:xfrm>
                  <a:prstGeom prst="ellipse">
                    <a:avLst/>
                  </a:prstGeom>
                  <a:solidFill>
                    <a:srgbClr val="ccecff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9" name=""/>
                  <p:cNvSpPr/>
                  <p:nvPr/>
                </p:nvSpPr>
                <p:spPr>
                  <a:xfrm>
                    <a:off x="7183800" y="3684600"/>
                    <a:ext cx="568800" cy="493560"/>
                  </a:xfrm>
                  <a:prstGeom prst="ellipse">
                    <a:avLst/>
                  </a:prstGeom>
                  <a:solidFill>
                    <a:srgbClr val="6666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30" name=""/>
                <p:cNvGrpSpPr/>
                <p:nvPr/>
              </p:nvGrpSpPr>
              <p:grpSpPr>
                <a:xfrm>
                  <a:off x="6114600" y="4560840"/>
                  <a:ext cx="739440" cy="603360"/>
                  <a:chOff x="6114600" y="4560840"/>
                  <a:chExt cx="739440" cy="603360"/>
                </a:xfrm>
              </p:grpSpPr>
              <p:sp>
                <p:nvSpPr>
                  <p:cNvPr id="1031" name=""/>
                  <p:cNvSpPr/>
                  <p:nvPr/>
                </p:nvSpPr>
                <p:spPr>
                  <a:xfrm>
                    <a:off x="6114600" y="4560840"/>
                    <a:ext cx="739440" cy="603360"/>
                  </a:xfrm>
                  <a:prstGeom prst="ellipse">
                    <a:avLst/>
                  </a:prstGeom>
                  <a:solidFill>
                    <a:srgbClr val="ccecff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2" name=""/>
                  <p:cNvSpPr/>
                  <p:nvPr/>
                </p:nvSpPr>
                <p:spPr>
                  <a:xfrm>
                    <a:off x="6171120" y="4560840"/>
                    <a:ext cx="568800" cy="493560"/>
                  </a:xfrm>
                  <a:prstGeom prst="ellipse">
                    <a:avLst/>
                  </a:prstGeom>
                  <a:solidFill>
                    <a:srgbClr val="6666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33" name=""/>
                <p:cNvGrpSpPr/>
                <p:nvPr/>
              </p:nvGrpSpPr>
              <p:grpSpPr>
                <a:xfrm>
                  <a:off x="8118000" y="4548240"/>
                  <a:ext cx="739440" cy="603000"/>
                  <a:chOff x="8118000" y="4548240"/>
                  <a:chExt cx="739440" cy="603000"/>
                </a:xfrm>
              </p:grpSpPr>
              <p:sp>
                <p:nvSpPr>
                  <p:cNvPr id="1034" name=""/>
                  <p:cNvSpPr/>
                  <p:nvPr/>
                </p:nvSpPr>
                <p:spPr>
                  <a:xfrm>
                    <a:off x="8118000" y="4548240"/>
                    <a:ext cx="739440" cy="603000"/>
                  </a:xfrm>
                  <a:prstGeom prst="ellipse">
                    <a:avLst/>
                  </a:prstGeom>
                  <a:solidFill>
                    <a:srgbClr val="ccecff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>
                    <a:off x="8174520" y="4548240"/>
                    <a:ext cx="568800" cy="493200"/>
                  </a:xfrm>
                  <a:prstGeom prst="ellipse">
                    <a:avLst/>
                  </a:prstGeom>
                  <a:solidFill>
                    <a:srgbClr val="6666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36" name=""/>
                <p:cNvGrpSpPr/>
                <p:nvPr/>
              </p:nvGrpSpPr>
              <p:grpSpPr>
                <a:xfrm>
                  <a:off x="6125760" y="2814480"/>
                  <a:ext cx="739440" cy="603360"/>
                  <a:chOff x="6125760" y="2814480"/>
                  <a:chExt cx="739440" cy="603360"/>
                </a:xfrm>
              </p:grpSpPr>
              <p:sp>
                <p:nvSpPr>
                  <p:cNvPr id="1037" name=""/>
                  <p:cNvSpPr/>
                  <p:nvPr/>
                </p:nvSpPr>
                <p:spPr>
                  <a:xfrm>
                    <a:off x="6125760" y="2814480"/>
                    <a:ext cx="739440" cy="603360"/>
                  </a:xfrm>
                  <a:prstGeom prst="ellipse">
                    <a:avLst/>
                  </a:prstGeom>
                  <a:solidFill>
                    <a:srgbClr val="ccecff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8" name=""/>
                  <p:cNvSpPr/>
                  <p:nvPr/>
                </p:nvSpPr>
                <p:spPr>
                  <a:xfrm>
                    <a:off x="6182280" y="2814480"/>
                    <a:ext cx="568800" cy="493560"/>
                  </a:xfrm>
                  <a:prstGeom prst="ellipse">
                    <a:avLst/>
                  </a:prstGeom>
                  <a:solidFill>
                    <a:srgbClr val="6666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39" name=""/>
                <p:cNvGrpSpPr/>
                <p:nvPr/>
              </p:nvGrpSpPr>
              <p:grpSpPr>
                <a:xfrm>
                  <a:off x="7114680" y="2827440"/>
                  <a:ext cx="739440" cy="603000"/>
                  <a:chOff x="7114680" y="2827440"/>
                  <a:chExt cx="739440" cy="603000"/>
                </a:xfrm>
              </p:grpSpPr>
              <p:sp>
                <p:nvSpPr>
                  <p:cNvPr id="1040" name=""/>
                  <p:cNvSpPr/>
                  <p:nvPr/>
                </p:nvSpPr>
                <p:spPr>
                  <a:xfrm>
                    <a:off x="7114680" y="2827440"/>
                    <a:ext cx="739440" cy="603000"/>
                  </a:xfrm>
                  <a:prstGeom prst="ellipse">
                    <a:avLst/>
                  </a:prstGeom>
                  <a:solidFill>
                    <a:srgbClr val="ccecff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1" name=""/>
                  <p:cNvSpPr/>
                  <p:nvPr/>
                </p:nvSpPr>
                <p:spPr>
                  <a:xfrm>
                    <a:off x="7171200" y="2827440"/>
                    <a:ext cx="568800" cy="493200"/>
                  </a:xfrm>
                  <a:prstGeom prst="ellipse">
                    <a:avLst/>
                  </a:prstGeom>
                  <a:solidFill>
                    <a:srgbClr val="6666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2" name=""/>
                <p:cNvGrpSpPr/>
                <p:nvPr/>
              </p:nvGrpSpPr>
              <p:grpSpPr>
                <a:xfrm>
                  <a:off x="8118000" y="3684600"/>
                  <a:ext cx="739440" cy="603360"/>
                  <a:chOff x="8118000" y="3684600"/>
                  <a:chExt cx="739440" cy="603360"/>
                </a:xfrm>
              </p:grpSpPr>
              <p:sp>
                <p:nvSpPr>
                  <p:cNvPr id="1043" name=""/>
                  <p:cNvSpPr/>
                  <p:nvPr/>
                </p:nvSpPr>
                <p:spPr>
                  <a:xfrm>
                    <a:off x="8118000" y="3684600"/>
                    <a:ext cx="739440" cy="603360"/>
                  </a:xfrm>
                  <a:prstGeom prst="ellipse">
                    <a:avLst/>
                  </a:prstGeom>
                  <a:solidFill>
                    <a:srgbClr val="ccecff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4" name=""/>
                  <p:cNvSpPr/>
                  <p:nvPr/>
                </p:nvSpPr>
                <p:spPr>
                  <a:xfrm>
                    <a:off x="8174520" y="3684600"/>
                    <a:ext cx="568800" cy="493560"/>
                  </a:xfrm>
                  <a:prstGeom prst="ellipse">
                    <a:avLst/>
                  </a:prstGeom>
                  <a:solidFill>
                    <a:srgbClr val="6666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5" name=""/>
                <p:cNvGrpSpPr/>
                <p:nvPr/>
              </p:nvGrpSpPr>
              <p:grpSpPr>
                <a:xfrm>
                  <a:off x="6051240" y="3525840"/>
                  <a:ext cx="879120" cy="876240"/>
                  <a:chOff x="6051240" y="3525840"/>
                  <a:chExt cx="879120" cy="876240"/>
                </a:xfrm>
              </p:grpSpPr>
              <p:sp>
                <p:nvSpPr>
                  <p:cNvPr id="1046" name=""/>
                  <p:cNvSpPr/>
                  <p:nvPr/>
                </p:nvSpPr>
                <p:spPr>
                  <a:xfrm>
                    <a:off x="6051240" y="3525840"/>
                    <a:ext cx="879120" cy="876240"/>
                  </a:xfrm>
                  <a:prstGeom prst="ellipse">
                    <a:avLst/>
                  </a:prstGeom>
                  <a:solidFill>
                    <a:srgbClr val="ffccff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7" name=""/>
                  <p:cNvSpPr/>
                  <p:nvPr/>
                </p:nvSpPr>
                <p:spPr>
                  <a:xfrm>
                    <a:off x="6171480" y="3601800"/>
                    <a:ext cx="568080" cy="493920"/>
                  </a:xfrm>
                  <a:prstGeom prst="ellipse">
                    <a:avLst/>
                  </a:prstGeom>
                  <a:solidFill>
                    <a:srgbClr val="6666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8" name=""/>
                <p:cNvGrpSpPr/>
                <p:nvPr/>
              </p:nvGrpSpPr>
              <p:grpSpPr>
                <a:xfrm>
                  <a:off x="7079760" y="4414680"/>
                  <a:ext cx="879120" cy="876240"/>
                  <a:chOff x="7079760" y="4414680"/>
                  <a:chExt cx="879120" cy="876240"/>
                </a:xfrm>
              </p:grpSpPr>
              <p:sp>
                <p:nvSpPr>
                  <p:cNvPr id="1049" name=""/>
                  <p:cNvSpPr/>
                  <p:nvPr/>
                </p:nvSpPr>
                <p:spPr>
                  <a:xfrm>
                    <a:off x="7079760" y="4414680"/>
                    <a:ext cx="879120" cy="876240"/>
                  </a:xfrm>
                  <a:prstGeom prst="ellipse">
                    <a:avLst/>
                  </a:prstGeom>
                  <a:solidFill>
                    <a:srgbClr val="ffccff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0" name=""/>
                  <p:cNvSpPr/>
                  <p:nvPr/>
                </p:nvSpPr>
                <p:spPr>
                  <a:xfrm>
                    <a:off x="7200000" y="4490640"/>
                    <a:ext cx="568080" cy="493920"/>
                  </a:xfrm>
                  <a:prstGeom prst="ellipse">
                    <a:avLst/>
                  </a:prstGeom>
                  <a:solidFill>
                    <a:srgbClr val="6666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51" name=""/>
                <p:cNvGrpSpPr/>
                <p:nvPr/>
              </p:nvGrpSpPr>
              <p:grpSpPr>
                <a:xfrm>
                  <a:off x="5022720" y="2674800"/>
                  <a:ext cx="879120" cy="876240"/>
                  <a:chOff x="5022720" y="2674800"/>
                  <a:chExt cx="879120" cy="876240"/>
                </a:xfrm>
              </p:grpSpPr>
              <p:sp>
                <p:nvSpPr>
                  <p:cNvPr id="1052" name=""/>
                  <p:cNvSpPr/>
                  <p:nvPr/>
                </p:nvSpPr>
                <p:spPr>
                  <a:xfrm>
                    <a:off x="5022720" y="2674800"/>
                    <a:ext cx="879120" cy="876240"/>
                  </a:xfrm>
                  <a:prstGeom prst="ellipse">
                    <a:avLst/>
                  </a:prstGeom>
                  <a:solidFill>
                    <a:srgbClr val="ffccff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3" name=""/>
                  <p:cNvSpPr/>
                  <p:nvPr/>
                </p:nvSpPr>
                <p:spPr>
                  <a:xfrm>
                    <a:off x="5142960" y="2750760"/>
                    <a:ext cx="568080" cy="493920"/>
                  </a:xfrm>
                  <a:prstGeom prst="ellipse">
                    <a:avLst/>
                  </a:prstGeom>
                  <a:solidFill>
                    <a:srgbClr val="6666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54" name=""/>
                <p:cNvGrpSpPr/>
                <p:nvPr/>
              </p:nvGrpSpPr>
              <p:grpSpPr>
                <a:xfrm>
                  <a:off x="5060520" y="4414680"/>
                  <a:ext cx="879120" cy="876240"/>
                  <a:chOff x="5060520" y="4414680"/>
                  <a:chExt cx="879120" cy="876240"/>
                </a:xfrm>
              </p:grpSpPr>
              <p:sp>
                <p:nvSpPr>
                  <p:cNvPr id="1055" name=""/>
                  <p:cNvSpPr/>
                  <p:nvPr/>
                </p:nvSpPr>
                <p:spPr>
                  <a:xfrm>
                    <a:off x="5060520" y="4414680"/>
                    <a:ext cx="879120" cy="876240"/>
                  </a:xfrm>
                  <a:prstGeom prst="ellipse">
                    <a:avLst/>
                  </a:prstGeom>
                  <a:solidFill>
                    <a:srgbClr val="ffccff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6" name=""/>
                  <p:cNvSpPr/>
                  <p:nvPr/>
                </p:nvSpPr>
                <p:spPr>
                  <a:xfrm>
                    <a:off x="5180760" y="4490640"/>
                    <a:ext cx="568080" cy="493920"/>
                  </a:xfrm>
                  <a:prstGeom prst="ellipse">
                    <a:avLst/>
                  </a:prstGeom>
                  <a:solidFill>
                    <a:srgbClr val="6666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057" name=""/>
              <p:cNvSpPr/>
              <p:nvPr/>
            </p:nvSpPr>
            <p:spPr>
              <a:xfrm>
                <a:off x="5099040" y="1989000"/>
                <a:ext cx="358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超抗原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4861080" y="2522520"/>
                <a:ext cx="4038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9" name=""/>
            <p:cNvSpPr/>
            <p:nvPr/>
          </p:nvSpPr>
          <p:spPr>
            <a:xfrm>
              <a:off x="4924440" y="5341680"/>
              <a:ext cx="40381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多克隆应答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1:4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华文行楷"/>
                </a:rPr>
                <a:t>～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1: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828800" y="457200"/>
            <a:ext cx="19810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Arial Narrow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Arial Narrow"/>
              </a:rPr>
              <a:t>抗原 </a:t>
            </a:r>
            <a:r>
              <a:rPr b="1" lang="zh-CN" sz="3200" spc="-1" strike="noStrike">
                <a:solidFill>
                  <a:srgbClr val="ff3300"/>
                </a:solidFill>
                <a:latin typeface="Arial Narrow"/>
              </a:rPr>
              <a:t>(Ag)</a:t>
            </a:r>
            <a:r>
              <a:rPr b="0" lang="zh-CN" sz="24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962520" y="762120"/>
            <a:ext cx="245880" cy="1364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" bIns="-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159080" y="838080"/>
            <a:ext cx="246240" cy="13680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83120" y="990720"/>
            <a:ext cx="245880" cy="1346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67320" y="1905120"/>
            <a:ext cx="98280" cy="68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19720" y="1973160"/>
            <a:ext cx="98280" cy="68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18000" y="2109960"/>
            <a:ext cx="98280" cy="68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616280" y="1973160"/>
            <a:ext cx="98640" cy="68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607560" y="1767960"/>
            <a:ext cx="1304640" cy="1357560"/>
            <a:chOff x="3607560" y="1767960"/>
            <a:chExt cx="1304640" cy="1357560"/>
          </a:xfrm>
        </p:grpSpPr>
        <p:sp>
          <p:nvSpPr>
            <p:cNvPr id="54" name=""/>
            <p:cNvSpPr/>
            <p:nvPr/>
          </p:nvSpPr>
          <p:spPr>
            <a:xfrm rot="3280800">
              <a:off x="3726720" y="2025000"/>
              <a:ext cx="1066320" cy="84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4539600" y="2862000"/>
              <a:ext cx="57240" cy="40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3674520" y="872280"/>
            <a:ext cx="1314000" cy="1330560"/>
            <a:chOff x="3674520" y="872280"/>
            <a:chExt cx="1314000" cy="1330560"/>
          </a:xfrm>
        </p:grpSpPr>
        <p:sp>
          <p:nvSpPr>
            <p:cNvPr id="57" name=""/>
            <p:cNvSpPr/>
            <p:nvPr/>
          </p:nvSpPr>
          <p:spPr>
            <a:xfrm rot="2118000">
              <a:off x="3874320" y="1045800"/>
              <a:ext cx="913680" cy="983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4681080" y="1768680"/>
              <a:ext cx="47160" cy="66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1905120" y="1752480"/>
            <a:ext cx="2133360" cy="7765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胞结合，激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20120" y="6093000"/>
            <a:ext cx="12441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记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711880" y="5486400"/>
            <a:ext cx="20613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活化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杀伤细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835800" y="2514600"/>
            <a:ext cx="1133280" cy="1510560"/>
            <a:chOff x="3835800" y="2514600"/>
            <a:chExt cx="1133280" cy="1510560"/>
          </a:xfrm>
        </p:grpSpPr>
        <p:sp>
          <p:nvSpPr>
            <p:cNvPr id="63" name=""/>
            <p:cNvSpPr/>
            <p:nvPr/>
          </p:nvSpPr>
          <p:spPr>
            <a:xfrm flipV="1" rot="21561600">
              <a:off x="4422240" y="3113280"/>
              <a:ext cx="360" cy="28548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64"/>
                    <a:pt x="0" y="128"/>
                    <a:pt x="0" y="19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21561600">
              <a:off x="4343400" y="3102480"/>
              <a:ext cx="36000" cy="302760"/>
            </a:xfrm>
            <a:custGeom>
              <a:avLst/>
              <a:gdLst/>
              <a:ahLst/>
              <a:rect l="l" t="t" r="r" b="b"/>
              <a:pathLst>
                <a:path w="1" h="211">
                  <a:moveTo>
                    <a:pt x="0" y="0"/>
                  </a:moveTo>
                  <a:cubicBezTo>
                    <a:pt x="0" y="70"/>
                    <a:pt x="0" y="141"/>
                    <a:pt x="0" y="211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21561600">
              <a:off x="4288320" y="2839320"/>
              <a:ext cx="94680" cy="14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759e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 rot="21561600">
              <a:off x="4388040" y="2839320"/>
              <a:ext cx="96840" cy="14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 rot="21561600">
              <a:off x="4385520" y="2974320"/>
              <a:ext cx="96840" cy="14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21561600">
              <a:off x="4286160" y="2982960"/>
              <a:ext cx="94320" cy="142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759e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 rot="5361600">
              <a:off x="4341960" y="3274200"/>
              <a:ext cx="451800" cy="79560"/>
            </a:xfrm>
            <a:prstGeom prst="flowChartOnlineStorage">
              <a:avLst/>
            </a:prstGeom>
            <a:solidFill>
              <a:srgbClr val="ff77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rot="892200">
              <a:off x="3933000" y="2620080"/>
              <a:ext cx="938520" cy="880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336" y="1527"/>
                  </a:moveTo>
                  <a:arcTo wR="10800" hR="10800" stAng="-3549669" swAng="5947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6336" y="1527"/>
                  </a:moveTo>
                  <a:arcTo wR="10800" hR="10800" stAng="-3549669" swAng="5947154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rot="7609200">
              <a:off x="4621320" y="2692800"/>
              <a:ext cx="147600" cy="95760"/>
            </a:xfrm>
            <a:custGeom>
              <a:avLst/>
              <a:gdLst/>
              <a:ahLst/>
              <a:rect l="l" t="t" r="r" b="b"/>
              <a:pathLst>
                <a:path w="96" h="48">
                  <a:moveTo>
                    <a:pt x="0" y="48"/>
                  </a:moveTo>
                  <a:lnTo>
                    <a:pt x="48" y="0"/>
                  </a:lnTo>
                  <a:lnTo>
                    <a:pt x="96" y="4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0800000">
              <a:off x="4032360" y="3263040"/>
              <a:ext cx="771120" cy="76212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rot="10800000">
              <a:off x="4123080" y="3334680"/>
              <a:ext cx="537840" cy="51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d9bc9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rot="10800000">
              <a:off x="4325760" y="2805480"/>
              <a:ext cx="119160" cy="6876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 flipH="1">
            <a:off x="3271320" y="3855960"/>
            <a:ext cx="760680" cy="48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2118960" y="3204000"/>
            <a:ext cx="1258920" cy="1719720"/>
            <a:chOff x="2118960" y="3204000"/>
            <a:chExt cx="1258920" cy="1719720"/>
          </a:xfrm>
        </p:grpSpPr>
        <p:sp>
          <p:nvSpPr>
            <p:cNvPr id="77" name=""/>
            <p:cNvSpPr/>
            <p:nvPr/>
          </p:nvSpPr>
          <p:spPr>
            <a:xfrm flipV="1" rot="21561600">
              <a:off x="2773080" y="3882240"/>
              <a:ext cx="360" cy="32544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64"/>
                    <a:pt x="0" y="128"/>
                    <a:pt x="0" y="19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 rot="21561600">
              <a:off x="2684880" y="3868560"/>
              <a:ext cx="38520" cy="345600"/>
            </a:xfrm>
            <a:custGeom>
              <a:avLst/>
              <a:gdLst/>
              <a:ahLst/>
              <a:rect l="l" t="t" r="r" b="b"/>
              <a:pathLst>
                <a:path w="1" h="211">
                  <a:moveTo>
                    <a:pt x="0" y="0"/>
                  </a:moveTo>
                  <a:cubicBezTo>
                    <a:pt x="0" y="70"/>
                    <a:pt x="0" y="141"/>
                    <a:pt x="0" y="211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 rot="21561600">
              <a:off x="2625120" y="3567240"/>
              <a:ext cx="103680" cy="163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759e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 rot="21561600">
              <a:off x="2736000" y="3567240"/>
              <a:ext cx="105480" cy="163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 rot="21561600">
              <a:off x="2732400" y="3720960"/>
              <a:ext cx="107280" cy="163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 rot="21561600">
              <a:off x="2623320" y="3731040"/>
              <a:ext cx="103680" cy="164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759e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 rot="5361600">
              <a:off x="2674440" y="4066200"/>
              <a:ext cx="517320" cy="88200"/>
            </a:xfrm>
            <a:prstGeom prst="flowChartOnlineStorage">
              <a:avLst/>
            </a:prstGeom>
            <a:solidFill>
              <a:srgbClr val="ff77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892200">
              <a:off x="2230560" y="3319920"/>
              <a:ext cx="1035000" cy="1007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336" y="1527"/>
                  </a:moveTo>
                  <a:arcTo wR="10800" hR="10800" stAng="-3549669" swAng="5947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6336" y="1527"/>
                  </a:moveTo>
                  <a:arcTo wR="10800" hR="10800" stAng="-3549669" swAng="5947154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7609200">
              <a:off x="2987280" y="3402000"/>
              <a:ext cx="169560" cy="105480"/>
            </a:xfrm>
            <a:custGeom>
              <a:avLst/>
              <a:gdLst/>
              <a:ahLst/>
              <a:rect l="l" t="t" r="r" b="b"/>
              <a:pathLst>
                <a:path w="96" h="48">
                  <a:moveTo>
                    <a:pt x="0" y="48"/>
                  </a:moveTo>
                  <a:lnTo>
                    <a:pt x="48" y="0"/>
                  </a:lnTo>
                  <a:lnTo>
                    <a:pt x="96" y="4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0800000">
              <a:off x="2341440" y="4051800"/>
              <a:ext cx="848880" cy="87192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0800000">
              <a:off x="2443680" y="4146840"/>
              <a:ext cx="573840" cy="40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d9bc9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0800000">
              <a:off x="2406240" y="4535640"/>
              <a:ext cx="103680" cy="972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0800000">
              <a:off x="2745000" y="4729680"/>
              <a:ext cx="103680" cy="972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0800000">
              <a:off x="2913840" y="4535640"/>
              <a:ext cx="103680" cy="972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561600" y="3796920"/>
            <a:ext cx="1550520" cy="1373760"/>
            <a:chOff x="561600" y="3796920"/>
            <a:chExt cx="1550520" cy="1373760"/>
          </a:xfrm>
        </p:grpSpPr>
        <p:sp>
          <p:nvSpPr>
            <p:cNvPr id="92" name=""/>
            <p:cNvSpPr/>
            <p:nvPr/>
          </p:nvSpPr>
          <p:spPr>
            <a:xfrm flipV="1" rot="16161600">
              <a:off x="1348200" y="4319640"/>
              <a:ext cx="360" cy="282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64"/>
                    <a:pt x="0" y="128"/>
                    <a:pt x="0" y="19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 rot="16161600">
              <a:off x="1324080" y="4387320"/>
              <a:ext cx="44280" cy="300600"/>
            </a:xfrm>
            <a:custGeom>
              <a:avLst/>
              <a:gdLst/>
              <a:ahLst/>
              <a:rect l="l" t="t" r="r" b="b"/>
              <a:pathLst>
                <a:path w="1" h="211">
                  <a:moveTo>
                    <a:pt x="0" y="0"/>
                  </a:moveTo>
                  <a:cubicBezTo>
                    <a:pt x="0" y="70"/>
                    <a:pt x="0" y="141"/>
                    <a:pt x="0" y="211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 rot="16161600">
              <a:off x="945360" y="4497480"/>
              <a:ext cx="119160" cy="142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759e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 rot="16161600">
              <a:off x="944280" y="4369680"/>
              <a:ext cx="120960" cy="142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 rot="16161600">
              <a:off x="1076760" y="4372560"/>
              <a:ext cx="123120" cy="142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 rot="16161600">
              <a:off x="1088280" y="4499280"/>
              <a:ext cx="119160" cy="142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759e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 rot="21561600">
              <a:off x="1180080" y="4223880"/>
              <a:ext cx="449640" cy="101160"/>
            </a:xfrm>
            <a:prstGeom prst="flowChartOnlineStorage">
              <a:avLst/>
            </a:prstGeom>
            <a:solidFill>
              <a:srgbClr val="ff77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rot="17092200">
              <a:off x="542520" y="4045680"/>
              <a:ext cx="1189080" cy="875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336" y="1527"/>
                  </a:moveTo>
                  <a:arcTo wR="10800" hR="10800" stAng="-3549669" swAng="5947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6336" y="1527"/>
                  </a:moveTo>
                  <a:arcTo wR="10800" hR="10800" stAng="-3549669" swAng="5947154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2209200">
              <a:off x="761760" y="4054680"/>
              <a:ext cx="147240" cy="120960"/>
            </a:xfrm>
            <a:custGeom>
              <a:avLst/>
              <a:gdLst/>
              <a:ahLst/>
              <a:rect l="l" t="t" r="r" b="b"/>
              <a:pathLst>
                <a:path w="96" h="48">
                  <a:moveTo>
                    <a:pt x="0" y="48"/>
                  </a:moveTo>
                  <a:lnTo>
                    <a:pt x="48" y="0"/>
                  </a:lnTo>
                  <a:lnTo>
                    <a:pt x="96" y="4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5400000">
              <a:off x="1245600" y="4088160"/>
              <a:ext cx="974880" cy="75780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5400000">
              <a:off x="1281240" y="4334040"/>
              <a:ext cx="659160" cy="34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d9bc9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5400000">
              <a:off x="1757160" y="4778640"/>
              <a:ext cx="119160" cy="8424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5400000">
              <a:off x="1926000" y="4389840"/>
              <a:ext cx="119160" cy="8424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5400000">
              <a:off x="1757160" y="4195800"/>
              <a:ext cx="119160" cy="8424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2849400" y="5021280"/>
            <a:ext cx="338400" cy="38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4257720" y="292320"/>
            <a:ext cx="1648080" cy="1649520"/>
            <a:chOff x="4257720" y="292320"/>
            <a:chExt cx="1648080" cy="1649520"/>
          </a:xfrm>
        </p:grpSpPr>
        <p:sp>
          <p:nvSpPr>
            <p:cNvPr id="108" name=""/>
            <p:cNvSpPr/>
            <p:nvPr/>
          </p:nvSpPr>
          <p:spPr>
            <a:xfrm rot="18916200">
              <a:off x="4548600" y="484200"/>
              <a:ext cx="1066320" cy="126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424120" y="704520"/>
              <a:ext cx="73800" cy="74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4311720" y="990720"/>
            <a:ext cx="245880" cy="1364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" bIns="-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24480" y="121932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5400000">
            <a:off x="5934600" y="2370960"/>
            <a:ext cx="695160" cy="1135080"/>
          </a:xfrm>
          <a:prstGeom prst="ellipse">
            <a:avLst/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5765040" y="2723400"/>
            <a:ext cx="417600" cy="403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66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6202440" y="2781360"/>
            <a:ext cx="228600" cy="304560"/>
            <a:chOff x="6202440" y="2781360"/>
            <a:chExt cx="228600" cy="304560"/>
          </a:xfrm>
        </p:grpSpPr>
        <p:sp>
          <p:nvSpPr>
            <p:cNvPr id="115" name=""/>
            <p:cNvSpPr/>
            <p:nvPr/>
          </p:nvSpPr>
          <p:spPr>
            <a:xfrm>
              <a:off x="6202440" y="278136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6202440" y="28573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6354720" y="2762280"/>
            <a:ext cx="228600" cy="304560"/>
            <a:chOff x="6354720" y="2762280"/>
            <a:chExt cx="228600" cy="304560"/>
          </a:xfrm>
        </p:grpSpPr>
        <p:sp>
          <p:nvSpPr>
            <p:cNvPr id="118" name=""/>
            <p:cNvSpPr/>
            <p:nvPr/>
          </p:nvSpPr>
          <p:spPr>
            <a:xfrm>
              <a:off x="6354720" y="276228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6354720" y="28382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6507000" y="2762280"/>
            <a:ext cx="228600" cy="304560"/>
            <a:chOff x="6507000" y="2762280"/>
            <a:chExt cx="228600" cy="304560"/>
          </a:xfrm>
        </p:grpSpPr>
        <p:sp>
          <p:nvSpPr>
            <p:cNvPr id="121" name=""/>
            <p:cNvSpPr/>
            <p:nvPr/>
          </p:nvSpPr>
          <p:spPr>
            <a:xfrm>
              <a:off x="6507000" y="276228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6507000" y="28382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6705720" y="1371600"/>
            <a:ext cx="1447560" cy="28195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010280" y="762120"/>
            <a:ext cx="1828800" cy="11178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胞结合，诱导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胞释放抗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65720" y="5562720"/>
            <a:ext cx="14605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记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41400" y="3427560"/>
            <a:ext cx="1674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活化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836680" y="5521320"/>
            <a:ext cx="6073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抗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5600520" y="4267080"/>
            <a:ext cx="190800" cy="228240"/>
            <a:chOff x="5600520" y="4267080"/>
            <a:chExt cx="190800" cy="228240"/>
          </a:xfrm>
        </p:grpSpPr>
        <p:sp>
          <p:nvSpPr>
            <p:cNvPr id="129" name=""/>
            <p:cNvSpPr/>
            <p:nvPr/>
          </p:nvSpPr>
          <p:spPr>
            <a:xfrm>
              <a:off x="5715000" y="426708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676840" y="426708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715360" y="4419000"/>
              <a:ext cx="7596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5600520" y="441900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5410440" y="4495680"/>
            <a:ext cx="190800" cy="228240"/>
            <a:chOff x="5410440" y="4495680"/>
            <a:chExt cx="190800" cy="228240"/>
          </a:xfrm>
        </p:grpSpPr>
        <p:sp>
          <p:nvSpPr>
            <p:cNvPr id="134" name=""/>
            <p:cNvSpPr/>
            <p:nvPr/>
          </p:nvSpPr>
          <p:spPr>
            <a:xfrm>
              <a:off x="5524920" y="449568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486760" y="449568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25280" y="4647600"/>
              <a:ext cx="7596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5410440" y="464760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6857640" y="4267080"/>
            <a:ext cx="190800" cy="228240"/>
            <a:chOff x="6857640" y="4267080"/>
            <a:chExt cx="190800" cy="228240"/>
          </a:xfrm>
        </p:grpSpPr>
        <p:sp>
          <p:nvSpPr>
            <p:cNvPr id="139" name=""/>
            <p:cNvSpPr/>
            <p:nvPr/>
          </p:nvSpPr>
          <p:spPr>
            <a:xfrm>
              <a:off x="6972120" y="426708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933960" y="426708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972480" y="4419000"/>
              <a:ext cx="7596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6857640" y="441900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5943240" y="4114800"/>
            <a:ext cx="190800" cy="228240"/>
            <a:chOff x="5943240" y="4114800"/>
            <a:chExt cx="190800" cy="228240"/>
          </a:xfrm>
        </p:grpSpPr>
        <p:sp>
          <p:nvSpPr>
            <p:cNvPr id="144" name=""/>
            <p:cNvSpPr/>
            <p:nvPr/>
          </p:nvSpPr>
          <p:spPr>
            <a:xfrm>
              <a:off x="6057720" y="41148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019560" y="41148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058080" y="4266720"/>
              <a:ext cx="7596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5943240" y="426672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629040" y="4114800"/>
            <a:ext cx="190800" cy="228240"/>
            <a:chOff x="6629040" y="4114800"/>
            <a:chExt cx="190800" cy="228240"/>
          </a:xfrm>
        </p:grpSpPr>
        <p:sp>
          <p:nvSpPr>
            <p:cNvPr id="149" name=""/>
            <p:cNvSpPr/>
            <p:nvPr/>
          </p:nvSpPr>
          <p:spPr>
            <a:xfrm>
              <a:off x="6743520" y="41148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705360" y="41148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743880" y="4266720"/>
              <a:ext cx="7596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6629040" y="426672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6096240" y="4267080"/>
            <a:ext cx="190800" cy="228240"/>
            <a:chOff x="6096240" y="4267080"/>
            <a:chExt cx="190800" cy="228240"/>
          </a:xfrm>
        </p:grpSpPr>
        <p:sp>
          <p:nvSpPr>
            <p:cNvPr id="154" name=""/>
            <p:cNvSpPr/>
            <p:nvPr/>
          </p:nvSpPr>
          <p:spPr>
            <a:xfrm>
              <a:off x="6210720" y="426708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172560" y="426708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11080" y="4419000"/>
              <a:ext cx="7596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6096240" y="441900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5943240" y="4572000"/>
            <a:ext cx="190800" cy="228240"/>
            <a:chOff x="5943240" y="4572000"/>
            <a:chExt cx="190800" cy="228240"/>
          </a:xfrm>
        </p:grpSpPr>
        <p:sp>
          <p:nvSpPr>
            <p:cNvPr id="159" name=""/>
            <p:cNvSpPr/>
            <p:nvPr/>
          </p:nvSpPr>
          <p:spPr>
            <a:xfrm>
              <a:off x="6057720" y="45720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019560" y="45720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58080" y="4723920"/>
              <a:ext cx="7596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5943240" y="472392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6400440" y="4572000"/>
            <a:ext cx="190800" cy="228240"/>
            <a:chOff x="6400440" y="4572000"/>
            <a:chExt cx="190800" cy="228240"/>
          </a:xfrm>
        </p:grpSpPr>
        <p:sp>
          <p:nvSpPr>
            <p:cNvPr id="164" name=""/>
            <p:cNvSpPr/>
            <p:nvPr/>
          </p:nvSpPr>
          <p:spPr>
            <a:xfrm>
              <a:off x="6514920" y="45720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476760" y="45720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515280" y="4723920"/>
              <a:ext cx="7596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6400440" y="472392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6553440" y="4724280"/>
            <a:ext cx="190800" cy="228240"/>
            <a:chOff x="6553440" y="4724280"/>
            <a:chExt cx="190800" cy="228240"/>
          </a:xfrm>
        </p:grpSpPr>
        <p:sp>
          <p:nvSpPr>
            <p:cNvPr id="169" name=""/>
            <p:cNvSpPr/>
            <p:nvPr/>
          </p:nvSpPr>
          <p:spPr>
            <a:xfrm>
              <a:off x="6667920" y="472428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629760" y="472428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668280" y="4876200"/>
              <a:ext cx="7596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6553440" y="487620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6705360" y="4876920"/>
            <a:ext cx="190800" cy="228240"/>
            <a:chOff x="6705360" y="4876920"/>
            <a:chExt cx="190800" cy="228240"/>
          </a:xfrm>
        </p:grpSpPr>
        <p:sp>
          <p:nvSpPr>
            <p:cNvPr id="174" name=""/>
            <p:cNvSpPr/>
            <p:nvPr/>
          </p:nvSpPr>
          <p:spPr>
            <a:xfrm>
              <a:off x="6819840" y="48769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781680" y="48769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820200" y="5028840"/>
              <a:ext cx="7596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6705360" y="502884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752800" y="4419720"/>
            <a:ext cx="190800" cy="228240"/>
            <a:chOff x="5752800" y="4419720"/>
            <a:chExt cx="190800" cy="228240"/>
          </a:xfrm>
        </p:grpSpPr>
        <p:sp>
          <p:nvSpPr>
            <p:cNvPr id="179" name=""/>
            <p:cNvSpPr/>
            <p:nvPr/>
          </p:nvSpPr>
          <p:spPr>
            <a:xfrm>
              <a:off x="5867280" y="44197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829120" y="44197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867640" y="4571640"/>
              <a:ext cx="7596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5752800" y="457164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5905080" y="5105520"/>
            <a:ext cx="190800" cy="228240"/>
            <a:chOff x="5905080" y="5105520"/>
            <a:chExt cx="190800" cy="228240"/>
          </a:xfrm>
        </p:grpSpPr>
        <p:sp>
          <p:nvSpPr>
            <p:cNvPr id="184" name=""/>
            <p:cNvSpPr/>
            <p:nvPr/>
          </p:nvSpPr>
          <p:spPr>
            <a:xfrm>
              <a:off x="6019560" y="51055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981400" y="51055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019920" y="5257440"/>
              <a:ext cx="7596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905080" y="525744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5562360" y="4800600"/>
            <a:ext cx="190800" cy="228240"/>
            <a:chOff x="5562360" y="4800600"/>
            <a:chExt cx="190800" cy="228240"/>
          </a:xfrm>
        </p:grpSpPr>
        <p:sp>
          <p:nvSpPr>
            <p:cNvPr id="189" name=""/>
            <p:cNvSpPr/>
            <p:nvPr/>
          </p:nvSpPr>
          <p:spPr>
            <a:xfrm>
              <a:off x="5676840" y="48006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638680" y="48006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677200" y="4952520"/>
              <a:ext cx="7596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5562360" y="495252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6057720" y="4952880"/>
            <a:ext cx="190800" cy="228240"/>
            <a:chOff x="6057720" y="4952880"/>
            <a:chExt cx="190800" cy="228240"/>
          </a:xfrm>
        </p:grpSpPr>
        <p:sp>
          <p:nvSpPr>
            <p:cNvPr id="194" name=""/>
            <p:cNvSpPr/>
            <p:nvPr/>
          </p:nvSpPr>
          <p:spPr>
            <a:xfrm>
              <a:off x="6172200" y="495288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134040" y="495288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172560" y="5104800"/>
              <a:ext cx="7596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6057720" y="510480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5905080" y="4572000"/>
            <a:ext cx="190800" cy="228240"/>
            <a:chOff x="5905080" y="4572000"/>
            <a:chExt cx="190800" cy="228240"/>
          </a:xfrm>
        </p:grpSpPr>
        <p:sp>
          <p:nvSpPr>
            <p:cNvPr id="199" name=""/>
            <p:cNvSpPr/>
            <p:nvPr/>
          </p:nvSpPr>
          <p:spPr>
            <a:xfrm>
              <a:off x="6019560" y="45720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981400" y="45720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019920" y="4723920"/>
              <a:ext cx="7596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5905080" y="472392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 rot="5400000">
            <a:off x="7907040" y="4335480"/>
            <a:ext cx="695160" cy="708120"/>
          </a:xfrm>
          <a:prstGeom prst="ellipse">
            <a:avLst/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7963920" y="4473360"/>
            <a:ext cx="486000" cy="476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66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7731000" y="4616640"/>
            <a:ext cx="269280" cy="190800"/>
            <a:chOff x="7731000" y="4616640"/>
            <a:chExt cx="269280" cy="190800"/>
          </a:xfrm>
        </p:grpSpPr>
        <p:sp>
          <p:nvSpPr>
            <p:cNvPr id="206" name=""/>
            <p:cNvSpPr/>
            <p:nvPr/>
          </p:nvSpPr>
          <p:spPr>
            <a:xfrm flipH="1">
              <a:off x="7820640" y="4731120"/>
              <a:ext cx="179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7820640" y="4692960"/>
              <a:ext cx="179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7731000" y="4731480"/>
              <a:ext cx="90000" cy="759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 flipV="1">
              <a:off x="7731000" y="4616640"/>
              <a:ext cx="9000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8534520" y="4571640"/>
            <a:ext cx="228240" cy="190800"/>
            <a:chOff x="8534520" y="4571640"/>
            <a:chExt cx="228240" cy="190800"/>
          </a:xfrm>
        </p:grpSpPr>
        <p:sp>
          <p:nvSpPr>
            <p:cNvPr id="211" name=""/>
            <p:cNvSpPr/>
            <p:nvPr/>
          </p:nvSpPr>
          <p:spPr>
            <a:xfrm>
              <a:off x="8534520" y="4686120"/>
              <a:ext cx="152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534520" y="4647960"/>
              <a:ext cx="152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686440" y="4686480"/>
              <a:ext cx="76320" cy="759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8686440" y="457164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8229240" y="4971960"/>
            <a:ext cx="190800" cy="228240"/>
            <a:chOff x="8229240" y="4971960"/>
            <a:chExt cx="190800" cy="228240"/>
          </a:xfrm>
        </p:grpSpPr>
        <p:sp>
          <p:nvSpPr>
            <p:cNvPr id="216" name=""/>
            <p:cNvSpPr/>
            <p:nvPr/>
          </p:nvSpPr>
          <p:spPr>
            <a:xfrm>
              <a:off x="8343720" y="497196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305560" y="497196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344080" y="5123880"/>
              <a:ext cx="7596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8229240" y="512388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 rot="5400000">
            <a:off x="6150600" y="429120"/>
            <a:ext cx="695520" cy="598320"/>
          </a:xfrm>
          <a:prstGeom prst="ellipse">
            <a:avLst/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5400000">
            <a:off x="6215040" y="549000"/>
            <a:ext cx="485640" cy="403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66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5943600" y="685440"/>
            <a:ext cx="228240" cy="190800"/>
            <a:chOff x="5943600" y="685440"/>
            <a:chExt cx="228240" cy="190800"/>
          </a:xfrm>
        </p:grpSpPr>
        <p:sp>
          <p:nvSpPr>
            <p:cNvPr id="223" name=""/>
            <p:cNvSpPr/>
            <p:nvPr/>
          </p:nvSpPr>
          <p:spPr>
            <a:xfrm flipH="1">
              <a:off x="6019560" y="799920"/>
              <a:ext cx="152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6019560" y="761760"/>
              <a:ext cx="152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5943600" y="800280"/>
              <a:ext cx="76320" cy="759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 flipV="1">
              <a:off x="5943600" y="68544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5791320" y="839880"/>
            <a:ext cx="245880" cy="1364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" bIns="-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791320" y="550800"/>
            <a:ext cx="245880" cy="1364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" bIns="-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621400" y="762120"/>
            <a:ext cx="245880" cy="1364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" bIns="-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676520" y="5105520"/>
            <a:ext cx="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181480" y="304920"/>
            <a:ext cx="0" cy="62481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二、抗原的基本特性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（一）免疫原性（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immunogenicity</a:t>
            </a: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：指抗原能够刺激机体发生免疫应答、产生抗体或效应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T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细胞的特性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（二）免疫反应性（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antigenicity</a:t>
            </a: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：在体内外与相应抗体或效应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T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细胞发生特异性结合的特性。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10333080" y="1572840"/>
            <a:ext cx="216000" cy="24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595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第二节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决定抗原免疫原性的条件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一、异物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异物性是构成抗原免疫原性的首要条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主要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异种物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同种异体物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身抗原物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611280" y="333360"/>
            <a:ext cx="4248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二、理化性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一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分子大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153440" y="2133720"/>
            <a:ext cx="140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×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153080" y="3048120"/>
            <a:ext cx="158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0×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200960" y="3998880"/>
            <a:ext cx="141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华文行楷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133720" y="1628640"/>
            <a:ext cx="312408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免疫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286000" y="2889360"/>
            <a:ext cx="33656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强免疫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556000" y="4005360"/>
            <a:ext cx="2952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弱免疫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629400" y="762120"/>
            <a:ext cx="16765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子量大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91520" y="13716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943600" y="2057400"/>
            <a:ext cx="2743200" cy="6822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原决定基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原分子结构复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391520" y="29718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391520" y="44197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791400" y="3657600"/>
            <a:ext cx="10951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易被降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19920" y="5105520"/>
            <a:ext cx="280008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持续刺激免疫细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295280" y="457200"/>
            <a:ext cx="723924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二）一定的化学组成和结构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　复杂的化学组成与特殊的化学基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828800" y="23623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明胶分子（分子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10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  <a:ea typeface="华文行楷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27880" y="2743200"/>
            <a:ext cx="228600" cy="0"/>
          </a:xfrm>
          <a:prstGeom prst="line">
            <a:avLst/>
          </a:prstGeom>
          <a:ln w="9360">
            <a:solidFill>
              <a:srgbClr val="1309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232240" y="2743200"/>
            <a:ext cx="228600" cy="0"/>
          </a:xfrm>
          <a:prstGeom prst="line">
            <a:avLst/>
          </a:prstGeom>
          <a:ln w="9360">
            <a:solidFill>
              <a:srgbClr val="1309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219320" y="3276720"/>
            <a:ext cx="7086600" cy="2425320"/>
            <a:chOff x="1219320" y="3276720"/>
            <a:chExt cx="7086600" cy="2425320"/>
          </a:xfrm>
        </p:grpSpPr>
        <p:sp>
          <p:nvSpPr>
            <p:cNvPr id="255" name=""/>
            <p:cNvSpPr/>
            <p:nvPr/>
          </p:nvSpPr>
          <p:spPr>
            <a:xfrm>
              <a:off x="2590920" y="3962160"/>
              <a:ext cx="0" cy="4568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990800" y="443196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直链氨基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286000" y="4038480"/>
              <a:ext cx="0" cy="4568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981080" y="3962160"/>
              <a:ext cx="0" cy="4568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819520" y="3733560"/>
              <a:ext cx="0" cy="4568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752480" y="3733560"/>
              <a:ext cx="0" cy="4568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752480" y="3276720"/>
              <a:ext cx="1067040" cy="9140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299280" y="3962160"/>
              <a:ext cx="0" cy="4568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994360" y="4038480"/>
              <a:ext cx="0" cy="4568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689440" y="3962160"/>
              <a:ext cx="0" cy="4568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527880" y="3733560"/>
              <a:ext cx="0" cy="4568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460840" y="3733560"/>
              <a:ext cx="0" cy="4568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460840" y="3276720"/>
              <a:ext cx="1067040" cy="9140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680160" y="3581280"/>
              <a:ext cx="304920" cy="304200"/>
            </a:xfrm>
            <a:prstGeom prst="hexagon">
              <a:avLst>
                <a:gd name="adj" fmla="val 25059"/>
                <a:gd name="vf" fmla="val 115470"/>
              </a:avLst>
            </a:prstGeom>
            <a:solidFill>
              <a:srgbClr val="ffffff"/>
            </a:solidFill>
            <a:ln w="2844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003640" y="3581280"/>
              <a:ext cx="304920" cy="304200"/>
            </a:xfrm>
            <a:prstGeom prst="hexagon">
              <a:avLst>
                <a:gd name="adj" fmla="val 25059"/>
                <a:gd name="vf" fmla="val 115470"/>
              </a:avLst>
            </a:prstGeom>
            <a:solidFill>
              <a:srgbClr val="ffffff"/>
            </a:solidFill>
            <a:ln w="2844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189040" y="4571640"/>
              <a:ext cx="277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加苯环氨基酸（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2%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酪氨酸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219320" y="5181480"/>
              <a:ext cx="320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免疫原性很弱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648320" y="5181480"/>
              <a:ext cx="365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免疫原性大大增强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611280" y="357120"/>
            <a:ext cx="615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三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分子构象与易接近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257800" y="5105520"/>
            <a:ext cx="304920" cy="304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09680" y="51055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5029200"/>
            <a:ext cx="228600" cy="533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324480" y="5181480"/>
            <a:ext cx="914400" cy="228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2438280" y="1143000"/>
            <a:ext cx="1682640" cy="2957400"/>
            <a:chOff x="2438280" y="1143000"/>
            <a:chExt cx="1682640" cy="2957400"/>
          </a:xfrm>
        </p:grpSpPr>
        <p:sp>
          <p:nvSpPr>
            <p:cNvPr id="279" name=""/>
            <p:cNvSpPr/>
            <p:nvPr/>
          </p:nvSpPr>
          <p:spPr>
            <a:xfrm>
              <a:off x="2808000" y="1373040"/>
              <a:ext cx="270000" cy="231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943000" y="3870360"/>
              <a:ext cx="270000" cy="230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808000" y="1604880"/>
              <a:ext cx="270000" cy="230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808000" y="1143000"/>
              <a:ext cx="270000" cy="230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943000" y="3408120"/>
              <a:ext cx="270000" cy="2304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943000" y="3638520"/>
              <a:ext cx="270000" cy="231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438280" y="2541600"/>
              <a:ext cx="1682640" cy="174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841480" y="1849320"/>
              <a:ext cx="203040" cy="6922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178080" y="1849320"/>
              <a:ext cx="203040" cy="69228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516120" y="1849320"/>
              <a:ext cx="201600" cy="69228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93760" y="2716200"/>
              <a:ext cx="201600" cy="6919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347640" y="2716200"/>
              <a:ext cx="201600" cy="69192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312720" y="3870360"/>
              <a:ext cx="270000" cy="230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312720" y="3408120"/>
              <a:ext cx="270000" cy="230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312720" y="3638520"/>
              <a:ext cx="270000" cy="231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481200" y="1373040"/>
              <a:ext cx="270000" cy="231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481200" y="1604880"/>
              <a:ext cx="270000" cy="230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481200" y="1143000"/>
              <a:ext cx="270000" cy="230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144600" y="1619280"/>
              <a:ext cx="270000" cy="230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144600" y="1157040"/>
              <a:ext cx="270000" cy="2304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144600" y="1387440"/>
              <a:ext cx="270000" cy="231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4343400" y="1143000"/>
            <a:ext cx="1682640" cy="2971800"/>
            <a:chOff x="4343400" y="1143000"/>
            <a:chExt cx="1682640" cy="2971800"/>
          </a:xfrm>
        </p:grpSpPr>
        <p:sp>
          <p:nvSpPr>
            <p:cNvPr id="301" name=""/>
            <p:cNvSpPr/>
            <p:nvPr/>
          </p:nvSpPr>
          <p:spPr>
            <a:xfrm>
              <a:off x="4343400" y="2541600"/>
              <a:ext cx="1682640" cy="1746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679640" y="2297160"/>
              <a:ext cx="268200" cy="230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79640" y="1834920"/>
              <a:ext cx="268200" cy="231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679640" y="2066760"/>
              <a:ext cx="268200" cy="230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016240" y="2066760"/>
              <a:ext cx="267840" cy="2304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016240" y="2297160"/>
              <a:ext cx="267840" cy="230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016240" y="1834920"/>
              <a:ext cx="267840" cy="231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368680" y="2066760"/>
              <a:ext cx="269640" cy="2304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368680" y="2297160"/>
              <a:ext cx="269640" cy="230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368680" y="1834920"/>
              <a:ext cx="269640" cy="231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830480" y="3176640"/>
              <a:ext cx="269640" cy="231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830480" y="2716200"/>
              <a:ext cx="269640" cy="230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830480" y="2946240"/>
              <a:ext cx="269640" cy="230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200560" y="2946240"/>
              <a:ext cx="269280" cy="2304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200560" y="3176640"/>
              <a:ext cx="269280" cy="231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200560" y="2716200"/>
              <a:ext cx="269280" cy="230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728960" y="1143000"/>
              <a:ext cx="202680" cy="69192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067000" y="1143000"/>
              <a:ext cx="201240" cy="69192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403600" y="1143000"/>
              <a:ext cx="201240" cy="69192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863960" y="3422520"/>
              <a:ext cx="202680" cy="69228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235480" y="3422520"/>
              <a:ext cx="201240" cy="69228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6324480" y="1143000"/>
            <a:ext cx="2490840" cy="2971800"/>
            <a:chOff x="6324480" y="1143000"/>
            <a:chExt cx="2490840" cy="2971800"/>
          </a:xfrm>
        </p:grpSpPr>
        <p:sp>
          <p:nvSpPr>
            <p:cNvPr id="323" name=""/>
            <p:cNvSpPr/>
            <p:nvPr/>
          </p:nvSpPr>
          <p:spPr>
            <a:xfrm>
              <a:off x="6324480" y="2541600"/>
              <a:ext cx="2490840" cy="17460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594480" y="2297160"/>
              <a:ext cx="268200" cy="230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594480" y="1834920"/>
              <a:ext cx="268200" cy="231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594480" y="2066760"/>
              <a:ext cx="268200" cy="230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317000" y="2066760"/>
              <a:ext cx="269640" cy="2304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317000" y="2297160"/>
              <a:ext cx="269640" cy="230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317000" y="1834920"/>
              <a:ext cx="269640" cy="231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075520" y="2066760"/>
              <a:ext cx="268560" cy="2304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075520" y="2297160"/>
              <a:ext cx="268560" cy="230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075520" y="1834920"/>
              <a:ext cx="268560" cy="231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643800" y="1143000"/>
              <a:ext cx="203040" cy="691920"/>
            </a:xfrm>
            <a:prstGeom prst="rect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367760" y="1143000"/>
              <a:ext cx="201600" cy="691920"/>
            </a:xfrm>
            <a:prstGeom prst="rect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109000" y="1143000"/>
              <a:ext cx="201600" cy="691920"/>
            </a:xfrm>
            <a:prstGeom prst="rect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931080" y="3176640"/>
              <a:ext cx="268200" cy="231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931080" y="2716200"/>
              <a:ext cx="268200" cy="230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931080" y="2946240"/>
              <a:ext cx="268200" cy="230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805880" y="2946240"/>
              <a:ext cx="269640" cy="2304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805880" y="3176640"/>
              <a:ext cx="269640" cy="231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05880" y="2716200"/>
              <a:ext cx="269640" cy="230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80400" y="3422520"/>
              <a:ext cx="203040" cy="692280"/>
            </a:xfrm>
            <a:prstGeom prst="rect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839000" y="3422520"/>
              <a:ext cx="201600" cy="692280"/>
            </a:xfrm>
            <a:prstGeom prst="rect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992160" y="4259160"/>
            <a:ext cx="321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抗体反应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++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98880" y="4191120"/>
            <a:ext cx="5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699280" y="5622840"/>
            <a:ext cx="392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酪氨酸       多聚丙氨酸        谷氨酸     多聚赖氨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119360" y="4267080"/>
            <a:ext cx="80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+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-401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三、机体因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一）遗传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二）年龄、性别、生理及免疫功能状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14:31:33Z</dcterms:created>
  <dc:creator>韩梅</dc:creator>
  <dc:description/>
  <dc:language>en-US</dc:language>
  <cp:lastModifiedBy>微软用户</cp:lastModifiedBy>
  <dcterms:modified xsi:type="dcterms:W3CDTF">2014-04-16T17:26:00Z</dcterms:modified>
  <cp:revision>132</cp:revision>
  <dc:subject/>
  <dc:title>第二章：抗  原 </dc:title>
</cp:coreProperties>
</file>