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526-7FDF-45B6-A474-03B5F333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4DB-9C09-4053-8B3C-753D0DFC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07F-BED0-4088-A488-38304976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D46-5191-4395-9C59-E7D1DE3B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5EF9-0243-43A4-8A8B-36AF4745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9BC7-7985-4D6F-B405-7D9B2EA4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8C30-BAA1-4792-9BA5-13651BC2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F300-AEB6-4EBD-8B51-ACDDFCE0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4E02-B031-4771-B2E3-FE445114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FFBD-A4B0-40C3-ADBF-E720024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117A-C51A-48E6-AD13-AAE83C46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9A9-366B-4558-BD7B-46CD212D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31F4-1E4C-4EAB-8745-E592FC30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CB2D-3A15-4ADE-969D-C2096E5F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421A-0C9A-41BB-98F2-46B1F5E2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B825-1402-4281-8F95-5C79E13A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ED11-C3C5-457F-8917-851E0988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9B4-DB05-4A27-B6FC-92B8E505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132-1DFE-45BA-9EF8-2292C1BA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907-67F9-4BF8-B375-4AB04B55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CEF-0D72-4C58-B51A-34B06547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B23-333E-4E6E-A332-72523BEC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8E0-503A-4232-B32E-A2B34EA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628-5101-4BDF-85E0-4B99C6C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7686-DF87-4205-8CFB-71F7D88D00B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DA60-03C5-4840-9005-C7702E2D285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五章  常见人体寄生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熟记常见医学蠕虫、医学原虫的生活史，流行因素与防治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学会识别常见医学蠕虫虫和医学原虫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说出各种医学蠕虫、医学原虫的致病机制与所致疾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归纳常见与人类疾病相关医学节肢动物的发育与变态，对人体的危害与防制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解释世代交替、媒介节肢动物、虫媒病、变态、机械性传播、生物性传播的概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培养学生认真负责的工作态度，能对常见病原检查标本进行采集与送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第一节  医学蠕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蠕虫是一类内无骨骼，外无甲壳，借肌肉伸缩而蠕动的多细胞无脊椎动物。寄生于人体与医学有关的蠕虫称为医学蠕虫。由蠕虫引起的疾病称为蠕虫病。其中既可寄生在人体也可寄生在某些动物体所致疾病，称人兽共患寄生虫病。蠕虫的幼虫如侵入非适宜宿主体内，造成局部或全身损害的病变，称幼虫移行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依据蠕虫生活史过程中是否需要中间宿主，可将蠕虫分为两大类型：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①土源性蠕虫：生活史中不需要中间宿主，其虫卵或幼虫直接在外界（通常在土壤中）发育为感染阶段，经消化道途径或接触途径使人感染。大部分线虫属此类寄生虫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②生物源性蠕虫：生活史中至少需要一个中间宿主，必须经历中间宿主体内发育阶段，才能最终发育成感染阶段。吸虫、大部分绦虫以及部分线虫等属此类寄生虫。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5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