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1F4-1151-46E1-A05F-5265F0E1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8A2-C3A1-4B69-94F5-EE1EABFA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E4E-6499-427D-ADB5-5166B2DA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049-9BF5-4081-B662-6BADD544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1ECC-7395-48CD-942B-5F0B0A80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5E5B-0DDE-4574-83D8-46F82E42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9EC2-D56F-4F17-BFA5-CA9ACF9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2383-2CEC-450B-A223-B070BCAE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FB1F-7A14-4372-A5CF-E4A37D02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124E-1910-401A-B538-3257414C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94B2-359B-4952-88BE-CA0AF73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E08-6DFC-45EC-A462-385C10E3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2C2A-FF9E-4734-B75F-44F9084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5539-5CB0-4823-A602-9770268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AABA-69EE-4E49-9DDA-3C89EDB5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0D2A-B8EA-45CD-AF29-244F0693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4A50-9BEA-4BED-9A1C-3BE437E9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BB3-EC39-4BCA-8BDF-9FDECBAE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1CF-74E4-4F2A-B9AE-E331846F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790-144B-4CE7-A5B3-AC5290DA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270-7DFE-4622-87D3-6EADB116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E1C-C8A9-4B7B-8C1E-9948E09A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E5B-A626-4BA1-AEA7-6BECFA58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6B1-E925-47B1-B598-FB39028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6704-C5C7-4B1E-88E2-80AA0C7D1E8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9316-C0C8-42E0-B2AC-7CAC72EC42C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280"/>
            <a:ext cx="88390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十四章 </a:t>
            </a:r>
            <a:br>
              <a:rPr sz="6000"/>
            </a:b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体寄生虫学概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7840" y="2658960"/>
            <a:ext cx="5386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解释寄生关系、寄生虫、机会致病性寄生虫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宿主、中间宿主、终宿主、保虫宿主、转续宿主、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活史、感染阶段、非消除性免疫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说出寄生虫对人体的损害以及人体对寄生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的免疫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知道寄生虫病流行的环节、特点和防治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以及其实验诊断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寄生虫病的流行状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的感染虫种和人数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食源性寄生虫病的发病率升高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会致病性寄生虫病的发病人数增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行为方式有关的寄生虫感染普遍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寄生虫病的疫情还不稳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病的防治原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9880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控制传染源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护易感人群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疫情监测、个人防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病原检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血液、组织液、排泄物或活组织检出寄生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免疫学诊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诊断早期、轻度、深部、单性寄生的寄生虫感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四节  寄生虫病的实验诊断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寄生虫感染途径与方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途径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食物、土壤、空气、中间宿主、昆虫媒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式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感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接触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媒介节肢动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经输血、胎盘、呼吸、乳汁及自身感染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控制传染源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普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4572000" cy="83844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患者、带虫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86200"/>
            <a:ext cx="5715000" cy="76212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家畜和捕杀野生动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强粪便和水源管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注意环境和个人卫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防制媒介节肢动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控制中间宿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27160"/>
            <a:ext cx="77724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及其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寄生生活的低等小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类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体外寄生虫与体内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专性寄生虫与兼性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性寄生虫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宿主及其种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关系中被寄生虫寄生并受害的生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类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终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间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保虫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续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9625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前三种宿主为正常宿主，转续宿主为非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常宿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的生活史与感染阶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完成一代生长发育繁殖的全过程及其所需要的外界环境条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感染阶段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生活史中具有感染人体能力的发育阶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对宿主的损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夺取营养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的共性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压迫、损伤、梗阻等多种形式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作用与免疫病理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分泌物、排泄物等    所致，为寄生虫最严重的致病作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宿主对寄生虫的免疫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有免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特异性免疫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适应性免疫（特异性免疫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消除性免疫    少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消除性免疫  多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生虫与宿主相互作用的结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被彻底清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虫感染：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寄生虫病重要的传染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病的流行环节与特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环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染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虫者、保虫宿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播途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易感人群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特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地方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虫病在某一地区持续或经常发生的情况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季节性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寄生虫病的发病率与季节变换相关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人兽共患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寄生虫病可以在人和动物之间自然地传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345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0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