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E8A54-4D9F-4405-A4CF-B5D685BB5B5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7406B-AB99-4DA0-8EE0-3D0D92F9B9E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备注占位符 4"/>
          <p:cNvSpPr/>
          <p:nvPr/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3B6D3-74E1-4E82-93E9-7263FFDF4938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备注占位符 4"/>
          <p:cNvSpPr/>
          <p:nvPr/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DB727-3004-436E-8096-680EC654A008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C071-91A1-4B6A-9252-4C0F7B400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DFCA-6912-41C4-9D37-E84E5130B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2C17-4200-46D8-B7E3-84172C446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B8EB-1EC7-40C4-9E5E-B016A8EF8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0684-6085-4E0F-A72C-7E73557B5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1304-56F1-4EE9-9E18-09D662DE0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6675-5B4D-46D4-916E-0E1B1E5B7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D3D3-83BE-4BAC-AC06-B9B2FB2A3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9AC4-5A88-4D72-BF63-DD6F514E0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3DAF-C8CC-4801-93ED-FE73C032A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AD6F-0B1C-417D-8E1E-11BA8555B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A31E-236E-4E2A-89F1-460E7BE86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66335-AFB6-4A25-B06B-4D18377A4A3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3"/>
          <p:cNvSpPr/>
          <p:nvPr/>
        </p:nvSpPr>
        <p:spPr>
          <a:xfrm>
            <a:off x="1523880" y="3048120"/>
            <a:ext cx="6313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黑体"/>
                <a:ea typeface="黑体"/>
              </a:rPr>
              <a:t>螺杆菌属 </a:t>
            </a:r>
            <a:r>
              <a:rPr b="1" lang="zh-CN" sz="3600" spc="-1" strike="noStrike">
                <a:solidFill>
                  <a:srgbClr val="008000"/>
                </a:solidFill>
                <a:latin typeface="黑体"/>
                <a:ea typeface="黑体"/>
              </a:rPr>
              <a:t>- </a:t>
            </a:r>
            <a:r>
              <a:rPr b="1" lang="zh-CN" sz="3600" spc="-1" strike="noStrike">
                <a:solidFill>
                  <a:srgbClr val="008000"/>
                </a:solidFill>
                <a:latin typeface="黑体"/>
                <a:ea typeface="黑体"/>
              </a:rPr>
              <a:t>幽门螺杆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Comic Sans MS"/>
                <a:ea typeface="楷体_GB2312"/>
              </a:rPr>
              <a:t>( </a:t>
            </a:r>
            <a:r>
              <a:rPr b="1" i="1" lang="zh-CN" sz="3600" spc="-1" strike="noStrike">
                <a:solidFill>
                  <a:srgbClr val="008000"/>
                </a:solidFill>
                <a:latin typeface="Arial"/>
              </a:rPr>
              <a:t>Helicobacter</a:t>
            </a:r>
            <a:r>
              <a:rPr b="0" lang="zh-CN" sz="36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i="1" lang="zh-CN" sz="3600" spc="-1" strike="noStrike">
                <a:solidFill>
                  <a:srgbClr val="008000"/>
                </a:solidFill>
                <a:latin typeface="Comic Sans MS"/>
                <a:ea typeface="楷体_GB2312"/>
              </a:rPr>
              <a:t>pylori </a:t>
            </a:r>
            <a:r>
              <a:rPr b="1" lang="zh-CN" sz="3600" spc="-1" strike="noStrike">
                <a:solidFill>
                  <a:srgbClr val="008000"/>
                </a:solidFill>
                <a:latin typeface="Comic Sans MS"/>
                <a:ea typeface="楷体_GB2312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371600" y="1600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Arial"/>
                <a:ea typeface="黑体"/>
              </a:rPr>
              <a:t>五、其他消化道感染的细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6"/>
          <p:cNvSpPr/>
          <p:nvPr/>
        </p:nvSpPr>
        <p:spPr>
          <a:xfrm>
            <a:off x="762120" y="1143000"/>
            <a:ext cx="4495680" cy="19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5000"/>
              </a:lnSpc>
              <a:spcAft>
                <a:spcPts val="901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革兰阴性细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spcAft>
                <a:spcPts val="901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呈螺旋形、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spcAft>
                <a:spcPts val="901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单端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4~8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根鞭毛，运动活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spcAft>
                <a:spcPts val="901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菌体内富含尿素酶，其检测可辅助快速诊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0" descr=""/>
          <p:cNvPicPr/>
          <p:nvPr/>
        </p:nvPicPr>
        <p:blipFill>
          <a:blip r:embed="rId1"/>
          <a:stretch/>
        </p:blipFill>
        <p:spPr>
          <a:xfrm>
            <a:off x="6019920" y="1066680"/>
            <a:ext cx="1935000" cy="21751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1" descr=""/>
          <p:cNvPicPr/>
          <p:nvPr/>
        </p:nvPicPr>
        <p:blipFill>
          <a:blip r:embed="rId2"/>
          <a:stretch/>
        </p:blipFill>
        <p:spPr>
          <a:xfrm>
            <a:off x="6705720" y="3581280"/>
            <a:ext cx="1546200" cy="2637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3" descr="Barry J. Marshall"/>
          <p:cNvPicPr/>
          <p:nvPr/>
        </p:nvPicPr>
        <p:blipFill>
          <a:blip r:embed="rId3"/>
          <a:stretch/>
        </p:blipFill>
        <p:spPr>
          <a:xfrm>
            <a:off x="1727280" y="3505320"/>
            <a:ext cx="1387440" cy="2203200"/>
          </a:xfrm>
          <a:prstGeom prst="rect">
            <a:avLst/>
          </a:prstGeom>
          <a:ln w="0">
            <a:noFill/>
          </a:ln>
        </p:spPr>
      </p:pic>
      <p:sp>
        <p:nvSpPr>
          <p:cNvPr id="57" name="矩形 9"/>
          <p:cNvSpPr/>
          <p:nvPr/>
        </p:nvSpPr>
        <p:spPr>
          <a:xfrm>
            <a:off x="1257120" y="5832360"/>
            <a:ext cx="23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Barry J. Marsh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J. Robin Warren"/>
          <p:cNvPicPr/>
          <p:nvPr/>
        </p:nvPicPr>
        <p:blipFill>
          <a:blip r:embed="rId4"/>
          <a:stretch/>
        </p:blipFill>
        <p:spPr>
          <a:xfrm>
            <a:off x="3538440" y="3429000"/>
            <a:ext cx="1422360" cy="2257560"/>
          </a:xfrm>
          <a:prstGeom prst="rect">
            <a:avLst/>
          </a:prstGeom>
          <a:ln w="0">
            <a:noFill/>
          </a:ln>
        </p:spPr>
      </p:pic>
      <p:sp>
        <p:nvSpPr>
          <p:cNvPr id="59" name="矩形 13"/>
          <p:cNvSpPr/>
          <p:nvPr/>
        </p:nvSpPr>
        <p:spPr>
          <a:xfrm>
            <a:off x="3736440" y="5832360"/>
            <a:ext cx="213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J. Robin War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4"/>
          <p:cNvSpPr/>
          <p:nvPr/>
        </p:nvSpPr>
        <p:spPr>
          <a:xfrm>
            <a:off x="1692720" y="6237360"/>
            <a:ext cx="3806280" cy="459720"/>
          </a:xfrm>
          <a:prstGeom prst="rect">
            <a:avLst/>
          </a:prstGeom>
          <a:noFill/>
          <a:ln w="93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005 Nobel Prize Winn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38080" y="380880"/>
            <a:ext cx="4800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00"/>
                </a:solidFill>
                <a:latin typeface="Arial"/>
                <a:ea typeface="黑体"/>
              </a:rPr>
              <a:t>（一）生物学特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8"/>
          <p:cNvSpPr/>
          <p:nvPr/>
        </p:nvSpPr>
        <p:spPr>
          <a:xfrm>
            <a:off x="1371600" y="5029200"/>
            <a:ext cx="754380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1994</a:t>
            </a: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年，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WHO</a:t>
            </a: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国际癌症研究机构正式将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HP</a:t>
            </a: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感染列为第一类</a:t>
            </a: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即肯定的</a:t>
            </a: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) </a:t>
            </a: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致癌因子，是目前为止</a:t>
            </a:r>
            <a:r>
              <a:rPr b="1" lang="zh-CN" sz="2200" spc="-1" strike="noStrike">
                <a:solidFill>
                  <a:srgbClr val="ff0000"/>
                </a:solidFill>
                <a:latin typeface="黑体"/>
                <a:ea typeface="黑体"/>
              </a:rPr>
              <a:t>唯一</a:t>
            </a: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被列为致癌因子的原核细胞型微生物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1295280" y="1676520"/>
            <a:ext cx="1650960" cy="2836440"/>
            <a:chOff x="1295280" y="1676520"/>
            <a:chExt cx="1650960" cy="2836440"/>
          </a:xfrm>
        </p:grpSpPr>
        <p:sp>
          <p:nvSpPr>
            <p:cNvPr id="64" name="矩形 3"/>
            <p:cNvSpPr/>
            <p:nvPr/>
          </p:nvSpPr>
          <p:spPr>
            <a:xfrm>
              <a:off x="1295280" y="1676520"/>
              <a:ext cx="1650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胃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矩形 4"/>
            <p:cNvSpPr/>
            <p:nvPr/>
          </p:nvSpPr>
          <p:spPr>
            <a:xfrm>
              <a:off x="1295280" y="2747880"/>
              <a:ext cx="1587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胃溃疡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矩形 5"/>
            <p:cNvSpPr/>
            <p:nvPr/>
          </p:nvSpPr>
          <p:spPr>
            <a:xfrm>
              <a:off x="1550880" y="3992400"/>
              <a:ext cx="1206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胃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7" name="直接箭头连接符 7"/>
            <p:cNvCxnSpPr/>
            <p:nvPr/>
          </p:nvCxnSpPr>
          <p:spPr>
            <a:xfrm>
              <a:off x="2126160" y="2263680"/>
              <a:ext cx="1080" cy="478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68" name="直接箭头连接符 8"/>
            <p:cNvCxnSpPr/>
            <p:nvPr/>
          </p:nvCxnSpPr>
          <p:spPr>
            <a:xfrm>
              <a:off x="2126160" y="3342960"/>
              <a:ext cx="1080" cy="47664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</p:grpSp>
      <p:pic>
        <p:nvPicPr>
          <p:cNvPr id="69" name="Picture 12" descr=""/>
          <p:cNvPicPr/>
          <p:nvPr/>
        </p:nvPicPr>
        <p:blipFill>
          <a:blip r:embed="rId1"/>
          <a:stretch/>
        </p:blipFill>
        <p:spPr>
          <a:xfrm>
            <a:off x="3581280" y="1066680"/>
            <a:ext cx="4343400" cy="38592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85800" y="533520"/>
            <a:ext cx="4800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00"/>
                </a:solidFill>
                <a:latin typeface="Arial"/>
                <a:ea typeface="黑体"/>
              </a:rPr>
              <a:t>（二）致病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9" descr=""/>
          <p:cNvPicPr/>
          <p:nvPr/>
        </p:nvPicPr>
        <p:blipFill>
          <a:blip r:embed="rId1"/>
          <a:stretch/>
        </p:blipFill>
        <p:spPr>
          <a:xfrm>
            <a:off x="4800600" y="2057400"/>
            <a:ext cx="4095720" cy="36576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066680" y="1752480"/>
            <a:ext cx="320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人是主要传染源，粪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口途径传播是慢性胃炎与消化性溃疡的主要病因，可诱导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胃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3733920"/>
            <a:ext cx="3124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与致癌有关的因素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细菌代谢产物使黏膜细胞发生转化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细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片段整合于宿主细胞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343400" y="1143000"/>
            <a:ext cx="4343400" cy="4343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838080" y="2895480"/>
            <a:ext cx="3354480" cy="36226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533520" y="685800"/>
            <a:ext cx="5486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00"/>
                </a:solidFill>
                <a:latin typeface="Arial"/>
                <a:ea typeface="黑体"/>
              </a:rPr>
              <a:t>（三）微生物学检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371600" y="1295280"/>
            <a:ext cx="6419880" cy="44308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4"/>
          <p:cNvSpPr/>
          <p:nvPr/>
        </p:nvSpPr>
        <p:spPr>
          <a:xfrm>
            <a:off x="1755720" y="2060640"/>
            <a:ext cx="2816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"/>
          <p:cNvPicPr/>
          <p:nvPr/>
        </p:nvPicPr>
        <p:blipFill>
          <a:blip r:embed="rId1"/>
          <a:stretch/>
        </p:blipFill>
        <p:spPr>
          <a:xfrm>
            <a:off x="5943600" y="1066680"/>
            <a:ext cx="2446200" cy="5013360"/>
          </a:xfrm>
          <a:prstGeom prst="rect">
            <a:avLst/>
          </a:prstGeom>
          <a:ln w="0">
            <a:noFill/>
          </a:ln>
        </p:spPr>
      </p:pic>
      <p:sp>
        <p:nvSpPr>
          <p:cNvPr id="80" name="Text Box 6"/>
          <p:cNvSpPr/>
          <p:nvPr/>
        </p:nvSpPr>
        <p:spPr>
          <a:xfrm>
            <a:off x="1295280" y="2362320"/>
            <a:ext cx="4114800" cy="23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Arial"/>
                <a:ea typeface="黑体"/>
              </a:rPr>
              <a:t>目前使用的快速诊断法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直接涂片镜检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快速脲酶分解试验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3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分子生物学方法检测幽门螺杆菌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D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6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00"/>
                </a:solidFill>
                <a:latin typeface="黑体"/>
                <a:ea typeface="黑体"/>
              </a:rPr>
              <a:t>（四）防治原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基因重组脲酶幽门螺杆菌疫苗，防与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治疗溃疡：质子泵抑制剂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+ 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种抗生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阿莫西林、甲硝唑等），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4-04-17T16:47:39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