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93D1-ED6E-49B2-BC37-D37C1456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8FF8-5661-49D6-BABE-C3FF9D8C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2935-7642-44DF-BA48-78E98E76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C600-32D6-46A6-8B6C-B83A67DF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42BB-D243-4E95-8C29-B3A5FFA6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1BC6-E794-4F7E-A329-AF73CE10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7EB9-B30F-4353-9412-20950ECE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1ED4-FC59-457B-9AF1-24C51087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1BB9-A8FF-4C4E-BE2C-ED1A7967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F82F-8059-4511-9B8E-491FD517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5F67-FC75-4B0E-965B-0D20F956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82E3-185A-4DCD-8118-C9459BBE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FC2D-7768-4744-9455-9CA8D3A47B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187280" y="2852640"/>
            <a:ext cx="5256000" cy="3814560"/>
            <a:chOff x="1187280" y="2852640"/>
            <a:chExt cx="5256000" cy="3814560"/>
          </a:xfrm>
        </p:grpSpPr>
        <p:graphicFrame>
          <p:nvGraphicFramePr>
            <p:cNvPr id="44" name=""/>
            <p:cNvGraphicFramePr/>
            <p:nvPr/>
          </p:nvGraphicFramePr>
          <p:xfrm>
            <a:off x="3516120" y="5737680"/>
            <a:ext cx="1059120" cy="801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16120" y="5737680"/>
                      <a:ext cx="105912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" name=""/>
            <p:cNvGraphicFramePr/>
            <p:nvPr/>
          </p:nvGraphicFramePr>
          <p:xfrm>
            <a:off x="2141280" y="4871880"/>
            <a:ext cx="1309680" cy="929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41280" y="4871880"/>
                      <a:ext cx="1309680" cy="92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" name=""/>
            <p:cNvGraphicFramePr/>
            <p:nvPr/>
          </p:nvGraphicFramePr>
          <p:xfrm>
            <a:off x="2755800" y="5617440"/>
            <a:ext cx="1342080" cy="889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55800" y="5617440"/>
                      <a:ext cx="1342080" cy="88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" name=""/>
            <p:cNvGraphicFramePr/>
            <p:nvPr/>
          </p:nvGraphicFramePr>
          <p:xfrm>
            <a:off x="1243800" y="4110840"/>
            <a:ext cx="1301760" cy="921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43800" y="4110840"/>
                      <a:ext cx="1301760" cy="9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" name=""/>
            <p:cNvGraphicFramePr/>
            <p:nvPr/>
          </p:nvGraphicFramePr>
          <p:xfrm>
            <a:off x="1640160" y="5713560"/>
            <a:ext cx="1301400" cy="921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640160" y="5713560"/>
                      <a:ext cx="1301400" cy="92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" name=""/>
            <p:cNvGraphicFramePr/>
            <p:nvPr/>
          </p:nvGraphicFramePr>
          <p:xfrm>
            <a:off x="1251720" y="2852640"/>
            <a:ext cx="1244880" cy="865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251720" y="2852640"/>
                      <a:ext cx="1244880" cy="86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" name=""/>
            <p:cNvGraphicFramePr/>
            <p:nvPr/>
          </p:nvGraphicFramePr>
          <p:xfrm>
            <a:off x="1187280" y="5032440"/>
            <a:ext cx="970200" cy="7693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187280" y="5032440"/>
                      <a:ext cx="970200" cy="76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"/>
            <p:cNvGraphicFramePr/>
            <p:nvPr/>
          </p:nvGraphicFramePr>
          <p:xfrm>
            <a:off x="3451320" y="5193000"/>
            <a:ext cx="840960" cy="5446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451320" y="5193000"/>
                      <a:ext cx="840960" cy="5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" name=""/>
            <p:cNvGraphicFramePr/>
            <p:nvPr/>
          </p:nvGraphicFramePr>
          <p:xfrm>
            <a:off x="5198040" y="5801760"/>
            <a:ext cx="1245240" cy="865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198040" y="5801760"/>
                      <a:ext cx="1245240" cy="86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" name=""/>
          <p:cNvSpPr/>
          <p:nvPr/>
        </p:nvSpPr>
        <p:spPr>
          <a:xfrm>
            <a:off x="2340000" y="2060640"/>
            <a:ext cx="5113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二、脑膜炎奈瑟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3000" y="1143000"/>
            <a:ext cx="388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（四）防治原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2286000"/>
            <a:ext cx="3810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合性预防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隔离病人、检查带菌者、预防性投药，室内通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流脑疫苗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岁接种两次，间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群脑膜炎球菌多糖抗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制备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青霉素、磺胺类药大剂量治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3809880" cy="32004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35" name=""/>
          <p:cNvSpPr/>
          <p:nvPr/>
        </p:nvSpPr>
        <p:spPr>
          <a:xfrm>
            <a:off x="6143400" y="5181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脑膜炎疫苗接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23880" y="1523880"/>
            <a:ext cx="3353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97920" y="30481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脑膜炎奈瑟菌的生物学性状、致病物质及所致疾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43000" y="1066680"/>
            <a:ext cx="5113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二、脑膜炎奈瑟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419720" y="1905120"/>
            <a:ext cx="4267080" cy="4240080"/>
            <a:chOff x="4419720" y="1905120"/>
            <a:chExt cx="4267080" cy="424008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4419720" y="2666880"/>
              <a:ext cx="4267080" cy="347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" name=""/>
            <p:cNvGrpSpPr/>
            <p:nvPr/>
          </p:nvGrpSpPr>
          <p:grpSpPr>
            <a:xfrm>
              <a:off x="5334120" y="1905120"/>
              <a:ext cx="3352680" cy="1295280"/>
              <a:chOff x="5334120" y="1905120"/>
              <a:chExt cx="3352680" cy="1295280"/>
            </a:xfrm>
          </p:grpSpPr>
          <p:sp>
            <p:nvSpPr>
              <p:cNvPr id="67" name=""/>
              <p:cNvSpPr/>
              <p:nvPr/>
            </p:nvSpPr>
            <p:spPr>
              <a:xfrm>
                <a:off x="6858000" y="220968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943600" y="220968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334120" y="190512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硬脑膜  软脑膜  脑脊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696440" y="220968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1219320" y="312408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脑膜炎奈瑟菌简称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脑膜炎球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是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流行性脑脊髓膜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流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的病原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14600" y="3092400"/>
            <a:ext cx="4114800" cy="3765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14400" y="99072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（一）生物学特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2133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形态与染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34120" y="0"/>
            <a:ext cx="3152520" cy="3414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111880" y="1295280"/>
            <a:ext cx="729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性粒细胞内的脑膜炎球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28954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肾形或豆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成双排列，凹面相对，革兰染色阴性，有荚膜和菌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3886200"/>
            <a:ext cx="2743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培养特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性需氧。营养要求高。最常用的培养基是巧克力色培养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露滴状菌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生化反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产生自溶酶，人工培养时若不及时移种，数日后菌体自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1066680"/>
            <a:ext cx="4800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主要菌体表面抗原构造（四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荚膜多糖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群特异性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血清群），我国流行的是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、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B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核蛋白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脂寡糖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经常变异，相应抗体不能防止再感染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外膜蛋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P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主要外膜蛋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PI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吸附易感细菌的蛋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925040" cy="4329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66680" y="1066680"/>
            <a:ext cx="388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抗原构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55240" y="12873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93840" y="130644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03560" y="167148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77400" y="20019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61080" y="130644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46320" y="20019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55240" y="283536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4840" y="319248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55240" y="35514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89040" y="247032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77760" y="283536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92160" y="31021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59400" y="285444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51120" y="314784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61720" y="39258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92160" y="401796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65240" y="401796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92160" y="43117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64840" y="478800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96960" y="469584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65520" y="469584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2160" y="554832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84240" y="592308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37960" y="58323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03520" y="58323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63440" y="6372360"/>
            <a:ext cx="36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3440" y="6510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9907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（二）致病性与免疫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44800">
            <a:off x="5562360" y="1295280"/>
            <a:ext cx="2514600" cy="2133720"/>
          </a:xfrm>
          <a:prstGeom prst="cloudCallout">
            <a:avLst>
              <a:gd name="adj1" fmla="val -6888"/>
              <a:gd name="adj2" fmla="val 78828"/>
            </a:avLst>
          </a:prstGeom>
          <a:gradFill rotWithShape="0">
            <a:gsLst>
              <a:gs pos="0">
                <a:srgbClr val="ffffcc"/>
              </a:gs>
              <a:gs pos="100000">
                <a:srgbClr val="99cc00"/>
              </a:gs>
            </a:gsLst>
            <a:lin ang="305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脑膜刺激征：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剧烈头痛、喷射性呕吐、颈项僵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2133720"/>
            <a:ext cx="6553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物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荚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菌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内毒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致疾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流行性脑脊髓膜炎（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流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人类是唯一的易感宿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免疫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月～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岁年龄组婴儿免疫力最低，是易感人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14040" y="1523880"/>
            <a:ext cx="243828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脑膜炎奈瑟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2286000"/>
            <a:ext cx="0" cy="4572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2743200"/>
            <a:ext cx="1828800" cy="4597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鼻咽腔繁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3352680"/>
            <a:ext cx="0" cy="99072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4419720"/>
            <a:ext cx="1523880" cy="4597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繁殖入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362320" y="2437920"/>
            <a:ext cx="1981080" cy="16002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1905120"/>
            <a:ext cx="1676160" cy="4597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败血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2133720"/>
            <a:ext cx="68580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1905120"/>
            <a:ext cx="2210040" cy="4597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枢神经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23623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侵犯蛛网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2971800"/>
            <a:ext cx="0" cy="53352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6400" y="3657600"/>
            <a:ext cx="2743200" cy="58140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暴发型脑膜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45720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微循环衰竭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内毒素休克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D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5638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脑膜炎奈瑟菌的致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38080" y="838080"/>
            <a:ext cx="5105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（三）微生物学检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3947" t="6163" r="1471" b="0"/>
          <a:stretch/>
        </p:blipFill>
        <p:spPr>
          <a:xfrm>
            <a:off x="5257800" y="1371600"/>
            <a:ext cx="3200400" cy="2035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334120" y="3352680"/>
            <a:ext cx="3200400" cy="3213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066680" y="2133720"/>
            <a:ext cx="4038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直接涂片镜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镜下见到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中性粒细胞内、外有革兰阴性双球菌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即可作出初步诊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离培养与鉴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巧克力色血琼脂平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快速诊断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对流免疫电泳　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SP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协同凝集试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6:33:3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