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F323-687B-426A-B4C5-D1D3F2A297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9CFF-3EC1-4E41-B283-A6C47643B7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PD-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行分枝杆菌来源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52360" y="-458640"/>
            <a:ext cx="4824360" cy="4751280"/>
          </a:xfrm>
          <a:custGeom>
            <a:avLst/>
            <a:gdLst>
              <a:gd name="textAreaLeft" fmla="*/ 1785960 w 4824360"/>
              <a:gd name="textAreaRight" fmla="*/ 3038400 w 4824360"/>
              <a:gd name="textAreaTop" fmla="*/ 1758960 h 4751280"/>
              <a:gd name="textAreaBottom" fmla="*/ 299232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09" y="11556"/>
                </a:lnTo>
                <a:lnTo>
                  <a:pt x="786" y="14846"/>
                </a:lnTo>
                <a:lnTo>
                  <a:pt x="7476" y="12959"/>
                </a:lnTo>
                <a:lnTo>
                  <a:pt x="3163" y="18437"/>
                </a:lnTo>
                <a:lnTo>
                  <a:pt x="8583" y="14086"/>
                </a:lnTo>
                <a:lnTo>
                  <a:pt x="6580" y="20741"/>
                </a:lnTo>
                <a:lnTo>
                  <a:pt x="9976" y="14677"/>
                </a:lnTo>
                <a:lnTo>
                  <a:pt x="10800" y="21600"/>
                </a:lnTo>
                <a:lnTo>
                  <a:pt x="11556" y="14691"/>
                </a:lnTo>
                <a:lnTo>
                  <a:pt x="14846" y="20814"/>
                </a:lnTo>
                <a:lnTo>
                  <a:pt x="12959" y="14124"/>
                </a:lnTo>
                <a:lnTo>
                  <a:pt x="18437" y="18437"/>
                </a:lnTo>
                <a:lnTo>
                  <a:pt x="14086" y="13017"/>
                </a:lnTo>
                <a:lnTo>
                  <a:pt x="20741" y="15020"/>
                </a:lnTo>
                <a:lnTo>
                  <a:pt x="14677" y="11624"/>
                </a:lnTo>
                <a:lnTo>
                  <a:pt x="21600" y="10800"/>
                </a:lnTo>
                <a:lnTo>
                  <a:pt x="14691" y="10044"/>
                </a:lnTo>
                <a:lnTo>
                  <a:pt x="20814" y="6754"/>
                </a:lnTo>
                <a:lnTo>
                  <a:pt x="14124" y="8641"/>
                </a:lnTo>
                <a:lnTo>
                  <a:pt x="18437" y="3163"/>
                </a:lnTo>
                <a:lnTo>
                  <a:pt x="13017" y="7514"/>
                </a:lnTo>
                <a:lnTo>
                  <a:pt x="15020" y="859"/>
                </a:lnTo>
                <a:lnTo>
                  <a:pt x="11624" y="6923"/>
                </a:lnTo>
                <a:lnTo>
                  <a:pt x="10800" y="0"/>
                </a:lnTo>
                <a:lnTo>
                  <a:pt x="10044" y="6909"/>
                </a:lnTo>
                <a:lnTo>
                  <a:pt x="6754" y="786"/>
                </a:lnTo>
                <a:lnTo>
                  <a:pt x="8641" y="7476"/>
                </a:lnTo>
                <a:lnTo>
                  <a:pt x="3163" y="3163"/>
                </a:lnTo>
                <a:lnTo>
                  <a:pt x="7514" y="8583"/>
                </a:lnTo>
                <a:lnTo>
                  <a:pt x="859" y="6580"/>
                </a:lnTo>
                <a:lnTo>
                  <a:pt x="6923" y="99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d0501"/>
              </a:gs>
              <a:gs pos="100000">
                <a:srgbClr val="7835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435640" y="3733920"/>
            <a:ext cx="3429000" cy="3124080"/>
          </a:xfrm>
          <a:custGeom>
            <a:avLst/>
            <a:gdLst>
              <a:gd name="textAreaLeft" fmla="*/ 1269360 w 3429000"/>
              <a:gd name="textAreaRight" fmla="*/ 2159640 w 3429000"/>
              <a:gd name="textAreaTop" fmla="*/ 1156680 h 3124080"/>
              <a:gd name="textAreaBottom" fmla="*/ 196740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09" y="11556"/>
                </a:lnTo>
                <a:lnTo>
                  <a:pt x="786" y="14846"/>
                </a:lnTo>
                <a:lnTo>
                  <a:pt x="7476" y="12959"/>
                </a:lnTo>
                <a:lnTo>
                  <a:pt x="3163" y="18437"/>
                </a:lnTo>
                <a:lnTo>
                  <a:pt x="8583" y="14086"/>
                </a:lnTo>
                <a:lnTo>
                  <a:pt x="6580" y="20741"/>
                </a:lnTo>
                <a:lnTo>
                  <a:pt x="9976" y="14677"/>
                </a:lnTo>
                <a:lnTo>
                  <a:pt x="10800" y="21600"/>
                </a:lnTo>
                <a:lnTo>
                  <a:pt x="11556" y="14691"/>
                </a:lnTo>
                <a:lnTo>
                  <a:pt x="14846" y="20814"/>
                </a:lnTo>
                <a:lnTo>
                  <a:pt x="12959" y="14124"/>
                </a:lnTo>
                <a:lnTo>
                  <a:pt x="18437" y="18437"/>
                </a:lnTo>
                <a:lnTo>
                  <a:pt x="14086" y="13017"/>
                </a:lnTo>
                <a:lnTo>
                  <a:pt x="20741" y="15020"/>
                </a:lnTo>
                <a:lnTo>
                  <a:pt x="14677" y="11624"/>
                </a:lnTo>
                <a:lnTo>
                  <a:pt x="21600" y="10800"/>
                </a:lnTo>
                <a:lnTo>
                  <a:pt x="14691" y="10044"/>
                </a:lnTo>
                <a:lnTo>
                  <a:pt x="20814" y="6754"/>
                </a:lnTo>
                <a:lnTo>
                  <a:pt x="14124" y="8641"/>
                </a:lnTo>
                <a:lnTo>
                  <a:pt x="18437" y="3163"/>
                </a:lnTo>
                <a:lnTo>
                  <a:pt x="13017" y="7514"/>
                </a:lnTo>
                <a:lnTo>
                  <a:pt x="15020" y="859"/>
                </a:lnTo>
                <a:lnTo>
                  <a:pt x="11624" y="6923"/>
                </a:lnTo>
                <a:lnTo>
                  <a:pt x="10800" y="0"/>
                </a:lnTo>
                <a:lnTo>
                  <a:pt x="10044" y="6909"/>
                </a:lnTo>
                <a:lnTo>
                  <a:pt x="6754" y="786"/>
                </a:lnTo>
                <a:lnTo>
                  <a:pt x="8641" y="7476"/>
                </a:lnTo>
                <a:lnTo>
                  <a:pt x="3163" y="3163"/>
                </a:lnTo>
                <a:lnTo>
                  <a:pt x="7514" y="8583"/>
                </a:lnTo>
                <a:lnTo>
                  <a:pt x="859" y="6580"/>
                </a:lnTo>
                <a:lnTo>
                  <a:pt x="6923" y="99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d0501"/>
              </a:gs>
              <a:gs pos="100000">
                <a:srgbClr val="7835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b8749"/>
                </a:solidFill>
                <a:latin typeface="宋体"/>
              </a:rPr>
              <a:t>第十章  常见对人类致病病原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07920"/>
            <a:ext cx="9144000" cy="32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熟记各种常见对人类致病病原菌的生物学特性、致病性与防治原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描述各种常见对人类致病病原菌的形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说出各种常见对人类致病病原菌的致病机制与所致疾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学会对各种常见对人类致病病原菌的实验诊断方法，并能识别各种常见对人类致病的病原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归纳各种常见人类致病病原菌的致病物质及其所致疾病，对人体的危害，防制原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培养：学生认真负责的工作态度，学会对各种常见致病菌标本进行仔细检查，通过实验操作，使学生树立牢固的“无菌概念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4537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原发（初次）感染：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肺结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227640" y="1125360"/>
            <a:ext cx="2665440" cy="27352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948360" y="4292640"/>
            <a:ext cx="1951200" cy="217332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grpSp>
        <p:nvGrpSpPr>
          <p:cNvPr id="144" name=""/>
          <p:cNvGrpSpPr/>
          <p:nvPr/>
        </p:nvGrpSpPr>
        <p:grpSpPr>
          <a:xfrm>
            <a:off x="971280" y="2205000"/>
            <a:ext cx="4810320" cy="1783440"/>
            <a:chOff x="971280" y="2205000"/>
            <a:chExt cx="4810320" cy="1783440"/>
          </a:xfrm>
        </p:grpSpPr>
        <p:grpSp>
          <p:nvGrpSpPr>
            <p:cNvPr id="145" name=""/>
            <p:cNvGrpSpPr/>
            <p:nvPr/>
          </p:nvGrpSpPr>
          <p:grpSpPr>
            <a:xfrm>
              <a:off x="1334160" y="2205000"/>
              <a:ext cx="4447440" cy="1479960"/>
              <a:chOff x="1334160" y="2205000"/>
              <a:chExt cx="4447440" cy="14799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334160" y="2205000"/>
                <a:ext cx="4102920" cy="1479960"/>
                <a:chOff x="1334160" y="2205000"/>
                <a:chExt cx="4102920" cy="14799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060720" y="2349720"/>
                  <a:ext cx="358920" cy="1295280"/>
                </a:xfrm>
                <a:custGeom>
                  <a:avLst/>
                  <a:gdLst>
                    <a:gd name="textAreaLeft" fmla="*/ 229320 w 358920"/>
                    <a:gd name="textAreaRight" fmla="*/ 359280 w 358920"/>
                    <a:gd name="textAreaTop" fmla="*/ 33480 h 1295280"/>
                    <a:gd name="textAreaBottom" fmla="*/ 126180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348000" y="2205000"/>
                  <a:ext cx="1368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原发感染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348000" y="2710080"/>
                  <a:ext cx="1368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淋巴管炎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48000" y="3286080"/>
                  <a:ext cx="20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肺门淋巴结肿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334160" y="2710080"/>
                  <a:ext cx="146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 u="sng">
                      <a:solidFill>
                        <a:srgbClr val="ff3300"/>
                      </a:solidFill>
                      <a:uFillTx/>
                      <a:latin typeface="Times New Roman"/>
                    </a:rPr>
                    <a:t>（原发综合征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5148000" y="2276640"/>
                <a:ext cx="144360" cy="1368360"/>
              </a:xfrm>
              <a:custGeom>
                <a:avLst/>
                <a:gdLst>
                  <a:gd name="textAreaLeft" fmla="*/ 0 w 144360"/>
                  <a:gd name="textAreaRight" fmla="*/ 52200 w 144360"/>
                  <a:gd name="textAreaTop" fmla="*/ 35640 h 1368360"/>
                  <a:gd name="textAreaBottom" fmla="*/ 133272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91400" y="2276640"/>
                <a:ext cx="790200" cy="136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哑铃型阴影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971280" y="3284640"/>
              <a:ext cx="20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缺乏免疫力，病灶不局限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00000" y="4292640"/>
            <a:ext cx="5977080" cy="398880"/>
            <a:chOff x="900000" y="4292640"/>
            <a:chExt cx="5977080" cy="398880"/>
          </a:xfrm>
        </p:grpSpPr>
        <p:sp>
          <p:nvSpPr>
            <p:cNvPr id="156" name=""/>
            <p:cNvSpPr/>
            <p:nvPr/>
          </p:nvSpPr>
          <p:spPr>
            <a:xfrm>
              <a:off x="900000" y="429264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细胞免疫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48000" y="450864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8720" y="429264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结核结节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35000" y="4797360"/>
            <a:ext cx="3695400" cy="1366920"/>
            <a:chOff x="1035000" y="4797360"/>
            <a:chExt cx="3695400" cy="1366920"/>
          </a:xfrm>
        </p:grpSpPr>
        <p:sp>
          <p:nvSpPr>
            <p:cNvPr id="160" name=""/>
            <p:cNvSpPr/>
            <p:nvPr/>
          </p:nvSpPr>
          <p:spPr>
            <a:xfrm>
              <a:off x="1035000" y="53737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原发感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79280" y="4869000"/>
              <a:ext cx="144360" cy="129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052360" y="4797360"/>
              <a:ext cx="2678040" cy="1334160"/>
              <a:chOff x="2052360" y="4797360"/>
              <a:chExt cx="2678040" cy="1334160"/>
            </a:xfrm>
          </p:grpSpPr>
          <p:sp>
            <p:nvSpPr>
              <p:cNvPr id="163" name=""/>
              <p:cNvSpPr/>
              <p:nvPr/>
            </p:nvSpPr>
            <p:spPr>
              <a:xfrm>
                <a:off x="2052360" y="5732640"/>
                <a:ext cx="230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粟粒性肺结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08000" y="508464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63400" y="479736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纤维化或钙化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44760" y="486900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痊愈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63400" y="5300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活动性肺结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 rot="1377000">
            <a:off x="4642920" y="4986000"/>
            <a:ext cx="2519640" cy="1871640"/>
          </a:xfrm>
          <a:prstGeom prst="cloudCallout">
            <a:avLst>
              <a:gd name="adj1" fmla="val -18800"/>
              <a:gd name="adj2" fmla="val 10953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40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表现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低热、咳嗽、食欲差、体重下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26920" y="1989000"/>
            <a:ext cx="7777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继发（再次）感染：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肺外感染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结核、肾结核、肠结核、结核性腹膜炎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979640" y="3645000"/>
            <a:ext cx="2879640" cy="1784880"/>
            <a:chOff x="1979640" y="3645000"/>
            <a:chExt cx="2879640" cy="1784880"/>
          </a:xfrm>
        </p:grpSpPr>
        <p:sp>
          <p:nvSpPr>
            <p:cNvPr id="171" name=""/>
            <p:cNvSpPr/>
            <p:nvPr/>
          </p:nvSpPr>
          <p:spPr>
            <a:xfrm>
              <a:off x="1979640" y="364500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结核结节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54200" y="472608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空洞（开放性肺结核，传染性极强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3312360" y="3393000"/>
              <a:ext cx="287640" cy="1368360"/>
            </a:xfrm>
            <a:custGeom>
              <a:avLst/>
              <a:gdLst>
                <a:gd name="textAreaLeft" fmla="*/ 183960 w 287640"/>
                <a:gd name="textAreaRight" fmla="*/ 288000 w 28764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92"/>
                  </a:lnTo>
                  <a:cubicBezTo>
                    <a:pt x="10800" y="9692"/>
                    <a:pt x="5400" y="10592"/>
                    <a:pt x="0" y="10592"/>
                  </a:cubicBezTo>
                  <a:cubicBezTo>
                    <a:pt x="5400" y="10592"/>
                    <a:pt x="10800" y="11492"/>
                    <a:pt x="10800" y="1239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90920" y="42940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492360" y="422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液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3860640"/>
            <a:ext cx="215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844000">
            <a:off x="5291280" y="3429720"/>
            <a:ext cx="3673440" cy="1871640"/>
          </a:xfrm>
          <a:prstGeom prst="cloudCallout">
            <a:avLst>
              <a:gd name="adj1" fmla="val -59421"/>
              <a:gd name="adj2" fmla="val 27694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255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低热、乏力、盗汗、食欲差、体重减轻、咳嗽、咯血、胸痛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76360" y="2997360"/>
            <a:ext cx="66308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免疫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人体对结核分枝杆菌有较强的免疫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结核分枝杆菌产生的免疫为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感染免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nfection immuni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保护作用主要依赖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细胞免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170028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（三）免疫性与超敏反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47640" y="1268280"/>
            <a:ext cx="676764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超敏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机体获得对结核杆菌免疫力的同时，也导致了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迟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型超敏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当致敏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淋巴细胞再次遇到结核杆菌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即能释放出淋巴因子，引起强烈的超敏反应，形成以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核细胞浸润为主的炎症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容易发生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干酪样坏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至液化形成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空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83640" y="1197000"/>
            <a:ext cx="66240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结核菌素试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结核菌素作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抗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检测受试者对结核杆菌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有免疫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皮肤试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将结核菌素注入皮内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局部出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硬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阳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反之为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阴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根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硬结直径大小作出判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 直径＞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5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阳性：以往感染过结核杆菌并有免疫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径＜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5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阴性：未曾感染过结核杆菌，无免疫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径＞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5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强阳性：体内可能有活动性结核病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28"/>
          <p:cNvSpPr/>
          <p:nvPr/>
        </p:nvSpPr>
        <p:spPr>
          <a:xfrm>
            <a:off x="1136520" y="1509840"/>
            <a:ext cx="7788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29"/>
          <p:cNvSpPr/>
          <p:nvPr/>
        </p:nvSpPr>
        <p:spPr>
          <a:xfrm>
            <a:off x="2117520" y="692280"/>
            <a:ext cx="48895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结核菌素试剂：旧结核菌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T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纯蛋白衍生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核菌素＝结核杆菌蛋白制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D: PPD-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CG-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1030"/>
          <p:cNvGrpSpPr/>
          <p:nvPr/>
        </p:nvGrpSpPr>
        <p:grpSpPr>
          <a:xfrm>
            <a:off x="914400" y="2286000"/>
            <a:ext cx="2560680" cy="1863720"/>
            <a:chOff x="914400" y="2286000"/>
            <a:chExt cx="2560680" cy="1863720"/>
          </a:xfrm>
        </p:grpSpPr>
        <p:pic>
          <p:nvPicPr>
            <p:cNvPr id="191" name="Picture 1031" descr="DSC00007"/>
            <p:cNvPicPr/>
            <p:nvPr/>
          </p:nvPicPr>
          <p:blipFill>
            <a:blip r:embed="rId1"/>
            <a:stretch/>
          </p:blipFill>
          <p:spPr>
            <a:xfrm>
              <a:off x="914400" y="2286000"/>
              <a:ext cx="2560680" cy="18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1032"/>
            <p:cNvSpPr/>
            <p:nvPr/>
          </p:nvSpPr>
          <p:spPr>
            <a:xfrm>
              <a:off x="914400" y="2286000"/>
              <a:ext cx="2560680" cy="18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035"/>
          <p:cNvGrpSpPr/>
          <p:nvPr/>
        </p:nvGrpSpPr>
        <p:grpSpPr>
          <a:xfrm>
            <a:off x="5916600" y="2349360"/>
            <a:ext cx="2340000" cy="1943280"/>
            <a:chOff x="5916600" y="2349360"/>
            <a:chExt cx="2340000" cy="1943280"/>
          </a:xfrm>
        </p:grpSpPr>
        <p:pic>
          <p:nvPicPr>
            <p:cNvPr id="194" name="Picture 1036" descr="DSC00007"/>
            <p:cNvPicPr/>
            <p:nvPr/>
          </p:nvPicPr>
          <p:blipFill>
            <a:blip r:embed="rId2"/>
            <a:stretch/>
          </p:blipFill>
          <p:spPr>
            <a:xfrm>
              <a:off x="5916600" y="2349360"/>
              <a:ext cx="234000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1037"/>
            <p:cNvSpPr/>
            <p:nvPr/>
          </p:nvSpPr>
          <p:spPr>
            <a:xfrm>
              <a:off x="5916600" y="2349360"/>
              <a:ext cx="234000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1038"/>
          <p:cNvSpPr/>
          <p:nvPr/>
        </p:nvSpPr>
        <p:spPr>
          <a:xfrm>
            <a:off x="982800" y="237024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PPD-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39"/>
          <p:cNvSpPr/>
          <p:nvPr/>
        </p:nvSpPr>
        <p:spPr>
          <a:xfrm>
            <a:off x="5883840" y="23702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BCG-P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40"/>
          <p:cNvSpPr/>
          <p:nvPr/>
        </p:nvSpPr>
        <p:spPr>
          <a:xfrm>
            <a:off x="5532480" y="3286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41"/>
          <p:cNvSpPr/>
          <p:nvPr/>
        </p:nvSpPr>
        <p:spPr>
          <a:xfrm>
            <a:off x="3603600" y="3573360"/>
            <a:ext cx="19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8~72 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042" descr="Tuberculin_wheal"/>
          <p:cNvPicPr/>
          <p:nvPr/>
        </p:nvPicPr>
        <p:blipFill>
          <a:blip r:embed="rId3"/>
          <a:stretch/>
        </p:blipFill>
        <p:spPr>
          <a:xfrm>
            <a:off x="755640" y="4365720"/>
            <a:ext cx="2784600" cy="1935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043"/>
          <p:cNvSpPr/>
          <p:nvPr/>
        </p:nvSpPr>
        <p:spPr>
          <a:xfrm>
            <a:off x="3710160" y="4437000"/>
            <a:ext cx="4417920" cy="1618560"/>
          </a:xfrm>
          <a:prstGeom prst="rect">
            <a:avLst/>
          </a:prstGeom>
          <a:solidFill>
            <a:srgbClr val="ffb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红肿硬节：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gt; 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阳性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gt;1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强阳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PPD-C &gt; BCG-PP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感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PPD-C &lt; BCG-PP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接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BC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lt; 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阴性（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感染早期、老人、严重疾病、获得性细胞免疫低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44"/>
          <p:cNvSpPr/>
          <p:nvPr/>
        </p:nvSpPr>
        <p:spPr>
          <a:xfrm>
            <a:off x="3484440" y="3286080"/>
            <a:ext cx="243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45"/>
          <p:cNvSpPr/>
          <p:nvPr/>
        </p:nvSpPr>
        <p:spPr>
          <a:xfrm>
            <a:off x="3860640" y="2666880"/>
            <a:ext cx="10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78680" y="1125360"/>
            <a:ext cx="4581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结核菌素试验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选择卡介苗接种对象和测定接种后的免疫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未接种卡介苗的人群中作结核杆菌感染的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行病学调查，了解人群自然感染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为婴幼儿（未接种过卡介苗者）结核病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辅助诊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测定肿瘤患者的细胞免疫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32000" y="2492280"/>
            <a:ext cx="70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本：根据感染部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涂片镜检：抗酸染色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离培养： 罗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owenstein-Jens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养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快速诊断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CR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聚合酶链反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119700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（四）微生物学检查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966040" y="1268280"/>
            <a:ext cx="29052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预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接种卡介苗（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BCG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）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接种对象为新生儿及结核菌素试验阴性者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治疗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早期发现和治疗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联合用药，彻底治疗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首选药为异烟肼、利福平、链霉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54936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（五）防治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00000" y="515772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耐药病例发生较高的地区，头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月强化期需加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种药，链霉素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或乙胺丁醇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8120" y="83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治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755720" y="3357720"/>
            <a:ext cx="5047920" cy="1333800"/>
            <a:chOff x="1755720" y="3357720"/>
            <a:chExt cx="5047920" cy="1333800"/>
          </a:xfrm>
        </p:grpSpPr>
        <p:sp>
          <p:nvSpPr>
            <p:cNvPr id="218" name=""/>
            <p:cNvSpPr/>
            <p:nvPr/>
          </p:nvSpPr>
          <p:spPr>
            <a:xfrm>
              <a:off x="1755720" y="377028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国内外推行三药联合方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35640" y="3357720"/>
              <a:ext cx="126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异烟肼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36000" y="3860640"/>
              <a:ext cx="12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利福平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7480" y="4292640"/>
              <a:ext cx="13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吡嗪酰胺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0400" y="3429000"/>
              <a:ext cx="146880" cy="1152000"/>
            </a:xfrm>
            <a:custGeom>
              <a:avLst/>
              <a:gdLst>
                <a:gd name="textAreaLeft" fmla="*/ 93960 w 146880"/>
                <a:gd name="textAreaRight" fmla="*/ 147240 w 146880"/>
                <a:gd name="textAreaTop" fmla="*/ 29880 h 1152000"/>
                <a:gd name="textAreaBottom" fmla="*/ 112212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22080" y="3429000"/>
              <a:ext cx="74160" cy="1223640"/>
            </a:xfrm>
            <a:custGeom>
              <a:avLst/>
              <a:gdLst>
                <a:gd name="textAreaLeft" fmla="*/ 0 w 74160"/>
                <a:gd name="textAreaRight" fmla="*/ 26640 w 7416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6240" y="3860640"/>
              <a:ext cx="70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主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631880" y="1484280"/>
            <a:ext cx="6175800" cy="1663920"/>
            <a:chOff x="1631880" y="1484280"/>
            <a:chExt cx="6175800" cy="1663920"/>
          </a:xfrm>
        </p:grpSpPr>
        <p:sp>
          <p:nvSpPr>
            <p:cNvPr id="226" name=""/>
            <p:cNvSpPr/>
            <p:nvPr/>
          </p:nvSpPr>
          <p:spPr>
            <a:xfrm>
              <a:off x="1631880" y="2347920"/>
              <a:ext cx="200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DOTS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方案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31400" y="2779920"/>
              <a:ext cx="169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WHO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建议推广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76600" y="191628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直接督导下的短程化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05000" y="1484280"/>
              <a:ext cx="163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督导员在场目睹其服用规定药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98760" y="15559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医务人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91040" y="2563920"/>
              <a:ext cx="171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社区志愿者或家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57800" y="2563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疗程可缩短至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6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个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41640" y="1700280"/>
              <a:ext cx="149400" cy="1224000"/>
            </a:xfrm>
            <a:custGeom>
              <a:avLst/>
              <a:gdLst>
                <a:gd name="textAreaLeft" fmla="*/ 95400 w 149400"/>
                <a:gd name="textAreaRight" fmla="*/ 149760 w 1494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05840" y="1629000"/>
              <a:ext cx="225000" cy="1296720"/>
            </a:xfrm>
            <a:custGeom>
              <a:avLst/>
              <a:gdLst>
                <a:gd name="textAreaLeft" fmla="*/ 0 w 225000"/>
                <a:gd name="textAreaRight" fmla="*/ 81360 w 225000"/>
                <a:gd name="textAreaTop" fmla="*/ 33480 h 1296720"/>
                <a:gd name="textAreaBottom" fmla="*/ 1263240 h 12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732720" y="4292640"/>
            <a:ext cx="2160360" cy="2232000"/>
          </a:xfrm>
          <a:prstGeom prst="cloudCallout">
            <a:avLst>
              <a:gd name="adj1" fmla="val -39787"/>
              <a:gd name="adj2" fmla="val -67356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中国疾病控制中心报告，全国的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DOTS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策略覆盖率达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100%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，治愈率为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91.6%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87280" y="2852640"/>
            <a:ext cx="5256000" cy="3814560"/>
            <a:chOff x="1187280" y="2852640"/>
            <a:chExt cx="5256000" cy="3814560"/>
          </a:xfrm>
        </p:grpSpPr>
        <p:graphicFrame>
          <p:nvGraphicFramePr>
            <p:cNvPr id="52" name=""/>
            <p:cNvGraphicFramePr/>
            <p:nvPr/>
          </p:nvGraphicFramePr>
          <p:xfrm>
            <a:off x="3516120" y="5737680"/>
            <a:ext cx="1059120" cy="80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16120" y="5737680"/>
                      <a:ext cx="105912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2141280" y="4871880"/>
            <a:ext cx="1309680" cy="92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1280" y="4871880"/>
                      <a:ext cx="1309680" cy="92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2755800" y="5617440"/>
            <a:ext cx="1342080" cy="88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55800" y="5617440"/>
                      <a:ext cx="1342080" cy="88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1243800" y="4110840"/>
            <a:ext cx="1301760" cy="92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43800" y="4110840"/>
                      <a:ext cx="1301760" cy="9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1640160" y="5713560"/>
            <a:ext cx="1301400" cy="921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40160" y="5713560"/>
                      <a:ext cx="1301400" cy="92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1251720" y="2852640"/>
            <a:ext cx="1244880" cy="865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51720" y="2852640"/>
                      <a:ext cx="124488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1187280" y="5032440"/>
            <a:ext cx="970200" cy="769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87280" y="5032440"/>
                      <a:ext cx="970200" cy="76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3451320" y="5193000"/>
            <a:ext cx="840960" cy="544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451320" y="5193000"/>
                      <a:ext cx="84096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5198040" y="5801760"/>
            <a:ext cx="1245240" cy="865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8040" y="5801760"/>
                      <a:ext cx="124524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" name=""/>
          <p:cNvSpPr/>
          <p:nvPr/>
        </p:nvSpPr>
        <p:spPr>
          <a:xfrm>
            <a:off x="2340000" y="2060640"/>
            <a:ext cx="5113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一、分枝杆菌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ycobacte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83664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一节  呼吸道感染细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447920"/>
            <a:ext cx="8820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981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概  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700280"/>
            <a:ext cx="80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枝杆菌属是一类细长略弯的杆菌，因有分枝生长的趋势而得名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本属细菌主要特点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菌体含脂量高、普通染色法不易着色，加热着色后能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抵抗盐酸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醇的脱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 故又名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抗酸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专性需氧，营养要求高，生长缓慢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无鞭毛、 无荚膜、 无芽胞、 也不产生内外毒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619280" y="4508640"/>
            <a:ext cx="4536720" cy="1799640"/>
            <a:chOff x="1619280" y="4508640"/>
            <a:chExt cx="4536720" cy="1799640"/>
          </a:xfrm>
        </p:grpSpPr>
        <p:sp>
          <p:nvSpPr>
            <p:cNvPr id="78" name=""/>
            <p:cNvSpPr/>
            <p:nvPr/>
          </p:nvSpPr>
          <p:spPr>
            <a:xfrm>
              <a:off x="1619280" y="5013360"/>
              <a:ext cx="70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Times New Roman"/>
                </a:rPr>
                <a:t>分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69320" y="4508640"/>
              <a:ext cx="20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结核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0360" y="47973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麻风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54720" y="4653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致病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96600" y="5589360"/>
              <a:ext cx="204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非结核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22800" y="4581360"/>
              <a:ext cx="73800" cy="1223640"/>
            </a:xfrm>
            <a:custGeom>
              <a:avLst/>
              <a:gdLst>
                <a:gd name="textAreaLeft" fmla="*/ 47160 w 73800"/>
                <a:gd name="textAreaRight" fmla="*/ 74160 w 7380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24320" y="4508640"/>
              <a:ext cx="73800" cy="649080"/>
            </a:xfrm>
            <a:custGeom>
              <a:avLst/>
              <a:gdLst>
                <a:gd name="textAreaLeft" fmla="*/ 0 w 73800"/>
                <a:gd name="textAreaRight" fmla="*/ 26640 w 73800"/>
                <a:gd name="textAreaTop" fmla="*/ 16920 h 649080"/>
                <a:gd name="textAreaBottom" fmla="*/ 63216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19160" y="5084640"/>
              <a:ext cx="15368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结核样病变皮肤丘疹 溃疡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淋巴结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2280" y="5229000"/>
              <a:ext cx="146880" cy="1079280"/>
            </a:xfrm>
            <a:custGeom>
              <a:avLst/>
              <a:gdLst>
                <a:gd name="textAreaLeft" fmla="*/ 93960 w 146880"/>
                <a:gd name="textAreaRight" fmla="*/ 147240 w 14688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170028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：简称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结核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是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结核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病原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32000" y="2565360"/>
            <a:ext cx="5110200" cy="874440"/>
            <a:chOff x="1332000" y="2565360"/>
            <a:chExt cx="5110200" cy="874440"/>
          </a:xfrm>
        </p:grpSpPr>
        <p:sp>
          <p:nvSpPr>
            <p:cNvPr id="89" name=""/>
            <p:cNvSpPr/>
            <p:nvPr/>
          </p:nvSpPr>
          <p:spPr>
            <a:xfrm>
              <a:off x="1332000" y="279216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分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4360" y="2566800"/>
              <a:ext cx="1727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人型结核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牛型结核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2720" y="2647800"/>
              <a:ext cx="71640" cy="79200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53080" y="2565360"/>
              <a:ext cx="73080" cy="812520"/>
            </a:xfrm>
            <a:custGeom>
              <a:avLst/>
              <a:gdLst>
                <a:gd name="textAreaLeft" fmla="*/ 0 w 73080"/>
                <a:gd name="textAreaRight" fmla="*/ 26280 w 73080"/>
                <a:gd name="textAreaTop" fmla="*/ 20880 h 812520"/>
                <a:gd name="textAreaBottom" fmla="*/ 791640 h 81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24720" y="2639880"/>
              <a:ext cx="251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可以侵犯全身各器官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肺结核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最多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 rot="3919800">
            <a:off x="6300360" y="3789360"/>
            <a:ext cx="1584360" cy="1295640"/>
          </a:xfrm>
          <a:prstGeom prst="cloudCallout">
            <a:avLst>
              <a:gd name="adj1" fmla="val -82365"/>
              <a:gd name="adj2" fmla="val 6997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曾居各种病死原因之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92360" y="3860640"/>
            <a:ext cx="399564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836640"/>
            <a:ext cx="71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、结核分枝杆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. tuberculosis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2924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菌体细长微弯曲， 常聚集成团。抗酸染色法染成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红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49228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378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Lowenstein-Jens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罗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培养基培养。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pH6.5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～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6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接种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周后形成乳白色、粗糙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似菜花样菌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486900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由于细胞壁中含大量类脂，故对理化因素的抗力强。抗结核药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链霉素、异烟肼、利福平、乙胺丁醇、卡那霉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敏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培养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4437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抵抗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87700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易产生毒力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BCG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及耐药性变异。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544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变异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24000" y="-225360"/>
            <a:ext cx="9936360" cy="745632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结核杆菌"/>
          <p:cNvPicPr/>
          <p:nvPr/>
        </p:nvPicPr>
        <p:blipFill>
          <a:blip r:embed="rId1"/>
          <a:stretch/>
        </p:blipFill>
        <p:spPr>
          <a:xfrm>
            <a:off x="1187280" y="1484280"/>
            <a:ext cx="4104000" cy="3191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结核杆菌菌落-罗氏培养基"/>
          <p:cNvPicPr/>
          <p:nvPr/>
        </p:nvPicPr>
        <p:blipFill>
          <a:blip r:embed="rId2"/>
          <a:stretch/>
        </p:blipFill>
        <p:spPr>
          <a:xfrm>
            <a:off x="4788000" y="2781360"/>
            <a:ext cx="3889440" cy="3198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71640" y="494172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 抗酸染色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×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20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菌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865080" cy="3603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823" h="21600">
                <a:moveTo>
                  <a:pt x="0" y="0"/>
                </a:moveTo>
                <a:lnTo>
                  <a:pt x="51823" y="0"/>
                </a:lnTo>
                <a:lnTo>
                  <a:pt x="51823" y="21600"/>
                </a:lnTo>
                <a:lnTo>
                  <a:pt x="0" y="21600"/>
                </a:lnTo>
                <a:close/>
              </a:path>
              <a:path fill="lightenLess" w="51823" h="21600">
                <a:moveTo>
                  <a:pt x="0" y="0"/>
                </a:moveTo>
                <a:lnTo>
                  <a:pt x="51823" y="0"/>
                </a:lnTo>
                <a:lnTo>
                  <a:pt x="50423" y="1400"/>
                </a:lnTo>
                <a:lnTo>
                  <a:pt x="1400" y="1400"/>
                </a:lnTo>
                <a:close/>
              </a:path>
              <a:path fill="darken" w="51823" h="21600">
                <a:moveTo>
                  <a:pt x="51823" y="0"/>
                </a:moveTo>
                <a:lnTo>
                  <a:pt x="51823" y="21600"/>
                </a:lnTo>
                <a:lnTo>
                  <a:pt x="50423" y="20200"/>
                </a:lnTo>
                <a:lnTo>
                  <a:pt x="50423" y="1400"/>
                </a:lnTo>
                <a:close/>
              </a:path>
              <a:path fill="darkenLess" w="51823" h="21600">
                <a:moveTo>
                  <a:pt x="51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3" y="20200"/>
                </a:lnTo>
                <a:close/>
              </a:path>
              <a:path fill="lighten" w="51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3" h="21600">
                <a:moveTo>
                  <a:pt x="18905" y="10800"/>
                </a:moveTo>
                <a:lnTo>
                  <a:pt x="32918" y="3794"/>
                </a:lnTo>
                <a:lnTo>
                  <a:pt x="3291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752472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8920" y="907920"/>
            <a:ext cx="3457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黑体"/>
              </a:rPr>
              <a:t>（二）致病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02920" y="1773360"/>
            <a:ext cx="8028000" cy="4359600"/>
            <a:chOff x="1402920" y="1773360"/>
            <a:chExt cx="8028000" cy="4359600"/>
          </a:xfrm>
        </p:grpSpPr>
        <p:sp>
          <p:nvSpPr>
            <p:cNvPr id="121" name=""/>
            <p:cNvSpPr/>
            <p:nvPr/>
          </p:nvSpPr>
          <p:spPr>
            <a:xfrm flipH="1">
              <a:off x="1402560" y="2781360"/>
              <a:ext cx="6073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1.</a:t>
              </a:r>
              <a:r>
                <a:rPr b="1" lang="zh-CN" sz="32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致病物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40200" y="2997000"/>
              <a:ext cx="88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脂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81840" y="177336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荚膜：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抗吞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64840" y="2260440"/>
              <a:ext cx="218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磷脂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使单核细胞增生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结核结节、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09560" y="2692440"/>
              <a:ext cx="344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索状因子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破坏细胞线粒体膜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影响细胞呼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抑制白细胞游走，形成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肉芽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18840" y="3411360"/>
              <a:ext cx="343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蜡质</a:t>
              </a:r>
              <a:r>
                <a:rPr b="1" lang="zh-CN" sz="20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D</a:t>
              </a: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迟发型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71240" y="3933720"/>
              <a:ext cx="6259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硫酸脑苷酯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抑制吞噬细胞中吞噬体与溶酶体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结合，溶酶体中的杀菌物质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能不能进入吞噬体，致使结核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菌在吞噬细胞内生长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胞内寄生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21120" y="5373720"/>
              <a:ext cx="386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蛋白质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结核菌素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蜡质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迟发型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19520" y="1989000"/>
              <a:ext cx="220320" cy="3671640"/>
            </a:xfrm>
            <a:custGeom>
              <a:avLst/>
              <a:gdLst>
                <a:gd name="textAreaLeft" fmla="*/ 140760 w 220320"/>
                <a:gd name="textAreaRight" fmla="*/ 220680 w 220320"/>
                <a:gd name="textAreaTop" fmla="*/ 95760 h 3671640"/>
                <a:gd name="textAreaBottom" fmla="*/ 3575880 h 36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23280" y="2421000"/>
              <a:ext cx="295560" cy="1728360"/>
            </a:xfrm>
            <a:custGeom>
              <a:avLst/>
              <a:gdLst>
                <a:gd name="textAreaLeft" fmla="*/ 189000 w 295560"/>
                <a:gd name="textAreaRight" fmla="*/ 295920 w 295560"/>
                <a:gd name="textAreaTop" fmla="*/ 45000 h 1728360"/>
                <a:gd name="textAreaBottom" fmla="*/ 1683360 h 172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3280" y="5734080"/>
              <a:ext cx="16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本身无毒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8000" y="4437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消化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皮肤黏膜损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侵犯多种器官，以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肺结核为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211640" y="1916280"/>
            <a:ext cx="4608360" cy="280800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971640" y="1125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所致疾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580536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1936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传染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2492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病人、带菌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48720" y="37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传播途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1T01:02:01Z</dcterms:created>
  <dc:creator>a</dc:creator>
  <dc:description/>
  <dc:language>en-US</dc:language>
  <cp:lastModifiedBy>微软用户</cp:lastModifiedBy>
  <dcterms:modified xsi:type="dcterms:W3CDTF">2014-04-17T16:32:45Z</dcterms:modified>
  <cp:revision>37</cp:revision>
  <dc:subject/>
  <dc:title>PowerPoint 演示文稿</dc:title>
</cp:coreProperties>
</file>