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8C3-0B42-4D3A-AE6A-E0249DCB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33C-9CDF-48F8-BC3E-23215890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92F-9985-4E29-8739-2DFFC68A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DA05-55FC-42E1-B1F2-D1671BC2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ACB6-9E30-46C9-AEE0-EC0E1F9C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D986-52A5-4C21-A48B-54B6DB9D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2185-E237-443B-B771-28DBDA7F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FE3C-3219-4F8C-8C5F-2C49B530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85BB-D71F-4795-9244-6C2DE460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7620-0322-415F-A1FE-9A1C0775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C285-7F28-4912-83EB-BAFD2A46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147-112E-4CA1-9B53-41CE1D4E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CAE4-6DEF-4908-A2CC-136E06E6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29DB-8F5E-43AD-8CE3-627F5009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E4A4-41D1-4464-8989-6F2EA2DF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6A62-585F-4CC6-91D7-6DCCAF2E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E6AA-753B-435A-BBD6-BEBD543E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5DD-349C-47C3-A58C-4FF3A74B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2A9-BF75-48EA-8EF2-9A4F41B6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911-90D0-4901-AA01-184B9C80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C8A-708F-4E0E-882F-58E2358B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A7C-109E-46D9-B8E3-35604931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0F9-F53F-48D4-B542-CD995E3B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055-DD30-42B5-BA9E-555E92D8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1C89-4CB6-4555-955A-3C617296BDA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15EB-3176-49A2-8D5E-A3E5DF21B58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五章  常见人体寄生虫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熟记常见医学蠕虫、医学原虫的生活史，流行因素与防治原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学会识别常见医学蠕虫虫和医学原虫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说出各种医学蠕虫、医学原虫的致病机制与所致疾病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归纳常见与人类疾病相关医学节肢动物的发育与变态，对人体的危害与防制原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解释世代交替、媒介节肢动物、虫媒病、变态、机械性传播、生物性传播的概念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培养学生认真负责的工作态度，能对常见病原检查标本进行采集与送检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楷体_GB2312"/>
                <a:ea typeface="楷体_GB2312"/>
              </a:rPr>
              <a:t>第一节  医学蠕虫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蠕虫是一类内无骨骼，外无甲壳，借肌肉伸缩而蠕动的多细胞无脊椎动物。寄生于人体与医学有关的蠕虫称为医学蠕虫。由蠕虫引起的疾病称为蠕虫病。其中既可寄生在人体也可寄生在某些动物体所致疾病，称人兽共患寄生虫病。蠕虫的幼虫如侵入非适宜宿主体内，造成局部或全身损害的病变，称幼虫移行症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依据蠕虫生活史过程中是否需要中间宿主，可将蠕虫分为两大类型：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①土源性蠕虫：生活史中不需要中间宿主，其虫卵或幼虫直接在外界（通常在土壤中）发育为感染阶段，经消化道途径或接触途径使人感染。大部分线虫属此类寄生虫。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②生物源性蠕虫：生活史中至少需要一个中间宿主，必须经历中间宿主体内发育阶段，才能最终发育成感染阶段。吸虫、大部分绦虫以及部分线虫等属此类寄生虫。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7:44:59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