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79A4-8A10-47BD-84B1-FD364E6F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9304-4E60-4670-B26C-24D5A9A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7143-1D4D-4725-BEFF-E9A1F130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1191-D2AF-40F2-8953-2D4E63A5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1E10-8A3D-4D79-8B43-1033A1AF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CE21C-A7B7-4BB4-82ED-924F2A0164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5CD3B-96F4-488F-989F-94D62CBB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FD987-7DC8-4D2D-A747-A84D0FCF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09AE4-15EF-425B-9EAB-C6E165BC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F48BD-1577-49FF-AD74-4317AD7A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7F57-8D70-4417-9BAE-42E244FF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42ABD-646A-4CAE-A274-B8FA1E96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ED0D8-DEF3-4BBE-BB64-3173564D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6A279-E0DB-4AD2-8D8B-878DA040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A0110-80F2-483E-8AC4-5087345D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96B21-CD5E-4E72-80E5-DE55A8B0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07E05-EBA8-4A94-A18C-38CF252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023F2-BF3A-4814-8391-52D43A777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DBA4-DE8C-458D-9B09-A2F52F43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89C1-8147-4F37-BAE0-394AE966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D28C-7636-4E3C-96F5-052FD43E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A7CF-C865-4B8D-BE5A-6C572ED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D0A9-3F8D-486A-8184-DA5626D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CD6D-94C3-4855-BF28-A1CC3F21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6C3-7A11-4FBA-9AA6-CDF0D1EA9EB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601956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dddddd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24b98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4666-16F5-427D-BB62-B3832DC7623B}" type="slidenum">
              <a:rPr b="0" lang="zh-CN" sz="1000" spc="-1" strike="noStrike">
                <a:solidFill>
                  <a:srgbClr val="124b9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5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505320" y="685800"/>
            <a:ext cx="54115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4b98"/>
                </a:solidFill>
                <a:latin typeface="Arial"/>
                <a:ea typeface="宋体"/>
              </a:rPr>
              <a:t>病原生物学与免疫学</a:t>
            </a:r>
            <a:endParaRPr b="0" lang="en-US" sz="4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主    编  陆予云  汪晓静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副主编  孙庶强  李    睿  郝   燕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编    委  曹美香  李旭文  李福玲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梅    蕾   魏桂芬 万巧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杨冬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北京大学医学出版社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70800" y="2133720"/>
            <a:ext cx="453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微生物的分布及与人类的关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医学微生物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经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实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现代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28600" y="1639800"/>
            <a:ext cx="89154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人体寄生虫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人体寄生虫学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人体寄生虫学是研究人体寄生虫的形态结构、生长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繁殖规律、致病机制、实验诊断、流行规律和防治原则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科学。人体寄生虫包括医学原虫、医学蠕虫和医学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肢动物三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蠕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原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节肢动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（二）人体寄生虫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学习目标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解释免疫的概念与功能；解释微生物、病原微生物、寄生虫的概念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说出免疫的类型；说出微生物、寄生虫的分类及其类型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知道免疫学、医学微生物学与人体寄生虫学的发展与现状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57150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95080" y="1676520"/>
            <a:ext cx="6201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免疫的概念与功能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免疫的概念  免疫是机体免疫系统识别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自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非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性异物，并通过免疫应答排除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性异物，以维持机体生理功能平衡与稳定的功能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免疫的功能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防御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稳定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监视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5920" y="1793880"/>
            <a:ext cx="95842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124b98"/>
                </a:solidFill>
                <a:latin typeface="Arial"/>
                <a:ea typeface="宋体"/>
              </a:rPr>
              <a:t>免疫的功能及其表现</a:t>
            </a:r>
            <a:endParaRPr b="0" lang="en-US" sz="32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功能     正常表现（有利）         异常表现 （有害）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------------------------------------------------------------------------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防御     抵抗病原生物入侵        过高：超敏反应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过低：免疫缺陷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稳定     清除衰老、损伤细胞    自身免疫病              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监视     清除突变细胞               恶性肿瘤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_________________________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23680" y="1828800"/>
            <a:ext cx="60332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免疫的类型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固有免疫  又称非特异性免疫或先天性免疫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是人类在长期的种系发生和进化过程中与微生物接触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逐渐建立起来的防御功能。特点：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生来就有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可以遗传，相对稳定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无特异性，对各种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异物可迅速应答，产生非特异性的抗感染免疫作用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828800"/>
            <a:ext cx="17726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适应性免疫 又称特异性免疫或获得性免疫。是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指人出生后，在后天生活过程中与抗原性物质接触后产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的免疫。特点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是机体后天生活过程中受抗原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质刺激产生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作用特异性，即只对刺激产生该免疫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物质发生作用。适应性免疫是在固有免疫的基础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上建交起来的，主要通过抗体和效应淋巴细胞而发挥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液免疫和细胞免疫作用（见第四章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应答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5"/>
          <p:cNvSpPr/>
          <p:nvPr/>
        </p:nvSpPr>
        <p:spPr>
          <a:xfrm>
            <a:off x="7391520" y="6553080"/>
            <a:ext cx="1523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2209680"/>
            <a:ext cx="8915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免疫学的发展史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经验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科学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现代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至今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5"/>
          <p:cNvSpPr/>
          <p:nvPr/>
        </p:nvSpPr>
        <p:spPr>
          <a:xfrm>
            <a:off x="7315200" y="6477120"/>
            <a:ext cx="1523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27880" y="1981080"/>
            <a:ext cx="551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医学微生物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微生物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微生物是一群个体微小、结构简单，肉眼不能直接见到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必须借助光学或电子显微镜放大几百倍、几千倍甚至几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万倍才能看到的微小生物。微生物具有种类多、分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广、繁殖快的特点，有的种类与人类关系密切。按其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构与组成不同，可将它们分为三型八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40160" y="1752480"/>
            <a:ext cx="602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非细胞型微生物 无典型的细胞结构，仅由核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和蛋白质外壳组成，是最小的一类微生物，能通过滤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器。核心中只有单一的核酸（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或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，缺乏酶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统，只能在活细胞内增殖。病毒为其代表，另外，近年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发现的结构中没有核酸只有蛋白质的朊粒也归为此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原核细胞型微生物 细胞的分化程度较低，仅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原始核质，无核仁和核膜，胞质内细胞器不完整。包括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细菌、支原体、衣原体、放线菌、立克次体和螺旋体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真核细胞型微生物 细胞核分化程度较高，有核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膜、核仁和染色体，胞质内细胞器完整，真菌属此类微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物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cp:keywords/>
  <dc:language>en-US</dc:language>
  <cp:lastModifiedBy>USER</cp:lastModifiedBy>
  <cp:lastPrinted>1899-12-30T00:00:00Z</cp:lastPrinted>
  <dcterms:modified xsi:type="dcterms:W3CDTF">2014-04-16T06:42:00Z</dcterms:modified>
  <cp:revision>8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