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C64-D7CD-48FE-AE4B-C90496BD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A73-C194-4992-AC88-F7775DA6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944-F6E5-4FC7-8782-1EF214D5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477-C0A4-4ACF-B9E1-28290EB4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372B-9C17-4A44-A61C-E6036B02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620C-8E58-458C-9542-5A1FEBCF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EF61-2EA9-4840-A747-A19EE7CF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4AFB-81DA-47F5-B686-22813048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8763-3A52-47EA-90B3-3093794E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870B-C7A0-4968-91E4-32C51BA7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C77D-AFC5-4DAF-94C4-73B08A1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6BC-D5E1-4D57-A088-7E48FB73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1414-4688-454E-88DE-6CD883C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CBF1-3320-4C16-8B12-A56841C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EFDE-5257-4914-9C65-4E8CA4E2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BA18-A538-47BA-BBF9-0E802B47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20C-B564-4B89-87FD-06F90923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C23-F493-4ED3-B849-02504F76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939-812E-47F8-ABC8-8BFAC2D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48F-0FAB-409F-B9A3-E1AD5412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FC8-9398-47F7-840A-C6C0A6BE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D5F-16F2-4534-9E94-9FB1E76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2E4-EFDB-445D-BFBD-2357EA38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6D4-8B48-4318-8E46-BB1EA29E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28AF-54FF-4C4A-BF48-26A1D4F49DF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7731-D599-459A-B3A5-B7684DC2C6B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29718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发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0968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医学节肢动物的形态特征与主要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九节 医学节肢动物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对人体的危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148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重要医学节肢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3434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生态与防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2361960" cy="206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95768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白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6668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320040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095880" y="32767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阴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臭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硬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5420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1862280" cy="2590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988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蠕形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疥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软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恙螨幼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86200" y="380880"/>
            <a:ext cx="930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380880"/>
          <a:ext cx="8229600" cy="5747040"/>
        </p:xfrm>
        <a:graphic>
          <a:graphicData uri="http://schemas.openxmlformats.org/drawingml/2006/table">
            <a:tbl>
              <a:tblPr/>
              <a:tblGrid>
                <a:gridCol w="2378160"/>
                <a:gridCol w="58514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媒介节肢动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虫媒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疟疾、丝虫病、流行性乙型脑炎、登革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结膜吸吮线虫病；多种消化道、呼吸道、眼部、皮肤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白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黑热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蚤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鼠疫、地方性斑疹伤寒、膜壳绦虫病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蟑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美丽筒线虫病、缩小膜壳绦虫病等；多种消化道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斑疹伤寒、虱性回归热、战壕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森林脑炎、新疆出血热、蜱媒回归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革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出血热、森林脑炎、立克次体痘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57400"/>
            <a:ext cx="777240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医学节肢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直接或间接方式危害人体健康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介节肢动物或传播媒介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能传播疾病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虫媒病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媒介节肢动物所传播的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九节 医学节肢动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形态特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身体分节，两侧对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表由坚韧的外骨骼组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附肢成对、分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循环系统为开放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主要种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昆虫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、蚤、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蛛形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蜱、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蟹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蝲蛄、剑水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唇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蜈蚣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陆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节肢动物由卵到成虫的发育过程中所经历的形态、生理和生活习性等一系列的改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经历蛹期，蛹前发育期的幼虫在形态和生活习性等方面与成虫完全不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半变态或不完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中无需经历蛹期，成虫前发育期的若虫在形态和生活习性等方面与成虫相似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表现为虫体较小，生殖器官未发育成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节肢动物的发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叮刺、吸血和骚扰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疥螨、蝇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硬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敏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尘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或体表没有发育和繁殖只是被机械性携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物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必须经过发育、繁殖具有感染性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能传播给新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楷体_GB2312"/>
              </a:rPr>
              <a:t>（一）医学节肢动物的生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医学节肢动物与其所生存环境之间的相互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医学节肢动物的防制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治理、物理防制、化学防制、生物防制、遗传防制以及法规防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节肢动物的生态与防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的形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与其传播的虫媒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重要医学节肢动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1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