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png" ContentType="image/png"/>
  <Override PartName="/ppt/media/image12.png" ContentType="image/png"/>
  <Override PartName="/ppt/media/image15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10.png" ContentType="image/png"/>
  <Override PartName="/ppt/media/image6.jpeg" ContentType="image/jpeg"/>
  <Override PartName="/ppt/media/image14.jpeg" ContentType="image/jpeg"/>
  <Override PartName="/ppt/media/image8.png" ContentType="image/png"/>
  <Override PartName="/ppt/media/image1.jpeg" ContentType="image/jpeg"/>
  <Override PartName="/ppt/media/image7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11805-3A7B-435F-8CFA-C6C039A4CA00}" type="slidenum">
              <a:rPr b="0" i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E79CA-3598-4D11-8042-2768550B1A96}" type="slidenum">
              <a:rPr b="0" i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1E037-E552-404C-8ECF-6CF109CE9B2F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备注占位符 4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人工自动免疫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注射白喉类毒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白喉类毒素、百日咳菌苗、破伤风类毒素的混合制剂（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P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进行人工自动免疫，效果良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人工被动免疫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白喉抗毒素进行紧急预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同时注射白喉类毒素以延长免疫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注射前做皮试，阳性者应采取脱敏注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抗菌治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7974D-46EC-430D-9E00-8C07C36EDDDC}" type="slidenum">
              <a:rPr b="0" i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A9327-12F4-4782-9B83-EDFACBA08BB9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备注占位符 4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9F7BB-D22A-45E7-9986-FD05059FF25C}" type="slidenum">
              <a:rPr b="0" i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6CDBC-3A5D-4E5D-8D6E-6A425B1AD51D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备注占位符 4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白喉毒素（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iphtheria toxin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毒性强、具有高度抗原性的蛋白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由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两个肽链经二硫键连接组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阻断宿主细胞蛋白质合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索状因子（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rd factor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抗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A636A-D84D-4945-979C-E0B9F9849E2E}" type="slidenum">
              <a:rPr b="0" i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D2AAE-36FC-433C-B0C4-71B4C33A3D90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备注占位符 4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A0F0C-5816-40A1-A234-36DD3E7FBCDF}" type="slidenum">
              <a:rPr b="0" i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C6A99-BC61-4182-9D30-8A8A7C89FA68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备注占位符 4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81532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762120" y="4130640"/>
            <a:ext cx="81532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40280" y="198108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762120" y="413064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/>
          </p:nvPr>
        </p:nvSpPr>
        <p:spPr>
          <a:xfrm>
            <a:off x="4940280" y="413064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2625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519000" y="1981080"/>
            <a:ext cx="2625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275520" y="1981080"/>
            <a:ext cx="2625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762120" y="4130640"/>
            <a:ext cx="2625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6"/>
          <p:cNvSpPr>
            <a:spLocks noGrp="1"/>
          </p:cNvSpPr>
          <p:nvPr>
            <p:ph/>
          </p:nvPr>
        </p:nvSpPr>
        <p:spPr>
          <a:xfrm>
            <a:off x="3519000" y="4130640"/>
            <a:ext cx="2625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7"/>
          <p:cNvSpPr>
            <a:spLocks noGrp="1"/>
          </p:cNvSpPr>
          <p:nvPr>
            <p:ph/>
          </p:nvPr>
        </p:nvSpPr>
        <p:spPr>
          <a:xfrm>
            <a:off x="6275520" y="4130640"/>
            <a:ext cx="2625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7621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97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940280" y="1981080"/>
            <a:ext cx="397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940280" y="1981080"/>
            <a:ext cx="397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762120" y="413064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subTitle"/>
          </p:nvPr>
        </p:nvSpPr>
        <p:spPr>
          <a:xfrm>
            <a:off x="7621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97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940280" y="198108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940280" y="413064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940280" y="198108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762120" y="4130640"/>
            <a:ext cx="81532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81532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762120" y="4130640"/>
            <a:ext cx="81532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940280" y="198108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762120" y="413064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940280" y="413064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2625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519000" y="1981080"/>
            <a:ext cx="2625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275520" y="1981080"/>
            <a:ext cx="2625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762120" y="4130640"/>
            <a:ext cx="2625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519000" y="4130640"/>
            <a:ext cx="2625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275520" y="4130640"/>
            <a:ext cx="2625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97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940280" y="1981080"/>
            <a:ext cx="397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940280" y="1981080"/>
            <a:ext cx="397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762120" y="413064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97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40280" y="198108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940280" y="413064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940280" y="198108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762120" y="4130640"/>
            <a:ext cx="81532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body"/>
          </p:nvPr>
        </p:nvSpPr>
        <p:spPr>
          <a:xfrm>
            <a:off x="7621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699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5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"/>
          <p:cNvSpPr/>
          <p:nvPr/>
        </p:nvSpPr>
        <p:spPr>
          <a:xfrm>
            <a:off x="3635280" y="6308640"/>
            <a:ext cx="252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"/>
          <p:cNvSpPr/>
          <p:nvPr/>
        </p:nvSpPr>
        <p:spPr>
          <a:xfrm>
            <a:off x="4284720" y="6553080"/>
            <a:ext cx="485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99ff"/>
                </a:solidFill>
                <a:latin typeface="Arial"/>
                <a:ea typeface="黑体"/>
              </a:rPr>
              <a:t>Department of Microbiology, Harbin Medical Universit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3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4" name="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5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276720" y="6165720"/>
            <a:ext cx="331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43280" y="6308640"/>
            <a:ext cx="410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99ff"/>
                </a:solidFill>
                <a:latin typeface="Arial"/>
                <a:ea typeface="黑体"/>
              </a:rPr>
              <a:t>Department of Microbiology, Harbin Medical Universit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5000"/>
              <a:buFont typeface="Wingding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Wingdings" charset="2"/>
              <a:buChar char="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Wingdings" charset="2"/>
              <a:buChar char="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979640" y="1699920"/>
            <a:ext cx="5013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9900"/>
                </a:solidFill>
                <a:latin typeface="黑体"/>
              </a:rPr>
              <a:t>三、白喉棒状杆菌</a:t>
            </a: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61928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ff9900"/>
                </a:solidFill>
                <a:latin typeface="Arial"/>
              </a:rPr>
              <a:t>Corynebacterium. dephtheria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l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4716360" y="4365720"/>
            <a:ext cx="0" cy="30456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765080" y="51735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心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013200" y="5249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111920" y="517356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肾上腺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299200" y="555480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软腭麻痹           </a:t>
            </a:r>
            <a:r>
              <a:rPr b="1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声嘶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1332000" y="1628640"/>
            <a:ext cx="7618320" cy="4461840"/>
            <a:chOff x="1332000" y="1628640"/>
            <a:chExt cx="7618320" cy="4461840"/>
          </a:xfrm>
        </p:grpSpPr>
        <p:sp>
          <p:nvSpPr>
            <p:cNvPr id="191" name=""/>
            <p:cNvSpPr/>
            <p:nvPr/>
          </p:nvSpPr>
          <p:spPr>
            <a:xfrm>
              <a:off x="1410480" y="198900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白喉棒状杆菌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332000" y="2565360"/>
              <a:ext cx="1898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（鼻咽腔）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132000" y="1628640"/>
              <a:ext cx="1295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飞沫、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污染物品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356000" y="1773360"/>
              <a:ext cx="8683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鼻  咽喉气管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364000" y="170028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局部细菌和毒素的作用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254720" y="220500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3300"/>
                  </a:solidFill>
                  <a:latin typeface="黑体"/>
                  <a:ea typeface="黑体"/>
                </a:rPr>
                <a:t>灰白色假膜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588000" y="400536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黏膜水肿及假膜脱落，引起呼吸道阻塞，甚至窒息死亡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284720" y="3213000"/>
              <a:ext cx="1816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外毒素入血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396320" y="39337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毒血症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468400" y="517356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外周神经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01" name=""/>
            <p:cNvGrpSpPr/>
            <p:nvPr/>
          </p:nvGrpSpPr>
          <p:grpSpPr>
            <a:xfrm>
              <a:off x="2098800" y="2349360"/>
              <a:ext cx="5568840" cy="2900520"/>
              <a:chOff x="2098800" y="2349360"/>
              <a:chExt cx="5568840" cy="2900520"/>
            </a:xfrm>
          </p:grpSpPr>
          <p:sp>
            <p:nvSpPr>
              <p:cNvPr id="202" name=""/>
              <p:cNvSpPr/>
              <p:nvPr/>
            </p:nvSpPr>
            <p:spPr>
              <a:xfrm>
                <a:off x="3132000" y="2349360"/>
                <a:ext cx="1368720" cy="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5219640" y="2421000"/>
                <a:ext cx="1828800" cy="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7667640" y="2708280"/>
                <a:ext cx="0" cy="119844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4716360" y="2924280"/>
                <a:ext cx="0" cy="100944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2098800" y="4792680"/>
                <a:ext cx="0" cy="38088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3317760" y="4792680"/>
                <a:ext cx="0" cy="45720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4460760" y="4792680"/>
                <a:ext cx="0" cy="30492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6060960" y="4792680"/>
                <a:ext cx="0" cy="38088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2098800" y="4792680"/>
                <a:ext cx="3962160" cy="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2556000" y="563076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内脏出血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413000" y="5630760"/>
              <a:ext cx="12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心肌炎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927600" y="563076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肾上腺功能障碍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581080" y="2565360"/>
              <a:ext cx="1417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2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～</a:t>
              </a:r>
              <a:r>
                <a:rPr b="0" lang="zh-CN" sz="2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7</a:t>
              </a:r>
              <a:r>
                <a:rPr b="0" lang="zh-CN" sz="2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天潜伏期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186920" y="765000"/>
            <a:ext cx="4464360" cy="71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9900"/>
                </a:solidFill>
                <a:latin typeface="Arial"/>
              </a:rPr>
              <a:t>2.</a:t>
            </a:r>
            <a:r>
              <a:rPr b="0" lang="zh-CN" sz="4000" spc="-1" strike="noStrike">
                <a:solidFill>
                  <a:srgbClr val="ff9900"/>
                </a:solidFill>
                <a:latin typeface="Arial"/>
              </a:rPr>
              <a:t>所致疾病：白喉</a:t>
            </a:r>
            <a:endParaRPr b="0" lang="en-US" sz="40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  <p:transition spd="slow">
    <p:pull dir="l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6" name=""/>
          <p:cNvGraphicFramePr/>
          <p:nvPr/>
        </p:nvGraphicFramePr>
        <p:xfrm>
          <a:off x="1042920" y="3338640"/>
          <a:ext cx="3581640" cy="351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3338640"/>
                    <a:ext cx="3581640" cy="351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8" name="Picture 4" descr="diphtheria"/>
          <p:cNvPicPr/>
          <p:nvPr/>
        </p:nvPicPr>
        <p:blipFill>
          <a:blip r:embed="rId3">
            <a:lum contrast="6000"/>
          </a:blip>
          <a:srcRect l="4105" t="6249" r="5495" b="23910"/>
          <a:stretch/>
        </p:blipFill>
        <p:spPr>
          <a:xfrm>
            <a:off x="4643280" y="1557360"/>
            <a:ext cx="3934080" cy="352728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3708360" y="5661000"/>
            <a:ext cx="525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白喉咽喉部白色假膜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4"/>
          <a:stretch/>
        </p:blipFill>
        <p:spPr>
          <a:xfrm>
            <a:off x="971640" y="189000"/>
            <a:ext cx="3456000" cy="3317760"/>
          </a:xfrm>
          <a:prstGeom prst="rect">
            <a:avLst/>
          </a:prstGeom>
          <a:ln w="0">
            <a:noFill/>
          </a:ln>
        </p:spPr>
      </p:pic>
    </p:spTree>
  </p:cSld>
  <p:transition spd="slow">
    <p:pull dir="l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187280" y="1628280"/>
            <a:ext cx="266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9900"/>
                </a:solidFill>
                <a:latin typeface="Arial"/>
              </a:rPr>
              <a:t>3.</a:t>
            </a:r>
            <a:r>
              <a:rPr b="0" lang="zh-CN" sz="4400" spc="-1" strike="noStrike">
                <a:solidFill>
                  <a:srgbClr val="ff9900"/>
                </a:solidFill>
                <a:latin typeface="Arial"/>
              </a:rPr>
              <a:t>免疫性</a:t>
            </a: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71640" y="3284280"/>
            <a:ext cx="5400720" cy="143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抗毒素免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ff3300"/>
                </a:solidFill>
                <a:uFillTx/>
                <a:latin typeface="Arial"/>
              </a:rPr>
              <a:t>锡克试验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Schick test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原理：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毒素和抗毒素的中和试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Text Box 5"/>
          <p:cNvSpPr/>
          <p:nvPr/>
        </p:nvSpPr>
        <p:spPr>
          <a:xfrm>
            <a:off x="1042920" y="4797360"/>
            <a:ext cx="8101080" cy="98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Arial"/>
                <a:ea typeface="黑体"/>
              </a:rPr>
              <a:t>锡克试验 ：用少量毒素或毒性破坏的毒素注入受试者皮内，测定其体内有无相应抗毒素，以判断机体对白喉的免疫力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4427640" y="1341360"/>
            <a:ext cx="4103280" cy="2145960"/>
            <a:chOff x="4427640" y="1341360"/>
            <a:chExt cx="4103280" cy="2145960"/>
          </a:xfrm>
        </p:grpSpPr>
        <p:sp>
          <p:nvSpPr>
            <p:cNvPr id="225" name="Text Box 8"/>
            <p:cNvSpPr/>
            <p:nvPr/>
          </p:nvSpPr>
          <p:spPr>
            <a:xfrm>
              <a:off x="5656680" y="2148120"/>
              <a:ext cx="1804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3300"/>
                  </a:solidFill>
                  <a:latin typeface="Arial"/>
                  <a:ea typeface="黑体"/>
                </a:rPr>
                <a:t>抗毒素免疫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26" name="Group 19"/>
            <p:cNvGrpSpPr/>
            <p:nvPr/>
          </p:nvGrpSpPr>
          <p:grpSpPr>
            <a:xfrm>
              <a:off x="4427640" y="1341360"/>
              <a:ext cx="1471680" cy="680760"/>
              <a:chOff x="4427640" y="1341360"/>
              <a:chExt cx="1471680" cy="680760"/>
            </a:xfrm>
          </p:grpSpPr>
          <p:sp>
            <p:nvSpPr>
              <p:cNvPr id="227" name="Oval 13"/>
              <p:cNvSpPr/>
              <p:nvPr/>
            </p:nvSpPr>
            <p:spPr>
              <a:xfrm>
                <a:off x="4657680" y="1341360"/>
                <a:ext cx="1011240" cy="680760"/>
              </a:xfrm>
              <a:prstGeom prst="ellipse">
                <a:avLst/>
              </a:prstGeom>
              <a:solidFill>
                <a:srgbClr val="ffff6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8" name="Text Box 9"/>
              <p:cNvSpPr/>
              <p:nvPr/>
            </p:nvSpPr>
            <p:spPr>
              <a:xfrm>
                <a:off x="4427640" y="1493640"/>
                <a:ext cx="1471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愈后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Group 22"/>
            <p:cNvGrpSpPr/>
            <p:nvPr/>
          </p:nvGrpSpPr>
          <p:grpSpPr>
            <a:xfrm>
              <a:off x="7356960" y="1341360"/>
              <a:ext cx="1116000" cy="680760"/>
              <a:chOff x="7356960" y="1341360"/>
              <a:chExt cx="1116000" cy="680760"/>
            </a:xfrm>
          </p:grpSpPr>
          <p:sp>
            <p:nvSpPr>
              <p:cNvPr id="230" name="Oval 17"/>
              <p:cNvSpPr/>
              <p:nvPr/>
            </p:nvSpPr>
            <p:spPr>
              <a:xfrm>
                <a:off x="7408440" y="1341360"/>
                <a:ext cx="1011600" cy="680760"/>
              </a:xfrm>
              <a:prstGeom prst="ellipse">
                <a:avLst/>
              </a:prstGeom>
              <a:solidFill>
                <a:srgbClr val="ffff6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1" name="Text Box 10"/>
              <p:cNvSpPr/>
              <p:nvPr/>
            </p:nvSpPr>
            <p:spPr>
              <a:xfrm>
                <a:off x="7356960" y="1493640"/>
                <a:ext cx="1116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新生儿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32" name="Group 21"/>
            <p:cNvGrpSpPr/>
            <p:nvPr/>
          </p:nvGrpSpPr>
          <p:grpSpPr>
            <a:xfrm>
              <a:off x="7047720" y="2806920"/>
              <a:ext cx="1483200" cy="680400"/>
              <a:chOff x="7047720" y="2806920"/>
              <a:chExt cx="1483200" cy="680400"/>
            </a:xfrm>
          </p:grpSpPr>
          <p:sp>
            <p:nvSpPr>
              <p:cNvPr id="233" name="Oval 15"/>
              <p:cNvSpPr/>
              <p:nvPr/>
            </p:nvSpPr>
            <p:spPr>
              <a:xfrm>
                <a:off x="7191360" y="2806920"/>
                <a:ext cx="1194480" cy="680400"/>
              </a:xfrm>
              <a:prstGeom prst="ellipse">
                <a:avLst/>
              </a:prstGeom>
              <a:solidFill>
                <a:srgbClr val="ffff6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4" name="Text Box 11"/>
              <p:cNvSpPr/>
              <p:nvPr/>
            </p:nvSpPr>
            <p:spPr>
              <a:xfrm>
                <a:off x="7047720" y="2959200"/>
                <a:ext cx="1483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接种疫苗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35" name="Group 20"/>
            <p:cNvGrpSpPr/>
            <p:nvPr/>
          </p:nvGrpSpPr>
          <p:grpSpPr>
            <a:xfrm>
              <a:off x="4518720" y="2806920"/>
              <a:ext cx="1471680" cy="680400"/>
              <a:chOff x="4518720" y="2806920"/>
              <a:chExt cx="1471680" cy="680400"/>
            </a:xfrm>
          </p:grpSpPr>
          <p:sp>
            <p:nvSpPr>
              <p:cNvPr id="236" name="Oval 14"/>
              <p:cNvSpPr/>
              <p:nvPr/>
            </p:nvSpPr>
            <p:spPr>
              <a:xfrm>
                <a:off x="4656600" y="2806920"/>
                <a:ext cx="1194840" cy="680400"/>
              </a:xfrm>
              <a:prstGeom prst="ellipse">
                <a:avLst/>
              </a:prstGeom>
              <a:solidFill>
                <a:srgbClr val="ffff6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7" name="Text Box 12"/>
              <p:cNvSpPr/>
              <p:nvPr/>
            </p:nvSpPr>
            <p:spPr>
              <a:xfrm>
                <a:off x="4518720" y="2958840"/>
                <a:ext cx="1471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隐性感染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38" name="Line 24"/>
            <p:cNvSpPr/>
            <p:nvPr/>
          </p:nvSpPr>
          <p:spPr>
            <a:xfrm>
              <a:off x="5669280" y="1811880"/>
              <a:ext cx="183240" cy="20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" name="Line 25"/>
            <p:cNvSpPr/>
            <p:nvPr/>
          </p:nvSpPr>
          <p:spPr>
            <a:xfrm flipV="1">
              <a:off x="5761800" y="2649600"/>
              <a:ext cx="137520" cy="313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" name="Line 26"/>
            <p:cNvSpPr/>
            <p:nvPr/>
          </p:nvSpPr>
          <p:spPr>
            <a:xfrm flipH="1">
              <a:off x="7243560" y="1810800"/>
              <a:ext cx="184680" cy="209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Line 27"/>
            <p:cNvSpPr/>
            <p:nvPr/>
          </p:nvSpPr>
          <p:spPr>
            <a:xfrm flipH="1" flipV="1">
              <a:off x="7186680" y="2649600"/>
              <a:ext cx="91080" cy="313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slow">
    <p:pull dir="l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10"/>
          <p:cNvSpPr/>
          <p:nvPr/>
        </p:nvSpPr>
        <p:spPr>
          <a:xfrm>
            <a:off x="4643280" y="5877000"/>
            <a:ext cx="40719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Elek pla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3" name="Picture 13" descr="24a"/>
          <p:cNvPicPr/>
          <p:nvPr/>
        </p:nvPicPr>
        <p:blipFill>
          <a:blip r:embed="rId1"/>
          <a:stretch/>
        </p:blipFill>
        <p:spPr>
          <a:xfrm>
            <a:off x="4859280" y="2124000"/>
            <a:ext cx="3832200" cy="3606840"/>
          </a:xfrm>
          <a:prstGeom prst="rect">
            <a:avLst/>
          </a:prstGeom>
          <a:ln w="0">
            <a:noFill/>
          </a:ln>
        </p:spPr>
      </p:pic>
      <p:sp>
        <p:nvSpPr>
          <p:cNvPr id="244" name="Text Box 7"/>
          <p:cNvSpPr/>
          <p:nvPr/>
        </p:nvSpPr>
        <p:spPr>
          <a:xfrm>
            <a:off x="6084720" y="2133720"/>
            <a:ext cx="947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黑体"/>
              </a:rPr>
              <a:t>含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黑体"/>
              </a:rPr>
              <a:t>白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黑体"/>
              </a:rPr>
              <a:t>喉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黑体"/>
              </a:rPr>
              <a:t>抗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黑体"/>
              </a:rPr>
              <a:t>毒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黑体"/>
              </a:rPr>
              <a:t>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黑体"/>
              </a:rPr>
              <a:t>滤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黑体"/>
              </a:rPr>
              <a:t>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黑体"/>
              </a:rPr>
              <a:t>片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162160" y="1238400"/>
            <a:ext cx="3533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9900"/>
                </a:solidFill>
                <a:latin typeface="Arial"/>
                <a:ea typeface="黑体"/>
              </a:rPr>
              <a:t>（三）微生物学检查法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826920" y="2637000"/>
            <a:ext cx="4176720" cy="26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3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黑体"/>
              </a:rPr>
              <a:t>1.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黑体"/>
              </a:rPr>
              <a:t>采集标本：棉拭子假膜边缘取材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3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黑体"/>
              </a:rPr>
              <a:t>2.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黑体"/>
              </a:rPr>
              <a:t>涂片镜检：形态学特点？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3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黑体"/>
              </a:rPr>
              <a:t>3.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黑体"/>
              </a:rPr>
              <a:t>分离培养：何种培养基？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黑体"/>
              </a:rPr>
              <a:t>4.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黑体"/>
              </a:rPr>
              <a:t>毒力鉴定：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660066"/>
                </a:solidFill>
                <a:latin typeface="Arial"/>
                <a:ea typeface="黑体"/>
              </a:rPr>
              <a:t>       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黑体"/>
              </a:rPr>
              <a:t>---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黑体"/>
              </a:rPr>
              <a:t>豚鼠试验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黑体"/>
              </a:rPr>
              <a:t>       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黑体"/>
              </a:rPr>
              <a:t>---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黑体"/>
              </a:rPr>
              <a:t>Elek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黑体"/>
              </a:rPr>
              <a:t>平板毒力试验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l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187280" y="162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9900"/>
                </a:solidFill>
                <a:latin typeface="Arial"/>
              </a:rPr>
              <a:t>（四）防治原则</a:t>
            </a: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258560" y="2997000"/>
            <a:ext cx="410364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人工自动免疫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人工被动免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抗菌治疗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Rectangle 7"/>
          <p:cNvSpPr/>
          <p:nvPr/>
        </p:nvSpPr>
        <p:spPr>
          <a:xfrm>
            <a:off x="3995640" y="2781360"/>
            <a:ext cx="4351320" cy="2187720"/>
          </a:xfrm>
          <a:prstGeom prst="rect">
            <a:avLst/>
          </a:prstGeom>
          <a:noFill/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spcAft>
                <a:spcPts val="2001"/>
              </a:spcAft>
              <a:buClr>
                <a:srgbClr val="000000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发病率大幅度下降，目前已降至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0.01/1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万。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流行范围逐步缩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病死率仍相对较高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成人白喉发病构成增加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716360" y="4941720"/>
            <a:ext cx="31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白百破三联疫苗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l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9900"/>
                </a:solidFill>
                <a:latin typeface="Arial"/>
              </a:rPr>
              <a:t>小结</a:t>
            </a: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棒状杆菌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主要种类与致病性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白喉棒状杆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形态特点　　培养与分型　　毒力变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抵抗力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白喉毒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免疫性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微生物学检查　　特异性防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l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26920" y="1052640"/>
            <a:ext cx="4321440" cy="85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900"/>
                </a:solidFill>
                <a:latin typeface="Comic Sans MS"/>
              </a:rPr>
              <a:t>（一）生物学特性</a:t>
            </a:r>
            <a:endParaRPr b="0" lang="en-US" sz="40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54" name="Text Box 15"/>
          <p:cNvSpPr/>
          <p:nvPr/>
        </p:nvSpPr>
        <p:spPr>
          <a:xfrm>
            <a:off x="1187280" y="2924280"/>
            <a:ext cx="2592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细长微弯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末端膨大</a:t>
            </a:r>
            <a:r>
              <a:rPr b="1" lang="zh-CN" sz="2400" spc="-1" strike="noStrike" u="sng">
                <a:solidFill>
                  <a:srgbClr val="ff3300"/>
                </a:solidFill>
                <a:uFillTx/>
                <a:latin typeface="Times New Roman"/>
              </a:rPr>
              <a:t>棒状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排列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等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革兰阳性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荚膜（－）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鞭毛（－）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芽胞（－）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5" name="Picture 20" descr="Diphtheria4"/>
          <p:cNvPicPr/>
          <p:nvPr/>
        </p:nvPicPr>
        <p:blipFill>
          <a:blip r:embed="rId1"/>
          <a:stretch/>
        </p:blipFill>
        <p:spPr>
          <a:xfrm>
            <a:off x="4140360" y="2133720"/>
            <a:ext cx="4537080" cy="371772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14"/>
          <p:cNvSpPr/>
          <p:nvPr/>
        </p:nvSpPr>
        <p:spPr>
          <a:xfrm>
            <a:off x="5724360" y="5734080"/>
            <a:ext cx="252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革兰染色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971640" y="2276640"/>
            <a:ext cx="32414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00"/>
                </a:solidFill>
                <a:latin typeface="Arial"/>
                <a:ea typeface="黑体"/>
              </a:rPr>
              <a:t>1.</a:t>
            </a:r>
            <a:r>
              <a:rPr b="1" lang="zh-CN" sz="3600" spc="-1" strike="noStrike">
                <a:solidFill>
                  <a:srgbClr val="ff9900"/>
                </a:solidFill>
                <a:latin typeface="Arial"/>
                <a:ea typeface="黑体"/>
              </a:rPr>
              <a:t>形态与染色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l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899640" y="1699920"/>
            <a:ext cx="1871640" cy="381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亚甲蓝或奈瑟染色，菌体两端或一端可见着色较深的</a:t>
            </a:r>
            <a:r>
              <a:rPr b="1" lang="zh-CN" sz="2800" spc="-1" strike="noStrike" u="sng">
                <a:solidFill>
                  <a:srgbClr val="ff3300"/>
                </a:solidFill>
                <a:uFillTx/>
                <a:latin typeface="Arial"/>
              </a:rPr>
              <a:t>异染颗粒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2843280" y="3357720"/>
            <a:ext cx="4610160" cy="326700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4716360" y="907920"/>
            <a:ext cx="3962520" cy="2664000"/>
          </a:xfrm>
          <a:prstGeom prst="rect">
            <a:avLst/>
          </a:prstGeom>
          <a:ln w="0">
            <a:noFill/>
          </a:ln>
        </p:spPr>
      </p:pic>
    </p:spTree>
  </p:cSld>
  <p:transition spd="slow">
    <p:pull dir="l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5" descr=""/>
          <p:cNvPicPr/>
          <p:nvPr/>
        </p:nvPicPr>
        <p:blipFill>
          <a:blip r:embed="rId1">
            <a:lum bright="12000"/>
          </a:blip>
          <a:srcRect l="4071" t="6717" r="8687" b="12645"/>
          <a:stretch/>
        </p:blipFill>
        <p:spPr>
          <a:xfrm>
            <a:off x="1258920" y="1341360"/>
            <a:ext cx="3311640" cy="2471760"/>
          </a:xfrm>
          <a:prstGeom prst="rect">
            <a:avLst/>
          </a:prstGeom>
          <a:ln w="9360">
            <a:solidFill>
              <a:srgbClr val="cc00cc"/>
            </a:solidFill>
            <a:miter/>
          </a:ln>
        </p:spPr>
      </p:pic>
      <p:graphicFrame>
        <p:nvGraphicFramePr>
          <p:cNvPr id="162" name="Object 6"/>
          <p:cNvGraphicFramePr/>
          <p:nvPr/>
        </p:nvGraphicFramePr>
        <p:xfrm>
          <a:off x="2700360" y="4292640"/>
          <a:ext cx="3816360" cy="2274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3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700360" y="4292640"/>
                    <a:ext cx="3816360" cy="2274840"/>
                  </a:xfrm>
                  <a:prstGeom prst="rect">
                    <a:avLst/>
                  </a:prstGeom>
                  <a:ln w="9360">
                    <a:solidFill>
                      <a:srgbClr val="cc00cc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164" name="Picture 8" descr="diphtheriae-oil2"/>
          <p:cNvPicPr/>
          <p:nvPr/>
        </p:nvPicPr>
        <p:blipFill>
          <a:blip r:embed="rId4">
            <a:lum contrast="12000"/>
          </a:blip>
          <a:stretch/>
        </p:blipFill>
        <p:spPr>
          <a:xfrm>
            <a:off x="5076720" y="1341360"/>
            <a:ext cx="3456000" cy="2411640"/>
          </a:xfrm>
          <a:prstGeom prst="rect">
            <a:avLst/>
          </a:prstGeom>
          <a:ln w="9360">
            <a:solidFill>
              <a:srgbClr val="cc00cc"/>
            </a:solidFill>
            <a:miter/>
          </a:ln>
        </p:spPr>
      </p:pic>
      <p:sp>
        <p:nvSpPr>
          <p:cNvPr id="165" name="Text Box 9"/>
          <p:cNvSpPr/>
          <p:nvPr/>
        </p:nvSpPr>
        <p:spPr>
          <a:xfrm>
            <a:off x="5219640" y="3716280"/>
            <a:ext cx="188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亚甲蓝染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Text Box 11"/>
          <p:cNvSpPr/>
          <p:nvPr/>
        </p:nvSpPr>
        <p:spPr>
          <a:xfrm>
            <a:off x="1835280" y="3789360"/>
            <a:ext cx="246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奈瑟染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Text Box 12"/>
          <p:cNvSpPr/>
          <p:nvPr/>
        </p:nvSpPr>
        <p:spPr>
          <a:xfrm>
            <a:off x="6443640" y="5157720"/>
            <a:ext cx="237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阿伯特染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l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00000" y="836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00"/>
                </a:solidFill>
                <a:latin typeface="Arial"/>
              </a:rPr>
              <a:t>2.</a:t>
            </a:r>
            <a:r>
              <a:rPr b="1" lang="zh-CN" sz="3600" spc="-1" strike="noStrike">
                <a:solidFill>
                  <a:srgbClr val="ff9900"/>
                </a:solidFill>
                <a:latin typeface="Arial"/>
              </a:rPr>
              <a:t>培养特性</a:t>
            </a:r>
            <a:endParaRPr b="0" lang="en-US" sz="36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24000" y="1773360"/>
            <a:ext cx="3954240" cy="245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需氧或兼性厌氧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吕氏培养基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生长迅速，细小灰白菌落，异染颗粒明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亚碲酸钾血琼脂平板：</a:t>
            </a:r>
            <a:r>
              <a:rPr b="1" lang="zh-CN" sz="2400" spc="-1" strike="noStrike" u="sng">
                <a:solidFill>
                  <a:srgbClr val="ff3300"/>
                </a:solidFill>
                <a:uFillTx/>
                <a:latin typeface="Arial"/>
              </a:rPr>
              <a:t>黑色菌落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鉴定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5292720" y="4653000"/>
          <a:ext cx="2892600" cy="198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92720" y="4653000"/>
                    <a:ext cx="2892600" cy="19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2" name=""/>
          <p:cNvGraphicFramePr/>
          <p:nvPr/>
        </p:nvGraphicFramePr>
        <p:xfrm>
          <a:off x="5219640" y="1125360"/>
          <a:ext cx="2855880" cy="3318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19640" y="1125360"/>
                    <a:ext cx="2855880" cy="331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74" name="Picture 12" descr="diphthiarae"/>
          <p:cNvPicPr/>
          <p:nvPr/>
        </p:nvPicPr>
        <p:blipFill>
          <a:blip r:embed="rId5"/>
          <a:stretch/>
        </p:blipFill>
        <p:spPr>
          <a:xfrm>
            <a:off x="2700360" y="4005360"/>
            <a:ext cx="2496960" cy="2590560"/>
          </a:xfrm>
          <a:prstGeom prst="rect">
            <a:avLst/>
          </a:prstGeom>
          <a:ln w="0">
            <a:noFill/>
          </a:ln>
        </p:spPr>
      </p:pic>
    </p:spTree>
  </p:cSld>
  <p:transition spd="slow">
    <p:pull dir="l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16000" y="1196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00"/>
                </a:solidFill>
                <a:latin typeface="Arial"/>
              </a:rPr>
              <a:t>3.</a:t>
            </a:r>
            <a:r>
              <a:rPr b="1" lang="zh-CN" sz="3600" spc="-1" strike="noStrike">
                <a:solidFill>
                  <a:srgbClr val="ff9900"/>
                </a:solidFill>
                <a:latin typeface="Arial"/>
              </a:rPr>
              <a:t>变异、抵抗力</a:t>
            </a:r>
            <a:endParaRPr b="0" lang="en-US" sz="36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00000" y="2420640"/>
            <a:ext cx="7128000" cy="403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变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形态、菌落和毒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型变为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抵抗力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较其他无芽胞细菌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对青霉素及广谱抗生素敏感，对磺胺药不敏感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l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42920" y="162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9900"/>
                </a:solidFill>
                <a:latin typeface="Arial"/>
              </a:rPr>
              <a:t>1.</a:t>
            </a:r>
            <a:r>
              <a:rPr b="0" lang="zh-CN" sz="4400" spc="-1" strike="noStrike">
                <a:solidFill>
                  <a:srgbClr val="ff9900"/>
                </a:solidFill>
                <a:latin typeface="Arial"/>
              </a:rPr>
              <a:t>致病物质</a:t>
            </a: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7280" y="2924280"/>
            <a:ext cx="5400720" cy="273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白喉毒素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diphtheria toxin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索状因子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cord factor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抗原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900000" y="6206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9900"/>
                </a:solidFill>
                <a:latin typeface="Arial"/>
                <a:ea typeface="黑体"/>
              </a:rPr>
              <a:t>（二）致病性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l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5" descr=""/>
          <p:cNvPicPr/>
          <p:nvPr/>
        </p:nvPicPr>
        <p:blipFill>
          <a:blip r:embed="rId1"/>
          <a:srcRect l="50011" t="12196" r="6180" b="3599"/>
          <a:stretch/>
        </p:blipFill>
        <p:spPr>
          <a:xfrm>
            <a:off x="6588000" y="1844640"/>
            <a:ext cx="1594080" cy="453708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1116000" y="1484280"/>
            <a:ext cx="43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cc"/>
                </a:solidFill>
                <a:latin typeface="Arial"/>
                <a:ea typeface="黑体"/>
              </a:rPr>
              <a:t>主要致病物质 － 白喉毒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187280" y="2492280"/>
            <a:ext cx="4753080" cy="1843200"/>
          </a:xfrm>
          <a:prstGeom prst="rect">
            <a:avLst/>
          </a:prstGeom>
          <a:noFill/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301"/>
              </a:spcAft>
              <a:buClr>
                <a:srgbClr val="ff3300"/>
              </a:buClr>
              <a:buSzPct val="1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Arial"/>
                <a:ea typeface="黑体"/>
              </a:rPr>
              <a:t> 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黑体"/>
              </a:rPr>
              <a:t>毒性强，抑制细胞蛋白质合成，引起组织坏死和病变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301"/>
              </a:spcAft>
              <a:buClr>
                <a:srgbClr val="ff3300"/>
              </a:buClr>
              <a:buSzPct val="1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黑体"/>
              </a:rPr>
              <a:t>由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黑体"/>
              </a:rPr>
              <a:t>β- 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黑体"/>
              </a:rPr>
              <a:t>棒状杆菌噬菌体毒素基因（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tox+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黑体"/>
              </a:rPr>
              <a:t>）编码，因此，</a:t>
            </a:r>
            <a:r>
              <a:rPr b="1" lang="zh-CN" sz="2600" spc="-1" strike="noStrike" u="sng">
                <a:solidFill>
                  <a:srgbClr val="ff3300"/>
                </a:solidFill>
                <a:uFillTx/>
                <a:latin typeface="Arial"/>
                <a:ea typeface="黑体"/>
              </a:rPr>
              <a:t>只有携带</a:t>
            </a:r>
            <a:r>
              <a:rPr b="1" lang="zh-CN" sz="2600" spc="-1" strike="noStrike" u="sng">
                <a:solidFill>
                  <a:srgbClr val="ff3300"/>
                </a:solidFill>
                <a:uFillTx/>
                <a:latin typeface="Arial"/>
                <a:ea typeface="黑体"/>
              </a:rPr>
              <a:t>β- </a:t>
            </a:r>
            <a:r>
              <a:rPr b="1" lang="zh-CN" sz="2600" spc="-1" strike="noStrike" u="sng">
                <a:solidFill>
                  <a:srgbClr val="ff3300"/>
                </a:solidFill>
                <a:uFillTx/>
                <a:latin typeface="Arial"/>
                <a:ea typeface="黑体"/>
              </a:rPr>
              <a:t>棒状杆菌噬菌体的溶原性白喉棒状杆菌才能产生白喉毒素。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l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4" descr=""/>
          <p:cNvPicPr/>
          <p:nvPr/>
        </p:nvPicPr>
        <p:blipFill>
          <a:blip r:embed="rId1"/>
          <a:srcRect l="25847" t="1959" r="36070" b="19177"/>
          <a:stretch/>
        </p:blipFill>
        <p:spPr>
          <a:xfrm>
            <a:off x="5292720" y="1268280"/>
            <a:ext cx="3170160" cy="511344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1476360" y="1628640"/>
            <a:ext cx="3456000" cy="33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Aft>
                <a:spcPts val="751"/>
              </a:spcAft>
              <a:buClr>
                <a:srgbClr val="ff3300"/>
              </a:buClr>
              <a:buSzPct val="1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Arial"/>
                <a:ea typeface="黑体"/>
              </a:rPr>
              <a:t>传染源：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患者及带菌者，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飞沫或污染物经呼吸道传播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Arial"/>
                <a:ea typeface="黑体"/>
              </a:rPr>
              <a:t>易感者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：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1~5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岁儿童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spcAft>
                <a:spcPts val="751"/>
              </a:spcAft>
              <a:buClr>
                <a:srgbClr val="ff3300"/>
              </a:buClr>
              <a:buSzPct val="1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临床表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-----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引起局部炎症：</a:t>
            </a:r>
            <a:r>
              <a:rPr b="0" lang="zh-CN" sz="2000" spc="-1" strike="noStrike" u="sng">
                <a:solidFill>
                  <a:srgbClr val="ff3300"/>
                </a:solidFill>
                <a:uFillTx/>
                <a:latin typeface="Arial"/>
                <a:ea typeface="黑体"/>
              </a:rPr>
              <a:t>假膜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 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-----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全身中毒症状：如心肌炎、软腭麻痹、声嘶、肾上腺功能障碍等症状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spcAft>
                <a:spcPts val="751"/>
              </a:spcAft>
              <a:buClr>
                <a:srgbClr val="ff3300"/>
              </a:buClr>
              <a:buSzPct val="1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所致疾病：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急性呼吸道传染病</a:t>
            </a:r>
            <a:r>
              <a:rPr b="0" lang="zh-CN" sz="2000" spc="-1" strike="noStrike">
                <a:solidFill>
                  <a:srgbClr val="ff3300"/>
                </a:solidFill>
                <a:latin typeface="Arial"/>
                <a:ea typeface="黑体"/>
              </a:rPr>
              <a:t>白喉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，乙类传染病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l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5-28T16:02:17Z</dcterms:created>
  <dc:creator>Susan</dc:creator>
  <dc:description/>
  <dc:language>en-US</dc:language>
  <cp:lastModifiedBy>微软用户</cp:lastModifiedBy>
  <dcterms:modified xsi:type="dcterms:W3CDTF">2014-04-17T16:34:57Z</dcterms:modified>
  <cp:revision>618</cp:revision>
  <dc:subject/>
  <dc:title>Microbiology includes:</dc:title>
</cp:coreProperties>
</file>